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3B1-7A53-4D72-B0DC-CF68DEDF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7E4-4465-4519-9275-4A7DF7B0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126-CF71-4FC8-A37B-88B53568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CF5-AF0E-4A15-A624-E15F007D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F32E-874C-496F-9B3C-6C132D36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B54E-F6EE-4546-9CF4-D380B817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C14C-E198-4446-AB61-E23E3468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C308-993B-4B3E-86C3-A0C5248E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08C4-FF27-43CE-A554-BE9009E9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FE08-E58E-4A36-B7D3-B77F8FA6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27A1-5FBE-43AC-BFD6-7739BCEA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966-B55C-4924-BBA9-BC885406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A440-9467-4B68-8B5D-5938D366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0499-E19F-494C-8BD3-AF451E34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2646-72D3-4F46-91A8-73058E33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48E3-D6A9-446E-A56F-315FEBB0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9052-96C7-4798-9DB8-573A8D5F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758-7845-4BA6-AF69-B30EF63C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503-0033-45A4-B1E6-5A7FF6A6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600-5176-4C73-A5D2-028BD653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976-11C2-4F72-9575-22A9DF39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B93-5E7C-4931-94A1-D175181B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D2F-DB9B-4DA9-821C-AB8B4E76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6C0-AFAD-44B1-AC2B-157043B3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6173-8121-488D-A48E-B7CCDA93C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7122-62B4-4789-B561-6603C2ACE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-4680" y="0"/>
            <a:ext cx="9118440" cy="68389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8ae"/>
                </a:solidFill>
                <a:latin typeface="Arial"/>
              </a:rPr>
              <a:t>Спряжение глаголов 1 группы в настоящем времени французского язы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-196920"/>
            <a:ext cx="9155160" cy="6867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09600" y="836640"/>
            <a:ext cx="31129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Retien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539640" y="1654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се глаголы 1 группы имеют в инфинитив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кончание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501480" y="2529000"/>
            <a:ext cx="823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Чтобы проспрягать глагол  1 группы нужно отбросить окончание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–ER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 прибавить окончания настоящего времени для глаголов 1 групп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Скругленный прямоугольник 7"/>
          <p:cNvGrpSpPr/>
          <p:nvPr/>
        </p:nvGrpSpPr>
        <p:grpSpPr>
          <a:xfrm>
            <a:off x="1908000" y="3500280"/>
            <a:ext cx="4535280" cy="3357360"/>
            <a:chOff x="1908000" y="3500280"/>
            <a:chExt cx="4535280" cy="3357360"/>
          </a:xfrm>
        </p:grpSpPr>
        <p:pic>
          <p:nvPicPr>
            <p:cNvPr id="217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1908000" y="3500280"/>
              <a:ext cx="4535280" cy="33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338560" y="3934080"/>
              <a:ext cx="3680640" cy="24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cc0000"/>
                  </a:solidFill>
                  <a:uFillTx/>
                  <a:latin typeface="Calibri"/>
                </a:rPr>
                <a:t>Единственное число.</a:t>
              </a:r>
              <a:r>
                <a:rPr b="1" lang="en-US" sz="2000" spc="-1" strike="noStrike" u="sng">
                  <a:solidFill>
                    <a:srgbClr val="cc0000"/>
                  </a:solidFill>
                  <a:uFillTx/>
                  <a:latin typeface="Calibri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-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   </a:t>
              </a: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-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    </a:t>
              </a: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-es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cc0000"/>
                  </a:solidFill>
                  <a:uFillTx/>
                  <a:latin typeface="Calibri"/>
                </a:rPr>
                <a:t>Множественное число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0000"/>
                  </a:solidFill>
                  <a:latin typeface="Calibri"/>
                </a:rPr>
                <a:t>-</a:t>
              </a: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on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-ez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Calibri"/>
                </a:rPr>
                <a:t>- en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Скругленный прямоугольник 8"/>
          <p:cNvGrpSpPr/>
          <p:nvPr/>
        </p:nvGrpSpPr>
        <p:grpSpPr>
          <a:xfrm>
            <a:off x="523800" y="262080"/>
            <a:ext cx="817560" cy="426960"/>
            <a:chOff x="523800" y="262080"/>
            <a:chExt cx="817560" cy="426960"/>
          </a:xfrm>
        </p:grpSpPr>
        <p:pic>
          <p:nvPicPr>
            <p:cNvPr id="220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523800" y="262080"/>
              <a:ext cx="8175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58720" y="301680"/>
              <a:ext cx="7542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10253f"/>
                  </a:solidFill>
                  <a:uFillTx/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036000" cy="53020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2771640" y="11253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essin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ис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4100400" y="3720960"/>
            <a:ext cx="378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us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us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s     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s 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1547640" y="227664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 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231840"/>
            <a:ext cx="64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ложительная фор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2276640"/>
            <a:ext cx="1800360" cy="108108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8ae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85720" y="825480"/>
            <a:ext cx="8372520" cy="60451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9"/>
          <p:cNvSpPr/>
          <p:nvPr/>
        </p:nvSpPr>
        <p:spPr>
          <a:xfrm>
            <a:off x="1692360" y="153972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s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 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  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2274840" y="3848040"/>
            <a:ext cx="55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us 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ons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us 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z 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s     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nt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s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 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nt  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30312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трицательная фор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6084720" y="1844640"/>
            <a:ext cx="1800360" cy="108108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8ae"/>
                </a:solidFill>
                <a:latin typeface="Arial"/>
              </a:rPr>
              <a:t>–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324000" y="812880"/>
            <a:ext cx="8372160" cy="60451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"/>
          <p:cNvSpPr/>
          <p:nvPr/>
        </p:nvSpPr>
        <p:spPr>
          <a:xfrm>
            <a:off x="2617920" y="3848040"/>
            <a:ext cx="378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ons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z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nt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nt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1554120" y="1527120"/>
            <a:ext cx="322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s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-t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ssin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e</a:t>
            </a:r>
            <a:r>
              <a:rPr b="0" lang="ru-RU" sz="36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t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опросительная фор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5580000" y="1773360"/>
            <a:ext cx="1800360" cy="108108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11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оставьте правильное окончан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Прямоугольник 8"/>
          <p:cNvGrpSpPr/>
          <p:nvPr/>
        </p:nvGrpSpPr>
        <p:grpSpPr>
          <a:xfrm>
            <a:off x="250920" y="907920"/>
            <a:ext cx="8431200" cy="2938320"/>
            <a:chOff x="250920" y="907920"/>
            <a:chExt cx="8431200" cy="2938320"/>
          </a:xfrm>
        </p:grpSpPr>
        <p:pic>
          <p:nvPicPr>
            <p:cNvPr id="241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4312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82960" y="939600"/>
              <a:ext cx="837540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Je ne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regard…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pas le film  par la télé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Nous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aim…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 les fleur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haque jour elle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écout…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 la musique et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dans…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dans sa chambre  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Mang…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- vous des pommes de terre 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Où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dessin ….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– elles cette image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Прямоугольник 9"/>
          <p:cNvGrpSpPr/>
          <p:nvPr/>
        </p:nvGrpSpPr>
        <p:grpSpPr>
          <a:xfrm>
            <a:off x="291960" y="3754440"/>
            <a:ext cx="8431200" cy="2865600"/>
            <a:chOff x="291960" y="3754440"/>
            <a:chExt cx="8431200" cy="2865600"/>
          </a:xfrm>
        </p:grpSpPr>
        <p:pic>
          <p:nvPicPr>
            <p:cNvPr id="244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291960" y="3754440"/>
              <a:ext cx="843120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24000" y="3789360"/>
              <a:ext cx="837540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Je ne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regard</a:t>
              </a: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pas le film  par la télé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Nous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aim</a:t>
              </a: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ons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les fleur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haque jour elle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écout</a:t>
              </a: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 la musique et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dans</a:t>
              </a: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dans sa chambre  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Mang</a:t>
              </a: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ez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- vous des pommes de terre 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Où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dessin</a:t>
              </a: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en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– elles cette image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айдите ошибку в глаголах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01600" y="2262960"/>
            <a:ext cx="311328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f79646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mangeo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rega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da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a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regar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i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11"/>
          <p:cNvSpPr/>
          <p:nvPr/>
        </p:nvSpPr>
        <p:spPr>
          <a:xfrm>
            <a:off x="4211640" y="1644480"/>
            <a:ext cx="4537080" cy="488016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s mange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us regard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es dans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aut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s regard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e ai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7"/>
          <p:cNvSpPr/>
          <p:nvPr/>
        </p:nvSpPr>
        <p:spPr>
          <a:xfrm>
            <a:off x="1619280" y="189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Проспрягайте глагол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15"/>
          <p:cNvSpPr/>
          <p:nvPr/>
        </p:nvSpPr>
        <p:spPr>
          <a:xfrm>
            <a:off x="250920" y="2060640"/>
            <a:ext cx="4321080" cy="446400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4464000"/>
              <a:gd name="textAreaBottom" fmla="*/ 4253400 h 4464000"/>
            </a:gdLst>
            <a:ahLst/>
            <a:rect l="textAreaLeft" t="textAreaTop" r="textAreaRight" b="textAreaBottom"/>
            <a:pathLst>
              <a:path w="21600" h="22314">
                <a:moveTo>
                  <a:pt x="3600" y="0"/>
                </a:moveTo>
                <a:arcTo wR="3600" hR="3600" stAng="16200000" swAng="-5400000"/>
                <a:lnTo>
                  <a:pt x="0" y="18714"/>
                </a:lnTo>
                <a:arcTo wR="3600" hR="3600" stAng="10800000" swAng="-5400000"/>
                <a:lnTo>
                  <a:pt x="18000" y="22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Rega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положительной форм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e regar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u regar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l regar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le regar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us regard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ous regard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ls regar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les regar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Скругленный прямоугольник 16"/>
          <p:cNvSpPr/>
          <p:nvPr/>
        </p:nvSpPr>
        <p:spPr>
          <a:xfrm>
            <a:off x="4788000" y="2133720"/>
            <a:ext cx="3887640" cy="4319640"/>
          </a:xfrm>
          <a:custGeom>
            <a:avLst/>
            <a:gdLst>
              <a:gd name="textAreaLeft" fmla="*/ 189720 w 3887640"/>
              <a:gd name="textAreaRight" fmla="*/ 3697920 w 3887640"/>
              <a:gd name="textAreaTop" fmla="*/ 189720 h 4319640"/>
              <a:gd name="textAreaBottom" fmla="*/ 4129920 h 4319640"/>
            </a:gdLst>
            <a:ahLst/>
            <a:rect l="textAreaLeft" t="textAreaTop" r="textAreaRight" b="textAreaBottom"/>
            <a:pathLst>
              <a:path w="21600" h="24000">
                <a:moveTo>
                  <a:pt x="3600" y="0"/>
                </a:moveTo>
                <a:arcTo wR="3600" hR="3600" stAng="16200000" swAng="-5400000"/>
                <a:lnTo>
                  <a:pt x="0" y="20400"/>
                </a:lnTo>
                <a:arcTo wR="3600" hR="3600" stAng="10800000" swAng="-5400000"/>
                <a:lnTo>
                  <a:pt x="18000" y="24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8ae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dan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отрицательной форм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e ne danse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u ne danses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l ne danse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le ne danse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us ne dansons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ous ne dansez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ls ne dansent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les ne dansent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Скругленный прямоугольник 12"/>
          <p:cNvSpPr/>
          <p:nvPr/>
        </p:nvSpPr>
        <p:spPr>
          <a:xfrm>
            <a:off x="611280" y="907920"/>
            <a:ext cx="3024000" cy="10558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rega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положительной форм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Скругленный прямоугольник 14"/>
          <p:cNvSpPr/>
          <p:nvPr/>
        </p:nvSpPr>
        <p:spPr>
          <a:xfrm>
            <a:off x="4932360" y="981000"/>
            <a:ext cx="3456000" cy="100800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dan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отрицательной форм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7:17:39Z</dcterms:created>
  <dc:creator>user</dc:creator>
  <dc:description/>
  <dc:language>en-US</dc:language>
  <cp:lastModifiedBy>Катюша</cp:lastModifiedBy>
  <dcterms:modified xsi:type="dcterms:W3CDTF">2015-04-27T17:58:44Z</dcterms:modified>
  <cp:revision>29</cp:revision>
  <dc:subject/>
  <dc:title>Презентация PowerPoint</dc:title>
</cp:coreProperties>
</file>