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8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593-4096-436E-A40A-58737CE8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8A8-DB5E-4BFB-ACD5-1CA8B67D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0A024-A20C-4628-935F-0D25745B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3A48A6-4837-4BE0-8928-396C092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98DB78-6169-467D-A2FF-A4C8FA4D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FD1E0-1138-4EA4-BA9D-457AE166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A52F7-DF2E-4C8A-A7AC-AD9198D5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2A7698-5648-49EF-BBFC-38633B3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D02F3C-F847-4F1E-8CCA-D53A8CFD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D8C1BE-FB0B-42F4-AEAB-BA0DA69C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E5B943-6816-403A-8AF7-B5552A12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EA9-BDF7-4020-886E-D10484AF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22E-3943-4B90-829D-8EE25673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82EE9-A9D9-4E2A-B9C6-A99D121E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59A61-77FA-4338-8905-1F29411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03B16-366D-4483-9DF3-9D3508E2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67632-EC99-47D3-B8CC-C98DB28E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7DEBD-754B-4FDB-92BF-FDFB179C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5FCBD-3B90-44B2-87C3-D5FD4012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519ED-8601-4531-907F-CD5EAE6B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A07-AD25-4698-ACD2-B1C16AA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2E34B-F38D-417B-916E-3E89F97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229BA-807F-43E9-8B9B-F250F285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8AB26-71FB-49D3-B744-69512615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B1471-24CA-4E46-BA5A-EC575548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65402-6453-45AA-B37D-276EB8D0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BBD3-0F72-4963-89E1-C2FE35EF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985A-B682-4622-BD80-47AB3AB3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1DCF-086F-430D-97FD-1C3E37A6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BFDD-791B-48C8-8FC9-884CF86F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7C08-ACE7-4B5A-8032-D3EE6459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F3C-C715-408D-82FE-CF443F8C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DD96-3C4E-4B3D-B883-FDDA072D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5A85E-CCB7-4FC1-8117-CCE01DEC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52E3-604D-4546-9868-21C5969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8467-F582-4B79-851A-884E0AE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95ED-BC9B-4FA5-BEF2-31BDEE64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1CA2-A3CA-4C13-B296-091AAD21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90D8-A3FD-4871-991D-B8453448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3F675-5F0D-4EEB-8978-32184BFA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89AAC-A495-484E-87C0-DDB076AF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15CE1-2B59-4CA6-91B1-30D48748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1AC-DF32-48AB-8EF9-868D0BBA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30205-C740-4AA6-9AA2-68E18EAD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1B939-D4CD-4297-A67F-5C7ECFF4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92A11C-A1D5-4DFD-B2B6-5FB1AFF3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29774-BBE9-4C18-B0DB-1691DE9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776B2-AC8B-4D14-AF45-E5E6CA4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E6715-34D3-4A75-9A6E-29A7D3F3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6FF1C-E0BC-46AB-9046-6DFCC303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C40ED-83E9-4477-840C-16F609D4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3E430-0852-4D7C-A71E-184DFFA8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736BD-266C-43DC-8714-FBD5FF97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C04-81D4-4DBD-958E-E990DC4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6ACC-07F7-4B05-8D1A-5E7F388E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04E7C-94AF-469D-8351-3FE60460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C5006-952F-443B-94CC-C198A9D4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A97E1-61AE-4312-8AC7-1146588A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B9E2-E0EC-489B-891A-06E3564B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F6D90-2F72-4304-83FE-A367AF48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2EDB-CAFD-4D3D-A824-3895C037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45C02-F8E8-430D-9FB2-E9DDD3F1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87DD-395C-475F-8109-5A111304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2294E-2F1A-42C7-A544-D36801FB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3A7-EA4D-4A0C-8A76-A961A596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38EC-9BEA-4B8B-B5B5-66F71EEA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1AE60-34B4-4ACF-9F0C-837FB027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C212-0209-4DD0-AD9E-2A4217A6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B06C7-E994-4F3C-94B4-FB2DB99D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C826E-A785-405A-9FFD-B5BBBCC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214D-2A9A-463D-8983-8438D39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FF4E3-600F-4516-89CA-16F507E3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50AD-9B63-45F6-8A5D-63CB162D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7B44-C0CE-4E77-A169-A019B1F1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77D86-0BF3-425B-A6A3-5F3C7040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C9D-3B9E-4C3F-8275-26F1258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A31F-F093-4232-9A05-A5F95D54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FFF7B-2AE7-416E-97A9-0046A353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40491-0CCD-4A7D-BC54-BFEBF81F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2D3B8-2620-4104-8DA5-F81E2C17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35442-F6DD-4AE6-9EA9-38087D47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BC8CA-1FA6-4649-A5A8-7D72BD89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3DE31-1E83-4DAC-9295-83E06A9E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59849-BAB4-4793-A4F9-D8E9E40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A400D-8D1B-476E-82BA-3E3B9B26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E16C-CC5F-4614-A18B-9A12973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D38-CDE0-4347-BEE5-519B5B3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E87B0-B7AD-4EFD-B74C-B3C3B3AC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BBEB8-F95E-4496-8802-976A2A8E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8C7C3-AAC3-4609-B3CA-8D38FDBB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866E-2181-46C0-AF01-4E4F13D6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0F3F8-EA51-4554-9A3D-F98092AE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3C687B-82EF-4AC5-BD2C-DDAE7A2C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472E5-D08F-4C95-932A-23C41A6C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631CA-C293-47CD-9C9F-539AAC4D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2981C5-E32C-418C-888C-8F14FBE0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9448D-4FDC-4D26-A562-C14C04C2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39E-5411-40D0-85C2-7556727F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43B2DC-9A91-47FC-AA2B-E61378C3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52E4E-95BD-4561-BE06-44CAD2F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47EFDE-FE27-466B-A3FE-C2FE1F2C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7685C-CDE9-4811-A07C-EC6EFDE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433439-2896-4FC7-B1E6-36A1C9C2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69205-E2D8-4A7E-91E0-397B66BA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52B954-8B0D-4BAE-A1D5-8BE55095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549BC1-077D-454B-B058-9CE723F7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2888DA-F4B0-46E1-8D55-C3C2EA29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834DE8-55CF-4ADD-AC95-80F61641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192-05F3-476C-8F55-75E4BDBB3B8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5E0D-A86B-4963-BB1D-D0562A39274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295F-3B2E-4E2A-89D7-F5C3FBD0E0F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AE75-581B-491B-9C4F-92DD66248B2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CC1-9876-4D98-BEC4-0AE6840215A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95D5-61EA-45B9-99CE-354297E200B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DC4A-85EF-49E7-8860-C53C513B47E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8B91-6BF9-4025-9528-A896E0B00C8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F76A-5CE2-49F3-8A28-CD63D2EF405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&#1055;&#1083;&#1072;&#1097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/index.php?title=&#1064;&#1090;&#1086;&#1087;&#1082;&#1072;&amp;action=edit&amp;redlink=1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5" name="Picture 5" descr="175398"/>
          <p:cNvPicPr/>
          <p:nvPr/>
        </p:nvPicPr>
        <p:blipFill>
          <a:blip r:embed="rId1"/>
          <a:stretch/>
        </p:blipFill>
        <p:spPr>
          <a:xfrm>
            <a:off x="1042920" y="1162080"/>
            <a:ext cx="7705800" cy="50227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6"/>
          <p:cNvSpPr txBox="1"/>
          <p:nvPr/>
        </p:nvSpPr>
        <p:spPr>
          <a:xfrm>
            <a:off x="2484360" y="476280"/>
            <a:ext cx="4695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ая бывает одеж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gx8z_xPCO8k"/>
          <p:cNvPicPr/>
          <p:nvPr/>
        </p:nvPicPr>
        <p:blipFill>
          <a:blip r:embed="rId2"/>
          <a:stretch/>
        </p:blipFill>
        <p:spPr>
          <a:xfrm>
            <a:off x="468360" y="1989000"/>
            <a:ext cx="3048120" cy="4591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69709"/>
          <p:cNvPicPr/>
          <p:nvPr/>
        </p:nvPicPr>
        <p:blipFill>
          <a:blip r:embed="rId3"/>
          <a:stretch/>
        </p:blipFill>
        <p:spPr>
          <a:xfrm>
            <a:off x="4986360" y="1700280"/>
            <a:ext cx="3630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6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лавным материалом для первобытной одежды повсеместно были шкуры животных.  Самыми первыми видами одежды были, по-видимому, набедренные повязки и </a:t>
            </a:r>
            <a:r>
              <a:rPr b="0" lang="ru-RU" sz="2400" spc="-1" strike="noStrike" u="sng">
                <a:solidFill>
                  <a:srgbClr val="db5353"/>
                </a:solidFill>
                <a:uFillTx/>
                <a:latin typeface="Cambria"/>
                <a:hlinkClick r:id="rId2"/>
              </a:rPr>
              <a:t>плащ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0" name="Picture 5" descr="graffiti05"/>
          <p:cNvPicPr/>
          <p:nvPr/>
        </p:nvPicPr>
        <p:blipFill>
          <a:blip r:embed="rId3"/>
          <a:stretch/>
        </p:blipFill>
        <p:spPr>
          <a:xfrm>
            <a:off x="250920" y="981000"/>
            <a:ext cx="416556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зрукавка была в нескольких местах </a:t>
            </a:r>
            <a:r>
              <a:rPr b="0" lang="ru-RU" sz="2800" spc="-1" strike="noStrike" u="sng">
                <a:solidFill>
                  <a:srgbClr val="db5353"/>
                </a:solidFill>
                <a:uFillTx/>
                <a:latin typeface="Cambria"/>
                <a:hlinkClick r:id="rId2"/>
              </a:rPr>
              <a:t>заштопан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 нитками из волокон жёсткой травы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5" descr="ZE01"/>
          <p:cNvPicPr/>
          <p:nvPr/>
        </p:nvPicPr>
        <p:blipFill>
          <a:blip r:embed="rId3"/>
          <a:stretch/>
        </p:blipFill>
        <p:spPr>
          <a:xfrm>
            <a:off x="250920" y="907920"/>
            <a:ext cx="45482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100400" cy="4997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g460K3"/>
          <p:cNvPicPr/>
          <p:nvPr/>
        </p:nvPicPr>
        <p:blipFill>
          <a:blip r:embed="rId4"/>
          <a:stretch/>
        </p:blipFill>
        <p:spPr>
          <a:xfrm>
            <a:off x="468360" y="1052640"/>
            <a:ext cx="4156200" cy="580536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7" descr="71RKUZF9arL"/>
          <p:cNvPicPr/>
          <p:nvPr/>
        </p:nvPicPr>
        <p:blipFill>
          <a:blip r:embed="rId5"/>
          <a:stretch/>
        </p:blipFill>
        <p:spPr>
          <a:xfrm>
            <a:off x="4572000" y="148428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56920" cy="11653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0" descr="1-detskaya-odezhda-popolino-mexx-raulf-lauren-i-dr"/>
          <p:cNvPicPr/>
          <p:nvPr/>
        </p:nvPicPr>
        <p:blipFill>
          <a:blip r:embed="rId3"/>
          <a:stretch/>
        </p:blipFill>
        <p:spPr>
          <a:xfrm>
            <a:off x="155520" y="1428840"/>
            <a:ext cx="89884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111861E3XX"/>
          <p:cNvPicPr/>
          <p:nvPr/>
        </p:nvPicPr>
        <p:blipFill>
          <a:blip r:embed="rId2"/>
          <a:stretch/>
        </p:blipFill>
        <p:spPr>
          <a:xfrm>
            <a:off x="250920" y="1484280"/>
            <a:ext cx="3284280" cy="3959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P10100041"/>
          <p:cNvPicPr/>
          <p:nvPr/>
        </p:nvPicPr>
        <p:blipFill>
          <a:blip r:embed="rId3"/>
          <a:stretch/>
        </p:blipFill>
        <p:spPr>
          <a:xfrm>
            <a:off x="3780000" y="1704960"/>
            <a:ext cx="50734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8351258"/>
          <p:cNvPicPr/>
          <p:nvPr/>
        </p:nvPicPr>
        <p:blipFill>
          <a:blip r:embed="rId2"/>
          <a:stretch/>
        </p:blipFill>
        <p:spPr>
          <a:xfrm>
            <a:off x="250920" y="1630440"/>
            <a:ext cx="3703680" cy="5227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48554143_w640_h640_getimage_8"/>
          <p:cNvPicPr/>
          <p:nvPr/>
        </p:nvPicPr>
        <p:blipFill>
          <a:blip r:embed="rId3"/>
          <a:stretch/>
        </p:blipFill>
        <p:spPr>
          <a:xfrm>
            <a:off x="4770360" y="1628640"/>
            <a:ext cx="3006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b3636"/>
          <p:cNvPicPr/>
          <p:nvPr/>
        </p:nvPicPr>
        <p:blipFill>
          <a:blip r:embed="rId3"/>
          <a:stretch/>
        </p:blipFill>
        <p:spPr>
          <a:xfrm>
            <a:off x="0" y="1557360"/>
            <a:ext cx="4762440" cy="5038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2" descr="49315508_w640_h640_vid307_1"/>
          <p:cNvPicPr/>
          <p:nvPr/>
        </p:nvPicPr>
        <p:blipFill>
          <a:blip r:embed="rId4"/>
          <a:stretch/>
        </p:blipFill>
        <p:spPr>
          <a:xfrm>
            <a:off x="3924360" y="2349360"/>
            <a:ext cx="499572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908165d5e70bb06c1866caf275241746"/>
          <p:cNvPicPr/>
          <p:nvPr/>
        </p:nvPicPr>
        <p:blipFill>
          <a:blip r:embed="rId2"/>
          <a:stretch/>
        </p:blipFill>
        <p:spPr>
          <a:xfrm>
            <a:off x="0" y="404640"/>
            <a:ext cx="2990880" cy="2990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1292753252_052_22006_10530000"/>
          <p:cNvPicPr/>
          <p:nvPr/>
        </p:nvPicPr>
        <p:blipFill>
          <a:blip r:embed="rId3"/>
          <a:stretch/>
        </p:blipFill>
        <p:spPr>
          <a:xfrm>
            <a:off x="2843280" y="1628640"/>
            <a:ext cx="2800440" cy="4248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97286240_large_3Ulanova"/>
          <p:cNvPicPr/>
          <p:nvPr/>
        </p:nvPicPr>
        <p:blipFill>
          <a:blip r:embed="rId4"/>
          <a:stretch/>
        </p:blipFill>
        <p:spPr>
          <a:xfrm>
            <a:off x="468360" y="3573360"/>
            <a:ext cx="2133720" cy="2997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b7bdd319d16531ff605a682b22929720"/>
          <p:cNvPicPr/>
          <p:nvPr/>
        </p:nvPicPr>
        <p:blipFill>
          <a:blip r:embed="rId5"/>
          <a:stretch/>
        </p:blipFill>
        <p:spPr>
          <a:xfrm>
            <a:off x="5796000" y="1700280"/>
            <a:ext cx="313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4:27:33Z</dcterms:created>
  <dc:creator>User</dc:creator>
  <dc:description/>
  <dc:language>en-US</dc:language>
  <cp:lastModifiedBy>Галина</cp:lastModifiedBy>
  <dcterms:modified xsi:type="dcterms:W3CDTF">2015-09-13T17:11:04Z</dcterms:modified>
  <cp:revision>5</cp:revision>
  <dc:subject/>
  <dc:title>Слайд 1</dc:title>
</cp:coreProperties>
</file>