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8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CBB-69F1-4E53-9A94-47C32039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BD2-ADB7-4853-9A81-42683972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BD2C9-F8DE-43D2-B483-379659BF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C94326-8A5F-4305-BD29-D594DF3F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31016C-719D-4D14-8457-0EF509E4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542B67-6723-4524-86A4-FBFCD1E4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96511F-971F-451B-9BA6-6E90D2DE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D2A80D-D630-4E0C-B6E6-34170D5B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19DC23-53BB-4E2C-AB49-A8D9B10A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B42991-19D6-4316-A93E-BC49796C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713743-E054-4FBB-931A-D3BBAF08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0BF-20CE-48E6-9CC5-15096AD6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4EE-2A95-4614-B3D0-F6F3A268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28BF0-CE98-4BAC-BF4D-CF5E94B5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06D72-EDEF-43D9-B70E-99C8F5FD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1FD41-8DB7-4811-AD1F-C042EED3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6BF94-F128-430B-A4DE-FB8A1BCD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559FA-07FD-4D93-A8CC-1FBFB05B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87545-BF5D-43B7-8D66-F49CD4E8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6EE56-5DBB-4E52-A3A0-2B82CBFC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168-831E-4A8D-981A-22337588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85D82-7DF2-4702-86E9-9D555C6F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70207-C8F7-4FD7-851A-E3633791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C625E-8D46-43B2-95CA-0976244D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536DD-1D0F-46AA-B877-2B328A95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C5906-81A4-4B8E-A3AA-BF7D2567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3294-EC14-4240-8D3C-06EC8848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D1D5-2C08-4B2A-8913-1AD90570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A7F0-AF47-48EA-8F5F-544C75D9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793F4-DB9F-4C4C-B161-53A19F98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C9E9-8B9E-40BA-82A6-50C4C3E7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DB1-A2E0-404A-BE09-5561EA8B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25EF8-4C6B-4CB4-AB25-1B2A89ED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32D6-E3D0-4FA6-A145-2B5A7C68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63CB-D768-4170-9C62-CAEE83D3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CAE2-A0BC-435B-AE72-F4AEA929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C1FC-ED28-46FD-A149-8B8AE7F0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4CF8-94FC-4AFD-B610-BE493ACF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F421-3ADF-40FB-AC01-02B2AC01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B0668-6BE4-480E-BA76-F0B81A02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F8681-324E-4BEF-9788-DB9D0E83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0E869-3B85-4820-8405-5D448DDB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48C-3B0B-43BD-A6C4-7E25BA49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9F95B-E35C-4BDC-A650-70F022DC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3215EE-74F8-4787-986D-D2771B75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6F5C6-F1BD-46B7-AFFC-2CE725D1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17ACD-27FC-4F64-92CE-335BDAAE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E8461-5314-4B4F-B5C8-034B70A0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E0BD8-1B33-4BE2-83B0-282EF4D2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E2A67-6F06-45AF-8B54-02994E66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A7DC9-812B-4ACC-9A07-19586AC4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8D7A2-9F2F-4FEB-BE0D-3F911AD8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EEEA1-BFB8-4EDF-931A-7E8E4984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8CF-0FDD-4277-B9E4-0F38CBF9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F6107-9B91-4FDB-BEB6-1B9A244F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1ADDC-CCC1-49B4-9572-03ACA17B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2784D-E8D7-42FC-BAD0-C6083C4F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894F6-A3FB-4945-B15E-6845CAF3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5799F-5AD4-4ECB-B4A0-4CBDE81F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E09C9-973B-48C1-B552-5482AF10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8C728-4E96-48AB-AA2C-D8A0738E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D5145-C19E-46CC-B772-FF03F7DB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9305-58D3-49CE-8BBC-0A0BC685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3ED23-3DF1-47DE-A3EE-7A2DFE3F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DE6-629B-4E15-85D7-3030F227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48AD0-4E5A-4575-85CF-2E814508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A6495-7E34-49D9-81B5-8CE401CA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30321-482E-418D-921E-226D5A72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C9F7D-0604-406D-ADF9-F4DB675E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602CA-C37B-4212-8E32-3F1DB12D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5D004-AD8C-41C1-A1F2-0DC21E82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3569D-43A4-4BEA-96B5-999D15B9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D6DD9-C6E0-496C-ABA3-88607563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37397-A9B6-4557-AD6A-BCDDAEE9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1A014-FBDD-4837-A92B-3359C46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BF1-659C-49EB-A90E-D69067D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CA708-FAA0-4DDF-9AFF-273C7CF9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82716-58CA-4268-AA60-C7D53E91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9AF70-53F1-4F54-97CD-E0CB7B6A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7C9F-38B4-400C-877F-1D70953A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050CC-3021-4CB4-8B29-026F4A57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31811-4B9C-40BD-840B-56DBAABA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F796-F107-4CC7-BEFC-5E877E2F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B044D-11E0-49A3-997C-B1C2ECA4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AF02F-9A3C-4606-A795-035B825F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D540E-7628-4930-AB43-86D4FC1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A67-C540-458B-8E9E-9BF2FBFA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96952-D1E3-4543-B6F9-8B890FDC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6D97B-6A24-49D4-83B7-3230A375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54966-50C4-4B3E-B9EF-84576FBD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CDF94-FED4-425B-A11B-D1E9CDC5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8B362-CEF9-4746-A76E-8F1EAF9C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6226C0-D92D-44FD-83B2-B0034EE0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9DC6BC-ABE7-4905-B5D5-EAFCDD74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025E7B-7919-4FF5-80A2-5B1C54F5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5876F-B6DD-47D5-BEDB-D5664683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674D9-D512-44C8-BC0C-FB1A65A3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BA6-DBF5-4FCF-AD27-9499BCC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A2713A-D2FC-4CB3-A8B3-02F857F2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68E7AD-4942-4B4B-9C11-BB5BD6BB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D6473-793A-4B61-B0B7-3304E4AD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9C8EF0-AFB2-484F-B1B4-43592E6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775D55-39CB-45EA-9270-626977DD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9F6F7B-AB34-478B-8650-B16325C2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A2606D-5D4C-4B3F-AD0B-A62A965F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58320B-376C-4B68-874B-8C2AD914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668FB-C57F-4FC1-9FF5-42409092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C3412F-0745-4EA0-9578-60654414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8ECD-21C3-4D05-9390-DEDBBD47917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3667-F7FC-4585-BE25-5FB5B6C91D0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D931-FE72-4389-A700-96DD3A7C59C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90F3-06CB-4F92-817B-E24DDD82663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ED1B-7B82-4D8B-A105-251698DE924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35AE-1E87-4FB3-8D20-942CF13AD57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C763-8E6F-4116-BAD0-6212C8CCC1D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134F-DC5B-47D8-A9D9-A7E663363D1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82C5-FD01-4CFD-8A8A-C3232E2B03F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&#1055;&#1083;&#1072;&#1097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/index.php?title=&#1064;&#1090;&#1086;&#1087;&#1082;&#1072;&amp;action=edit&amp;redlink=1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5" name="Picture 5" descr="175398"/>
          <p:cNvPicPr/>
          <p:nvPr/>
        </p:nvPicPr>
        <p:blipFill>
          <a:blip r:embed="rId1"/>
          <a:stretch/>
        </p:blipFill>
        <p:spPr>
          <a:xfrm>
            <a:off x="1042920" y="1162080"/>
            <a:ext cx="7705800" cy="50227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6"/>
          <p:cNvSpPr txBox="1"/>
          <p:nvPr/>
        </p:nvSpPr>
        <p:spPr>
          <a:xfrm>
            <a:off x="2484360" y="476280"/>
            <a:ext cx="4695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ая бывает одеж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gx8z_xPCO8k"/>
          <p:cNvPicPr/>
          <p:nvPr/>
        </p:nvPicPr>
        <p:blipFill>
          <a:blip r:embed="rId2"/>
          <a:stretch/>
        </p:blipFill>
        <p:spPr>
          <a:xfrm>
            <a:off x="468360" y="1989000"/>
            <a:ext cx="3048120" cy="4591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" descr="69709"/>
          <p:cNvPicPr/>
          <p:nvPr/>
        </p:nvPicPr>
        <p:blipFill>
          <a:blip r:embed="rId3"/>
          <a:stretch/>
        </p:blipFill>
        <p:spPr>
          <a:xfrm>
            <a:off x="4986360" y="1700280"/>
            <a:ext cx="3630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6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14080" cy="14810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лавным материалом для первобытной одежды повсеместно были шкуры животных.  Самыми первыми видами одежды были, по-видимому, набедренные повязки и </a:t>
            </a:r>
            <a:r>
              <a:rPr b="0" lang="ru-RU" sz="2400" spc="-1" strike="noStrike" u="sng">
                <a:solidFill>
                  <a:srgbClr val="db5353"/>
                </a:solidFill>
                <a:uFillTx/>
                <a:latin typeface="Cambria"/>
                <a:hlinkClick r:id="rId2"/>
              </a:rPr>
              <a:t>плащ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0" name="Picture 5" descr="graffiti05"/>
          <p:cNvPicPr/>
          <p:nvPr/>
        </p:nvPicPr>
        <p:blipFill>
          <a:blip r:embed="rId3"/>
          <a:stretch/>
        </p:blipFill>
        <p:spPr>
          <a:xfrm>
            <a:off x="250920" y="981000"/>
            <a:ext cx="416556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зрукавка была в нескольких местах </a:t>
            </a:r>
            <a:r>
              <a:rPr b="0" lang="ru-RU" sz="2800" spc="-1" strike="noStrike" u="sng">
                <a:solidFill>
                  <a:srgbClr val="db5353"/>
                </a:solidFill>
                <a:uFillTx/>
                <a:latin typeface="Cambria"/>
                <a:hlinkClick r:id="rId2"/>
              </a:rPr>
              <a:t>заштопана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 нитками из волокон жёсткой травы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5" descr="ZE01"/>
          <p:cNvPicPr/>
          <p:nvPr/>
        </p:nvPicPr>
        <p:blipFill>
          <a:blip r:embed="rId3"/>
          <a:stretch/>
        </p:blipFill>
        <p:spPr>
          <a:xfrm>
            <a:off x="250920" y="907920"/>
            <a:ext cx="45482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100400" cy="4997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g460K3"/>
          <p:cNvPicPr/>
          <p:nvPr/>
        </p:nvPicPr>
        <p:blipFill>
          <a:blip r:embed="rId4"/>
          <a:stretch/>
        </p:blipFill>
        <p:spPr>
          <a:xfrm>
            <a:off x="468360" y="1052640"/>
            <a:ext cx="4156200" cy="580536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7" descr="71RKUZF9arL"/>
          <p:cNvPicPr/>
          <p:nvPr/>
        </p:nvPicPr>
        <p:blipFill>
          <a:blip r:embed="rId5"/>
          <a:stretch/>
        </p:blipFill>
        <p:spPr>
          <a:xfrm>
            <a:off x="4572000" y="148428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56920" cy="11653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0" descr="1-detskaya-odezhda-popolino-mexx-raulf-lauren-i-dr"/>
          <p:cNvPicPr/>
          <p:nvPr/>
        </p:nvPicPr>
        <p:blipFill>
          <a:blip r:embed="rId3"/>
          <a:stretch/>
        </p:blipFill>
        <p:spPr>
          <a:xfrm>
            <a:off x="155520" y="1428840"/>
            <a:ext cx="89884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111861E3XX"/>
          <p:cNvPicPr/>
          <p:nvPr/>
        </p:nvPicPr>
        <p:blipFill>
          <a:blip r:embed="rId2"/>
          <a:stretch/>
        </p:blipFill>
        <p:spPr>
          <a:xfrm>
            <a:off x="250920" y="1484280"/>
            <a:ext cx="3284280" cy="3959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P10100041"/>
          <p:cNvPicPr/>
          <p:nvPr/>
        </p:nvPicPr>
        <p:blipFill>
          <a:blip r:embed="rId3"/>
          <a:stretch/>
        </p:blipFill>
        <p:spPr>
          <a:xfrm>
            <a:off x="3780000" y="1704960"/>
            <a:ext cx="50734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8351258"/>
          <p:cNvPicPr/>
          <p:nvPr/>
        </p:nvPicPr>
        <p:blipFill>
          <a:blip r:embed="rId2"/>
          <a:stretch/>
        </p:blipFill>
        <p:spPr>
          <a:xfrm>
            <a:off x="250920" y="1630440"/>
            <a:ext cx="3703680" cy="5227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48554143_w640_h640_getimage_8"/>
          <p:cNvPicPr/>
          <p:nvPr/>
        </p:nvPicPr>
        <p:blipFill>
          <a:blip r:embed="rId3"/>
          <a:stretch/>
        </p:blipFill>
        <p:spPr>
          <a:xfrm>
            <a:off x="4770360" y="1628640"/>
            <a:ext cx="3006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b3636"/>
          <p:cNvPicPr/>
          <p:nvPr/>
        </p:nvPicPr>
        <p:blipFill>
          <a:blip r:embed="rId3"/>
          <a:stretch/>
        </p:blipFill>
        <p:spPr>
          <a:xfrm>
            <a:off x="0" y="1557360"/>
            <a:ext cx="4762440" cy="5038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2" descr="49315508_w640_h640_vid307_1"/>
          <p:cNvPicPr/>
          <p:nvPr/>
        </p:nvPicPr>
        <p:blipFill>
          <a:blip r:embed="rId4"/>
          <a:stretch/>
        </p:blipFill>
        <p:spPr>
          <a:xfrm>
            <a:off x="3924360" y="2349360"/>
            <a:ext cx="499572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908165d5e70bb06c1866caf275241746"/>
          <p:cNvPicPr/>
          <p:nvPr/>
        </p:nvPicPr>
        <p:blipFill>
          <a:blip r:embed="rId2"/>
          <a:stretch/>
        </p:blipFill>
        <p:spPr>
          <a:xfrm>
            <a:off x="0" y="404640"/>
            <a:ext cx="2990880" cy="2990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1292753252_052_22006_10530000"/>
          <p:cNvPicPr/>
          <p:nvPr/>
        </p:nvPicPr>
        <p:blipFill>
          <a:blip r:embed="rId3"/>
          <a:stretch/>
        </p:blipFill>
        <p:spPr>
          <a:xfrm>
            <a:off x="2843280" y="1628640"/>
            <a:ext cx="2800440" cy="4248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97286240_large_3Ulanova"/>
          <p:cNvPicPr/>
          <p:nvPr/>
        </p:nvPicPr>
        <p:blipFill>
          <a:blip r:embed="rId4"/>
          <a:stretch/>
        </p:blipFill>
        <p:spPr>
          <a:xfrm>
            <a:off x="468360" y="3573360"/>
            <a:ext cx="2133720" cy="2997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b7bdd319d16531ff605a682b22929720"/>
          <p:cNvPicPr/>
          <p:nvPr/>
        </p:nvPicPr>
        <p:blipFill>
          <a:blip r:embed="rId5"/>
          <a:stretch/>
        </p:blipFill>
        <p:spPr>
          <a:xfrm>
            <a:off x="5796000" y="1700280"/>
            <a:ext cx="313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4:27:33Z</dcterms:created>
  <dc:creator>User</dc:creator>
  <dc:description/>
  <dc:language>en-US</dc:language>
  <cp:lastModifiedBy>Галина</cp:lastModifiedBy>
  <dcterms:modified xsi:type="dcterms:W3CDTF">2015-09-13T17:11:04Z</dcterms:modified>
  <cp:revision>5</cp:revision>
  <dc:subject/>
  <dc:title>Слайд 1</dc:title>
</cp:coreProperties>
</file>