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B02-965D-4DD1-9A9D-2F62B7ED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5F32-B3D6-4E81-A868-E47F92F3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4495-0923-4467-A122-5A12D185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2B4-77A9-4EDF-BE0C-2CEDFC22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6F82-1236-41B9-9F07-2F36D711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A5A8-522D-4CE7-810B-918B545E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6B39-E2D1-4153-8042-AFF144ED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1CCF-677C-4168-AEE6-91CC1AB3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DFF1-1A5E-4920-A524-755A8529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D290-D8B0-4756-BAEC-49255866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65AA-02C9-4296-BADE-4AF3C65B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60A0-7ED1-45AB-8657-B9E9C263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0665-C91A-48F0-B7AA-00147EEB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8B1F-50E9-4F47-8FCB-8F0838FC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0FAA-7398-4122-8BAC-135B4A5B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63F6-2109-405D-AFB4-0F30F9DE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C4FF-AA33-47D4-9745-19E042F9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87AD5-B453-4C50-802A-5662B5C2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9FBBF-A7B9-4BE2-A400-5C6BC48C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0AB47-D35A-47E7-8D56-586D205A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C67A6-E9B4-4D42-B75D-11108AEE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7E7AB-9D50-49DF-8386-D26A0E30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41B-B1AF-4101-B3BA-8EC00D6D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40C2C-458C-42F8-8860-96C0E94C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E7F4A-8EB0-4F72-9315-1E3C6B00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75429-6655-48A7-B69C-D5E2853A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B6FCB-B682-43DC-95D1-BE04BEF2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49361-7740-4108-9A8F-6091AA0A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536AE-74B9-436C-9CA0-204BF451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19AA0-CCC8-41A9-B15C-0E8755AA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F699-F5FB-447F-A4F7-A485B13C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F72-8BDA-4D5C-B585-D170B57E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376-2F90-430A-9499-C60660FA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2AD-E046-404A-9E51-DB797E52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737D-5951-4E39-B118-71DEA5BE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FDB8-3A71-43A4-A3DF-76400DBF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F9A8-0EAF-4579-A63E-78FDC95DCD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0FB5-E00F-4A03-A846-CE348DF20F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4813-A840-4753-85B2-1D49732F84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2"/>
          <a:stretch/>
        </p:blipFill>
        <p:spPr>
          <a:xfrm>
            <a:off x="682560" y="450720"/>
            <a:ext cx="7785000" cy="25304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62120" y="2971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7f7f"/>
                </a:solidFill>
                <a:latin typeface="Times New Roman"/>
              </a:rPr>
              <a:t>                   </a:t>
            </a:r>
            <a:r>
              <a:rPr b="0" lang="ru-RU" sz="3600" spc="-1" strike="noStrike">
                <a:solidFill>
                  <a:srgbClr val="7f7f7f"/>
                </a:solidFill>
                <a:latin typeface="Times New Roman"/>
              </a:rPr>
              <a:t>Автор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Данилина Евген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горевна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БОУ СОШ №9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1 клас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4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000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ально проработанные изображения моделей в цвет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Содержимое 6" descr="H:\DCIM\100CANON\IMG_3337.JPG"/>
          <p:cNvPicPr/>
          <p:nvPr/>
        </p:nvPicPr>
        <p:blipFill>
          <a:blip r:embed="rId2"/>
          <a:srcRect l="0" t="0" r="0" b="1268"/>
          <a:stretch/>
        </p:blipFill>
        <p:spPr>
          <a:xfrm>
            <a:off x="1143000" y="1371600"/>
            <a:ext cx="287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ctangle 5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968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456840" y="1752480"/>
            <a:ext cx="3886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исунки, содержащие определенные пояснения к изображаемой модели и ее дета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Рисунок 3" descr="H:\DCIM\100CANON\IMG_3342.JPG"/>
          <p:cNvPicPr/>
          <p:nvPr/>
        </p:nvPicPr>
        <p:blipFill>
          <a:blip r:embed="rId2"/>
          <a:srcRect l="11422" t="12284" r="14784" b="11279"/>
          <a:stretch/>
        </p:blipFill>
        <p:spPr>
          <a:xfrm>
            <a:off x="4876920" y="1523880"/>
            <a:ext cx="27432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79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218960" y="182880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хематичные графические (черно-белые) изображения модели, содержащие вид спереди и вид сзад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030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оретическая значим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ы – материал можно использовать для конспе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ктическая значим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скизы можно использовать как наглядные пособия и для оформ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6840" y="1676520"/>
            <a:ext cx="3886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бле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том, что с первоначальным этапом создания одежды – разработкой эскизов знакомы только специалистам, потребитель  видит уже готовый костюм на подиумах или в модных журнал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4572000" y="1676520"/>
            <a:ext cx="396252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ная индустрия в последнее время во всем мире, в том числе и в России, представляет собой наиболее бурно развивающуюся сферу общественной жизни и требует большого количества специалис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76176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95959"/>
                </a:solidFill>
                <a:latin typeface="Times New Roman"/>
              </a:rPr>
              <a:t>Объект исследования 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цесс создания одежды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95959"/>
                </a:solidFill>
                <a:latin typeface="Times New Roman"/>
              </a:rPr>
              <a:t>Предмет исследования 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скизная графика в процессе создания одеж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030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53316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 – показать роль эскизной графики в процессе создания одеж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360" y="2666520"/>
            <a:ext cx="7543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исследовать информационные источники по интересуемой тем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исследовать процесс создания одежд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исследовать основы эскизной графи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показать процесс создания одежды на этапе эскизной графики на примере небольшой колле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показать все этапы выполнения эскизной графики на примере коллекции, то можно доказать ее главенствующую роль в процессе создания одежды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а также способствовать профориентации в сфере модной индустр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981080"/>
            <a:ext cx="8153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информационных источни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мпирические – выполнение эскиз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социометрии – опрос для исследования мнения школьни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нные опроса обрабатывались на основе синтеза и анализ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219320" y="1828440"/>
            <a:ext cx="67053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зайнеры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структоры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женеры-технолог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тера-портн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109440" y="268200"/>
            <a:ext cx="9010800" cy="1036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533160" y="1752480"/>
            <a:ext cx="3809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скизирование, то есть эскизная графика будущих моделей одежды – это основная деятельность дизайнера одеж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Содержимое 4" descr="C:\Users\Sveta\Desktop\Данилина НОУ 2014\эскизы Женя 2014\IMG_3304.JPG"/>
          <p:cNvPicPr/>
          <p:nvPr/>
        </p:nvPicPr>
        <p:blipFill>
          <a:blip r:embed="rId2">
            <a:lum bright="20000"/>
          </a:blip>
          <a:srcRect l="7054" t="18067" r="57457" b="5682"/>
          <a:stretch/>
        </p:blipFill>
        <p:spPr>
          <a:xfrm>
            <a:off x="5486400" y="243828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141" name="Содержимое 3"/>
          <p:cNvSpPr/>
          <p:nvPr/>
        </p:nvSpPr>
        <p:spPr>
          <a:xfrm>
            <a:off x="4800600" y="1828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исковые набро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85400" cy="11588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38102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выражение первоначальных замыслов формы проектируемого издел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Рисунок 6" descr="C:\Users\Sveta\Desktop\Данилина НОУ 2014\эскизы Женя 2014\IMG_3327.JPG"/>
          <p:cNvPicPr/>
          <p:nvPr/>
        </p:nvPicPr>
        <p:blipFill>
          <a:blip r:embed="rId2"/>
          <a:srcRect l="67136" t="6220" r="11335" b="5023"/>
          <a:stretch/>
        </p:blipFill>
        <p:spPr>
          <a:xfrm>
            <a:off x="5638680" y="1905120"/>
            <a:ext cx="1555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autiful User</dc:creator>
  <dc:description/>
  <dc:language>en-US</dc:language>
  <cp:lastModifiedBy>Sveta</cp:lastModifiedBy>
  <dcterms:modified xsi:type="dcterms:W3CDTF">2015-09-13T15:49:53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