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4AE0-1218-4902-83F7-C56726D6A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BAA3-9107-4B22-A8EB-AD4663C9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D739-476B-4905-8F03-69B027081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D939-5F18-4DC7-979D-14BA12FCA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AE898-526C-4AFD-A46A-724749C5D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B33C-4917-4848-80C5-6AA454AA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A12C-F595-414C-92A1-0AD2546B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47205-5F41-4880-8652-318CD00F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D03C-CFA3-41FB-AF09-1B04EA99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30D5-57F1-4FCD-B3DC-263A1F01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7235-FA6D-443E-B1AE-8EF72EDE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FA30-2028-4781-B189-49E6B32E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4DCB-782E-4276-99BE-B9722C2F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10DD-A576-48B2-B504-B45CF66E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E713-1D54-426A-8ED0-219A20CD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29D7-17D8-446B-B481-3140954E7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1F99D-BAAB-4964-AEE8-15DCCDF29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4258D-B18A-4BCB-8728-F1229CAA2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4225D-3889-4FC9-99F9-47B60A48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284DA-5CFC-4F23-83EA-853505EC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1E5CA-2B96-4B2C-AE33-A527193B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5DF53-3C76-477E-B26F-1D43E016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F3F5-95BC-49F1-85F8-309CEB5E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23C4E-FFC6-44BF-9194-8F42A5C6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8634C-0D76-44CA-818E-9EFE4B67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97ACB-F900-4DA9-9BF7-14A3A3E5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852EB-F4C5-47BC-B1EE-CC244D6A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4B6E4-A4CA-4450-8EC8-D6BC848D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E008D-AD7F-4B29-AE7E-F0847937B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E4EB7-82B7-41EC-B2AB-E6B0DAC07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405C-C655-4F71-8103-5B8C92D9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BAD5-C327-4F6B-B738-5616E183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8D13-14C8-44A6-A205-39446F67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032A-F09A-42F0-839C-0F8539F3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66F5-1204-40C8-B84E-C39E2B82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3D23-51C7-495F-BD8D-2C6D705E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C7DB-9404-402F-A235-F7CE5D47D7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EC97-9BAE-4088-B191-33FA45F87F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0774-6951-4BB9-8BA1-C3FCE09450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Rectangle 2" descr=""/>
          <p:cNvPicPr/>
          <p:nvPr/>
        </p:nvPicPr>
        <p:blipFill>
          <a:blip r:embed="rId2"/>
          <a:stretch/>
        </p:blipFill>
        <p:spPr>
          <a:xfrm>
            <a:off x="682560" y="450720"/>
            <a:ext cx="7785000" cy="25304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62120" y="29714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f7f7f"/>
                </a:solidFill>
                <a:latin typeface="Times New Roman"/>
              </a:rPr>
              <a:t>                   </a:t>
            </a:r>
            <a:r>
              <a:rPr b="0" lang="ru-RU" sz="3600" spc="-1" strike="noStrike">
                <a:solidFill>
                  <a:srgbClr val="7f7f7f"/>
                </a:solidFill>
                <a:latin typeface="Times New Roman"/>
              </a:rPr>
              <a:t>Автор: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Данилина Евгени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горевна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БОУ СОШ №9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11 класс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Rectangle 4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10000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тально проработанные изображения моделей в цвет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Содержимое 6" descr="H:\DCIM\100CANON\IMG_3337.JPG"/>
          <p:cNvPicPr/>
          <p:nvPr/>
        </p:nvPicPr>
        <p:blipFill>
          <a:blip r:embed="rId2"/>
          <a:srcRect l="0" t="0" r="0" b="1268"/>
          <a:stretch/>
        </p:blipFill>
        <p:spPr>
          <a:xfrm>
            <a:off x="1143000" y="1371600"/>
            <a:ext cx="2879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Rectangle 5" descr=""/>
          <p:cNvPicPr/>
          <p:nvPr/>
        </p:nvPicPr>
        <p:blipFill>
          <a:blip r:embed="rId1"/>
          <a:stretch/>
        </p:blipFill>
        <p:spPr>
          <a:xfrm>
            <a:off x="450720" y="201600"/>
            <a:ext cx="8242560" cy="9684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456840" y="1752480"/>
            <a:ext cx="38862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исунки, содержащие определенные пояснения к изображаемой модели и ее деталя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Рисунок 3" descr="H:\DCIM\100CANON\IMG_3342.JPG"/>
          <p:cNvPicPr/>
          <p:nvPr/>
        </p:nvPicPr>
        <p:blipFill>
          <a:blip r:embed="rId2"/>
          <a:srcRect l="11422" t="12284" r="14784" b="11279"/>
          <a:stretch/>
        </p:blipFill>
        <p:spPr>
          <a:xfrm>
            <a:off x="4876920" y="1523880"/>
            <a:ext cx="274320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0792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1218960" y="1828800"/>
            <a:ext cx="61722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хематичные графические (черно-белые) изображения модели, содержащие вид спереди и вид сзад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Заголовок 1" descr=""/>
          <p:cNvPicPr/>
          <p:nvPr/>
        </p:nvPicPr>
        <p:blipFill>
          <a:blip r:embed="rId1"/>
          <a:stretch/>
        </p:blipFill>
        <p:spPr>
          <a:xfrm>
            <a:off x="450720" y="201600"/>
            <a:ext cx="8242560" cy="10303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оретическая значим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боты – материал можно использовать для конспек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актическая значим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эскизы можно использовать как наглядные пособия и для оформл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6840" y="1676520"/>
            <a:ext cx="38862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блем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том, что с первоначальным этапом создания одежды – разработкой эскизов знакомы только специалистам, потребитель  видит уже готовый костюм на подиумах или в модных журнала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4572000" y="1676520"/>
            <a:ext cx="3962520" cy="43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дная индустрия в последнее время во всем мире, в том числе и в России, представляет собой наиболее бурно развивающуюся сферу общественной жизни и требует большого количества специалис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76176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95959"/>
                </a:solidFill>
                <a:latin typeface="Times New Roman"/>
              </a:rPr>
              <a:t>Объект исследования 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цесс создания одежды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95959"/>
                </a:solidFill>
                <a:latin typeface="Times New Roman"/>
              </a:rPr>
              <a:t>Предмет исследования 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скизная графика в процессе создания одежд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Заголовок 1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242560" cy="1030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53316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ь – показать роль эскизной графики в процессе создания одеж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90360" y="2666520"/>
            <a:ext cx="7543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исследовать информационные источники по интересуемой теме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исследовать процесс создания одежд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исследовать основы эскизной график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показать процесс создания одежды на этапе эскизной графики на примере небольшой коллек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показать все этапы выполнения эскизной графики на примере коллекции, то можно доказать ее главенствующую роль в процессе создания одежды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а также способствовать профориентации в сфере модной индустр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457200" y="1981080"/>
            <a:ext cx="81532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ализ информационных источник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мпирические – выполнение эскиз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тод социометрии – опрос для исследования мнения школьник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нные опроса обрабатывались на основе синтеза и анализ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219320" y="1828440"/>
            <a:ext cx="67053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изайнеры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структоры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женеры-технолог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стера-портны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Заголовок 1" descr=""/>
          <p:cNvPicPr/>
          <p:nvPr/>
        </p:nvPicPr>
        <p:blipFill>
          <a:blip r:embed="rId1"/>
          <a:stretch/>
        </p:blipFill>
        <p:spPr>
          <a:xfrm>
            <a:off x="109440" y="268200"/>
            <a:ext cx="9010800" cy="10368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533160" y="1752480"/>
            <a:ext cx="38098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скизирование, то есть эскизная графика будущих моделей одежды – это основная деятельность дизайнера одеж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Содержимое 4" descr="C:\Users\Sveta\Desktop\Данилина НОУ 2014\эскизы Женя 2014\IMG_3304.JPG"/>
          <p:cNvPicPr/>
          <p:nvPr/>
        </p:nvPicPr>
        <p:blipFill>
          <a:blip r:embed="rId2">
            <a:lum bright="20000"/>
          </a:blip>
          <a:srcRect l="7054" t="18067" r="57457" b="5682"/>
          <a:stretch/>
        </p:blipFill>
        <p:spPr>
          <a:xfrm>
            <a:off x="5486400" y="2438280"/>
            <a:ext cx="2743200" cy="3657600"/>
          </a:xfrm>
          <a:prstGeom prst="rect">
            <a:avLst/>
          </a:prstGeom>
          <a:ln w="0">
            <a:noFill/>
          </a:ln>
        </p:spPr>
      </p:pic>
      <p:sp>
        <p:nvSpPr>
          <p:cNvPr id="141" name="Содержимое 3"/>
          <p:cNvSpPr/>
          <p:nvPr/>
        </p:nvSpPr>
        <p:spPr>
          <a:xfrm>
            <a:off x="4800600" y="18288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исковые набро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85400" cy="11588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286000"/>
            <a:ext cx="38102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выражение первоначальных замыслов формы проектируемого издел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Рисунок 6" descr="C:\Users\Sveta\Desktop\Данилина НОУ 2014\эскизы Женя 2014\IMG_3327.JPG"/>
          <p:cNvPicPr/>
          <p:nvPr/>
        </p:nvPicPr>
        <p:blipFill>
          <a:blip r:embed="rId2"/>
          <a:srcRect l="67136" t="6220" r="11335" b="5023"/>
          <a:stretch/>
        </p:blipFill>
        <p:spPr>
          <a:xfrm>
            <a:off x="5638680" y="1905120"/>
            <a:ext cx="1555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eautiful User</dc:creator>
  <dc:description/>
  <dc:language>en-US</dc:language>
  <cp:lastModifiedBy>Sveta</cp:lastModifiedBy>
  <dcterms:modified xsi:type="dcterms:W3CDTF">2015-09-13T15:49:53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