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BA2-0988-4E6D-8E5C-B19F171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29E-2E43-4F2F-BC09-5DF5807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A4B-C8A0-4A7D-BB88-A06EA457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ADA-ED55-4A6B-B6B1-370E3D45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D10-7E59-4A04-815B-9210168F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08E-A48E-46B0-B837-715E8ED8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E56-B069-4D9E-8C2F-2D81FAF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116-9E9E-4EEF-98C3-2EB61FF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B2F-A170-4F28-A49A-FB24BC1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247-18F5-4F7E-882B-4F93FD1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228-4DFD-442D-A662-0054753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CD8-D148-4F8B-BC0B-D3E652B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E11-3C2E-4E56-87B3-639FB2448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463760" y="3224160"/>
            <a:ext cx="6607080" cy="20131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3943440" y="5389560"/>
            <a:ext cx="53229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9" descr="http://player.myshared.ru/605245/data/images/img5.jpg"/>
          <p:cNvPicPr/>
          <p:nvPr/>
        </p:nvPicPr>
        <p:blipFill>
          <a:blip r:embed="rId1"/>
          <a:stretch/>
        </p:blipFill>
        <p:spPr>
          <a:xfrm>
            <a:off x="0" y="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98"/>
          <p:cNvSpPr/>
          <p:nvPr/>
        </p:nvSpPr>
        <p:spPr>
          <a:xfrm>
            <a:off x="1150560" y="30492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любие- достоинство 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1" descr="http://player.myshared.ru/605245/data/images/img7.jpg"/>
          <p:cNvPicPr/>
          <p:nvPr/>
        </p:nvPicPr>
        <p:blipFill>
          <a:blip r:embed="rId2"/>
          <a:stretch/>
        </p:blipFill>
        <p:spPr>
          <a:xfrm>
            <a:off x="609480" y="1219320"/>
            <a:ext cx="27622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3" descr="http://player.myshared.ru/605245/data/images/img8.jpg"/>
          <p:cNvPicPr/>
          <p:nvPr/>
        </p:nvPicPr>
        <p:blipFill>
          <a:blip r:embed="rId3"/>
          <a:stretch/>
        </p:blipFill>
        <p:spPr>
          <a:xfrm>
            <a:off x="5791320" y="1027080"/>
            <a:ext cx="2705040" cy="244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5" descr="http://player.myshared.ru/605245/data/images/img9.jpg"/>
          <p:cNvPicPr/>
          <p:nvPr/>
        </p:nvPicPr>
        <p:blipFill>
          <a:blip r:embed="rId4"/>
          <a:stretch/>
        </p:blipFill>
        <p:spPr>
          <a:xfrm>
            <a:off x="380880" y="3733920"/>
            <a:ext cx="2895840" cy="283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7" descr="http://player.myshared.ru/605245/data/images/img10.jpg"/>
          <p:cNvPicPr/>
          <p:nvPr/>
        </p:nvPicPr>
        <p:blipFill>
          <a:blip r:embed="rId5"/>
          <a:stretch/>
        </p:blipFill>
        <p:spPr>
          <a:xfrm>
            <a:off x="5715000" y="3809880"/>
            <a:ext cx="2666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лентина Осеева  «Сын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 женщины брали воду из колодца. Подошла к ним третья. И старенький старичок на камушек отдохнуть присел. Вот говорит одна женщина друг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 сынок ловок да силен, никто с ним не сла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 мой поёт, как соловей. Ни у кого голоса такого нет, — говорит другая.А третья 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 же ты про своего сына не скажешь? — спрашивают её сосе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 ж сказать? — говорит женщина. — Ничего в нём особенного 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 набрали женщины полные вёдра и пошли. А старичок — за ними.Идут женщины, останавливаются. Болят руки, плещется вода, ломит сп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друг навстречу три мальчика выбегают. Один через голову кувыркается,колесом ходит — любуются им женщины. Другой песню поёт, соловьёмзаливается — заслушались его женщины.  А третий к матери подбежал, взялу неё вёдра тяжёлые и потащил 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шивают женщины старич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 что? Каковы наши сынов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 где же они? — отвечает старик. — Я только одного сына вижу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основы светской этики\девочка.jpg"/>
          <p:cNvPicPr/>
          <p:nvPr/>
        </p:nvPicPr>
        <p:blipFill>
          <a:blip r:embed="rId1"/>
          <a:stretch/>
        </p:blipFill>
        <p:spPr>
          <a:xfrm>
            <a:off x="609480" y="4038480"/>
            <a:ext cx="2746440" cy="233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Рабочий стол\основы светской этики\мальчик.jpg"/>
          <p:cNvPicPr/>
          <p:nvPr/>
        </p:nvPicPr>
        <p:blipFill>
          <a:blip r:embed="rId2"/>
          <a:stretch/>
        </p:blipFill>
        <p:spPr>
          <a:xfrm>
            <a:off x="5486400" y="3962520"/>
            <a:ext cx="2305080" cy="249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акие трудовые поручения ты выполняешь в школе?"/>
          <p:cNvPicPr/>
          <p:nvPr/>
        </p:nvPicPr>
        <p:blipFill>
          <a:blip r:embed="rId3"/>
          <a:stretch/>
        </p:blipFill>
        <p:spPr>
          <a:xfrm>
            <a:off x="685800" y="457200"/>
            <a:ext cx="297828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Есть ли у тебя постоянные домашние поручения?"/>
          <p:cNvPicPr/>
          <p:nvPr/>
        </p:nvPicPr>
        <p:blipFill>
          <a:blip r:embed="rId4"/>
          <a:stretch/>
        </p:blipFill>
        <p:spPr>
          <a:xfrm>
            <a:off x="4748040" y="762120"/>
            <a:ext cx="330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380880"/>
            <a:ext cx="6324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.Н.Толстой «Две лягуш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ли две лягушки в кувшин с 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уть неохота. Чтобы не погибнуть, стали грести лапками.  Гребут, гребут,    а   толку никакого. Устали лягушки, и одна решила, что грести бесполезно - всё равно не выбраться! Отчаялась она, тут   силы её и покинули. Бедная лягушка уто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 вторая решила грести дальше.      Билась, билась и вдруг чувствует - стоит на чем-то твердом! Оказалось,что она сбила молоко в масло. Так и выбр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player.myshared.ru/605245/data/images/img6.jpg"/>
          <p:cNvPicPr/>
          <p:nvPr/>
        </p:nvPicPr>
        <p:blipFill>
          <a:blip r:embed="rId1"/>
          <a:stretch/>
        </p:blipFill>
        <p:spPr>
          <a:xfrm>
            <a:off x="6400800" y="228600"/>
            <a:ext cx="2682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3681360"/>
            <a:ext cx="76438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549360" y="3754440"/>
            <a:ext cx="8356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036800" y="3144960"/>
            <a:ext cx="75531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41360" y="3071880"/>
            <a:ext cx="68328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360360" y="3297240"/>
            <a:ext cx="9852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layer.myshared.ru/605245/data/images/img3.png"/>
          <p:cNvPicPr/>
          <p:nvPr/>
        </p:nvPicPr>
        <p:blipFill>
          <a:blip r:embed="rId1"/>
          <a:stretch/>
        </p:blipFill>
        <p:spPr>
          <a:xfrm>
            <a:off x="63360" y="-136440"/>
            <a:ext cx="6877080" cy="38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player.myshared.ru/605245/data/images/img3.png"/>
          <p:cNvPicPr/>
          <p:nvPr/>
        </p:nvPicPr>
        <p:blipFill>
          <a:blip r:embed="rId2"/>
          <a:stretch/>
        </p:blipFill>
        <p:spPr>
          <a:xfrm>
            <a:off x="63360" y="-136440"/>
            <a:ext cx="6877080" cy="380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659240" y="76212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енье и труд все перет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684440" y="13716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 труду и на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762920" y="21337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ело мастера бо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680480" y="28195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 ты к работе, так и работа к 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1672200" y="342900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 работе и работника зн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1752480" y="38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 любит трудиться, тому без дела не си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:\вежливость\pr[1].jpg"/>
          <p:cNvPicPr/>
          <p:nvPr/>
        </p:nvPicPr>
        <p:blipFill>
          <a:blip r:embed="rId3"/>
          <a:stretch/>
        </p:blipFill>
        <p:spPr>
          <a:xfrm>
            <a:off x="6705720" y="3703680"/>
            <a:ext cx="2133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6-10T09:47:26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