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A3A-3FC7-41E2-9294-421E5F11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C4D-F260-4250-9B53-98C4E008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0A1-9EB3-4704-BE83-5FED02F6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9B8-034F-433C-BA65-16AB43F8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765-80B0-4233-BFAF-942AE26C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947-3631-4555-A129-21EEA66D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D51-9441-4D0A-950C-A277CCBD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EBC-1F00-4C53-8A92-F2FA0C88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CF2-4A6B-4986-A85B-3F66D136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FBF-1A7D-4BC8-9078-A16A460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595-F81C-4EC1-8BC9-DCB642C9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4B4-9A5C-4614-9CEB-8738C6C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0E68-66C4-4843-9DB1-A019F6484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463760" y="3224160"/>
            <a:ext cx="6607080" cy="20131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3943440" y="5389560"/>
            <a:ext cx="532296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9" descr="http://player.myshared.ru/605245/data/images/img5.jpg"/>
          <p:cNvPicPr/>
          <p:nvPr/>
        </p:nvPicPr>
        <p:blipFill>
          <a:blip r:embed="rId1"/>
          <a:stretch/>
        </p:blipFill>
        <p:spPr>
          <a:xfrm>
            <a:off x="0" y="0"/>
            <a:ext cx="7721640" cy="5791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98"/>
          <p:cNvSpPr/>
          <p:nvPr/>
        </p:nvSpPr>
        <p:spPr>
          <a:xfrm>
            <a:off x="1150560" y="30492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олюбие- достоинство 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1" descr="http://player.myshared.ru/605245/data/images/img7.jpg"/>
          <p:cNvPicPr/>
          <p:nvPr/>
        </p:nvPicPr>
        <p:blipFill>
          <a:blip r:embed="rId2"/>
          <a:stretch/>
        </p:blipFill>
        <p:spPr>
          <a:xfrm>
            <a:off x="609480" y="1219320"/>
            <a:ext cx="276228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3" descr="http://player.myshared.ru/605245/data/images/img8.jpg"/>
          <p:cNvPicPr/>
          <p:nvPr/>
        </p:nvPicPr>
        <p:blipFill>
          <a:blip r:embed="rId3"/>
          <a:stretch/>
        </p:blipFill>
        <p:spPr>
          <a:xfrm>
            <a:off x="5791320" y="1027080"/>
            <a:ext cx="2705040" cy="244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5" descr="http://player.myshared.ru/605245/data/images/img9.jpg"/>
          <p:cNvPicPr/>
          <p:nvPr/>
        </p:nvPicPr>
        <p:blipFill>
          <a:blip r:embed="rId4"/>
          <a:stretch/>
        </p:blipFill>
        <p:spPr>
          <a:xfrm>
            <a:off x="380880" y="3733920"/>
            <a:ext cx="2895840" cy="283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7" descr="http://player.myshared.ru/605245/data/images/img10.jpg"/>
          <p:cNvPicPr/>
          <p:nvPr/>
        </p:nvPicPr>
        <p:blipFill>
          <a:blip r:embed="rId5"/>
          <a:stretch/>
        </p:blipFill>
        <p:spPr>
          <a:xfrm>
            <a:off x="5715000" y="3809880"/>
            <a:ext cx="26668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лентина Осеева  «Сынов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 женщины брали воду из колодца. Подошла к ним третья. И старенький старичок на камушек отдохнуть присел. Вот говорит одна женщина друг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 сынок ловок да силен, никто с ним не сла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 мой поёт, как соловей. Ни у кого голоса такого нет, — говорит другая.А третья 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 же ты про своего сына не скажешь? — спрашивают её сосе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 ж сказать? — говорит женщина. — Ничего в нём особенного 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 набрали женщины полные вёдра и пошли. А старичок — за ними.Идут женщины, останавливаются. Болят руки, плещется вода, ломит сп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друг навстречу три мальчика выбегают. Один через голову кувыркается,колесом ходит — любуются им женщины. Другой песню поёт, соловьёмзаливается — заслушались его женщины.  А третий к матери подбежал, взялу неё вёдра тяжёлые и потащил 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шивают женщины старич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 что? Каковы наши сынов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 где же они? — отвечает старик. — Я только одного сына вижу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Рабочий стол\основы светской этики\девочка.jpg"/>
          <p:cNvPicPr/>
          <p:nvPr/>
        </p:nvPicPr>
        <p:blipFill>
          <a:blip r:embed="rId1"/>
          <a:stretch/>
        </p:blipFill>
        <p:spPr>
          <a:xfrm>
            <a:off x="609480" y="4038480"/>
            <a:ext cx="2746440" cy="233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\Рабочий стол\основы светской этики\мальчик.jpg"/>
          <p:cNvPicPr/>
          <p:nvPr/>
        </p:nvPicPr>
        <p:blipFill>
          <a:blip r:embed="rId2"/>
          <a:stretch/>
        </p:blipFill>
        <p:spPr>
          <a:xfrm>
            <a:off x="5486400" y="3962520"/>
            <a:ext cx="2305080" cy="249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Какие трудовые поручения ты выполняешь в школе?"/>
          <p:cNvPicPr/>
          <p:nvPr/>
        </p:nvPicPr>
        <p:blipFill>
          <a:blip r:embed="rId3"/>
          <a:stretch/>
        </p:blipFill>
        <p:spPr>
          <a:xfrm>
            <a:off x="685800" y="457200"/>
            <a:ext cx="2978280" cy="327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Есть ли у тебя постоянные домашние поручения?"/>
          <p:cNvPicPr/>
          <p:nvPr/>
        </p:nvPicPr>
        <p:blipFill>
          <a:blip r:embed="rId4"/>
          <a:stretch/>
        </p:blipFill>
        <p:spPr>
          <a:xfrm>
            <a:off x="4748040" y="762120"/>
            <a:ext cx="330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380880"/>
            <a:ext cx="6324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.Н.Толстой «Две лягуш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ли две лягушки в кувшин с мол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уть неохота. Чтобы не погибнуть, стали грести лапками.  Гребут, гребут,    а   толку никакого. Устали лягушки, и одна решила, что грести бесполезно - всё равно не выбраться! Отчаялась она, тут   силы её и покинули. Бедная лягушка утон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 вторая решила грести дальше.      Билась, билась и вдруг чувствует - стоит на чем-то твердом! Оказалось,что она сбила молоко в масло. Так и выбр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player.myshared.ru/605245/data/images/img6.jpg"/>
          <p:cNvPicPr/>
          <p:nvPr/>
        </p:nvPicPr>
        <p:blipFill>
          <a:blip r:embed="rId1"/>
          <a:stretch/>
        </p:blipFill>
        <p:spPr>
          <a:xfrm>
            <a:off x="6400800" y="228600"/>
            <a:ext cx="2682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841320" y="3681360"/>
            <a:ext cx="76438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549360" y="3754440"/>
            <a:ext cx="8356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036800" y="3144960"/>
            <a:ext cx="75531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1341360" y="3071880"/>
            <a:ext cx="683280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360360" y="3297240"/>
            <a:ext cx="98521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player.myshared.ru/605245/data/images/img3.png"/>
          <p:cNvPicPr/>
          <p:nvPr/>
        </p:nvPicPr>
        <p:blipFill>
          <a:blip r:embed="rId1"/>
          <a:stretch/>
        </p:blipFill>
        <p:spPr>
          <a:xfrm>
            <a:off x="63360" y="-136440"/>
            <a:ext cx="6877080" cy="38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player.myshared.ru/605245/data/images/img3.png"/>
          <p:cNvPicPr/>
          <p:nvPr/>
        </p:nvPicPr>
        <p:blipFill>
          <a:blip r:embed="rId2"/>
          <a:stretch/>
        </p:blipFill>
        <p:spPr>
          <a:xfrm>
            <a:off x="63360" y="-136440"/>
            <a:ext cx="6877080" cy="3808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659240" y="762120"/>
            <a:ext cx="46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пенье и труд все перетр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1684440" y="13716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 труду и на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1762920" y="213372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Дело мастера бо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1680480" y="28195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 ты к работе, так и работа к т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1672200" y="342900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 работе и работника зн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1752480" y="3886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 любит трудиться, тому без дела не си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:\вежливость\pr[1].jpg"/>
          <p:cNvPicPr/>
          <p:nvPr/>
        </p:nvPicPr>
        <p:blipFill>
          <a:blip r:embed="rId3"/>
          <a:stretch/>
        </p:blipFill>
        <p:spPr>
          <a:xfrm>
            <a:off x="6705720" y="3703680"/>
            <a:ext cx="2133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6-10T09:47:26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