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explode.wav" ContentType="audio/x-wav"/>
  <Override PartName="/ppt/media/image10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9.wmf" ContentType="image/x-wmf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4A6-D565-4346-A113-E3605058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AF1-439E-4C2B-91F2-3E65AF3B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E81-B9E9-416A-89FD-E8EA77B3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0D7-81BF-4B9A-8A62-E8729982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DBBD-6E80-4163-A798-C34BA5B9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5FD3-A642-4BF5-83E1-13E8D8CB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6C13-160E-499D-99A8-C9C8484F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D878-F4A6-4428-AB15-55A41133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C9FB-2A4F-4DB3-9D5A-30AE57FD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ECB0-2EA4-4FB5-A6D6-4DB00B91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4497-31DB-4CCC-B885-1F78689B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F32-EF3C-4EC5-9F2C-A0B46D8C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62CC-71FF-4026-A353-ECBAF170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F769-DA96-47CD-B533-AE445E6A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2E53-1888-43E3-8963-08CAD5B6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749E-8461-4A32-A10A-F70A09B5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A066-B2DF-458A-9E94-FBE85FD4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A2E-387B-423A-AA76-6FE18BD9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466-A590-471A-BEFE-3CDBB2FA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CD0-C3AE-4CE0-808C-F89C9142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817-45FC-4FC2-AFAF-01A58461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D1A-EAD6-42DA-9C3D-A989EE1F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4FB-283C-45DC-A26B-404E1FF3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7AE-63A3-41F7-AB4F-B5859DED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CAA5-D1A4-412D-AF1C-24F82EDB61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E5D4-DCC2-4123-8A49-7BE5256385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4.xml"/><Relationship Id="rId3" Type="http://schemas.openxmlformats.org/officeDocument/2006/relationships/slide" Target="slide18.xml"/><Relationship Id="rId4" Type="http://schemas.openxmlformats.org/officeDocument/2006/relationships/slide" Target="slide25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3"/>
          <p:cNvSpPr txBox="1"/>
          <p:nvPr/>
        </p:nvSpPr>
        <p:spPr>
          <a:xfrm>
            <a:off x="1981080" y="1981080"/>
            <a:ext cx="71629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кинемат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971640" y="5661000"/>
            <a:ext cx="5905440" cy="719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ектная работа для учащихся 9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55480" y="-169920"/>
            <a:ext cx="746784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пределите по рис. начальные координаты бензоколонки (А) 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рузового (В) и легкового (С) автомобилей . Запишите уравнение зависимости координат от времени для каждого тела. Определите координаты тел через 1,5 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685800" y="25146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914400" y="2473200"/>
            <a:ext cx="7632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5791320" y="2473200"/>
            <a:ext cx="7596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3429000" y="2473200"/>
            <a:ext cx="7632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843600" y="25146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,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8672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82404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700960" y="1940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914400" y="1940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822960" y="1371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 4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км/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5563440" y="1406520"/>
            <a:ext cx="15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м/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4"/>
          <p:cNvSpPr/>
          <p:nvPr/>
        </p:nvSpPr>
        <p:spPr>
          <a:xfrm flipH="1">
            <a:off x="5790960" y="1940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823680" y="2438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3338640" y="247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576108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303120" y="3141720"/>
            <a:ext cx="797256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. С   начальная координата  Хо = 50 , скорость -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км/ч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ставим в уравнение равномерного движ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Xo + V*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чим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50 -50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рез 1,5 ч  координата т. В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50 -50*1,5 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ное перемещение грузового автомобиля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; S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0;S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75к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вет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25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75к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519480" y="19368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йте график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430080" y="152280"/>
            <a:ext cx="23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V*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80520" y="838080"/>
            <a:ext cx="372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10 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-762120" y="279072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279072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Line 11"/>
          <p:cNvSpPr/>
          <p:nvPr/>
        </p:nvSpPr>
        <p:spPr>
          <a:xfrm>
            <a:off x="1676520" y="533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2362320"/>
          <a:ext cx="3429000" cy="3627360"/>
        </p:xfrm>
        <a:graphic>
          <a:graphicData uri="http://schemas.openxmlformats.org/drawingml/2006/table">
            <a:tbl>
              <a:tblPr/>
              <a:tblGrid>
                <a:gridCol w="490680"/>
                <a:gridCol w="488880"/>
                <a:gridCol w="488880"/>
                <a:gridCol w="492120"/>
                <a:gridCol w="489240"/>
                <a:gridCol w="488880"/>
                <a:gridCol w="490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Line 85"/>
          <p:cNvSpPr/>
          <p:nvPr/>
        </p:nvSpPr>
        <p:spPr>
          <a:xfrm flipV="1">
            <a:off x="2019240" y="2437920"/>
            <a:ext cx="0" cy="3505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6"/>
          <p:cNvSpPr/>
          <p:nvPr/>
        </p:nvSpPr>
        <p:spPr>
          <a:xfrm>
            <a:off x="1828800" y="5486400"/>
            <a:ext cx="28954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11"/>
          <p:cNvSpPr/>
          <p:nvPr/>
        </p:nvSpPr>
        <p:spPr>
          <a:xfrm flipV="1">
            <a:off x="2057400" y="2819520"/>
            <a:ext cx="1905120" cy="21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7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7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8" dur="75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 Black"/>
              </a:rPr>
              <a:t>Какое движение называется равномерным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А  движение по пря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Б движение с переменной 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В движение с постоянной 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4" action="ppaction://hlinksldjump"/>
              </a:rPr>
              <a:t>Г движение с ускор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5" action="ppaction://hlinksldjump"/>
              </a:rPr>
              <a:t>Д движение с постоянным ускор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 Black"/>
              </a:rPr>
              <a:t>Может ли перемещение быть отрицательным 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А 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Б 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В  если движение равноме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4" action="ppaction://hlinksldjump"/>
              </a:rPr>
              <a:t>Г если движение прямолиней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5" action="ppaction://hlinksldjump"/>
              </a:rPr>
              <a:t>Д если скорость постоя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56340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 Black"/>
              </a:rPr>
              <a:t>На сколько переместиться тело при равномерном движении за 1 мин., если тело движется со скоростью 10 м/с</a:t>
            </a:r>
            <a:r>
              <a:rPr b="1" lang="ru-RU" sz="2400" spc="-1" strike="noStrike">
                <a:solidFill>
                  <a:srgbClr val="003300"/>
                </a:solidFill>
                <a:latin typeface="Arial Black"/>
              </a:rPr>
              <a:t> 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А 1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Б –1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В 1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4" action="ppaction://hlinksldjump"/>
              </a:rPr>
              <a:t>Г 6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5" action="ppaction://hlinksldjump"/>
              </a:rPr>
              <a:t>Д 5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56340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 Black"/>
              </a:rPr>
              <a:t>Тело движется равномерно со скоростью 10 м/с, какой будет скорость тела через 10 секунд 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А 10 м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Б –10 м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В 100 м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4" action="ppaction://hlinksldjump"/>
              </a:rPr>
              <a:t>Г -100 м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5" action="ppaction://hlinksldjump"/>
              </a:rPr>
              <a:t>Д  200 м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Как движется минутная стрелка 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прямолине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 равном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ямолинейно и равном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 криволине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 с постоянной скор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624852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eorgia"/>
              </a:rPr>
              <a:t>Вы ответили правильно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77" name="Picture 4" descr="PE01832_"/>
          <p:cNvPicPr/>
          <p:nvPr/>
        </p:nvPicPr>
        <p:blipFill>
          <a:blip r:embed="rId1"/>
          <a:stretch/>
        </p:blipFill>
        <p:spPr>
          <a:xfrm>
            <a:off x="1979640" y="2978280"/>
            <a:ext cx="2744640" cy="25081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5"/>
          <p:cNvSpPr/>
          <p:nvPr/>
        </p:nvSpPr>
        <p:spPr>
          <a:xfrm>
            <a:off x="6094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eorgia"/>
              </a:rPr>
              <a:t>Вы  не правы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PE01832_"/>
          <p:cNvPicPr/>
          <p:nvPr/>
        </p:nvPicPr>
        <p:blipFill>
          <a:blip r:embed="rId1"/>
          <a:stretch/>
        </p:blipFill>
        <p:spPr>
          <a:xfrm>
            <a:off x="1979640" y="2978280"/>
            <a:ext cx="2744640" cy="250812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>
            <a:hlinkClick r:id="" action="ppaction://hlinkshowjump?jump=previousslide"/>
          </p:cNvPr>
          <p:cNvSpPr/>
          <p:nvPr/>
        </p:nvSpPr>
        <p:spPr>
          <a:xfrm>
            <a:off x="68580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457200" y="295200"/>
            <a:ext cx="11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Равноускоренное движение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это движение с постоянным ускоре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14600" y="16002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 = const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266688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845280" y="330840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Ускорение – это величина , равная отнош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зменения  скорости к промежутку времени , 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которое это изменение произош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804400" y="52228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342900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3621960" y="502920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-V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847680" y="5375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289548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3733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403848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4734720" y="5181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/C 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5547960" y="5073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Кинематика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ет механическое движение тел, не рассматривая причины, которыми это движение вызы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0178105"/>
          <p:cNvPicPr/>
          <p:nvPr/>
        </p:nvPicPr>
        <p:blipFill>
          <a:blip r:embed="rId1"/>
          <a:stretch/>
        </p:blipFill>
        <p:spPr>
          <a:xfrm>
            <a:off x="3962520" y="4343400"/>
            <a:ext cx="12110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6640" y="311040"/>
            <a:ext cx="79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вычисления ускорения используются урав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торое входят проекции векторов ускорения и скор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06640" y="3317760"/>
            <a:ext cx="674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правлен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дну сторону, то так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е равноускоренное , в этом случаи а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10666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6765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57400" y="4460760"/>
            <a:ext cx="777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правлен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тивоположные сторон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такое движение равнозамедленное , в этом случаи а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11430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16765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1052280" y="2149560"/>
            <a:ext cx="85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2133720" y="2438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194920" y="1844640"/>
            <a:ext cx="5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2804040" y="1828800"/>
            <a:ext cx="8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0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2728440" y="2403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42512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450000" y="324000"/>
            <a:ext cx="75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корость при равноускоренном движе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128240" y="118440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1828800" y="1371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968120" y="990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–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2323440" y="1260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141280" y="108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1226880" y="1309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2668680" y="1081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1203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1302840" y="199872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167760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1890360" y="1981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2196720" y="19810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3125880" y="2071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1526040" y="26668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21348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2378520" y="2666880"/>
            <a:ext cx="7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0492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3277800" y="266688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3695040" y="2666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723960" y="304920"/>
            <a:ext cx="620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График скорости равноускоренного дви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без начальной скор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09480" y="1295280"/>
          <a:ext cx="6096240" cy="5070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Line 126"/>
          <p:cNvSpPr/>
          <p:nvPr/>
        </p:nvSpPr>
        <p:spPr>
          <a:xfrm flipV="1">
            <a:off x="1143000" y="1371600"/>
            <a:ext cx="0" cy="502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27"/>
          <p:cNvSpPr/>
          <p:nvPr/>
        </p:nvSpPr>
        <p:spPr>
          <a:xfrm>
            <a:off x="609480" y="59436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28"/>
          <p:cNvSpPr/>
          <p:nvPr/>
        </p:nvSpPr>
        <p:spPr>
          <a:xfrm flipV="1">
            <a:off x="1143000" y="1752480"/>
            <a:ext cx="3733920" cy="41911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9"/>
          <p:cNvSpPr/>
          <p:nvPr/>
        </p:nvSpPr>
        <p:spPr>
          <a:xfrm>
            <a:off x="69944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30"/>
          <p:cNvSpPr/>
          <p:nvPr/>
        </p:nvSpPr>
        <p:spPr>
          <a:xfrm>
            <a:off x="2364120" y="5334120"/>
            <a:ext cx="7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31"/>
          <p:cNvSpPr/>
          <p:nvPr/>
        </p:nvSpPr>
        <p:spPr>
          <a:xfrm>
            <a:off x="301788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687600" y="304920"/>
            <a:ext cx="620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График скорости равноускоренного дви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с начальной скор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3520" y="1295280"/>
          <a:ext cx="6095880" cy="50706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399"/>
          <p:cNvSpPr/>
          <p:nvPr/>
        </p:nvSpPr>
        <p:spPr>
          <a:xfrm flipV="1">
            <a:off x="1143000" y="1371600"/>
            <a:ext cx="0" cy="502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00"/>
          <p:cNvSpPr/>
          <p:nvPr/>
        </p:nvSpPr>
        <p:spPr>
          <a:xfrm>
            <a:off x="609480" y="59436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410"/>
          <p:cNvSpPr/>
          <p:nvPr/>
        </p:nvSpPr>
        <p:spPr>
          <a:xfrm flipV="1">
            <a:off x="1143000" y="2209320"/>
            <a:ext cx="4267080" cy="2590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21"/>
          <p:cNvSpPr/>
          <p:nvPr/>
        </p:nvSpPr>
        <p:spPr>
          <a:xfrm>
            <a:off x="69944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22"/>
          <p:cNvSpPr/>
          <p:nvPr/>
        </p:nvSpPr>
        <p:spPr>
          <a:xfrm>
            <a:off x="533520" y="441972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594360" y="27000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корение  какого тела больше , 1 или 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80880" y="838080"/>
          <a:ext cx="6096240" cy="51818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Line 127"/>
          <p:cNvSpPr/>
          <p:nvPr/>
        </p:nvSpPr>
        <p:spPr>
          <a:xfrm flipV="1">
            <a:off x="990720" y="1218960"/>
            <a:ext cx="0" cy="464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8"/>
          <p:cNvSpPr/>
          <p:nvPr/>
        </p:nvSpPr>
        <p:spPr>
          <a:xfrm>
            <a:off x="762120" y="5486400"/>
            <a:ext cx="5105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36"/>
          <p:cNvSpPr/>
          <p:nvPr/>
        </p:nvSpPr>
        <p:spPr>
          <a:xfrm flipV="1">
            <a:off x="990720" y="3657600"/>
            <a:ext cx="4952880" cy="1295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37"/>
          <p:cNvSpPr/>
          <p:nvPr/>
        </p:nvSpPr>
        <p:spPr>
          <a:xfrm flipV="1">
            <a:off x="990720" y="1752480"/>
            <a:ext cx="4419360" cy="3733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42"/>
          <p:cNvSpPr/>
          <p:nvPr/>
        </p:nvSpPr>
        <p:spPr>
          <a:xfrm>
            <a:off x="66312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43"/>
          <p:cNvSpPr/>
          <p:nvPr/>
        </p:nvSpPr>
        <p:spPr>
          <a:xfrm>
            <a:off x="66754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4"/>
          <p:cNvSpPr/>
          <p:nvPr/>
        </p:nvSpPr>
        <p:spPr>
          <a:xfrm>
            <a:off x="6400080" y="24796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ако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838080" y="1447920"/>
            <a:ext cx="53341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ы пра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55" name="Picture 6" descr="PE01562_"/>
          <p:cNvPicPr/>
          <p:nvPr/>
        </p:nvPicPr>
        <p:blipFill>
          <a:blip r:embed="rId1"/>
          <a:stretch/>
        </p:blipFill>
        <p:spPr>
          <a:xfrm>
            <a:off x="1752480" y="2779560"/>
            <a:ext cx="329436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502920"/>
            <a:ext cx="74674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Перемещение при равноускоренном движении</a:t>
            </a: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127520" y="2152800"/>
            <a:ext cx="191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289548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186000" y="2428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3109680" y="200664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37195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371600" y="1149480"/>
          <a:ext cx="4724280" cy="5181480"/>
        </p:xfrm>
        <a:graphic>
          <a:graphicData uri="http://schemas.openxmlformats.org/drawingml/2006/table">
            <a:tbl>
              <a:tblPr/>
              <a:tblGrid>
                <a:gridCol w="473040"/>
                <a:gridCol w="473040"/>
                <a:gridCol w="469800"/>
                <a:gridCol w="476280"/>
                <a:gridCol w="470160"/>
                <a:gridCol w="473040"/>
                <a:gridCol w="473040"/>
                <a:gridCol w="469800"/>
                <a:gridCol w="476280"/>
                <a:gridCol w="46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Line 136"/>
          <p:cNvSpPr/>
          <p:nvPr/>
        </p:nvSpPr>
        <p:spPr>
          <a:xfrm>
            <a:off x="1523880" y="579132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39"/>
          <p:cNvSpPr/>
          <p:nvPr/>
        </p:nvSpPr>
        <p:spPr>
          <a:xfrm flipV="1">
            <a:off x="1828800" y="16765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220"/>
          <p:cNvSpPr/>
          <p:nvPr/>
        </p:nvSpPr>
        <p:spPr>
          <a:xfrm flipH="1">
            <a:off x="1828080" y="2971800"/>
            <a:ext cx="3352680" cy="281952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22"/>
          <p:cNvSpPr/>
          <p:nvPr/>
        </p:nvSpPr>
        <p:spPr>
          <a:xfrm>
            <a:off x="52560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23"/>
          <p:cNvSpPr/>
          <p:nvPr/>
        </p:nvSpPr>
        <p:spPr>
          <a:xfrm>
            <a:off x="367200" y="41400"/>
            <a:ext cx="64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ещение численно равно площади фигу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24"/>
          <p:cNvSpPr/>
          <p:nvPr/>
        </p:nvSpPr>
        <p:spPr>
          <a:xfrm>
            <a:off x="1052640" y="4222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=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225"/>
          <p:cNvSpPr/>
          <p:nvPr/>
        </p:nvSpPr>
        <p:spPr>
          <a:xfrm flipH="1">
            <a:off x="1751760" y="609480"/>
            <a:ext cx="304920" cy="30492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26"/>
          <p:cNvSpPr/>
          <p:nvPr/>
        </p:nvSpPr>
        <p:spPr>
          <a:xfrm>
            <a:off x="5410080" y="3048120"/>
            <a:ext cx="0" cy="27432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27"/>
          <p:cNvSpPr/>
          <p:nvPr/>
        </p:nvSpPr>
        <p:spPr>
          <a:xfrm>
            <a:off x="1905120" y="5943600"/>
            <a:ext cx="320040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230"/>
          <p:cNvSpPr/>
          <p:nvPr/>
        </p:nvSpPr>
        <p:spPr>
          <a:xfrm flipH="1">
            <a:off x="2819520" y="1676520"/>
            <a:ext cx="304560" cy="30456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31"/>
          <p:cNvSpPr/>
          <p:nvPr/>
        </p:nvSpPr>
        <p:spPr>
          <a:xfrm>
            <a:off x="2668680" y="14479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  = ½ V*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33"/>
          <p:cNvSpPr/>
          <p:nvPr/>
        </p:nvSpPr>
        <p:spPr>
          <a:xfrm>
            <a:off x="2362680" y="2317680"/>
            <a:ext cx="236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x=½ V*t =½ a*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35"/>
          <p:cNvSpPr/>
          <p:nvPr/>
        </p:nvSpPr>
        <p:spPr>
          <a:xfrm>
            <a:off x="4573440" y="2254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36"/>
          <p:cNvSpPr/>
          <p:nvPr/>
        </p:nvSpPr>
        <p:spPr>
          <a:xfrm>
            <a:off x="5411160" y="423216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V=a*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Какое движение называется равноускоренным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 движение с постоянной 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  движение с переменной 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движение с постоянным ускоре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  движение с переменным ускорение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  люб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Если 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Vo&gt;V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  а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 а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 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Кинематика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ет виды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178111"/>
          <p:cNvPicPr/>
          <p:nvPr/>
        </p:nvPicPr>
        <p:blipFill>
          <a:blip r:embed="rId1"/>
          <a:stretch/>
        </p:blipFill>
        <p:spPr>
          <a:xfrm>
            <a:off x="1447920" y="4340160"/>
            <a:ext cx="571320" cy="1679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J0178112"/>
          <p:cNvPicPr/>
          <p:nvPr/>
        </p:nvPicPr>
        <p:blipFill>
          <a:blip r:embed="rId2"/>
          <a:stretch/>
        </p:blipFill>
        <p:spPr>
          <a:xfrm>
            <a:off x="3581280" y="434340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J0186490"/>
          <p:cNvPicPr/>
          <p:nvPr/>
        </p:nvPicPr>
        <p:blipFill>
          <a:blip r:embed="rId3"/>
          <a:stretch/>
        </p:blipFill>
        <p:spPr>
          <a:xfrm>
            <a:off x="5837400" y="4606920"/>
            <a:ext cx="17827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823320" y="803160"/>
            <a:ext cx="18615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2 м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"/>
          <p:cNvSpPr/>
          <p:nvPr/>
        </p:nvSpPr>
        <p:spPr>
          <a:xfrm>
            <a:off x="2743200" y="990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"/>
          <p:cNvSpPr/>
          <p:nvPr/>
        </p:nvSpPr>
        <p:spPr>
          <a:xfrm>
            <a:off x="8380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975240" y="253368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1238400" y="3322800"/>
            <a:ext cx="203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0,4 м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38400" y="3711600"/>
            <a:ext cx="221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-0,4 м/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1238400" y="411480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0,4 м/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1238400" y="452592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0,4 м /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1219680" y="4906800"/>
            <a:ext cx="18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0,4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3125520" y="3397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3201840" y="3778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2916000" y="4616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380880" y="228600"/>
          <a:ext cx="6096240" cy="5200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Line 126"/>
          <p:cNvSpPr/>
          <p:nvPr/>
        </p:nvSpPr>
        <p:spPr>
          <a:xfrm flipV="1">
            <a:off x="990720" y="533160"/>
            <a:ext cx="0" cy="464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27"/>
          <p:cNvSpPr/>
          <p:nvPr/>
        </p:nvSpPr>
        <p:spPr>
          <a:xfrm>
            <a:off x="762120" y="4876920"/>
            <a:ext cx="5105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28"/>
          <p:cNvSpPr/>
          <p:nvPr/>
        </p:nvSpPr>
        <p:spPr>
          <a:xfrm flipV="1">
            <a:off x="990720" y="2819160"/>
            <a:ext cx="426708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9"/>
          <p:cNvSpPr/>
          <p:nvPr/>
        </p:nvSpPr>
        <p:spPr>
          <a:xfrm flipV="1">
            <a:off x="990720" y="685800"/>
            <a:ext cx="4190760" cy="2666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33"/>
          <p:cNvSpPr/>
          <p:nvPr/>
        </p:nvSpPr>
        <p:spPr>
          <a:xfrm>
            <a:off x="214560" y="5553000"/>
            <a:ext cx="10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35"/>
          <p:cNvSpPr/>
          <p:nvPr/>
        </p:nvSpPr>
        <p:spPr>
          <a:xfrm>
            <a:off x="1449720" y="5587920"/>
            <a:ext cx="10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37"/>
          <p:cNvSpPr/>
          <p:nvPr/>
        </p:nvSpPr>
        <p:spPr>
          <a:xfrm>
            <a:off x="2592720" y="5587920"/>
            <a:ext cx="10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971800" y="990720"/>
            <a:ext cx="2743200" cy="990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 дви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38080" y="2362320"/>
            <a:ext cx="274320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волиней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971800" y="3733920"/>
            <a:ext cx="274320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943600" y="3733920"/>
            <a:ext cx="274320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равномер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990720" y="4952880"/>
            <a:ext cx="274320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равноускор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3886200" y="4952880"/>
            <a:ext cx="274320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замедл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 flipH="1">
            <a:off x="3048120" y="19810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4495680" y="1981080"/>
            <a:ext cx="1295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 flipH="1">
            <a:off x="5181120" y="32767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6781680" y="32767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4"/>
          <p:cNvSpPr/>
          <p:nvPr/>
        </p:nvSpPr>
        <p:spPr>
          <a:xfrm flipH="1">
            <a:off x="3048120" y="4648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4343400" y="46483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3124080" y="39625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перем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9"/>
          <p:cNvSpPr/>
          <p:nvPr/>
        </p:nvSpPr>
        <p:spPr>
          <a:xfrm>
            <a:off x="5105520" y="2362320"/>
            <a:ext cx="2971800" cy="914400"/>
          </a:xfrm>
          <a:custGeom>
            <a:avLst/>
            <a:gdLst>
              <a:gd name="textAreaLeft" fmla="*/ 59040 w 2971800"/>
              <a:gd name="textAreaRight" fmla="*/ 2912760 w 2971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олиней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11096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Arial Black"/>
              </a:rPr>
              <a:t>Равномерное движение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965240" y="213372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движение с постоянной скор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76720" y="3505320"/>
            <a:ext cx="227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=const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34290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Arial Black"/>
              </a:rPr>
              <a:t>График равномерного движения</a:t>
            </a:r>
            <a:br>
              <a:rPr sz="3600"/>
            </a:br>
            <a:r>
              <a:rPr b="0" lang="ru-RU" sz="3600" spc="-1" strike="noStrike">
                <a:solidFill>
                  <a:srgbClr val="003300"/>
                </a:solidFill>
                <a:latin typeface="Arial Black"/>
              </a:rPr>
              <a:t> скорости от времени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685800" y="281952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График равномерного движения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 перемещения от времени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685800" y="281952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 Black"/>
              </a:rPr>
              <a:t>Уравнения равномерного движения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2030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=S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V*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 - X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609480" y="205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75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75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-76320"/>
            <a:ext cx="74674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пределите по рис. начальные координаты бензоколонки (А) 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рузового (В) и легкового (С) автомобилей . Запишите уравнение зависимости координат от времени для каждого тела. Определите координаты тел через 1,5 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685800" y="25146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914400" y="2473200"/>
            <a:ext cx="7632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5791320" y="2473200"/>
            <a:ext cx="7596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3429000" y="2473200"/>
            <a:ext cx="7632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843600" y="25146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,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8672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82404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5700960" y="1940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914400" y="1940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747000" y="1371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 4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км/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5563080" y="140652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 4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м/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6"/>
          <p:cNvSpPr/>
          <p:nvPr/>
        </p:nvSpPr>
        <p:spPr>
          <a:xfrm flipH="1">
            <a:off x="5790960" y="1940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823680" y="2438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3338640" y="247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76108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304920" y="2960640"/>
            <a:ext cx="7972200" cy="45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. В   начальная координата  Хо = -50 , скорость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км/ч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ставим в уравнение равномерного движ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Xo + V*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чим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50 +40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рез 1,5 ч  координата т. В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50 +40*1,5 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ное перемещение грузового автомобиля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Xo ; S=10-(-50);S=6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ите координаты т.С и полное перемещение легкового автомоби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533520" y="6095880"/>
            <a:ext cx="1447560" cy="4572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06:35:52Z</dcterms:created>
  <dc:creator>Администратор</dc:creator>
  <dc:description/>
  <dc:language>en-US</dc:language>
  <cp:lastModifiedBy>андрей</cp:lastModifiedBy>
  <dcterms:modified xsi:type="dcterms:W3CDTF">2013-04-11T08:05:08Z</dcterms:modified>
  <cp:revision>21</cp:revision>
  <dc:subject/>
  <dc:title>Презентация PowerPoint</dc:title>
</cp:coreProperties>
</file>