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33AB-CAF3-4FC9-AB34-D4F700C91B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Выросший на лугу цветок находится «у себя дома», он связан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ругими обитателями луга. К нему прилетают насекомые, которые  питаются его нектаром. После цветения появляются плоды и семена. Они попадают в почву,  где из семян появляются н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0F4D-D568-4837-AAD1-ED4DA46B01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2CC-9A01-4F77-9653-07C6999A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A1A-18CB-471F-A1FA-1CEAD2E7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469-2DD5-40FD-967A-9F24F500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4B2-DE9E-49B5-B1CC-F9579159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60A9-D282-47D4-AE4B-88805D5A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250A-247F-4293-8624-0DA48ACB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CA07-51FB-4E78-8C24-555882C1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8011-5EDC-4366-910B-218488EF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9CA0-3F95-4B8B-AEC4-51BAC5B4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7890-7FE2-4800-973C-793610AE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490D-8D12-4410-A2A4-8A3747C4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A2E-A821-4671-B3D5-BF6E30A6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1400-ADBB-468D-A699-B6297479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3CFA-0ABA-474B-88DA-3AC3D4B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66DF-B028-476D-AD90-1F676BFD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FD6C-D2F0-46E1-8552-E1460D95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764E-3104-46F9-9F42-E3304C09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2CABE-70B1-46F6-A0E4-1D51235B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DB916-5A6C-4AC5-BB3A-9935494F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7329-E09A-42AB-9CF0-CEF47F74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F533-1816-4A91-A0B6-CBC2597E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E858-F759-40C3-8BFE-15AF335D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B3B-EEB5-446E-BCC9-A8D628B3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B26C0-726A-4839-B5FB-2D75FB4A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B022-658E-4150-9D43-232366B8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3ED15-3FF1-4C3E-8547-FFBE06FC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37361-1CDC-4E65-8A37-3989DFF9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7B69-A892-42D3-A80A-1B84357C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EF9A-F2EF-4EBB-A15B-0FF5770F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6FD2-0DC3-4A06-AD6D-6A9DF54F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4AB8A-B7FA-4BAF-BC7F-8EF2B516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11414-DA3E-43BB-8B7B-97F6A846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2718-3588-4CA8-BF7C-2BC44E49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348-6878-469B-B68E-BDE6C153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81609-21FA-4D06-9DBC-A4E14B3E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AFF88-6A26-4E3E-AD51-813C90C4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065C4-2FA7-4FBA-BBFB-E22A3153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43FB2-1D67-42EA-B0F5-CCA87972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3795C-A6E3-4B96-874D-181E9A4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39BF5-5794-484D-8C48-E4D16490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93250-4C65-4F0C-B1AA-4552E1A6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48D3-722E-4909-832E-A2ED2A37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B5389-198B-4DBE-9A5A-C5044872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0D7-6677-4C69-9182-FB38C969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E97-E09C-40F3-8927-1DF5FD53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3BA-C64C-41B1-850B-631E8F8B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D21-FDA3-4E72-B977-9CAAAF25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EA6-AEA4-4F1F-85E9-77F5FAEE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56C4-58B8-4792-ABA6-B9B4C1C853B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49DE-DA04-4221-A6EE-CB1C4685A44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F41A-E604-4A23-B533-56A193FF94D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E3C6-540D-49A7-A4AA-219A5F7424F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Рисунок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6"/>
          <p:cNvSpPr/>
          <p:nvPr/>
        </p:nvSpPr>
        <p:spPr>
          <a:xfrm flipV="1" rot="10800000">
            <a:off x="1692000" y="450756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Автор: Сахарова Елена Эдуард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ГБОУ гимназия №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г. 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Прямоугольник 5" descr=""/>
          <p:cNvPicPr/>
          <p:nvPr/>
        </p:nvPicPr>
        <p:blipFill>
          <a:blip r:embed="rId2"/>
          <a:stretch/>
        </p:blipFill>
        <p:spPr>
          <a:xfrm>
            <a:off x="2286000" y="2736720"/>
            <a:ext cx="46386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6" descr="img9"/>
          <p:cNvPicPr/>
          <p:nvPr/>
        </p:nvPicPr>
        <p:blipFill>
          <a:blip r:embed="rId1"/>
          <a:stretch/>
        </p:blipFill>
        <p:spPr>
          <a:xfrm>
            <a:off x="179280" y="1176480"/>
            <a:ext cx="3889440" cy="36716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4"/>
          <p:cNvSpPr/>
          <p:nvPr/>
        </p:nvSpPr>
        <p:spPr>
          <a:xfrm>
            <a:off x="4572000" y="133668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лесу грибов различных мног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ы несъедобные не трог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корзинку их не собир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о и ногами не сбива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ужны они лесным зверят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Лисичкам, ёжикам, зайчата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4572000" y="3645000"/>
            <a:ext cx="43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Их только люди не ед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поганках, мухоморах – я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о для зверья лесного всё 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от гриб полезен и хоро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4284720" cy="3732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C:\Users\Елена\Desktop\Рисунок1.jpg"/>
          <p:cNvPicPr/>
          <p:nvPr/>
        </p:nvPicPr>
        <p:blipFill>
          <a:blip r:embed="rId2"/>
          <a:stretch/>
        </p:blipFill>
        <p:spPr>
          <a:xfrm>
            <a:off x="3780000" y="2798640"/>
            <a:ext cx="53640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359240" y="3913200"/>
            <a:ext cx="4656240" cy="196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D:\клипарты\знаки\14.png"/>
          <p:cNvPicPr/>
          <p:nvPr/>
        </p:nvPicPr>
        <p:blipFill>
          <a:blip r:embed="rId2"/>
          <a:stretch/>
        </p:blipFill>
        <p:spPr>
          <a:xfrm>
            <a:off x="250920" y="1197000"/>
            <a:ext cx="4000320" cy="39416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4"/>
          <p:cNvSpPr/>
          <p:nvPr/>
        </p:nvSpPr>
        <p:spPr>
          <a:xfrm>
            <a:off x="4572000" y="62064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уравьи – лесные санита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ак прозвали люди их недар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тобы лес красив был и здо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Без личинок вредных и жу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уравьи на страже день и ноч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Гонят разных короедов про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7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4211640" cy="4211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Рисунок1"/>
          <p:cNvPicPr/>
          <p:nvPr/>
        </p:nvPicPr>
        <p:blipFill>
          <a:blip r:embed="rId2"/>
          <a:stretch/>
        </p:blipFill>
        <p:spPr>
          <a:xfrm>
            <a:off x="3780000" y="283356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D:\клипарты\знаки\18.png"/>
          <p:cNvPicPr/>
          <p:nvPr/>
        </p:nvPicPr>
        <p:blipFill>
          <a:blip r:embed="rId1"/>
          <a:stretch/>
        </p:blipFill>
        <p:spPr>
          <a:xfrm>
            <a:off x="103320" y="1566720"/>
            <a:ext cx="4570200" cy="444816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3"/>
          <p:cNvSpPr/>
          <p:nvPr/>
        </p:nvSpPr>
        <p:spPr>
          <a:xfrm>
            <a:off x="4673520" y="620640"/>
            <a:ext cx="4002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 леса музыка сво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ё послушайте друз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от птичьи трели раздал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от белка скачет вверх и вни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вот кузнечик затрещ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 ветке дятел застуча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4673520" y="4005360"/>
            <a:ext cx="400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ак много звуков тут и та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лесу не нужен шум и г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шуметь, галде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ри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громко музыку включ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4"/>
          <p:cNvSpPr/>
          <p:nvPr/>
        </p:nvSpPr>
        <p:spPr>
          <a:xfrm>
            <a:off x="1547640" y="1136520"/>
            <a:ext cx="64090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300" spc="-1" strike="noStrike">
                <a:solidFill>
                  <a:srgbClr val="f14124"/>
                </a:solidFill>
                <a:latin typeface="Trebuchet MS"/>
              </a:rPr>
              <a:t>Спасибо за               участие!!!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7" descr="http://festival.1september.ru/articles/211637/img4.jpg"/>
          <p:cNvPicPr/>
          <p:nvPr/>
        </p:nvPicPr>
        <p:blipFill>
          <a:blip r:embed="rId1"/>
          <a:stretch/>
        </p:blipFill>
        <p:spPr>
          <a:xfrm>
            <a:off x="0" y="692280"/>
            <a:ext cx="3571920" cy="37447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4643280" y="907920"/>
            <a:ext cx="403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ети запомнить долж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поня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нёзда у пти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льзя разоря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ли в тр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видали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ли услыш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ики птенц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приближайте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лезьте т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не тревожь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и птиц, ни гнез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3"/>
          <p:cNvPicPr/>
          <p:nvPr/>
        </p:nvPicPr>
        <p:blipFill>
          <a:blip r:embed="rId1"/>
          <a:stretch/>
        </p:blipFill>
        <p:spPr>
          <a:xfrm>
            <a:off x="0" y="0"/>
            <a:ext cx="9468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http://festival.1september.ru/articles/211637/img4.jpg"/>
          <p:cNvPicPr/>
          <p:nvPr/>
        </p:nvPicPr>
        <p:blipFill>
          <a:blip r:embed="rId1"/>
          <a:stretch/>
        </p:blipFill>
        <p:spPr>
          <a:xfrm>
            <a:off x="250920" y="1096920"/>
            <a:ext cx="405432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4"/>
          <p:cNvSpPr/>
          <p:nvPr/>
        </p:nvSpPr>
        <p:spPr>
          <a:xfrm>
            <a:off x="4788000" y="549360"/>
            <a:ext cx="403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ля ёжиков и 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ес – это дом род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ни живут там см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летом и зим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4788000" y="206064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ходят пропита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воих детей раст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уходить из 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исколько не хотя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4716360" y="400536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этому не сто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х в город забира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ерь: они в нев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будут есть и спа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5187960" cy="4084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Рисунок2"/>
          <p:cNvPicPr/>
          <p:nvPr/>
        </p:nvPicPr>
        <p:blipFill>
          <a:blip r:embed="rId2"/>
          <a:stretch/>
        </p:blipFill>
        <p:spPr>
          <a:xfrm>
            <a:off x="4286160" y="3084480"/>
            <a:ext cx="48578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5" descr="http://festival.1september.ru/articles/211637/img4.jpg"/>
          <p:cNvPicPr/>
          <p:nvPr/>
        </p:nvPicPr>
        <p:blipFill>
          <a:blip r:embed="rId1"/>
          <a:stretch/>
        </p:blipFill>
        <p:spPr>
          <a:xfrm>
            <a:off x="395280" y="1197000"/>
            <a:ext cx="3960720" cy="42451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4"/>
          <p:cNvSpPr/>
          <p:nvPr/>
        </p:nvSpPr>
        <p:spPr>
          <a:xfrm flipV="1" rot="10800000">
            <a:off x="4572000" y="117360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ть цветочки ред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лые и неж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ам кивнут приветл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андыши, подснежни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4572000" y="2781360"/>
            <a:ext cx="396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олько рвать не надо их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ними лес добрей, свет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едь теперь цветов та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чень мало на земл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Объект 3" descr="img9"/>
          <p:cNvPicPr/>
          <p:nvPr/>
        </p:nvPicPr>
        <p:blipFill>
          <a:blip r:embed="rId1"/>
          <a:stretch/>
        </p:blipFill>
        <p:spPr>
          <a:xfrm>
            <a:off x="179280" y="968400"/>
            <a:ext cx="3845160" cy="37447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4"/>
          <p:cNvSpPr/>
          <p:nvPr/>
        </p:nvSpPr>
        <p:spPr>
          <a:xfrm>
            <a:off x="4211640" y="765000"/>
            <a:ext cx="4681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з взрослых с огнём развлекаться опасно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кончиться может забава уж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лесу очень сухо бывает пор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остёр обернётся серьёзной бед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дставьте, что пламя легко разгор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чнёт полыхать, разбегаться искритьс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го потушить невозможно тогд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жары лесные – большая бе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Picture 5" descr="7-1200"/>
          <p:cNvPicPr/>
          <p:nvPr/>
        </p:nvPicPr>
        <p:blipFill>
          <a:blip r:embed="rId1"/>
          <a:stretch/>
        </p:blipFill>
        <p:spPr>
          <a:xfrm>
            <a:off x="-108000" y="-34920"/>
            <a:ext cx="9348840" cy="70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18:44:24Z</dcterms:created>
  <dc:creator>Елена Сахарова</dc:creator>
  <dc:description/>
  <dc:language>en-US</dc:language>
  <cp:lastModifiedBy>Елена Сахарова</cp:lastModifiedBy>
  <dcterms:modified xsi:type="dcterms:W3CDTF">2015-09-14T20:09:34Z</dcterms:modified>
  <cp:revision>33</cp:revision>
  <dc:subject/>
  <dc:title>Презентация PowerPoint</dc:title>
</cp:coreProperties>
</file>