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7.jpeg" ContentType="image/jpeg"/>
  <Override PartName="/ppt/media/image26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5.png" ContentType="image/png"/>
  <Override PartName="/ppt/media/image2.png" ContentType="image/png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B4BC-6357-4D73-8E6B-342EAE8F95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Выросший на лугу цветок находится «у себя дома», он связан 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другими обитателями луга. К нему прилетают насекомые, которые  питаются его нектаром. После цветения появляются плоды и семена. Они попадают в почву,  где из семян появляются нов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раст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F306-9806-4654-9C49-3BB8324E52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60A1-44EB-43A5-A6D1-E7ED86730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E2A3-37F0-45A4-BEF5-AF5B2879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BB20-9D87-4436-9021-1D4F293FF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F585-C558-44D0-AF65-DEB0B9B95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9600-FCC8-4217-97E6-729C4D4C3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3990-1139-4E06-8D15-A43C1641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E7C5-128D-40F6-B8FC-3B631946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4B11-9635-4A79-9F93-46B95071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CD5B-262F-4B71-AE43-0EA02643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233A0-D0F5-461A-9115-C426DC89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F29A-682B-4324-A901-249884E8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7637-94F4-49F5-A743-F1ABBF35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EE7C8-6698-432F-8B01-B6065312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B5C0-FA9E-4725-965A-CC3CC3B0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0082-ACDA-44C7-8486-CFA985B0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7991D-A9F3-4A79-9603-87D0E1E0E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CB22-47A3-457F-BD7D-2ADA40FCD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7AF71-CF84-4E72-AC2D-30AFEE25A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E47CB-E672-4D9C-AEF2-96745CBB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37E61-F084-4102-AF87-7EF2EA17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F2BB8-F573-4293-98B8-3578A3C6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2B6D8-49B7-480E-A3E1-C9051D9B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B6A2-4047-40B6-B1E8-A77B3457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8F355-BB87-4D81-BB06-37EB2AD0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7C5A2-938E-4622-B126-E7CAC5D3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EEE34-AAE2-4F9C-BFC7-E793CEA1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9E632-09DF-4E1E-9A93-8A31A70F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2C363-B74A-48F7-B141-F3CA62C8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27333-E918-4C8B-B9D7-BE014AB3F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212B0-957D-46A2-A781-E06EC376C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A3F18-2DD8-42D3-B566-C1EA0524A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3EB52-4E77-4C19-BD65-0437FC1A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13310-F003-49C0-AD30-DC294A36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42FB-3444-4717-BB46-54EFF407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B4BB0-9510-4167-BF6F-44C504EE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35A5A-DFB3-4EBC-BFF5-5D52A4C9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BD712-7222-4A69-8181-CF6766E4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7BA74-5E6F-46A1-BAAF-646CC598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BD194-750A-4848-B744-8A790913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AD9F8-98F6-4575-96B7-29C85140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A2422-C1D0-462A-B526-C5DFDD57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24301-7556-4EFA-AD64-4FA6F79DB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10987-F3DD-4CBC-84F1-1FCA3C135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53FA-60F9-4F72-9D42-965D3A22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3A3F-D52C-4DDB-98EE-A3496DB8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6D2B-29C1-4191-9840-3B837CD2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5483-D369-42CF-A158-67032B9B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ECA0-E96E-4B79-9D1C-C6F9DC1D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579B-743D-496C-93B8-4A14C7A4A82A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3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 Box 6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9504-45D8-4DCF-8095-8484766A7AFE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9072-1E8E-423E-B7FB-F023974CC7A3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FE4E-CB95-4025-ADC5-B38BA79B3E07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7" descr="Рисунок1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222" name="Прямоугольник 6"/>
          <p:cNvSpPr/>
          <p:nvPr/>
        </p:nvSpPr>
        <p:spPr>
          <a:xfrm flipV="1" rot="10800000">
            <a:off x="1692000" y="4507560"/>
            <a:ext cx="60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rebuchet MS"/>
              </a:rPr>
              <a:t>Автор: Сахарова Елена Эдуард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rebuchet MS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Trebuchet MS"/>
              </a:rPr>
              <a:t>ГБОУ гимназия №1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rebuchet MS"/>
              </a:rPr>
              <a:t>г. Санкт-Петербур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Прямоугольник 5" descr=""/>
          <p:cNvPicPr/>
          <p:nvPr/>
        </p:nvPicPr>
        <p:blipFill>
          <a:blip r:embed="rId2"/>
          <a:stretch/>
        </p:blipFill>
        <p:spPr>
          <a:xfrm>
            <a:off x="2286000" y="2736720"/>
            <a:ext cx="46386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Рисунок 6" descr="img9"/>
          <p:cNvPicPr/>
          <p:nvPr/>
        </p:nvPicPr>
        <p:blipFill>
          <a:blip r:embed="rId1"/>
          <a:stretch/>
        </p:blipFill>
        <p:spPr>
          <a:xfrm>
            <a:off x="179280" y="1176480"/>
            <a:ext cx="3889440" cy="3671640"/>
          </a:xfrm>
          <a:prstGeom prst="rect">
            <a:avLst/>
          </a:prstGeom>
          <a:ln w="0">
            <a:noFill/>
          </a:ln>
        </p:spPr>
      </p:pic>
      <p:sp>
        <p:nvSpPr>
          <p:cNvPr id="242" name="Прямоугольник 4"/>
          <p:cNvSpPr/>
          <p:nvPr/>
        </p:nvSpPr>
        <p:spPr>
          <a:xfrm>
            <a:off x="4572000" y="1336680"/>
            <a:ext cx="424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В лесу грибов различных мног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Ты несъедобные не трог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В корзинку их не собира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о и ногами не сбивай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ужны они лесным зверята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Лисичкам, ёжикам, зайчатам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5"/>
          <p:cNvSpPr/>
          <p:nvPr/>
        </p:nvSpPr>
        <p:spPr>
          <a:xfrm>
            <a:off x="4572000" y="3645000"/>
            <a:ext cx="43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Их только люди не едя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В поганках, мухоморах – яд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о для зверья лесного всё 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Тот гриб полезен и хорош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6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4284720" cy="37321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C:\Users\Елена\Desktop\Рисунок1.jpg"/>
          <p:cNvPicPr/>
          <p:nvPr/>
        </p:nvPicPr>
        <p:blipFill>
          <a:blip r:embed="rId2"/>
          <a:stretch/>
        </p:blipFill>
        <p:spPr>
          <a:xfrm>
            <a:off x="3780000" y="2798640"/>
            <a:ext cx="536400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4359240" y="3913200"/>
            <a:ext cx="4656240" cy="1963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D:\клипарты\знаки\14.png"/>
          <p:cNvPicPr/>
          <p:nvPr/>
        </p:nvPicPr>
        <p:blipFill>
          <a:blip r:embed="rId2"/>
          <a:stretch/>
        </p:blipFill>
        <p:spPr>
          <a:xfrm>
            <a:off x="250920" y="1197000"/>
            <a:ext cx="4000320" cy="394164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оугольник 4"/>
          <p:cNvSpPr/>
          <p:nvPr/>
        </p:nvSpPr>
        <p:spPr>
          <a:xfrm>
            <a:off x="4572000" y="620640"/>
            <a:ext cx="41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Муравьи – лесные санита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Так прозвали люди их недаро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Чтобы лес красив был и здор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Без личинок вредных и жук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Муравьи на страже день и ноч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Гонят разных короедов проч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7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4211640" cy="42116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Рисунок1"/>
          <p:cNvPicPr/>
          <p:nvPr/>
        </p:nvPicPr>
        <p:blipFill>
          <a:blip r:embed="rId2"/>
          <a:stretch/>
        </p:blipFill>
        <p:spPr>
          <a:xfrm>
            <a:off x="3780000" y="2833560"/>
            <a:ext cx="536400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D:\клипарты\знаки\18.png"/>
          <p:cNvPicPr/>
          <p:nvPr/>
        </p:nvPicPr>
        <p:blipFill>
          <a:blip r:embed="rId1"/>
          <a:stretch/>
        </p:blipFill>
        <p:spPr>
          <a:xfrm>
            <a:off x="103320" y="1566720"/>
            <a:ext cx="4570200" cy="4448160"/>
          </a:xfrm>
          <a:prstGeom prst="rect">
            <a:avLst/>
          </a:prstGeom>
          <a:ln w="0">
            <a:noFill/>
          </a:ln>
        </p:spPr>
      </p:pic>
      <p:sp>
        <p:nvSpPr>
          <p:cNvPr id="252" name="Прямоугольник 3"/>
          <p:cNvSpPr/>
          <p:nvPr/>
        </p:nvSpPr>
        <p:spPr>
          <a:xfrm>
            <a:off x="4673520" y="620640"/>
            <a:ext cx="4002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У леса музыка сво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Её послушайте друзь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от птичьи трели раздалис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от белка скачет вверх и вниз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А вот кузнечик затреща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о ветке дятел застучал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4"/>
          <p:cNvSpPr/>
          <p:nvPr/>
        </p:nvSpPr>
        <p:spPr>
          <a:xfrm>
            <a:off x="4673520" y="4005360"/>
            <a:ext cx="4002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Как много звуков тут и там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 лесу не нужен шум и га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льзя шуметь, галде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крич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 громко музыку включа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9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рямоугольник 4"/>
          <p:cNvSpPr/>
          <p:nvPr/>
        </p:nvSpPr>
        <p:spPr>
          <a:xfrm>
            <a:off x="1547640" y="1136520"/>
            <a:ext cx="640908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7300" spc="-1" strike="noStrike">
                <a:solidFill>
                  <a:srgbClr val="f14124"/>
                </a:solidFill>
                <a:latin typeface="Trebuchet MS"/>
              </a:rPr>
              <a:t>Спасибо за               участие!!!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7" descr="http://festival.1september.ru/articles/211637/img4.jpg"/>
          <p:cNvPicPr/>
          <p:nvPr/>
        </p:nvPicPr>
        <p:blipFill>
          <a:blip r:embed="rId1"/>
          <a:stretch/>
        </p:blipFill>
        <p:spPr>
          <a:xfrm>
            <a:off x="0" y="692280"/>
            <a:ext cx="3571920" cy="374472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4"/>
          <p:cNvSpPr/>
          <p:nvPr/>
        </p:nvSpPr>
        <p:spPr>
          <a:xfrm>
            <a:off x="4643280" y="907920"/>
            <a:ext cx="4032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Дети запомнить долж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 поня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Гнёзда у птич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ельзя разоря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Если в тра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видали яйц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ли услыша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рики птенц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е приближайтес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е лезьте т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 не тревожь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и птиц, ни гнез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8" descr="3"/>
          <p:cNvPicPr/>
          <p:nvPr/>
        </p:nvPicPr>
        <p:blipFill>
          <a:blip r:embed="rId1"/>
          <a:stretch/>
        </p:blipFill>
        <p:spPr>
          <a:xfrm>
            <a:off x="0" y="0"/>
            <a:ext cx="9468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2" descr="http://festival.1september.ru/articles/211637/img4.jpg"/>
          <p:cNvPicPr/>
          <p:nvPr/>
        </p:nvPicPr>
        <p:blipFill>
          <a:blip r:embed="rId1"/>
          <a:stretch/>
        </p:blipFill>
        <p:spPr>
          <a:xfrm>
            <a:off x="250920" y="1096920"/>
            <a:ext cx="4054320" cy="374508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4"/>
          <p:cNvSpPr/>
          <p:nvPr/>
        </p:nvSpPr>
        <p:spPr>
          <a:xfrm>
            <a:off x="4788000" y="549360"/>
            <a:ext cx="403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Для ёжиков и бе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Лес – это дом род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Они живут там см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 летом и зимо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5"/>
          <p:cNvSpPr/>
          <p:nvPr/>
        </p:nvSpPr>
        <p:spPr>
          <a:xfrm>
            <a:off x="4788000" y="2060640"/>
            <a:ext cx="338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аходят пропитан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воих детей растя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 уходить из л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исколько не хотят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6"/>
          <p:cNvSpPr/>
          <p:nvPr/>
        </p:nvSpPr>
        <p:spPr>
          <a:xfrm>
            <a:off x="4716360" y="4005360"/>
            <a:ext cx="345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оэтому не сто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х в город забирать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оверь: они в нево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 будут есть и спать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6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5187960" cy="40845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Рисунок2"/>
          <p:cNvPicPr/>
          <p:nvPr/>
        </p:nvPicPr>
        <p:blipFill>
          <a:blip r:embed="rId2"/>
          <a:stretch/>
        </p:blipFill>
        <p:spPr>
          <a:xfrm>
            <a:off x="4286160" y="3084480"/>
            <a:ext cx="485784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Рисунок 5" descr="http://festival.1september.ru/articles/211637/img4.jpg"/>
          <p:cNvPicPr/>
          <p:nvPr/>
        </p:nvPicPr>
        <p:blipFill>
          <a:blip r:embed="rId1"/>
          <a:stretch/>
        </p:blipFill>
        <p:spPr>
          <a:xfrm>
            <a:off x="395280" y="1197000"/>
            <a:ext cx="3960720" cy="4245120"/>
          </a:xfrm>
          <a:prstGeom prst="rect">
            <a:avLst/>
          </a:prstGeom>
          <a:ln w="0">
            <a:noFill/>
          </a:ln>
        </p:spPr>
      </p:pic>
      <p:sp>
        <p:nvSpPr>
          <p:cNvPr id="234" name="Прямоугольник 4"/>
          <p:cNvSpPr/>
          <p:nvPr/>
        </p:nvSpPr>
        <p:spPr>
          <a:xfrm flipV="1" rot="10800000">
            <a:off x="4572000" y="1173600"/>
            <a:ext cx="41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Есть цветочки редк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Белые и неж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ам кивнут приветли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Ландыши, подснежник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5"/>
          <p:cNvSpPr/>
          <p:nvPr/>
        </p:nvSpPr>
        <p:spPr>
          <a:xfrm>
            <a:off x="4572000" y="2781360"/>
            <a:ext cx="3960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Только рвать не надо их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 ними лес добрей, свет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едь теперь цветов так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Очень мало на земле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Объект 3" descr="img9"/>
          <p:cNvPicPr/>
          <p:nvPr/>
        </p:nvPicPr>
        <p:blipFill>
          <a:blip r:embed="rId1"/>
          <a:stretch/>
        </p:blipFill>
        <p:spPr>
          <a:xfrm>
            <a:off x="179280" y="968400"/>
            <a:ext cx="3845160" cy="374472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 4"/>
          <p:cNvSpPr/>
          <p:nvPr/>
        </p:nvSpPr>
        <p:spPr>
          <a:xfrm>
            <a:off x="4211640" y="765000"/>
            <a:ext cx="4681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Без взрослых с огнём развлекаться опасно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Закончиться может забава ужас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 лесу очень сухо бывает пор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Костёр обернётся серьёзной бедо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редставьте, что пламя легко разгорит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ачнёт полыхать, разбегаться искриться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Его потушить невозможно тогд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ожары лесные – большая бед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0" name="Picture 5" descr="7-1200"/>
          <p:cNvPicPr/>
          <p:nvPr/>
        </p:nvPicPr>
        <p:blipFill>
          <a:blip r:embed="rId1"/>
          <a:stretch/>
        </p:blipFill>
        <p:spPr>
          <a:xfrm>
            <a:off x="-108000" y="-34920"/>
            <a:ext cx="9348840" cy="70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5T18:44:24Z</dcterms:created>
  <dc:creator>Елена Сахарова</dc:creator>
  <dc:description/>
  <dc:language>en-US</dc:language>
  <cp:lastModifiedBy>Елена Сахарова</cp:lastModifiedBy>
  <dcterms:modified xsi:type="dcterms:W3CDTF">2015-09-14T20:09:34Z</dcterms:modified>
  <cp:revision>33</cp:revision>
  <dc:subject/>
  <dc:title>Презентация PowerPoint</dc:title>
</cp:coreProperties>
</file>