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AB7-E59A-4C3A-B502-89B756BE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D14-23E5-446B-A20E-30EC6BC6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475-F24A-49C6-B791-03D04F8B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15C-E948-4F9B-84C9-BB18DAC1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068-3B85-4D3F-AF00-9446EE3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78E-E00B-4FAB-A371-F35E500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E31-BCD8-4DFF-B290-D91C273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476-2643-4726-88CA-BC43A56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1EE-CCCD-4011-9934-62B099A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66-FB03-40C4-B38E-5B245BC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6E2-C107-49AC-8281-95608820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54B-C2E1-4C41-B733-2E466FF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F810-E76A-49CC-951B-6BD060FB2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едложения с предлог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57320"/>
            <a:ext cx="914400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матизация звука [Л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втор: учитель – дефектолог  Цесарова Т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.Тимашевс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БДОУ № 6 компенсирующего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Золотой клю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7120" y="2214360"/>
            <a:ext cx="85010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ейчас на слайде будет появляться Лунтик. Он очень любит играть в прятки. Он будет прятаться в разные места, а ты будешь составлять предложения о том, куда он спрятался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0" descr=""/>
          <p:cNvPicPr/>
          <p:nvPr/>
        </p:nvPicPr>
        <p:blipFill>
          <a:blip r:embed="rId1"/>
          <a:stretch/>
        </p:blipFill>
        <p:spPr>
          <a:xfrm>
            <a:off x="1828800" y="5979960"/>
            <a:ext cx="685152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Documents and Settings\Jenya\Рабочий стол\женя\картинки\мебель\стол\269_0.png"/>
          <p:cNvPicPr/>
          <p:nvPr/>
        </p:nvPicPr>
        <p:blipFill>
          <a:blip r:embed="rId2"/>
          <a:stretch/>
        </p:blipFill>
        <p:spPr>
          <a:xfrm>
            <a:off x="3294000" y="0"/>
            <a:ext cx="5850000" cy="473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42934 -0.39144 E"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49320" y="122400"/>
            <a:ext cx="6948360" cy="117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Jenya\Рабочий стол\женя\картинки\мебель\кресло\42de2020b3f7t.png"/>
          <p:cNvPicPr/>
          <p:nvPr/>
        </p:nvPicPr>
        <p:blipFill>
          <a:blip r:embed="rId3"/>
          <a:stretch/>
        </p:blipFill>
        <p:spPr>
          <a:xfrm>
            <a:off x="5715000" y="928800"/>
            <a:ext cx="3429000" cy="398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53959 -0.44399 E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5" descr=""/>
          <p:cNvPicPr/>
          <p:nvPr/>
        </p:nvPicPr>
        <p:blipFill>
          <a:blip r:embed="rId1"/>
          <a:stretch/>
        </p:blipFill>
        <p:spPr>
          <a:xfrm>
            <a:off x="133200" y="122400"/>
            <a:ext cx="4872240" cy="172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Jenya\Рабочий стол\женя\картинки\мебель\стул\593_big.png"/>
          <p:cNvPicPr/>
          <p:nvPr/>
        </p:nvPicPr>
        <p:blipFill>
          <a:blip r:embed="rId2"/>
          <a:stretch/>
        </p:blipFill>
        <p:spPr>
          <a:xfrm>
            <a:off x="4071960" y="214200"/>
            <a:ext cx="6294240" cy="629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572000"/>
            <a:ext cx="1808280" cy="185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73976 -0.06064 E">
                                      <p:cBhvr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122400"/>
            <a:ext cx="6370560" cy="117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Jenya\Рабочий стол\женя\картинки\деревья\ЕЛЬ\00074876_b.png"/>
          <p:cNvPicPr/>
          <p:nvPr/>
        </p:nvPicPr>
        <p:blipFill>
          <a:blip r:embed="rId3"/>
          <a:stretch/>
        </p:blipFill>
        <p:spPr>
          <a:xfrm>
            <a:off x="3929040" y="214200"/>
            <a:ext cx="6429240" cy="642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58681 -0.1289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1828800" y="5979960"/>
            <a:ext cx="6900840" cy="117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Jenya\Рабочий стол\женя\картинки\школьгые предметы\школьн.принадл\7d8f85c0e864t.png"/>
          <p:cNvPicPr/>
          <p:nvPr/>
        </p:nvPicPr>
        <p:blipFill>
          <a:blip r:embed="rId3"/>
          <a:stretch/>
        </p:blipFill>
        <p:spPr>
          <a:xfrm>
            <a:off x="5357880" y="0"/>
            <a:ext cx="3786120" cy="4081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106 L 0.57518 -0.56991 E">
                                      <p:cBhvr>
                                        <p:cTn id="30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1762200" y="5979960"/>
            <a:ext cx="6516720" cy="117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9.png"/>
          <p:cNvPicPr/>
          <p:nvPr/>
        </p:nvPicPr>
        <p:blipFill>
          <a:blip r:embed="rId2"/>
          <a:stretch/>
        </p:blipFill>
        <p:spPr>
          <a:xfrm>
            <a:off x="2214720" y="0"/>
            <a:ext cx="7134120" cy="42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106 L 0.57518 -0.56991 E">
                                      <p:cBhvr>
                                        <p:cTn id="3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5979960"/>
            <a:ext cx="6943680" cy="117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середине без стечения\27.png"/>
          <p:cNvPicPr/>
          <p:nvPr/>
        </p:nvPicPr>
        <p:blipFill>
          <a:blip r:embed="rId2"/>
          <a:srcRect l="2563" t="12821" r="5128" b="28204"/>
          <a:stretch/>
        </p:blipFill>
        <p:spPr>
          <a:xfrm>
            <a:off x="-71280" y="0"/>
            <a:ext cx="7715160" cy="492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7205760" y="4786200"/>
            <a:ext cx="193824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38611 -0.38032 E">
                                      <p:cBhvr>
                                        <p:cTn id="42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2:08:10Z</dcterms:created>
  <dc:creator>Семья</dc:creator>
  <dc:description/>
  <dc:language>en-US</dc:language>
  <cp:lastModifiedBy>AdminT</cp:lastModifiedBy>
  <dcterms:modified xsi:type="dcterms:W3CDTF">2015-09-14T18:54:14Z</dcterms:modified>
  <cp:revision>10</cp:revision>
  <dc:subject/>
  <dc:title>Предложения с предлогами</dc:title>
</cp:coreProperties>
</file>