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FF3-2E83-4657-B21C-6E35AE1C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630-891E-40F3-AC56-85EF7AA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A75-DA5A-47B2-B547-F6C17878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36A-CE3C-4BDD-AB9B-B3906AF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CF7-F382-4196-AE45-88C1E041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364-A1B1-4D3D-9AC5-B527C4C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242-6817-4C32-8431-7BBD3C1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765-BC02-4C14-9533-1E1CF6D0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E27-2277-4DE7-A37B-DD199123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7A5-7326-4956-B4D5-B1F7D51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A95-B55D-4D28-B670-4A48739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32D-38E2-4EBB-91B6-9E4C44D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F95-C679-4D6B-BEEF-014D58CFB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едложения с предлог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57320"/>
            <a:ext cx="914400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матизация звука [Л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втор: учитель – дефектолог  Цесарова Т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.Тимашевс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БДОУ № 6 компенсирующего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Золотой клю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7120" y="2214360"/>
            <a:ext cx="85010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ейчас на слайде будет появляться Лунтик. Он очень любит играть в прятки. Он будет прятаться в разные места, а ты будешь составлять предложения о том, куда он спрятался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0" descr=""/>
          <p:cNvPicPr/>
          <p:nvPr/>
        </p:nvPicPr>
        <p:blipFill>
          <a:blip r:embed="rId1"/>
          <a:stretch/>
        </p:blipFill>
        <p:spPr>
          <a:xfrm>
            <a:off x="1828800" y="5979960"/>
            <a:ext cx="685152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Documents and Settings\Jenya\Рабочий стол\женя\картинки\мебель\стол\269_0.png"/>
          <p:cNvPicPr/>
          <p:nvPr/>
        </p:nvPicPr>
        <p:blipFill>
          <a:blip r:embed="rId2"/>
          <a:stretch/>
        </p:blipFill>
        <p:spPr>
          <a:xfrm>
            <a:off x="3294000" y="0"/>
            <a:ext cx="5850000" cy="473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42934 -0.39144 E"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49320" y="122400"/>
            <a:ext cx="6948360" cy="117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Jenya\Рабочий стол\женя\картинки\мебель\кресло\42de2020b3f7t.png"/>
          <p:cNvPicPr/>
          <p:nvPr/>
        </p:nvPicPr>
        <p:blipFill>
          <a:blip r:embed="rId3"/>
          <a:stretch/>
        </p:blipFill>
        <p:spPr>
          <a:xfrm>
            <a:off x="5715000" y="928800"/>
            <a:ext cx="3429000" cy="398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53959 -0.44399 E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5" descr=""/>
          <p:cNvPicPr/>
          <p:nvPr/>
        </p:nvPicPr>
        <p:blipFill>
          <a:blip r:embed="rId1"/>
          <a:stretch/>
        </p:blipFill>
        <p:spPr>
          <a:xfrm>
            <a:off x="133200" y="122400"/>
            <a:ext cx="4872240" cy="172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Jenya\Рабочий стол\женя\картинки\мебель\стул\593_big.png"/>
          <p:cNvPicPr/>
          <p:nvPr/>
        </p:nvPicPr>
        <p:blipFill>
          <a:blip r:embed="rId2"/>
          <a:stretch/>
        </p:blipFill>
        <p:spPr>
          <a:xfrm>
            <a:off x="4071960" y="214200"/>
            <a:ext cx="6294240" cy="629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572000"/>
            <a:ext cx="1808280" cy="185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73976 -0.06064 E">
                                      <p:cBhvr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122400"/>
            <a:ext cx="6370560" cy="117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Jenya\Рабочий стол\женя\картинки\деревья\ЕЛЬ\00074876_b.png"/>
          <p:cNvPicPr/>
          <p:nvPr/>
        </p:nvPicPr>
        <p:blipFill>
          <a:blip r:embed="rId3"/>
          <a:stretch/>
        </p:blipFill>
        <p:spPr>
          <a:xfrm>
            <a:off x="3929040" y="214200"/>
            <a:ext cx="6429240" cy="642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58681 -0.1289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1828800" y="5979960"/>
            <a:ext cx="6900840" cy="117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2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Jenya\Рабочий стол\женя\картинки\школьгые предметы\школьн.принадл\7d8f85c0e864t.png"/>
          <p:cNvPicPr/>
          <p:nvPr/>
        </p:nvPicPr>
        <p:blipFill>
          <a:blip r:embed="rId3"/>
          <a:stretch/>
        </p:blipFill>
        <p:spPr>
          <a:xfrm>
            <a:off x="5357880" y="0"/>
            <a:ext cx="3786120" cy="4081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106 L 0.57518 -0.56991 E">
                                      <p:cBhvr>
                                        <p:cTn id="30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1762200" y="5979960"/>
            <a:ext cx="6516720" cy="117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9.png"/>
          <p:cNvPicPr/>
          <p:nvPr/>
        </p:nvPicPr>
        <p:blipFill>
          <a:blip r:embed="rId2"/>
          <a:stretch/>
        </p:blipFill>
        <p:spPr>
          <a:xfrm>
            <a:off x="2214720" y="0"/>
            <a:ext cx="7134120" cy="42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0" y="4214880"/>
            <a:ext cx="2155680" cy="221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2106 L 0.57518 -0.56991 E">
                                      <p:cBhvr>
                                        <p:cTn id="3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5979960"/>
            <a:ext cx="6943680" cy="117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середине без стечения\27.png"/>
          <p:cNvPicPr/>
          <p:nvPr/>
        </p:nvPicPr>
        <p:blipFill>
          <a:blip r:embed="rId2"/>
          <a:srcRect l="2563" t="12821" r="5128" b="28204"/>
          <a:stretch/>
        </p:blipFill>
        <p:spPr>
          <a:xfrm>
            <a:off x="-71280" y="0"/>
            <a:ext cx="7715160" cy="492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Jenya\Рабочий стол\женя\документы Женя\автоматизация\автоматизация\автоматизация звуков в картинках\картинки Л\картинки л упорядоченные\Л в начале\Лунтик_игрушка.png"/>
          <p:cNvPicPr/>
          <p:nvPr/>
        </p:nvPicPr>
        <p:blipFill>
          <a:blip r:embed="rId3"/>
          <a:stretch/>
        </p:blipFill>
        <p:spPr>
          <a:xfrm>
            <a:off x="7205760" y="4786200"/>
            <a:ext cx="193824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38611 -0.38032 E">
                                      <p:cBhvr>
                                        <p:cTn id="42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2:08:10Z</dcterms:created>
  <dc:creator>Семья</dc:creator>
  <dc:description/>
  <dc:language>en-US</dc:language>
  <cp:lastModifiedBy>AdminT</cp:lastModifiedBy>
  <dcterms:modified xsi:type="dcterms:W3CDTF">2015-09-14T18:54:14Z</dcterms:modified>
  <cp:revision>10</cp:revision>
  <dc:subject/>
  <dc:title>Предложения с предлогами</dc:title>
</cp:coreProperties>
</file>