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D22-C9A9-418F-9B76-D4D2B20A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608-C86E-44A5-AFF3-D08FD33D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E26-3F46-4F71-943C-B5D4BD76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149-F094-4057-A907-C6BC4D19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0307-65A9-44F4-826D-C696A749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39B6-C10D-4592-91C0-73BB8D6A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D08B-6E95-4889-A10B-2B5E5916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752C-441A-496A-9C88-325920C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254F-B3AD-4219-9600-8405671A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5AED-33D7-435D-853E-3261772A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34A8-2EC1-4FD5-8D6A-F010F0C1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E14-2727-46B2-B214-8B652737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8DC3-85F4-4752-9631-B5E6D5C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561A-21C4-413B-848F-9178B014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BB77-3D1B-4002-B1CC-DB9BBE1C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5431-76F8-4164-9A91-8531BC67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A3EB-32BE-40AC-8699-DA231A85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BFA-78A4-4F1C-A7DA-AF939F2A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40B-EC12-453B-B738-935A7F2A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36F-9CFE-4F48-B524-DC250E16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8B1-41BB-4CD2-880E-7ABF794C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4A7-B004-4CEC-A2F9-403E187F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283-7FEB-4912-8997-5CD3E5E9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151-52F7-4B3D-8781-6CAD725C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A050-465F-40C2-81BD-62885FE6292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85800" y="146700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708360" y="5589720"/>
            <a:ext cx="4876920" cy="318960"/>
            <a:chOff x="3708360" y="55897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708360" y="55897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325000" y="55897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FDDF-FA2F-431B-B227-96AF3E0356A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11880" y="1784520"/>
            <a:ext cx="7774560" cy="109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удожественная литература как средство обогащения словаря детей  среднего дошкольного возрас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43280" y="3357720"/>
            <a:ext cx="4176720" cy="200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ыполнил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ёдорова Наталья Павло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пециальность: 05014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школьное образ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урс 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V</a:t>
            </a: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, группа 14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учный руководитель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ольская Оксана Геннадье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79280" y="1368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истерство образования и науки Амурской обл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сударственное профессиональное образовательное автономное учрежд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мурской област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мурский педагогический коллед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3214800" y="62866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лаговещенск, 20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684360" y="3625920"/>
            <a:ext cx="216036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нстатирующий этап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явить уровень словарного запаса детей среднего дошкольного возрас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28800" y="3357720"/>
          <a:ext cx="7891200" cy="3516120"/>
        </p:xfrm>
        <a:graphic>
          <a:graphicData uri="http://schemas.openxmlformats.org/drawingml/2006/table">
            <a:tbl>
              <a:tblPr/>
              <a:tblGrid>
                <a:gridCol w="5041800"/>
                <a:gridCol w="2849400"/>
              </a:tblGrid>
              <a:tr h="40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одик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9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Кукла»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.С. Ушакова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Составление предложений с многозначными словами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Счастливый ребёнок»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Определение значения слова (ответы на вопросы «Что такое?», «Что значит?)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а «Счастливый ребёнок»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40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исунок 1 - Результаты диагностики «Кукла» на констатирующем этап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116000" y="2577960"/>
          <a:ext cx="640872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577960"/>
                    <a:ext cx="640872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52840" y="567360"/>
            <a:ext cx="7742520" cy="125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исунок 2 - Результаты диагностики «Составление предложений с многозначными словами» на констатирующем этап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116000" y="2577960"/>
          <a:ext cx="640872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577960"/>
                    <a:ext cx="640872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840" y="1269720"/>
            <a:ext cx="777852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исунок 3 - Результаты диагностики «Определение значения слова (ответы на вопросы «Что такое?», «Что значит?)» на констатирующем этапе</a:t>
            </a:r>
            <a:br>
              <a:rPr sz="28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16000" y="2577960"/>
          <a:ext cx="640872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577960"/>
                    <a:ext cx="640872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913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исунок 4 - График исследования словарного запаса детей среднего дошкольного возраста на констатирующем этап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1116000" y="2577960"/>
          <a:ext cx="640872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577960"/>
                    <a:ext cx="640872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ормирующий этап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: разработать комплексную систему разнообразных форм, методов и приёмов обогащения словаря детей среднего дошкольного возраста в процессе использования художественной литерат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2040" y="309960"/>
            <a:ext cx="545472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н формирующего этап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8000" y="907920"/>
          <a:ext cx="8928000" cy="6050160"/>
        </p:xfrm>
        <a:graphic>
          <a:graphicData uri="http://schemas.openxmlformats.org/drawingml/2006/table">
            <a:tbl>
              <a:tblPr/>
              <a:tblGrid>
                <a:gridCol w="1079280"/>
                <a:gridCol w="3168720"/>
                <a:gridCol w="1871640"/>
                <a:gridCol w="2808360"/>
              </a:tblGrid>
              <a:tr h="279360">
                <a:tc gridSpan="4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неделя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Тема недели:</a:t>
                      </a: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«Что нам лето подарило?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ни недел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богащение словаря детей с помощью художественной литературы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ктивизация словаря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спользуемые методы и приемы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6556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недельни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1.09.1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Чтение сказки В. Катаева «Цветик – семицветик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дача. Словарь: учить правильно называть предметы, их отдельные части, качеств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ловарь: Цветик – семицветик, лепесток, тмин, мак, сад, лепесток, тмин, мак, красный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 Показ с называнием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 Вопросы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.Рассматривание иллюстраций по сказке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0974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торни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2.09.1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крепление слов по сказке  в игре драматизации  «Цветик – семицветик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дача. Словарь: закрепить правильно называть предметы используемые в сказке, действия, использовать прилагательные, обозначающие цвет, способствовать формированию активного словаря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ловарь: Цветик – семицветик, лети – лети, желтый, красный, зеленый, синий, оранжевый, фиолетовый и голубо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 Повторение с детьми в процессе беседы произведения. 2.Инсцинирование детьми художественного произведения;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. Объяснение значения слов детьми;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44280"/>
          <a:ext cx="9109080" cy="6661440"/>
        </p:xfrm>
        <a:graphic>
          <a:graphicData uri="http://schemas.openxmlformats.org/drawingml/2006/table">
            <a:tbl>
              <a:tblPr/>
              <a:tblGrid>
                <a:gridCol w="936720"/>
                <a:gridCol w="3085920"/>
                <a:gridCol w="2098800"/>
                <a:gridCol w="2987640"/>
              </a:tblGrid>
              <a:tr h="2016360"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.09.1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гадывание загадок про овощи под средством дидактической игры  «Что нам лето подарило?»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дача. Словарь: учить называть цвет предмета, использовать антонимы, согласовывать существительное с прилагательными в роде, числе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ловарь: Картошка, картофель, зеленная капуста, томат, красный, огурец, зеленый, перец, баклажан, перец желтый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Отгадывание детьми загадок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Объяснение педагогом значений слов. 3.Проговаривание слов детьми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Подбор слов детьми для характеристики овощ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950840"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4.09.1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Чтение стихотворения Сергея Фатулева «Летний дождь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дача. Словарь: упражнять в образовании формы повелительного наклонения глаголов громыхать, примолкать, познакомить с антонимами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ловарь: громыхни, примолкни, распарено, летний дождь, размокшая, притих, примолк, воркует, бормочет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Проговаривание фраз детьми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Употребление слов в разном контексте в связи с беседой по содержанию стихотворения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.Объяснение педагогом значений слов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Индивидуальное и хоровое проговаривание фраз детьми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2694240"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5.09.1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ересказ сказки «Сказка об одуванчике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дача. Словарь: учить правильно по смыслу называть качества предметов, закреплять в активном словаре название полевого цветк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ловарь: одуванчик, грустный, храбрый, трава, тонкая, длинная, воздушный, ветерок, поле, разлетаются)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Акцентирование внимание на словах, несущих основную смысловую нагрузку. 2.Лексический анализ языка художественных произведений (выявление значений незнакомых слов и выражений, уточнение оттенков значений слов, употребляемых в переносном смысле, анализ изобразительных средств языка текста)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нтрольный этап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26920" y="2349000"/>
            <a:ext cx="76932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выявление динамики уровня словарного запаса детей среднего дошкольного возраста после проведения опытно-экспериментальной работ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28800" y="3643200"/>
          <a:ext cx="7715160" cy="2718000"/>
        </p:xfrm>
        <a:graphic>
          <a:graphicData uri="http://schemas.openxmlformats.org/drawingml/2006/table">
            <a:tbl>
              <a:tblPr/>
              <a:tblGrid>
                <a:gridCol w="4929120"/>
                <a:gridCol w="278604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одик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Кукла»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.С. Ушаков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Составление предложений с многозначными словами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а «Счастливый ребенок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Определение значения слова (ответы на вопросы «Что такое?», «Что значит?)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а «Счастливый ребенок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исунок 5 - Результаты диагностики «Кукла» на контрольном этап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0" y="1700280"/>
          <a:ext cx="88930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889308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71200" y="513720"/>
            <a:ext cx="8055000" cy="151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 роли и значении художественной литературы в развитии речи детей писали многие ученные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готский Лев Семенови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ихеева Елизавета Иванов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сова Александра Платонов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льконин Данил Борисови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732720" y="2781360"/>
            <a:ext cx="2023920" cy="246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70000" y="4437000"/>
            <a:ext cx="1747800" cy="234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2556000" y="4432320"/>
            <a:ext cx="1584360" cy="235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>
            <a:off x="4788000" y="4483080"/>
            <a:ext cx="1646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исунок 6 - Результаты диагностики «Составление предложений с многозначными словами» на контрольном этап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0" name="Object 6"/>
          <p:cNvGraphicFramePr/>
          <p:nvPr/>
        </p:nvGraphicFramePr>
        <p:xfrm>
          <a:off x="0" y="1700280"/>
          <a:ext cx="88930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889308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исунок 7 - Результаты диагностики «Определение значения слова (ответы на вопросы «Что такое?», «Что значит?)» на контрольном этап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0" y="1700280"/>
          <a:ext cx="88930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889308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исунок 8 - Сравнительный график результатов обучаемых по методикам обогащения словаря детей среднего дошкольного возраст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0" y="1700280"/>
          <a:ext cx="88930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889308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ль исследова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оретически обосновать и практически доказать эффективность использования художественной литературы в обогащении словаря детей средней групп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ипотез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удожественная литература будет эффективным средством обогащения словаря  детей среднего дошкольного возраста, если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) использовать художественную литературу с учетом лексических те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) использовать в процессе чтения художественной литературы различные методы и приемы обогащения словар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) обеспечить взаимодействие с семьей по проблеме обогащения словаря детей среднего дошкольного возраста через использование художественной литератур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911880" y="1784520"/>
            <a:ext cx="7774560" cy="109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удожественная литература как средство обогащения словаря детей  среднего дошкольного возрас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643280" y="3357720"/>
            <a:ext cx="4176720" cy="200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ыполнил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ёдорова Наталья Павло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пециальность: 05014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школьное образ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урс 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V</a:t>
            </a: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, группа 14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учный руководитель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ольская Оксана Геннадье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79280" y="1368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истерство образования и науки Амурской обл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сударственное профессиональное образовательное автономное учрежд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мурской област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мурский педагогический коллед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3214800" y="62866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лаговещенск, 20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1"/>
          <a:stretch/>
        </p:blipFill>
        <p:spPr>
          <a:xfrm>
            <a:off x="684360" y="3625920"/>
            <a:ext cx="216036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75880" y="875880"/>
            <a:ext cx="7696440" cy="15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ловарная работа </a:t>
            </a: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это планомерное расширение активного словаря детей за счёт незнакомых или трудных слов.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ассивный словарь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ова, которые ребенок не употребляет, но узнает в тексте, понима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ктивный словарь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слова, которые ребенок употребляет в своем лексикон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940360" y="4869000"/>
            <a:ext cx="29685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етодологический аппара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обогащения словаря детей среднего дошкольного возраст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удожественная литература как средство обогащения словаря  детей среднего дошкольного возрас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 исследования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теоретически обосновать и практически доказать эффективность использования художественной литературы в обогащении словаря детей средней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дачи исследова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276280"/>
            <a:ext cx="81266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учить психолого-педагогическую и методическую литературу по проблеме использования художественной литературы для обогащения словаря детей среднего дошкольного возраст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обрать и провести диагностику для выявления уровня словарного запаса детей среднего дошкольного возрас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робировать комплекс мероприятий по использованию художественной литературы для обогащения словар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ипотез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9792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удожественная литература будет эффективным средством обогащения словаря  детей среднего дошкольного возраста, если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) использовать художественную литературу с учетом лексических те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) использовать в процессе чтения художественной литературы различные методы и приемы обогащения словар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) обеспечить взаимодействие с семьей по проблеме обогащения словаря детей среднего дошкольного возраста через использование художественной литератур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етоды исследова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459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нализ психолого-педагогической и учебно-методической литератур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дагогический эксперимент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личественная и качественная обработка результатов исследов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аза исследования: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униципальное дошкольное образовательное автономное учреждение детский сад № 1 г. Благовещенс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1200" y="61560"/>
            <a:ext cx="55036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н констатирующего этап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836640"/>
          <a:ext cx="9144000" cy="6883200"/>
        </p:xfrm>
        <a:graphic>
          <a:graphicData uri="http://schemas.openxmlformats.org/drawingml/2006/table">
            <a:tbl>
              <a:tblPr/>
              <a:tblGrid>
                <a:gridCol w="1263600"/>
                <a:gridCol w="7880400"/>
              </a:tblGrid>
              <a:tr h="457200"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констатирующего этап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2600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02. 14 - 01.03.1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.03. 14 – 04.03.1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иагностики  выявления уровня  словарного запаса детей среднего дошкольного возраста: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иагностика 1 «Кукла» О.С. Ушакова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иагностика 2 «Составление предложений с многозначными словами» Программа «Счастливый ребенок»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иагностика 3 «Определение значения слова (ответы на вопросы «Что такое?», «Что значит?)» Программа «Счастливый ребенок»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нкетирование родителей: «Уровень знаний родителей о процессе  обогащение словаря детей и речевая среда дома»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185840"/>
                <a:gridCol w="7958160"/>
              </a:tblGrid>
              <a:tr h="500040"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констатирующего этап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5796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.03.1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03.1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3.14 -  14.03.1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03.1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нализ речи воспитателей группы МДОУ №1  Оксаны Анатольевны и  Елены Владимировны. 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нализ речевой среды МДОУ №1 с учетом ФГОС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нкетирование воспитателей МДОУ №1 Оксаны Анатольевны и Елены Владимировны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нализ планов воспитательной работы  Оксаны Анатольевны и Елены Владимировны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0:34:28Z</dcterms:created>
  <dc:creator>Марина</dc:creator>
  <dc:description/>
  <dc:language>en-US</dc:language>
  <cp:lastModifiedBy>ДНС</cp:lastModifiedBy>
  <dcterms:modified xsi:type="dcterms:W3CDTF">2015-06-15T02:08:25Z</dcterms:modified>
  <cp:revision>64</cp:revision>
  <dc:subject/>
  <dc:title>Влияние коллектива на развитие нравственных качеств младшего школьника</dc:title>
</cp:coreProperties>
</file>