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4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79AC-4CDC-4EEF-8E2A-7032D91C25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F6F5-44C4-40C3-B7C6-49D52989E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88AC-C46F-4FEC-9175-8E7EC57388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2B80-DF64-4EA9-8534-BFF3EB665A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BF6B-639B-403B-BA00-AD0F879FD8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25B5-78B2-4733-BC32-BC20021F61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4CFA-6D3E-4CCC-A0F6-94122EC4BF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DA4C-4BDB-4951-ADAB-BE5C80C4D5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C53A-2415-493E-8CF9-88F6642DF4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6D50-9AC5-46A7-8853-B58B3BDB25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2050-99BF-4790-ACA5-AA77CBDACD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8523-731E-4238-BFCC-4C91CDCEA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B2D1-5299-4378-991B-D1C8E4DA4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2F84-BCF3-4C67-A8AC-8239915E81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1F78-62E1-42E8-B04F-F2933C9358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5934-295F-4C76-9507-A0E4AE4761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D332-6E24-4B0F-98AE-E892703711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4976-0C5A-4F60-8C10-15586792AF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9A7F-DA7C-41EB-BBAD-55B7A7E5DF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3E16-7B05-4174-879F-6C82540199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A8CE-909B-444D-AB57-B377A61172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5A21-1015-478A-9AB1-C4655F5ABA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D65E-9A58-498C-9262-4B489718D2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324E-86F3-48F5-B3EB-F693E4DD74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8FDA-793D-4504-9E87-9001AF1D9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B71-7B53-47F2-846D-43CD9F15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214-B082-4927-84F1-9081736F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2CD-62E0-4D9F-8F14-8827E817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6D9-52F5-4CAC-98BE-D29D4B2B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761-2AC7-4AE7-B8CC-4593C4F1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B8B-D5FE-4825-BB93-EDD29EC9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BCEB-4366-41B9-8E1F-091AF367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661-66F4-4A56-A750-63562615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3ADF-FDDD-4A1E-8782-B95E8036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2C3-4D1D-469B-9581-34729B70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FC6-DD4D-4EB9-8A09-0AE10F2B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F82-824D-4EA3-BF83-B270C5B3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67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FE26-2A09-4C85-8FEE-57E45BE27281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592360" y="0"/>
            <a:ext cx="6551640" cy="1928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66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pc9.gif"/>
          <p:cNvPicPr/>
          <p:nvPr/>
        </p:nvPicPr>
        <p:blipFill>
          <a:blip r:embed="rId3"/>
          <a:stretch/>
        </p:blipFill>
        <p:spPr>
          <a:xfrm>
            <a:off x="8280360" y="1080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664000" y="1916280"/>
            <a:ext cx="6480000" cy="49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истема счис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 это способ записи чисе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спец. знаков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, 423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001, CX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 1, 2, 3,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,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лфавит сист. сч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множеств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фр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мых в ней.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1, 2, 3, 4, 5, 6, 7, 8, 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ание сист. сч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мощность алфавита (кол-во цифр в алфави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ипы систем счис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озиционные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значение цифры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завис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е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зи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ис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ицио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начение цифры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вис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568800" y="1376280"/>
            <a:ext cx="12751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40440" y="3465360"/>
            <a:ext cx="12751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126520" y="1413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54"/>
          <p:cNvGrpSpPr/>
          <p:nvPr/>
        </p:nvGrpSpPr>
        <p:grpSpPr>
          <a:xfrm>
            <a:off x="2232000" y="1449360"/>
            <a:ext cx="1332000" cy="1178280"/>
            <a:chOff x="2232000" y="1449360"/>
            <a:chExt cx="1332000" cy="1178280"/>
          </a:xfrm>
        </p:grpSpPr>
        <p:grpSp>
          <p:nvGrpSpPr>
            <p:cNvPr id="233" name="Group 9"/>
            <p:cNvGrpSpPr/>
            <p:nvPr/>
          </p:nvGrpSpPr>
          <p:grpSpPr>
            <a:xfrm>
              <a:off x="2843280" y="1449360"/>
              <a:ext cx="720720" cy="792000"/>
              <a:chOff x="2843280" y="1449360"/>
              <a:chExt cx="720720" cy="792000"/>
            </a:xfrm>
          </p:grpSpPr>
          <p:grpSp>
            <p:nvGrpSpPr>
              <p:cNvPr id="234" name="Group 10"/>
              <p:cNvGrpSpPr/>
              <p:nvPr/>
            </p:nvGrpSpPr>
            <p:grpSpPr>
              <a:xfrm>
                <a:off x="2843280" y="1520640"/>
                <a:ext cx="720720" cy="720720"/>
                <a:chOff x="2843280" y="1520640"/>
                <a:chExt cx="720720" cy="720720"/>
              </a:xfrm>
            </p:grpSpPr>
            <p:sp>
              <p:nvSpPr>
                <p:cNvPr id="235" name="Line 11"/>
                <p:cNvSpPr/>
                <p:nvPr/>
              </p:nvSpPr>
              <p:spPr>
                <a:xfrm>
                  <a:off x="2843280" y="1520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2"/>
                <p:cNvSpPr/>
                <p:nvPr/>
              </p:nvSpPr>
              <p:spPr>
                <a:xfrm>
                  <a:off x="2843280" y="1881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Rectangle 13"/>
              <p:cNvSpPr/>
              <p:nvPr/>
            </p:nvSpPr>
            <p:spPr>
              <a:xfrm>
                <a:off x="2918520" y="14493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Rectangle 14"/>
            <p:cNvSpPr/>
            <p:nvPr/>
          </p:nvSpPr>
          <p:spPr>
            <a:xfrm>
              <a:off x="3024360" y="1881000"/>
              <a:ext cx="414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5"/>
            <p:cNvSpPr/>
            <p:nvPr/>
          </p:nvSpPr>
          <p:spPr>
            <a:xfrm>
              <a:off x="2270880" y="1736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>
              <a:off x="2340000" y="21682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7"/>
            <p:cNvSpPr/>
            <p:nvPr/>
          </p:nvSpPr>
          <p:spPr>
            <a:xfrm>
              <a:off x="2232000" y="2239920"/>
              <a:ext cx="457200" cy="387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38"/>
          <p:cNvSpPr/>
          <p:nvPr/>
        </p:nvSpPr>
        <p:spPr>
          <a:xfrm>
            <a:off x="5688000" y="1089000"/>
            <a:ext cx="26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0"/>
          <p:cNvSpPr/>
          <p:nvPr/>
        </p:nvSpPr>
        <p:spPr>
          <a:xfrm>
            <a:off x="851040" y="4473720"/>
            <a:ext cx="1821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1"/>
          <p:cNvSpPr/>
          <p:nvPr/>
        </p:nvSpPr>
        <p:spPr>
          <a:xfrm>
            <a:off x="1369080" y="41846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2"/>
          <p:cNvSpPr/>
          <p:nvPr/>
        </p:nvSpPr>
        <p:spPr>
          <a:xfrm>
            <a:off x="2341080" y="418608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3"/>
          <p:cNvSpPr/>
          <p:nvPr/>
        </p:nvSpPr>
        <p:spPr>
          <a:xfrm>
            <a:off x="2591280" y="4473720"/>
            <a:ext cx="481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16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16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·16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4"/>
          <p:cNvSpPr/>
          <p:nvPr/>
        </p:nvSpPr>
        <p:spPr>
          <a:xfrm rot="14332800">
            <a:off x="2807280" y="1943280"/>
            <a:ext cx="360360" cy="1717920"/>
          </a:xfrm>
          <a:prstGeom prst="upArrow">
            <a:avLst>
              <a:gd name="adj1" fmla="val 50000"/>
              <a:gd name="adj2" fmla="val 11918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3"/>
          <p:cNvSpPr/>
          <p:nvPr/>
        </p:nvSpPr>
        <p:spPr>
          <a:xfrm>
            <a:off x="1871640" y="2492280"/>
            <a:ext cx="457200" cy="38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6"/>
          <p:cNvSpPr/>
          <p:nvPr/>
        </p:nvSpPr>
        <p:spPr>
          <a:xfrm>
            <a:off x="4573440" y="3897360"/>
            <a:ext cx="5115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79280" y="90360"/>
            <a:ext cx="896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Задание №3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число 10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6-ую С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вод дроб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97160" y="981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640080" y="4653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908360" y="981000"/>
            <a:ext cx="13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37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410840" y="5516640"/>
            <a:ext cx="118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,01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1447920" y="52293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-1 -2 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2990520" y="522936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3081600" y="5516640"/>
            <a:ext cx="377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30000">
                <a:solidFill>
                  <a:srgbClr val="ff0000"/>
                </a:solidFill>
                <a:latin typeface="Arial"/>
              </a:rPr>
              <a:t>-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,25 + 0,125 = 5,3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3"/>
          <p:cNvSpPr/>
          <p:nvPr/>
        </p:nvSpPr>
        <p:spPr>
          <a:xfrm>
            <a:off x="1835280" y="177336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1908360" y="177336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7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908000" y="1808280"/>
            <a:ext cx="277920" cy="36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872360" y="2097000"/>
            <a:ext cx="9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1835280" y="288936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1908000" y="28893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1908000" y="2924280"/>
            <a:ext cx="277920" cy="36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1908000" y="3249720"/>
            <a:ext cx="7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>
            <a:off x="1800360" y="4041720"/>
            <a:ext cx="9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1908000" y="404172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1908000" y="4076640"/>
            <a:ext cx="277920" cy="36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5"/>
          <p:cNvSpPr/>
          <p:nvPr/>
        </p:nvSpPr>
        <p:spPr>
          <a:xfrm rot="10800000">
            <a:off x="1294920" y="1736280"/>
            <a:ext cx="289080" cy="2698920"/>
          </a:xfrm>
          <a:prstGeom prst="upArrow">
            <a:avLst>
              <a:gd name="adj1" fmla="val 50000"/>
              <a:gd name="adj2" fmla="val 233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4500360" y="981000"/>
            <a:ext cx="12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4503240" y="1341360"/>
            <a:ext cx="3120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1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11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1(0110)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419640" y="2205000"/>
            <a:ext cx="54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е дробные числа нельзя представить в вид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чны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ых д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3419640" y="3032280"/>
            <a:ext cx="5400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их точного хранения требуе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сконечно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число разря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3419640" y="3860640"/>
            <a:ext cx="5400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инство дробных чисел хранится в памяти с ошиб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46"/>
          <p:cNvGrpSpPr/>
          <p:nvPr/>
        </p:nvGrpSpPr>
        <p:grpSpPr>
          <a:xfrm>
            <a:off x="4643280" y="4581360"/>
            <a:ext cx="2881440" cy="844560"/>
            <a:chOff x="4643280" y="4581360"/>
            <a:chExt cx="2881440" cy="844560"/>
          </a:xfrm>
        </p:grpSpPr>
        <p:sp>
          <p:nvSpPr>
            <p:cNvPr id="278" name="AutoShape 11"/>
            <p:cNvSpPr/>
            <p:nvPr/>
          </p:nvSpPr>
          <p:spPr>
            <a:xfrm>
              <a:off x="4643280" y="4689360"/>
              <a:ext cx="2881440" cy="684360"/>
            </a:xfrm>
            <a:prstGeom prst="wedgeRoundRectCallout">
              <a:avLst>
                <a:gd name="adj1" fmla="val -33138"/>
                <a:gd name="adj2" fmla="val 83180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45"/>
            <p:cNvGrpSpPr/>
            <p:nvPr/>
          </p:nvGrpSpPr>
          <p:grpSpPr>
            <a:xfrm>
              <a:off x="4772160" y="4581360"/>
              <a:ext cx="2619000" cy="844560"/>
              <a:chOff x="4772160" y="4581360"/>
              <a:chExt cx="2619000" cy="844560"/>
            </a:xfrm>
          </p:grpSpPr>
          <p:sp>
            <p:nvSpPr>
              <p:cNvPr id="280" name="Rectangle 32"/>
              <p:cNvSpPr/>
              <p:nvPr/>
            </p:nvSpPr>
            <p:spPr>
              <a:xfrm>
                <a:off x="4772160" y="4761000"/>
                <a:ext cx="2619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ru-RU" sz="2800" spc="-1" strike="noStrike" baseline="30000">
                    <a:solidFill>
                      <a:srgbClr val="ff0000"/>
                    </a:solidFill>
                    <a:latin typeface="Arial"/>
                  </a:rPr>
                  <a:t>-2 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=        = 0,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1" name="Group 38"/>
              <p:cNvGrpSpPr/>
              <p:nvPr/>
            </p:nvGrpSpPr>
            <p:grpSpPr>
              <a:xfrm>
                <a:off x="5545440" y="4581360"/>
                <a:ext cx="755640" cy="844560"/>
                <a:chOff x="5545440" y="4581360"/>
                <a:chExt cx="755640" cy="844560"/>
              </a:xfrm>
            </p:grpSpPr>
            <p:sp>
              <p:nvSpPr>
                <p:cNvPr id="282" name="Rectangle 33"/>
                <p:cNvSpPr/>
                <p:nvPr/>
              </p:nvSpPr>
              <p:spPr>
                <a:xfrm>
                  <a:off x="5807880" y="4905360"/>
                  <a:ext cx="493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ru-RU" sz="2800" spc="-1" strike="noStrike" baseline="30000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Rectangle 35"/>
                <p:cNvSpPr/>
                <p:nvPr/>
              </p:nvSpPr>
              <p:spPr>
                <a:xfrm>
                  <a:off x="5545440" y="458136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37"/>
                <p:cNvSpPr/>
                <p:nvPr/>
              </p:nvSpPr>
              <p:spPr>
                <a:xfrm flipH="1">
                  <a:off x="5724000" y="4834080"/>
                  <a:ext cx="289080" cy="288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5" name="Rectangle 44"/>
          <p:cNvSpPr/>
          <p:nvPr/>
        </p:nvSpPr>
        <p:spPr>
          <a:xfrm>
            <a:off x="3141360" y="981000"/>
            <a:ext cx="104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,011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77000" y="907920"/>
            <a:ext cx="3032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0,625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1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4366080" y="907920"/>
            <a:ext cx="3032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,875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1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вод чисе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двоичной системы счисления в восьмеричную и шестнадцатеричную систему счисл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обра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2"/>
          <p:cNvSpPr/>
          <p:nvPr/>
        </p:nvSpPr>
        <p:spPr>
          <a:xfrm>
            <a:off x="324000" y="1484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1008000" y="260280"/>
            <a:ext cx="74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из 2-ой СС в 8-у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бить исходное число на триады, начиная справ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ую триаду заменить восьмеричной цифро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234144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14180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4180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594180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704880" y="4435560"/>
            <a:ext cx="693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11357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2097360" y="2852640"/>
            <a:ext cx="465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001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01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101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3241440" y="357192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911520" y="2023920"/>
            <a:ext cx="6634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дание 1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Line 2"/>
          <p:cNvSpPr/>
          <p:nvPr/>
        </p:nvSpPr>
        <p:spPr>
          <a:xfrm>
            <a:off x="358920" y="1268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536400" y="2023920"/>
            <a:ext cx="3518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дание 2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25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4427640" y="274464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      7      2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4103640" y="2060640"/>
            <a:ext cx="97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1"/>
          <p:cNvSpPr/>
          <p:nvPr/>
        </p:nvSpPr>
        <p:spPr>
          <a:xfrm>
            <a:off x="5148360" y="2060640"/>
            <a:ext cx="971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2"/>
          <p:cNvSpPr/>
          <p:nvPr/>
        </p:nvSpPr>
        <p:spPr>
          <a:xfrm>
            <a:off x="6119640" y="2060640"/>
            <a:ext cx="97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3"/>
          <p:cNvSpPr/>
          <p:nvPr/>
        </p:nvSpPr>
        <p:spPr>
          <a:xfrm>
            <a:off x="7164360" y="2060640"/>
            <a:ext cx="11527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 rot="16200000">
            <a:off x="4400640" y="226764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6"/>
          <p:cNvSpPr/>
          <p:nvPr/>
        </p:nvSpPr>
        <p:spPr>
          <a:xfrm rot="16200000">
            <a:off x="5481720" y="223128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7"/>
          <p:cNvSpPr/>
          <p:nvPr/>
        </p:nvSpPr>
        <p:spPr>
          <a:xfrm rot="16200000">
            <a:off x="6453360" y="223128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0"/>
          <p:cNvSpPr/>
          <p:nvPr/>
        </p:nvSpPr>
        <p:spPr>
          <a:xfrm rot="16200000">
            <a:off x="7533000" y="2231280"/>
            <a:ext cx="2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5"/>
          <p:cNvSpPr/>
          <p:nvPr/>
        </p:nvSpPr>
        <p:spPr>
          <a:xfrm>
            <a:off x="179280" y="189000"/>
            <a:ext cx="87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из 8-ой СС в 2-ую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ую восьмеричную цифру заменить на соответствующую двоичную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триад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1722960" y="3573360"/>
            <a:ext cx="5620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25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01010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51440" y="1015920"/>
            <a:ext cx="3722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1101010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423360" y="1773360"/>
            <a:ext cx="346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11101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473400" y="2492280"/>
            <a:ext cx="3213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01011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636120" y="3357720"/>
            <a:ext cx="168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467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708480" y="4184640"/>
            <a:ext cx="168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148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708480" y="5084640"/>
            <a:ext cx="1686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352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2"/>
          <p:cNvSpPr/>
          <p:nvPr/>
        </p:nvSpPr>
        <p:spPr>
          <a:xfrm>
            <a:off x="358920" y="1916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89000"/>
            <a:ext cx="8140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о перевода из 16-ой СС в 2-у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ить каждую шестнадцатеричную цифр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оответствующую двоичную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етрад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154440" y="2313000"/>
            <a:ext cx="3731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адание 2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1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4176720" y="3033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F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780000" y="2349360"/>
            <a:ext cx="122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1"/>
          <p:cNvSpPr/>
          <p:nvPr/>
        </p:nvSpPr>
        <p:spPr>
          <a:xfrm rot="16200000">
            <a:off x="4178520" y="249084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8"/>
          <p:cNvSpPr/>
          <p:nvPr/>
        </p:nvSpPr>
        <p:spPr>
          <a:xfrm rot="16200000">
            <a:off x="5510520" y="249084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9"/>
          <p:cNvSpPr/>
          <p:nvPr/>
        </p:nvSpPr>
        <p:spPr>
          <a:xfrm>
            <a:off x="5040360" y="2349360"/>
            <a:ext cx="12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0"/>
          <p:cNvSpPr/>
          <p:nvPr/>
        </p:nvSpPr>
        <p:spPr>
          <a:xfrm>
            <a:off x="6300720" y="2349360"/>
            <a:ext cx="12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1"/>
          <p:cNvSpPr/>
          <p:nvPr/>
        </p:nvSpPr>
        <p:spPr>
          <a:xfrm>
            <a:off x="7561440" y="2349360"/>
            <a:ext cx="13665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1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2"/>
          <p:cNvSpPr/>
          <p:nvPr/>
        </p:nvSpPr>
        <p:spPr>
          <a:xfrm rot="16200000">
            <a:off x="6734520" y="245412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3"/>
          <p:cNvSpPr/>
          <p:nvPr/>
        </p:nvSpPr>
        <p:spPr>
          <a:xfrm rot="16200000">
            <a:off x="7994880" y="2454120"/>
            <a:ext cx="2811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950400" y="3789360"/>
            <a:ext cx="719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1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1111000110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Line 2"/>
          <p:cNvSpPr/>
          <p:nvPr/>
        </p:nvSpPr>
        <p:spPr>
          <a:xfrm>
            <a:off x="324000" y="170028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95280" y="189000"/>
            <a:ext cx="8140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из 2-ой СС в 16-у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бить исходное число на тетрады, начиная справ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аждую тетраду записать одной  шестнадцатеричной циф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73400" y="1844640"/>
            <a:ext cx="650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 1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2133360" y="2924280"/>
            <a:ext cx="4780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00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1110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485800" y="353700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3632040" y="3537000"/>
            <a:ext cx="43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4779720" y="3537000"/>
            <a:ext cx="485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5978880" y="3537000"/>
            <a:ext cx="459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645480" y="4400640"/>
            <a:ext cx="6901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0111011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406080" y="1052640"/>
            <a:ext cx="4740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101011010101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333000" y="1808280"/>
            <a:ext cx="524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10011011111010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68640" y="2565360"/>
            <a:ext cx="524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011011010111111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541080" y="3357720"/>
            <a:ext cx="1986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73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564120" y="4184640"/>
            <a:ext cx="190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FE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7507440" y="4156200"/>
            <a:ext cx="1565280" cy="270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079640" y="2197080"/>
            <a:ext cx="6264000" cy="45799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7"/>
          <p:cNvSpPr/>
          <p:nvPr/>
        </p:nvSpPr>
        <p:spPr>
          <a:xfrm>
            <a:off x="216000" y="728640"/>
            <a:ext cx="8424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alibri"/>
              </a:rPr>
              <a:t>Славянская кириллическая система счислени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ыла создана в IX веке вместе со славянской алфавитной системо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перевода священных библейских книг греческими монахам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ратьями Кириллом и Мефод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95280" y="189000"/>
            <a:ext cx="62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позиционн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"/>
          <p:cNvSpPr/>
          <p:nvPr/>
        </p:nvSpPr>
        <p:spPr>
          <a:xfrm>
            <a:off x="376200" y="795240"/>
            <a:ext cx="6896160" cy="5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95280" y="189000"/>
            <a:ext cx="81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вод чисел из 16-ой СС в 8-ую и об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1143000" y="2097000"/>
            <a:ext cx="2036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3"/>
          <p:cNvSpPr/>
          <p:nvPr/>
        </p:nvSpPr>
        <p:spPr>
          <a:xfrm>
            <a:off x="3238560" y="2143080"/>
            <a:ext cx="446544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 1101 1110 101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2016000" y="873000"/>
            <a:ext cx="594000" cy="528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6"/>
          <p:cNvSpPr/>
          <p:nvPr/>
        </p:nvSpPr>
        <p:spPr>
          <a:xfrm>
            <a:off x="5651640" y="944640"/>
            <a:ext cx="476280" cy="42372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6"/>
          <p:cNvSpPr/>
          <p:nvPr/>
        </p:nvSpPr>
        <p:spPr>
          <a:xfrm>
            <a:off x="3816360" y="944640"/>
            <a:ext cx="536400" cy="47628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9"/>
          <p:cNvSpPr/>
          <p:nvPr/>
        </p:nvSpPr>
        <p:spPr>
          <a:xfrm>
            <a:off x="511560" y="1484280"/>
            <a:ext cx="71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Шаг 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Перевести в двоичную сист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0"/>
          <p:cNvSpPr/>
          <p:nvPr/>
        </p:nvSpPr>
        <p:spPr>
          <a:xfrm>
            <a:off x="543240" y="2781360"/>
            <a:ext cx="488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Шаг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Разбить на триа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511920" y="4003560"/>
            <a:ext cx="79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Шаг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Триада – одна восьмеричная циф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2050920" y="3355920"/>
            <a:ext cx="478800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0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10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2124360" y="4579920"/>
            <a:ext cx="3583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36752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трелка вправо 20"/>
          <p:cNvSpPr/>
          <p:nvPr/>
        </p:nvSpPr>
        <p:spPr>
          <a:xfrm>
            <a:off x="2771640" y="1089000"/>
            <a:ext cx="900360" cy="25236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трелка вправо 21"/>
          <p:cNvSpPr/>
          <p:nvPr/>
        </p:nvSpPr>
        <p:spPr>
          <a:xfrm>
            <a:off x="4608360" y="1089000"/>
            <a:ext cx="900360" cy="25236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"/>
          <p:cNvSpPr/>
          <p:nvPr/>
        </p:nvSpPr>
        <p:spPr>
          <a:xfrm>
            <a:off x="179280" y="526572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548280" y="6006960"/>
            <a:ext cx="2814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35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5962320" y="6021360"/>
            <a:ext cx="27216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65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? 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395280" y="540864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 позиционных системах сч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7"/>
          <p:cNvSpPr/>
          <p:nvPr/>
        </p:nvSpPr>
        <p:spPr>
          <a:xfrm>
            <a:off x="470520" y="985680"/>
            <a:ext cx="1656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8"/>
          <p:cNvSpPr/>
          <p:nvPr/>
        </p:nvSpPr>
        <p:spPr>
          <a:xfrm>
            <a:off x="5005080" y="985680"/>
            <a:ext cx="1852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9"/>
          <p:cNvSpPr/>
          <p:nvPr/>
        </p:nvSpPr>
        <p:spPr>
          <a:xfrm>
            <a:off x="468360" y="1628640"/>
            <a:ext cx="3851280" cy="23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+0=0  0+1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+0=1  1+1=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+ 1 + 1 =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5003640" y="1665360"/>
            <a:ext cx="3816360" cy="1692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-0=0  1-1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-0=1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1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20"/>
          <p:cNvSpPr/>
          <p:nvPr/>
        </p:nvSpPr>
        <p:spPr>
          <a:xfrm>
            <a:off x="4032360" y="1881360"/>
            <a:ext cx="1260360" cy="431640"/>
          </a:xfrm>
          <a:prstGeom prst="wedgeRoundRectCallout">
            <a:avLst>
              <a:gd name="adj1" fmla="val -78717"/>
              <a:gd name="adj2" fmla="val 8970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2"/>
          <p:cNvSpPr/>
          <p:nvPr/>
        </p:nvSpPr>
        <p:spPr>
          <a:xfrm>
            <a:off x="5724360" y="3249720"/>
            <a:ext cx="1260720" cy="431640"/>
          </a:xfrm>
          <a:prstGeom prst="wedgeRoundRectCallout">
            <a:avLst>
              <a:gd name="adj1" fmla="val 36273"/>
              <a:gd name="adj2" fmla="val -919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3"/>
          <p:cNvSpPr/>
          <p:nvPr/>
        </p:nvSpPr>
        <p:spPr>
          <a:xfrm>
            <a:off x="912600" y="4473720"/>
            <a:ext cx="2881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1 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1 1 1 0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4"/>
          <p:cNvSpPr/>
          <p:nvPr/>
        </p:nvSpPr>
        <p:spPr>
          <a:xfrm>
            <a:off x="792000" y="5734080"/>
            <a:ext cx="302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6"/>
          <p:cNvSpPr/>
          <p:nvPr/>
        </p:nvSpPr>
        <p:spPr>
          <a:xfrm>
            <a:off x="324144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7"/>
          <p:cNvSpPr/>
          <p:nvPr/>
        </p:nvSpPr>
        <p:spPr>
          <a:xfrm>
            <a:off x="208080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8"/>
          <p:cNvSpPr/>
          <p:nvPr/>
        </p:nvSpPr>
        <p:spPr>
          <a:xfrm>
            <a:off x="284616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245088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0"/>
          <p:cNvSpPr/>
          <p:nvPr/>
        </p:nvSpPr>
        <p:spPr>
          <a:xfrm>
            <a:off x="248724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1"/>
          <p:cNvSpPr/>
          <p:nvPr/>
        </p:nvSpPr>
        <p:spPr>
          <a:xfrm>
            <a:off x="205416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2"/>
          <p:cNvSpPr/>
          <p:nvPr/>
        </p:nvSpPr>
        <p:spPr>
          <a:xfrm>
            <a:off x="165888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3"/>
          <p:cNvSpPr/>
          <p:nvPr/>
        </p:nvSpPr>
        <p:spPr>
          <a:xfrm>
            <a:off x="865080" y="5718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4"/>
          <p:cNvSpPr/>
          <p:nvPr/>
        </p:nvSpPr>
        <p:spPr>
          <a:xfrm>
            <a:off x="126180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6"/>
          <p:cNvSpPr/>
          <p:nvPr/>
        </p:nvSpPr>
        <p:spPr>
          <a:xfrm>
            <a:off x="3504960" y="5877000"/>
            <a:ext cx="328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7"/>
          <p:cNvSpPr/>
          <p:nvPr/>
        </p:nvSpPr>
        <p:spPr>
          <a:xfrm>
            <a:off x="4837320" y="4545000"/>
            <a:ext cx="32486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0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 0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8"/>
          <p:cNvSpPr/>
          <p:nvPr/>
        </p:nvSpPr>
        <p:spPr>
          <a:xfrm>
            <a:off x="4967280" y="5769000"/>
            <a:ext cx="30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54"/>
          <p:cNvGrpSpPr/>
          <p:nvPr/>
        </p:nvGrpSpPr>
        <p:grpSpPr>
          <a:xfrm>
            <a:off x="7526160" y="5732640"/>
            <a:ext cx="627120" cy="898920"/>
            <a:chOff x="7526160" y="5732640"/>
            <a:chExt cx="627120" cy="898920"/>
          </a:xfrm>
        </p:grpSpPr>
        <p:sp>
          <p:nvSpPr>
            <p:cNvPr id="393" name="Rectangle 39"/>
            <p:cNvSpPr/>
            <p:nvPr/>
          </p:nvSpPr>
          <p:spPr>
            <a:xfrm>
              <a:off x="7526160" y="5732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40"/>
            <p:cNvSpPr/>
            <p:nvPr/>
          </p:nvSpPr>
          <p:spPr>
            <a:xfrm>
              <a:off x="7824600" y="5913360"/>
              <a:ext cx="328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41"/>
          <p:cNvSpPr/>
          <p:nvPr/>
        </p:nvSpPr>
        <p:spPr>
          <a:xfrm>
            <a:off x="714348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2"/>
          <p:cNvSpPr/>
          <p:nvPr/>
        </p:nvSpPr>
        <p:spPr>
          <a:xfrm>
            <a:off x="5232960" y="3716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3"/>
          <p:cNvSpPr/>
          <p:nvPr/>
        </p:nvSpPr>
        <p:spPr>
          <a:xfrm>
            <a:off x="6746040" y="3716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4"/>
          <p:cNvSpPr/>
          <p:nvPr/>
        </p:nvSpPr>
        <p:spPr>
          <a:xfrm>
            <a:off x="6773040" y="4255920"/>
            <a:ext cx="82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10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5"/>
          <p:cNvSpPr/>
          <p:nvPr/>
        </p:nvSpPr>
        <p:spPr>
          <a:xfrm>
            <a:off x="637524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6"/>
          <p:cNvSpPr/>
          <p:nvPr/>
        </p:nvSpPr>
        <p:spPr>
          <a:xfrm>
            <a:off x="675936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7"/>
          <p:cNvSpPr/>
          <p:nvPr/>
        </p:nvSpPr>
        <p:spPr>
          <a:xfrm>
            <a:off x="5260680" y="4255920"/>
            <a:ext cx="156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0   1   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8"/>
          <p:cNvSpPr/>
          <p:nvPr/>
        </p:nvSpPr>
        <p:spPr>
          <a:xfrm>
            <a:off x="599112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9"/>
          <p:cNvSpPr/>
          <p:nvPr/>
        </p:nvSpPr>
        <p:spPr>
          <a:xfrm>
            <a:off x="560700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0"/>
          <p:cNvSpPr/>
          <p:nvPr/>
        </p:nvSpPr>
        <p:spPr>
          <a:xfrm>
            <a:off x="522288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1"/>
          <p:cNvSpPr/>
          <p:nvPr/>
        </p:nvSpPr>
        <p:spPr>
          <a:xfrm>
            <a:off x="167616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2"/>
          <p:cNvSpPr/>
          <p:nvPr/>
        </p:nvSpPr>
        <p:spPr>
          <a:xfrm>
            <a:off x="127116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3"/>
          <p:cNvSpPr/>
          <p:nvPr/>
        </p:nvSpPr>
        <p:spPr>
          <a:xfrm>
            <a:off x="866520" y="4119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55"/>
          <p:cNvSpPr/>
          <p:nvPr/>
        </p:nvSpPr>
        <p:spPr>
          <a:xfrm>
            <a:off x="6804000" y="4724280"/>
            <a:ext cx="28908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6"/>
          <p:cNvSpPr/>
          <p:nvPr/>
        </p:nvSpPr>
        <p:spPr>
          <a:xfrm>
            <a:off x="6408720" y="4724280"/>
            <a:ext cx="28908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57"/>
          <p:cNvSpPr/>
          <p:nvPr/>
        </p:nvSpPr>
        <p:spPr>
          <a:xfrm>
            <a:off x="6048360" y="4724280"/>
            <a:ext cx="28908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8"/>
          <p:cNvSpPr/>
          <p:nvPr/>
        </p:nvSpPr>
        <p:spPr>
          <a:xfrm>
            <a:off x="5651640" y="4724280"/>
            <a:ext cx="28872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59"/>
          <p:cNvSpPr/>
          <p:nvPr/>
        </p:nvSpPr>
        <p:spPr>
          <a:xfrm>
            <a:off x="5256360" y="4724280"/>
            <a:ext cx="288720" cy="289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3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12"/>
          <p:cNvGrpSpPr/>
          <p:nvPr/>
        </p:nvGrpSpPr>
        <p:grpSpPr>
          <a:xfrm>
            <a:off x="755640" y="1052640"/>
            <a:ext cx="3421080" cy="2412720"/>
            <a:chOff x="755640" y="1052640"/>
            <a:chExt cx="3421080" cy="2412720"/>
          </a:xfrm>
        </p:grpSpPr>
        <p:sp>
          <p:nvSpPr>
            <p:cNvPr id="416" name="Rectangle 6"/>
            <p:cNvSpPr/>
            <p:nvPr/>
          </p:nvSpPr>
          <p:spPr>
            <a:xfrm>
              <a:off x="755640" y="105264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7"/>
            <p:cNvSpPr/>
            <p:nvPr/>
          </p:nvSpPr>
          <p:spPr>
            <a:xfrm>
              <a:off x="1042920" y="270828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13"/>
          <p:cNvGrpSpPr/>
          <p:nvPr/>
        </p:nvGrpSpPr>
        <p:grpSpPr>
          <a:xfrm>
            <a:off x="4788000" y="1052640"/>
            <a:ext cx="3421080" cy="2412720"/>
            <a:chOff x="4788000" y="1052640"/>
            <a:chExt cx="3421080" cy="2412720"/>
          </a:xfrm>
        </p:grpSpPr>
        <p:sp>
          <p:nvSpPr>
            <p:cNvPr id="419" name="Rectangle 14"/>
            <p:cNvSpPr/>
            <p:nvPr/>
          </p:nvSpPr>
          <p:spPr>
            <a:xfrm>
              <a:off x="4788000" y="105264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10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5"/>
            <p:cNvSpPr/>
            <p:nvPr/>
          </p:nvSpPr>
          <p:spPr>
            <a:xfrm>
              <a:off x="5075280" y="270828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16"/>
          <p:cNvGrpSpPr/>
          <p:nvPr/>
        </p:nvGrpSpPr>
        <p:grpSpPr>
          <a:xfrm>
            <a:off x="755640" y="3897360"/>
            <a:ext cx="3421080" cy="2412720"/>
            <a:chOff x="755640" y="3897360"/>
            <a:chExt cx="3421080" cy="2412720"/>
          </a:xfrm>
        </p:grpSpPr>
        <p:sp>
          <p:nvSpPr>
            <p:cNvPr id="422" name="Rectangle 17"/>
            <p:cNvSpPr/>
            <p:nvPr/>
          </p:nvSpPr>
          <p:spPr>
            <a:xfrm>
              <a:off x="755640" y="3897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18"/>
            <p:cNvSpPr/>
            <p:nvPr/>
          </p:nvSpPr>
          <p:spPr>
            <a:xfrm>
              <a:off x="1042920" y="5553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9"/>
          <p:cNvGrpSpPr/>
          <p:nvPr/>
        </p:nvGrpSpPr>
        <p:grpSpPr>
          <a:xfrm>
            <a:off x="4788000" y="3897360"/>
            <a:ext cx="3421080" cy="2412720"/>
            <a:chOff x="4788000" y="3897360"/>
            <a:chExt cx="3421080" cy="2412720"/>
          </a:xfrm>
        </p:grpSpPr>
        <p:sp>
          <p:nvSpPr>
            <p:cNvPr id="425" name="Rectangle 20"/>
            <p:cNvSpPr/>
            <p:nvPr/>
          </p:nvSpPr>
          <p:spPr>
            <a:xfrm>
              <a:off x="4788000" y="3897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1"/>
            <p:cNvSpPr/>
            <p:nvPr/>
          </p:nvSpPr>
          <p:spPr>
            <a:xfrm>
              <a:off x="5075280" y="5553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395280" y="18900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4"/>
          <p:cNvGrpSpPr/>
          <p:nvPr/>
        </p:nvGrpSpPr>
        <p:grpSpPr>
          <a:xfrm>
            <a:off x="792000" y="1125360"/>
            <a:ext cx="3421080" cy="2412720"/>
            <a:chOff x="792000" y="1125360"/>
            <a:chExt cx="3421080" cy="2412720"/>
          </a:xfrm>
        </p:grpSpPr>
        <p:sp>
          <p:nvSpPr>
            <p:cNvPr id="430" name="Rectangle 5"/>
            <p:cNvSpPr/>
            <p:nvPr/>
          </p:nvSpPr>
          <p:spPr>
            <a:xfrm>
              <a:off x="792000" y="1125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1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6"/>
            <p:cNvSpPr/>
            <p:nvPr/>
          </p:nvSpPr>
          <p:spPr>
            <a:xfrm>
              <a:off x="107928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16"/>
          <p:cNvGrpSpPr/>
          <p:nvPr/>
        </p:nvGrpSpPr>
        <p:grpSpPr>
          <a:xfrm>
            <a:off x="5040360" y="1125360"/>
            <a:ext cx="3421080" cy="2412720"/>
            <a:chOff x="5040360" y="1125360"/>
            <a:chExt cx="3421080" cy="2412720"/>
          </a:xfrm>
        </p:grpSpPr>
        <p:sp>
          <p:nvSpPr>
            <p:cNvPr id="433" name="Rectangle 17"/>
            <p:cNvSpPr/>
            <p:nvPr/>
          </p:nvSpPr>
          <p:spPr>
            <a:xfrm>
              <a:off x="5040360" y="1125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8"/>
            <p:cNvSpPr/>
            <p:nvPr/>
          </p:nvSpPr>
          <p:spPr>
            <a:xfrm>
              <a:off x="532764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16"/>
          <p:cNvGrpSpPr/>
          <p:nvPr/>
        </p:nvGrpSpPr>
        <p:grpSpPr>
          <a:xfrm>
            <a:off x="5040360" y="3720960"/>
            <a:ext cx="3421080" cy="2412720"/>
            <a:chOff x="5040360" y="3720960"/>
            <a:chExt cx="3421080" cy="2412720"/>
          </a:xfrm>
        </p:grpSpPr>
        <p:sp>
          <p:nvSpPr>
            <p:cNvPr id="436" name="Rectangle 17"/>
            <p:cNvSpPr/>
            <p:nvPr/>
          </p:nvSpPr>
          <p:spPr>
            <a:xfrm>
              <a:off x="5040360" y="37209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>
              <a:off x="5327640" y="53766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Стрелка вниз 13"/>
          <p:cNvSpPr/>
          <p:nvPr/>
        </p:nvSpPr>
        <p:spPr>
          <a:xfrm>
            <a:off x="6616800" y="3282840"/>
            <a:ext cx="438120" cy="5842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792000" y="3720960"/>
            <a:ext cx="3421080" cy="2412720"/>
            <a:chOff x="792000" y="3720960"/>
            <a:chExt cx="3421080" cy="2412720"/>
          </a:xfrm>
        </p:grpSpPr>
        <p:sp>
          <p:nvSpPr>
            <p:cNvPr id="440" name="Rectangle 5"/>
            <p:cNvSpPr/>
            <p:nvPr/>
          </p:nvSpPr>
          <p:spPr>
            <a:xfrm>
              <a:off x="792000" y="37209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01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–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101</a:t>
              </a:r>
              <a:r>
                <a:rPr b="1" lang="ru-RU" sz="48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>
              <a:off x="1079280" y="53766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58"/>
          <p:cNvSpPr/>
          <p:nvPr/>
        </p:nvSpPr>
        <p:spPr>
          <a:xfrm>
            <a:off x="7453440" y="2781360"/>
            <a:ext cx="971280" cy="682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7"/>
          <p:cNvSpPr/>
          <p:nvPr/>
        </p:nvSpPr>
        <p:spPr>
          <a:xfrm>
            <a:off x="755640" y="4834080"/>
            <a:ext cx="2987640" cy="682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ифметические опер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397080" y="1125360"/>
            <a:ext cx="1872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217560" y="1125360"/>
            <a:ext cx="14472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6"/>
          <p:cNvSpPr/>
          <p:nvPr/>
        </p:nvSpPr>
        <p:spPr>
          <a:xfrm>
            <a:off x="1146960" y="2276640"/>
            <a:ext cx="25938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7"/>
          <p:cNvSpPr/>
          <p:nvPr/>
        </p:nvSpPr>
        <p:spPr>
          <a:xfrm>
            <a:off x="446400" y="3500280"/>
            <a:ext cx="32454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0 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1 0 1 0 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8"/>
          <p:cNvSpPr/>
          <p:nvPr/>
        </p:nvSpPr>
        <p:spPr>
          <a:xfrm>
            <a:off x="719280" y="3500280"/>
            <a:ext cx="342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0"/>
          <p:cNvSpPr/>
          <p:nvPr/>
        </p:nvSpPr>
        <p:spPr>
          <a:xfrm>
            <a:off x="839160" y="4834080"/>
            <a:ext cx="2869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 0 1 0 0 1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1"/>
          <p:cNvSpPr/>
          <p:nvPr/>
        </p:nvSpPr>
        <p:spPr>
          <a:xfrm>
            <a:off x="539640" y="4761000"/>
            <a:ext cx="342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2"/>
          <p:cNvSpPr/>
          <p:nvPr/>
        </p:nvSpPr>
        <p:spPr>
          <a:xfrm>
            <a:off x="4837680" y="2097000"/>
            <a:ext cx="24865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5"/>
          <p:cNvGrpSpPr/>
          <p:nvPr/>
        </p:nvGrpSpPr>
        <p:grpSpPr>
          <a:xfrm>
            <a:off x="7380360" y="2168640"/>
            <a:ext cx="1476360" cy="1116000"/>
            <a:chOff x="7380360" y="2168640"/>
            <a:chExt cx="1476360" cy="1116000"/>
          </a:xfrm>
        </p:grpSpPr>
        <p:sp>
          <p:nvSpPr>
            <p:cNvPr id="455" name="Line 43"/>
            <p:cNvSpPr/>
            <p:nvPr/>
          </p:nvSpPr>
          <p:spPr>
            <a:xfrm>
              <a:off x="7380360" y="2168640"/>
              <a:ext cx="0" cy="11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4"/>
            <p:cNvSpPr/>
            <p:nvPr/>
          </p:nvSpPr>
          <p:spPr>
            <a:xfrm>
              <a:off x="7380360" y="2708280"/>
              <a:ext cx="14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47"/>
          <p:cNvSpPr/>
          <p:nvPr/>
        </p:nvSpPr>
        <p:spPr>
          <a:xfrm>
            <a:off x="7429320" y="2097000"/>
            <a:ext cx="1344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8"/>
          <p:cNvSpPr/>
          <p:nvPr/>
        </p:nvSpPr>
        <p:spPr>
          <a:xfrm>
            <a:off x="7454880" y="2744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59"/>
          <p:cNvGrpSpPr/>
          <p:nvPr/>
        </p:nvGrpSpPr>
        <p:grpSpPr>
          <a:xfrm>
            <a:off x="7813440" y="2744640"/>
            <a:ext cx="592200" cy="934200"/>
            <a:chOff x="7813440" y="2744640"/>
            <a:chExt cx="592200" cy="934200"/>
          </a:xfrm>
        </p:grpSpPr>
        <p:sp>
          <p:nvSpPr>
            <p:cNvPr id="460" name="Rectangle 49"/>
            <p:cNvSpPr/>
            <p:nvPr/>
          </p:nvSpPr>
          <p:spPr>
            <a:xfrm>
              <a:off x="7813440" y="2744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50"/>
            <p:cNvSpPr/>
            <p:nvPr/>
          </p:nvSpPr>
          <p:spPr>
            <a:xfrm>
              <a:off x="8076960" y="2960640"/>
              <a:ext cx="328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Line 51"/>
          <p:cNvSpPr/>
          <p:nvPr/>
        </p:nvSpPr>
        <p:spPr>
          <a:xfrm>
            <a:off x="5256360" y="3321000"/>
            <a:ext cx="20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3"/>
          <p:cNvSpPr/>
          <p:nvPr/>
        </p:nvSpPr>
        <p:spPr>
          <a:xfrm>
            <a:off x="5592600" y="3321000"/>
            <a:ext cx="17258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4"/>
          <p:cNvSpPr/>
          <p:nvPr/>
        </p:nvSpPr>
        <p:spPr>
          <a:xfrm>
            <a:off x="5400720" y="4545000"/>
            <a:ext cx="205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6"/>
          <p:cNvSpPr/>
          <p:nvPr/>
        </p:nvSpPr>
        <p:spPr>
          <a:xfrm>
            <a:off x="6770520" y="45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и вычитание 8-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3745440" y="944640"/>
            <a:ext cx="1656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179280" y="1305000"/>
            <a:ext cx="2880000" cy="23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5 6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  6 6 2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1330200" y="76500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719280" y="28893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8"/>
          <p:cNvSpPr/>
          <p:nvPr/>
        </p:nvSpPr>
        <p:spPr>
          <a:xfrm>
            <a:off x="647640" y="2925720"/>
            <a:ext cx="228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3708360" y="1587600"/>
            <a:ext cx="485928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+ 2 = 8 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6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+ 6 +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2"/>
          <p:cNvSpPr/>
          <p:nvPr/>
        </p:nvSpPr>
        <p:spPr>
          <a:xfrm>
            <a:off x="863640" y="765000"/>
            <a:ext cx="3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3"/>
          <p:cNvSpPr/>
          <p:nvPr/>
        </p:nvSpPr>
        <p:spPr>
          <a:xfrm>
            <a:off x="7236000" y="1587600"/>
            <a:ext cx="1763640" cy="431640"/>
          </a:xfrm>
          <a:prstGeom prst="wedgeRoundRectCallout">
            <a:avLst>
              <a:gd name="adj1" fmla="val -40907"/>
              <a:gd name="adj2" fmla="val 14522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4"/>
          <p:cNvSpPr/>
          <p:nvPr/>
        </p:nvSpPr>
        <p:spPr>
          <a:xfrm>
            <a:off x="6443640" y="903240"/>
            <a:ext cx="1763640" cy="432000"/>
          </a:xfrm>
          <a:prstGeom prst="wedgeRoundRectCallout">
            <a:avLst>
              <a:gd name="adj1" fmla="val -58462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1798560" y="76500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0"/>
          <p:cNvSpPr/>
          <p:nvPr/>
        </p:nvSpPr>
        <p:spPr>
          <a:xfrm>
            <a:off x="2303640" y="2889360"/>
            <a:ext cx="730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1258920" y="28893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2"/>
          <p:cNvSpPr/>
          <p:nvPr/>
        </p:nvSpPr>
        <p:spPr>
          <a:xfrm>
            <a:off x="1763640" y="28893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3"/>
          <p:cNvSpPr/>
          <p:nvPr/>
        </p:nvSpPr>
        <p:spPr>
          <a:xfrm>
            <a:off x="6985080" y="3711600"/>
            <a:ext cx="1763640" cy="431640"/>
          </a:xfrm>
          <a:prstGeom prst="wedgeRoundRectCallout">
            <a:avLst>
              <a:gd name="adj1" fmla="val -46671"/>
              <a:gd name="adj2" fmla="val -11985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8"/>
          <p:cNvGrpSpPr/>
          <p:nvPr/>
        </p:nvGrpSpPr>
        <p:grpSpPr>
          <a:xfrm>
            <a:off x="2843280" y="4581360"/>
            <a:ext cx="2378160" cy="2097360"/>
            <a:chOff x="2843280" y="4581360"/>
            <a:chExt cx="2378160" cy="2097360"/>
          </a:xfrm>
        </p:grpSpPr>
        <p:sp>
          <p:nvSpPr>
            <p:cNvPr id="483" name="Rectangle 5"/>
            <p:cNvSpPr/>
            <p:nvPr/>
          </p:nvSpPr>
          <p:spPr>
            <a:xfrm>
              <a:off x="2843280" y="4581360"/>
              <a:ext cx="2378160" cy="2097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8"/>
            <p:cNvSpPr/>
            <p:nvPr/>
          </p:nvSpPr>
          <p:spPr>
            <a:xfrm>
              <a:off x="3221280" y="5949360"/>
              <a:ext cx="188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19"/>
          <p:cNvGrpSpPr/>
          <p:nvPr/>
        </p:nvGrpSpPr>
        <p:grpSpPr>
          <a:xfrm>
            <a:off x="5616720" y="4616280"/>
            <a:ext cx="2377800" cy="2097360"/>
            <a:chOff x="5616720" y="4616280"/>
            <a:chExt cx="2377800" cy="2097360"/>
          </a:xfrm>
        </p:grpSpPr>
        <p:sp>
          <p:nvSpPr>
            <p:cNvPr id="486" name="Rectangle 20"/>
            <p:cNvSpPr/>
            <p:nvPr/>
          </p:nvSpPr>
          <p:spPr>
            <a:xfrm>
              <a:off x="5616720" y="4616280"/>
              <a:ext cx="2377800" cy="2097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1 3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1"/>
            <p:cNvSpPr/>
            <p:nvPr/>
          </p:nvSpPr>
          <p:spPr>
            <a:xfrm>
              <a:off x="5994720" y="5984280"/>
              <a:ext cx="1882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3"/>
          <p:cNvSpPr/>
          <p:nvPr/>
        </p:nvSpPr>
        <p:spPr>
          <a:xfrm>
            <a:off x="358920" y="4184640"/>
            <a:ext cx="64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2628720" y="189000"/>
            <a:ext cx="1852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468360" y="800280"/>
            <a:ext cx="2916360" cy="2484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5 6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2064240" y="260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900000" y="2421000"/>
            <a:ext cx="2338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3708360" y="836640"/>
            <a:ext cx="4896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+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– 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4 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– 2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597680" y="2602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2"/>
          <p:cNvSpPr/>
          <p:nvPr/>
        </p:nvSpPr>
        <p:spPr>
          <a:xfrm>
            <a:off x="5040360" y="189000"/>
            <a:ext cx="971640" cy="431640"/>
          </a:xfrm>
          <a:prstGeom prst="wedgeRoundRectCallout">
            <a:avLst>
              <a:gd name="adj1" fmla="val -65361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4"/>
          <p:cNvSpPr/>
          <p:nvPr/>
        </p:nvSpPr>
        <p:spPr>
          <a:xfrm>
            <a:off x="2572560" y="2384280"/>
            <a:ext cx="715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5"/>
          <p:cNvSpPr/>
          <p:nvPr/>
        </p:nvSpPr>
        <p:spPr>
          <a:xfrm>
            <a:off x="1513440" y="23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6"/>
          <p:cNvSpPr/>
          <p:nvPr/>
        </p:nvSpPr>
        <p:spPr>
          <a:xfrm>
            <a:off x="2018520" y="2384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8"/>
          <p:cNvSpPr/>
          <p:nvPr/>
        </p:nvSpPr>
        <p:spPr>
          <a:xfrm>
            <a:off x="6804000" y="1052640"/>
            <a:ext cx="971640" cy="431640"/>
          </a:xfrm>
          <a:prstGeom prst="wedgeRoundRectCallout">
            <a:avLst>
              <a:gd name="adj1" fmla="val -169115"/>
              <a:gd name="adj2" fmla="val 11764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0"/>
          <p:cNvGrpSpPr/>
          <p:nvPr/>
        </p:nvGrpSpPr>
        <p:grpSpPr>
          <a:xfrm>
            <a:off x="539640" y="4040280"/>
            <a:ext cx="2990880" cy="2484360"/>
            <a:chOff x="539640" y="4040280"/>
            <a:chExt cx="2990880" cy="2484360"/>
          </a:xfrm>
        </p:grpSpPr>
        <p:sp>
          <p:nvSpPr>
            <p:cNvPr id="501" name="Rectangle 4"/>
            <p:cNvSpPr/>
            <p:nvPr/>
          </p:nvSpPr>
          <p:spPr>
            <a:xfrm>
              <a:off x="539640" y="4040280"/>
              <a:ext cx="299088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>
              <a:off x="1046160" y="566100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11"/>
          <p:cNvGrpSpPr/>
          <p:nvPr/>
        </p:nvGrpSpPr>
        <p:grpSpPr>
          <a:xfrm>
            <a:off x="5148360" y="4040280"/>
            <a:ext cx="2990880" cy="2484360"/>
            <a:chOff x="5148360" y="4040280"/>
            <a:chExt cx="2990880" cy="2484360"/>
          </a:xfrm>
        </p:grpSpPr>
        <p:sp>
          <p:nvSpPr>
            <p:cNvPr id="504" name="Rectangle 12"/>
            <p:cNvSpPr/>
            <p:nvPr/>
          </p:nvSpPr>
          <p:spPr>
            <a:xfrm>
              <a:off x="5148360" y="4040280"/>
              <a:ext cx="299088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3"/>
            <p:cNvSpPr/>
            <p:nvPr/>
          </p:nvSpPr>
          <p:spPr>
            <a:xfrm>
              <a:off x="5654880" y="566100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3"/>
          <p:cNvSpPr/>
          <p:nvPr/>
        </p:nvSpPr>
        <p:spPr>
          <a:xfrm>
            <a:off x="431640" y="3465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470520" y="985680"/>
            <a:ext cx="1656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900000" y="1665360"/>
            <a:ext cx="2700360" cy="20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5 B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  C 7 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7"/>
          <p:cNvSpPr/>
          <p:nvPr/>
        </p:nvSpPr>
        <p:spPr>
          <a:xfrm>
            <a:off x="577260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7"/>
          <p:cNvSpPr/>
          <p:nvPr/>
        </p:nvSpPr>
        <p:spPr>
          <a:xfrm>
            <a:off x="1396440" y="2960640"/>
            <a:ext cx="2143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6 D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8"/>
          <p:cNvSpPr/>
          <p:nvPr/>
        </p:nvSpPr>
        <p:spPr>
          <a:xfrm>
            <a:off x="1547640" y="299736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9"/>
          <p:cNvSpPr/>
          <p:nvPr/>
        </p:nvSpPr>
        <p:spPr>
          <a:xfrm>
            <a:off x="4176720" y="1665360"/>
            <a:ext cx="2879640" cy="2052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7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40"/>
          <p:cNvSpPr/>
          <p:nvPr/>
        </p:nvSpPr>
        <p:spPr>
          <a:xfrm>
            <a:off x="4680000" y="2960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1"/>
          <p:cNvSpPr/>
          <p:nvPr/>
        </p:nvSpPr>
        <p:spPr>
          <a:xfrm>
            <a:off x="2195640" y="4581360"/>
            <a:ext cx="486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+14=25=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+7+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+12=22=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3"/>
          <p:cNvSpPr/>
          <p:nvPr/>
        </p:nvSpPr>
        <p:spPr>
          <a:xfrm>
            <a:off x="458532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8"/>
          <p:cNvSpPr/>
          <p:nvPr/>
        </p:nvSpPr>
        <p:spPr>
          <a:xfrm>
            <a:off x="4824360" y="3897360"/>
            <a:ext cx="1763640" cy="431640"/>
          </a:xfrm>
          <a:prstGeom prst="wedgeRoundRectCallout">
            <a:avLst>
              <a:gd name="adj1" fmla="val -58462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44"/>
          <p:cNvSpPr/>
          <p:nvPr/>
        </p:nvSpPr>
        <p:spPr>
          <a:xfrm>
            <a:off x="4967280" y="5157720"/>
            <a:ext cx="1763640" cy="432000"/>
          </a:xfrm>
          <a:prstGeom prst="wedgeRoundRectCallout">
            <a:avLst>
              <a:gd name="adj1" fmla="val -58462"/>
              <a:gd name="adj2" fmla="val 1261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6"/>
          <p:cNvSpPr/>
          <p:nvPr/>
        </p:nvSpPr>
        <p:spPr>
          <a:xfrm>
            <a:off x="5618880" y="29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7"/>
          <p:cNvSpPr/>
          <p:nvPr/>
        </p:nvSpPr>
        <p:spPr>
          <a:xfrm>
            <a:off x="651852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8"/>
          <p:cNvSpPr/>
          <p:nvPr/>
        </p:nvSpPr>
        <p:spPr>
          <a:xfrm>
            <a:off x="507888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9"/>
          <p:cNvSpPr/>
          <p:nvPr/>
        </p:nvSpPr>
        <p:spPr>
          <a:xfrm>
            <a:off x="453744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и вычитание 16-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5"/>
          <p:cNvSpPr/>
          <p:nvPr/>
        </p:nvSpPr>
        <p:spPr>
          <a:xfrm>
            <a:off x="757080" y="333360"/>
            <a:ext cx="1852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647640" y="1628640"/>
            <a:ext cx="2521080" cy="20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B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7 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9"/>
          <p:cNvSpPr/>
          <p:nvPr/>
        </p:nvSpPr>
        <p:spPr>
          <a:xfrm>
            <a:off x="3672000" y="3860640"/>
            <a:ext cx="1260360" cy="432000"/>
          </a:xfrm>
          <a:prstGeom prst="wedgeRoundRectCallout">
            <a:avLst>
              <a:gd name="adj1" fmla="val -71157"/>
              <a:gd name="adj2" fmla="val 9632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7"/>
          <p:cNvSpPr/>
          <p:nvPr/>
        </p:nvSpPr>
        <p:spPr>
          <a:xfrm>
            <a:off x="570132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6"/>
          <p:cNvSpPr/>
          <p:nvPr/>
        </p:nvSpPr>
        <p:spPr>
          <a:xfrm>
            <a:off x="1325160" y="2924280"/>
            <a:ext cx="1803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D D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7"/>
          <p:cNvSpPr/>
          <p:nvPr/>
        </p:nvSpPr>
        <p:spPr>
          <a:xfrm>
            <a:off x="1116000" y="296064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8"/>
          <p:cNvSpPr/>
          <p:nvPr/>
        </p:nvSpPr>
        <p:spPr>
          <a:xfrm>
            <a:off x="4211640" y="1665360"/>
            <a:ext cx="2809800" cy="2052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7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9"/>
          <p:cNvSpPr/>
          <p:nvPr/>
        </p:nvSpPr>
        <p:spPr>
          <a:xfrm>
            <a:off x="4645080" y="2960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1"/>
          <p:cNvSpPr/>
          <p:nvPr/>
        </p:nvSpPr>
        <p:spPr>
          <a:xfrm>
            <a:off x="5053680" y="112536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2"/>
          <p:cNvSpPr/>
          <p:nvPr/>
        </p:nvSpPr>
        <p:spPr>
          <a:xfrm>
            <a:off x="2124000" y="4292640"/>
            <a:ext cx="486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+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+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7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– 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43"/>
          <p:cNvSpPr/>
          <p:nvPr/>
        </p:nvSpPr>
        <p:spPr>
          <a:xfrm>
            <a:off x="6481800" y="907920"/>
            <a:ext cx="1260360" cy="432000"/>
          </a:xfrm>
          <a:prstGeom prst="wedgeRoundRectCallout">
            <a:avLst>
              <a:gd name="adj1" fmla="val -87407"/>
              <a:gd name="adj2" fmla="val 7757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5"/>
          <p:cNvSpPr/>
          <p:nvPr/>
        </p:nvSpPr>
        <p:spPr>
          <a:xfrm>
            <a:off x="5583960" y="29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46"/>
          <p:cNvSpPr/>
          <p:nvPr/>
        </p:nvSpPr>
        <p:spPr>
          <a:xfrm>
            <a:off x="5043960" y="29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7"/>
          <p:cNvSpPr/>
          <p:nvPr/>
        </p:nvSpPr>
        <p:spPr>
          <a:xfrm>
            <a:off x="6303240" y="2960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79280" y="2529000"/>
            <a:ext cx="8964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авила записи чисе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ые цифры, записанные подряд суммируются. (подряд запис-ся не &gt;3х цифр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III=1+1+1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меньшая цифра стоит справа от большей, то она прибавляется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 слева  - то  вычитается 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I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=5+1=6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=5-1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ичём пер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С может стоять толь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ер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оль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ер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толь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89200" y="130320"/>
            <a:ext cx="63468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libri"/>
              </a:rPr>
              <a:t>Римская система счис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16000" y="602136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амостоятельн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пишите в римской системе счисления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егодняшнее число, месяц и г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360" y="657360"/>
          <a:ext cx="4716720" cy="1079280"/>
        </p:xfrm>
        <a:graphic>
          <a:graphicData uri="http://schemas.openxmlformats.org/drawingml/2006/table">
            <a:tbl>
              <a:tblPr/>
              <a:tblGrid>
                <a:gridCol w="436680"/>
                <a:gridCol w="566640"/>
                <a:gridCol w="608040"/>
                <a:gridCol w="606600"/>
                <a:gridCol w="776160"/>
                <a:gridCol w="776160"/>
                <a:gridCol w="946440"/>
              </a:tblGrid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8000" y="81000"/>
            <a:ext cx="2627280" cy="14176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5"/>
          <p:cNvSpPr/>
          <p:nvPr/>
        </p:nvSpPr>
        <p:spPr>
          <a:xfrm>
            <a:off x="370800" y="432432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3"/>
          <p:cNvGrpSpPr/>
          <p:nvPr/>
        </p:nvGrpSpPr>
        <p:grpSpPr>
          <a:xfrm>
            <a:off x="1332000" y="5155920"/>
            <a:ext cx="1008000" cy="936720"/>
            <a:chOff x="1332000" y="5155920"/>
            <a:chExt cx="1008000" cy="936720"/>
          </a:xfrm>
        </p:grpSpPr>
        <p:sp>
          <p:nvSpPr>
            <p:cNvPr id="64" name="Oval 20"/>
            <p:cNvSpPr/>
            <p:nvPr/>
          </p:nvSpPr>
          <p:spPr>
            <a:xfrm>
              <a:off x="133200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2"/>
            <p:cNvSpPr/>
            <p:nvPr/>
          </p:nvSpPr>
          <p:spPr>
            <a:xfrm flipV="1">
              <a:off x="183672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7"/>
          <p:cNvSpPr/>
          <p:nvPr/>
        </p:nvSpPr>
        <p:spPr>
          <a:xfrm>
            <a:off x="1836000" y="4329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2487600" y="4329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243240" y="4329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3963240" y="4329000"/>
            <a:ext cx="67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4538880" y="432900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5150880" y="4329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5546520" y="4329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411480" y="4795920"/>
            <a:ext cx="52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89 = 2000   +   300   +    80    +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5627880" y="4865760"/>
            <a:ext cx="24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 CCC LXXX 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1451520" y="557676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5"/>
          <p:cNvGrpSpPr/>
          <p:nvPr/>
        </p:nvGrpSpPr>
        <p:grpSpPr>
          <a:xfrm>
            <a:off x="2619360" y="5155920"/>
            <a:ext cx="1008000" cy="936720"/>
            <a:chOff x="2619360" y="5155920"/>
            <a:chExt cx="1008000" cy="936720"/>
          </a:xfrm>
        </p:grpSpPr>
        <p:sp>
          <p:nvSpPr>
            <p:cNvPr id="77" name="Oval 26"/>
            <p:cNvSpPr/>
            <p:nvPr/>
          </p:nvSpPr>
          <p:spPr>
            <a:xfrm>
              <a:off x="261936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7"/>
            <p:cNvSpPr/>
            <p:nvPr/>
          </p:nvSpPr>
          <p:spPr>
            <a:xfrm flipV="1">
              <a:off x="312408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24"/>
          <p:cNvSpPr/>
          <p:nvPr/>
        </p:nvSpPr>
        <p:spPr>
          <a:xfrm>
            <a:off x="2707560" y="55879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8"/>
          <p:cNvGrpSpPr/>
          <p:nvPr/>
        </p:nvGrpSpPr>
        <p:grpSpPr>
          <a:xfrm>
            <a:off x="3868560" y="5155920"/>
            <a:ext cx="1008000" cy="936720"/>
            <a:chOff x="3868560" y="5155920"/>
            <a:chExt cx="1008000" cy="936720"/>
          </a:xfrm>
        </p:grpSpPr>
        <p:sp>
          <p:nvSpPr>
            <p:cNvPr id="81" name="Oval 29"/>
            <p:cNvSpPr/>
            <p:nvPr/>
          </p:nvSpPr>
          <p:spPr>
            <a:xfrm>
              <a:off x="386856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0"/>
            <p:cNvSpPr/>
            <p:nvPr/>
          </p:nvSpPr>
          <p:spPr>
            <a:xfrm flipV="1">
              <a:off x="437328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31"/>
          <p:cNvSpPr/>
          <p:nvPr/>
        </p:nvSpPr>
        <p:spPr>
          <a:xfrm>
            <a:off x="3890880" y="558792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2"/>
          <p:cNvGrpSpPr/>
          <p:nvPr/>
        </p:nvGrpSpPr>
        <p:grpSpPr>
          <a:xfrm>
            <a:off x="4916520" y="5155920"/>
            <a:ext cx="1008000" cy="936720"/>
            <a:chOff x="4916520" y="5155920"/>
            <a:chExt cx="1008000" cy="936720"/>
          </a:xfrm>
        </p:grpSpPr>
        <p:sp>
          <p:nvSpPr>
            <p:cNvPr id="85" name="Oval 33"/>
            <p:cNvSpPr/>
            <p:nvPr/>
          </p:nvSpPr>
          <p:spPr>
            <a:xfrm>
              <a:off x="4916520" y="5516640"/>
              <a:ext cx="1008000" cy="57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4"/>
            <p:cNvSpPr/>
            <p:nvPr/>
          </p:nvSpPr>
          <p:spPr>
            <a:xfrm flipV="1">
              <a:off x="5421240" y="5155920"/>
              <a:ext cx="0" cy="36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35"/>
          <p:cNvSpPr/>
          <p:nvPr/>
        </p:nvSpPr>
        <p:spPr>
          <a:xfrm>
            <a:off x="5187600" y="5587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6"/>
          <p:cNvSpPr/>
          <p:nvPr/>
        </p:nvSpPr>
        <p:spPr>
          <a:xfrm>
            <a:off x="6015600" y="4329000"/>
            <a:ext cx="9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Группа 42"/>
          <p:cNvGrpSpPr/>
          <p:nvPr/>
        </p:nvGrpSpPr>
        <p:grpSpPr>
          <a:xfrm>
            <a:off x="1332000" y="1628640"/>
            <a:ext cx="1981080" cy="900360"/>
            <a:chOff x="1332000" y="1628640"/>
            <a:chExt cx="1981080" cy="900360"/>
          </a:xfrm>
        </p:grpSpPr>
        <p:pic>
          <p:nvPicPr>
            <p:cNvPr id="90" name="Picture 2" descr=""/>
            <p:cNvPicPr/>
            <p:nvPr/>
          </p:nvPicPr>
          <p:blipFill>
            <a:blip r:embed="rId2"/>
            <a:stretch/>
          </p:blipFill>
          <p:spPr>
            <a:xfrm>
              <a:off x="1918800" y="1628640"/>
              <a:ext cx="1394280" cy="9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Прямоугольник 44"/>
            <p:cNvSpPr/>
            <p:nvPr/>
          </p:nvSpPr>
          <p:spPr>
            <a:xfrm>
              <a:off x="1332000" y="1629360"/>
              <a:ext cx="58680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рямоугольник 45"/>
          <p:cNvSpPr/>
          <p:nvPr/>
        </p:nvSpPr>
        <p:spPr>
          <a:xfrm>
            <a:off x="34920" y="1820880"/>
            <a:ext cx="133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едполагаемое происхождение римских циф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611280" y="1413000"/>
            <a:ext cx="2520720" cy="2052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  A 5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1079640" y="278136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4176720" y="1484280"/>
            <a:ext cx="2521080" cy="20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5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395280" y="225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для самостоятельного выпол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0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95280" y="189000"/>
            <a:ext cx="81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авянская и Римская системы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11480" y="873000"/>
            <a:ext cx="82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настоящее время используются только в декоративных це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0" y="1233360"/>
            <a:ext cx="4427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6400" indent="-34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мера глав в книг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4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означение веков: 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ираты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4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циферблате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hapter"/>
          <p:cNvPicPr/>
          <p:nvPr/>
        </p:nvPicPr>
        <p:blipFill>
          <a:blip r:embed="rId1"/>
          <a:srcRect l="0" t="0" r="798" b="16722"/>
          <a:stretch/>
        </p:blipFill>
        <p:spPr>
          <a:xfrm>
            <a:off x="3816360" y="1305000"/>
            <a:ext cx="5076720" cy="1279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358920" y="3141720"/>
            <a:ext cx="3116160" cy="20732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22"/>
          <p:cNvSpPr/>
          <p:nvPr/>
        </p:nvSpPr>
        <p:spPr>
          <a:xfrm>
            <a:off x="3024360" y="4616280"/>
            <a:ext cx="1877760" cy="792360"/>
          </a:xfrm>
          <a:prstGeom prst="wedgeRoundRectCallout">
            <a:avLst>
              <a:gd name="adj1" fmla="val -83421"/>
              <a:gd name="adj2" fmla="val -5639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ы Суздальского Крем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280px-Spasskaya_Tower_clock"/>
          <p:cNvPicPr/>
          <p:nvPr/>
        </p:nvPicPr>
        <p:blipFill>
          <a:blip r:embed="rId3"/>
          <a:stretch/>
        </p:blipFill>
        <p:spPr>
          <a:xfrm>
            <a:off x="5759280" y="3033720"/>
            <a:ext cx="3097440" cy="1908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2"/>
          <p:cNvSpPr/>
          <p:nvPr/>
        </p:nvSpPr>
        <p:spPr>
          <a:xfrm>
            <a:off x="6948360" y="5192640"/>
            <a:ext cx="1878120" cy="757440"/>
          </a:xfrm>
          <a:prstGeom prst="wedgeRoundRectCallout">
            <a:avLst>
              <a:gd name="adj1" fmla="val 3629"/>
              <a:gd name="adj2" fmla="val -11756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ы Московского Крем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95280" y="115920"/>
            <a:ext cx="46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зиционн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95280" y="907920"/>
            <a:ext cx="720108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есятичная система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начально – счет на пальц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ена в Индии, заимствована арабами, завезена в Евро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 1, 2, 3, 4, 5, 6, 7, 8, 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количество цифр)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569040" y="3502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3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564000" y="32130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2    1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3492360" y="3141720"/>
            <a:ext cx="1079640" cy="431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717440" y="314172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6"/>
          <p:cNvGrpSpPr/>
          <p:nvPr/>
        </p:nvGrpSpPr>
        <p:grpSpPr>
          <a:xfrm>
            <a:off x="2630880" y="2781360"/>
            <a:ext cx="3144960" cy="504720"/>
            <a:chOff x="2630880" y="2781360"/>
            <a:chExt cx="3144960" cy="504720"/>
          </a:xfrm>
        </p:grpSpPr>
        <p:sp>
          <p:nvSpPr>
            <p:cNvPr id="110" name="Rectangle 11"/>
            <p:cNvSpPr/>
            <p:nvPr/>
          </p:nvSpPr>
          <p:spPr>
            <a:xfrm>
              <a:off x="2630880" y="2781360"/>
              <a:ext cx="31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тни   десятки   едини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3276360" y="3070440"/>
              <a:ext cx="3589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 flipH="1">
              <a:off x="4426920" y="3070440"/>
              <a:ext cx="3589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4068720" y="30704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7"/>
          <p:cNvSpPr/>
          <p:nvPr/>
        </p:nvSpPr>
        <p:spPr>
          <a:xfrm>
            <a:off x="4575600" y="407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3855960" y="40784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3063240" y="4078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406872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500720" y="38624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 flipH="1">
            <a:off x="3492360" y="386244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"/>
          <p:cNvSpPr/>
          <p:nvPr/>
        </p:nvSpPr>
        <p:spPr>
          <a:xfrm>
            <a:off x="4716360" y="350208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3"/>
          <p:cNvSpPr/>
          <p:nvPr/>
        </p:nvSpPr>
        <p:spPr>
          <a:xfrm>
            <a:off x="4751280" y="189000"/>
            <a:ext cx="39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начение цифры определяется ее позицией в записи числ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go4.imgsmail.ru/imgpreview?key=http%3A//sdb.su/uploads/posts/27.08.2010/11/image003.gif&amp;mb=imgdb_preview_1"/>
          <p:cNvPicPr/>
          <p:nvPr/>
        </p:nvPicPr>
        <p:blipFill>
          <a:blip r:embed="rId1"/>
          <a:stretch/>
        </p:blipFill>
        <p:spPr>
          <a:xfrm>
            <a:off x="7667640" y="944640"/>
            <a:ext cx="1117440" cy="1332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5"/>
          <p:cNvSpPr/>
          <p:nvPr/>
        </p:nvSpPr>
        <p:spPr>
          <a:xfrm>
            <a:off x="582480" y="530064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6, 2 8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1871640" y="5300640"/>
            <a:ext cx="60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 4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6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2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8*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5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11280" y="501336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1  0  -1  -2  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920" y="5842080"/>
            <a:ext cx="212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кращённая форма записи чи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140360" y="584208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развернутая форма записи чи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800"/>
                            </p:stCondLst>
                            <p:childTnLst>
                              <p:par>
                                <p:cTn id="2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907920"/>
          <a:ext cx="8785440" cy="2133720"/>
        </p:xfrm>
        <a:graphic>
          <a:graphicData uri="http://schemas.openxmlformats.org/drawingml/2006/table">
            <a:tbl>
              <a:tblPr/>
              <a:tblGrid>
                <a:gridCol w="2232000"/>
                <a:gridCol w="4969080"/>
                <a:gridCol w="1584360"/>
              </a:tblGrid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фав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оич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ьмерич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, 2, 3, 4, 5, 6, 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стнадцатерична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1, 2, 3, 4, 5, 6, 7, 8, 9, А, 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, D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0), (11), (12), (13), (14), (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9" name="Text Box 178"/>
          <p:cNvSpPr/>
          <p:nvPr/>
        </p:nvSpPr>
        <p:spPr>
          <a:xfrm>
            <a:off x="179280" y="3860640"/>
            <a:ext cx="8353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Шестидесятерич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вая позиционная система счисления. Была придуман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Древнем Вавилоне. В ней использовалось шестьдесят цифр. До сих пор мы используем эту систему счисления при измерении времени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 час = 60 мин, 1 мин= 60 с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1"/>
          <p:cNvSpPr/>
          <p:nvPr/>
        </p:nvSpPr>
        <p:spPr>
          <a:xfrm>
            <a:off x="216000" y="4616280"/>
            <a:ext cx="8928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Двенадцатеричная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 фут = 12 дюймов, 1 шиллинг = 12 пенс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о 12 или дюжина употребляется при исчислении столовых приборов. В наборе их ровно дюжин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бор фломастеров или карандашей содержит дюжину или полдюжины штук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уг содержит тридцать дюжин градусов, в сутках - две дюжины часов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93" descr="26359-3-26359_4"/>
          <p:cNvPicPr/>
          <p:nvPr/>
        </p:nvPicPr>
        <p:blipFill>
          <a:blip r:embed="rId1"/>
          <a:stretch/>
        </p:blipFill>
        <p:spPr>
          <a:xfrm>
            <a:off x="7093080" y="5445000"/>
            <a:ext cx="1008000" cy="9003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9"/>
          <p:cNvSpPr/>
          <p:nvPr/>
        </p:nvSpPr>
        <p:spPr>
          <a:xfrm>
            <a:off x="0" y="5913360"/>
            <a:ext cx="45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4960" indent="-171360"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Arial"/>
                <a:ea typeface="Arial"/>
              </a:rPr>
              <a:t>Двадцатеричн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1 франк = 20 с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go1.imgsmail.ru/imgpreview?key=http%3A//planetachasov.ru/pictures/8124.jpg&amp;mb=imgdb_preview_12"/>
          <p:cNvPicPr/>
          <p:nvPr/>
        </p:nvPicPr>
        <p:blipFill>
          <a:blip r:embed="rId2"/>
          <a:stretch/>
        </p:blipFill>
        <p:spPr>
          <a:xfrm>
            <a:off x="8209080" y="3645000"/>
            <a:ext cx="718920" cy="849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go4.imgsmail.ru/imgpreview?key=http%3A//adialshans.ru/d/231856/d/c04204.jpg&amp;mb=imgdb_preview_81"/>
          <p:cNvPicPr/>
          <p:nvPr/>
        </p:nvPicPr>
        <p:blipFill>
          <a:blip r:embed="rId3"/>
          <a:srcRect l="0" t="0" r="26436" b="0"/>
          <a:stretch/>
        </p:blipFill>
        <p:spPr>
          <a:xfrm rot="960000">
            <a:off x="6084720" y="5589360"/>
            <a:ext cx="800280" cy="108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go1.imgsmail.ru/imgpreview?key=http%3A//gzheli.ru/%5Fmod%5Ffiles/ce%5Fimages/eshop/17a021.jpg&amp;mb=imgdb_preview_68"/>
          <p:cNvPicPr/>
          <p:nvPr/>
        </p:nvPicPr>
        <p:blipFill>
          <a:blip r:embed="rId4"/>
          <a:stretch/>
        </p:blipFill>
        <p:spPr>
          <a:xfrm>
            <a:off x="8172360" y="5481720"/>
            <a:ext cx="863640" cy="798480"/>
          </a:xfrm>
          <a:prstGeom prst="rect">
            <a:avLst/>
          </a:prstGeom>
          <a:ln w="0">
            <a:noFill/>
          </a:ln>
        </p:spPr>
      </p:pic>
      <p:sp>
        <p:nvSpPr>
          <p:cNvPr id="13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42920" y="1159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ие позиционные сис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4"/>
          <p:cNvSpPr/>
          <p:nvPr/>
        </p:nvSpPr>
        <p:spPr>
          <a:xfrm>
            <a:off x="1995480" y="3284640"/>
            <a:ext cx="494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1,11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12,2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673,2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8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8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ru-RU" sz="2800" spc="-1" strike="noStrike" baseline="-25000">
                <a:solidFill>
                  <a:srgbClr val="333399"/>
                </a:solidFill>
                <a:latin typeface="Arial"/>
              </a:rPr>
              <a:t>16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вод целых чисел в позиционных 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700280"/>
            <a:ext cx="9144000" cy="20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целых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чисел из 10-ой 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ить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це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ходное число и получаемые частные на основание СС до тех пор, пока частное не станет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ньш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ания 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полученные остатки от деления в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рат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-т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58920" y="2997360"/>
            <a:ext cx="87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ило перевода чисел в 10-ую СС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число в развёрнутом виде и вычислить полученную су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79280" y="4005360"/>
            <a:ext cx="8964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Задание №1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едите число 19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-ую, 3-ую, 8-ую и 16-ую С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2"/>
          <p:cNvSpPr/>
          <p:nvPr/>
        </p:nvSpPr>
        <p:spPr>
          <a:xfrm>
            <a:off x="324000" y="727200"/>
            <a:ext cx="84643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568440" y="8352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40080" y="321156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2270880" y="907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9"/>
          <p:cNvGrpSpPr/>
          <p:nvPr/>
        </p:nvGrpSpPr>
        <p:grpSpPr>
          <a:xfrm>
            <a:off x="2270880" y="907920"/>
            <a:ext cx="1293120" cy="1178280"/>
            <a:chOff x="2270880" y="907920"/>
            <a:chExt cx="1293120" cy="1178280"/>
          </a:xfrm>
        </p:grpSpPr>
        <p:grpSp>
          <p:nvGrpSpPr>
            <p:cNvPr id="148" name="Group 15"/>
            <p:cNvGrpSpPr/>
            <p:nvPr/>
          </p:nvGrpSpPr>
          <p:grpSpPr>
            <a:xfrm>
              <a:off x="2843280" y="907920"/>
              <a:ext cx="720720" cy="792000"/>
              <a:chOff x="2843280" y="907920"/>
              <a:chExt cx="720720" cy="792000"/>
            </a:xfrm>
          </p:grpSpPr>
          <p:grpSp>
            <p:nvGrpSpPr>
              <p:cNvPr id="149" name="Group 13"/>
              <p:cNvGrpSpPr/>
              <p:nvPr/>
            </p:nvGrpSpPr>
            <p:grpSpPr>
              <a:xfrm>
                <a:off x="2843280" y="979200"/>
                <a:ext cx="720720" cy="720720"/>
                <a:chOff x="2843280" y="979200"/>
                <a:chExt cx="720720" cy="720720"/>
              </a:xfrm>
            </p:grpSpPr>
            <p:sp>
              <p:nvSpPr>
                <p:cNvPr id="150" name="Line 10"/>
                <p:cNvSpPr/>
                <p:nvPr/>
              </p:nvSpPr>
              <p:spPr>
                <a:xfrm>
                  <a:off x="2843280" y="97920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11"/>
                <p:cNvSpPr/>
                <p:nvPr/>
              </p:nvSpPr>
              <p:spPr>
                <a:xfrm>
                  <a:off x="2843280" y="133956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Rectangle 12"/>
              <p:cNvSpPr/>
              <p:nvPr/>
            </p:nvSpPr>
            <p:spPr>
              <a:xfrm>
                <a:off x="2918160" y="907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Rectangle 14"/>
            <p:cNvSpPr/>
            <p:nvPr/>
          </p:nvSpPr>
          <p:spPr>
            <a:xfrm>
              <a:off x="2918160" y="133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6"/>
            <p:cNvSpPr/>
            <p:nvPr/>
          </p:nvSpPr>
          <p:spPr>
            <a:xfrm>
              <a:off x="2270880" y="11952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2340000" y="162684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8"/>
            <p:cNvSpPr/>
            <p:nvPr/>
          </p:nvSpPr>
          <p:spPr>
            <a:xfrm>
              <a:off x="2411280" y="169848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20"/>
          <p:cNvGrpSpPr/>
          <p:nvPr/>
        </p:nvGrpSpPr>
        <p:grpSpPr>
          <a:xfrm>
            <a:off x="2844720" y="1339920"/>
            <a:ext cx="1293480" cy="1178280"/>
            <a:chOff x="2844720" y="1339920"/>
            <a:chExt cx="1293480" cy="1178280"/>
          </a:xfrm>
        </p:grpSpPr>
        <p:grpSp>
          <p:nvGrpSpPr>
            <p:cNvPr id="158" name="Group 21"/>
            <p:cNvGrpSpPr/>
            <p:nvPr/>
          </p:nvGrpSpPr>
          <p:grpSpPr>
            <a:xfrm>
              <a:off x="3417840" y="1339920"/>
              <a:ext cx="720360" cy="792000"/>
              <a:chOff x="3417840" y="1339920"/>
              <a:chExt cx="720360" cy="792000"/>
            </a:xfrm>
          </p:grpSpPr>
          <p:grpSp>
            <p:nvGrpSpPr>
              <p:cNvPr id="159" name="Group 22"/>
              <p:cNvGrpSpPr/>
              <p:nvPr/>
            </p:nvGrpSpPr>
            <p:grpSpPr>
              <a:xfrm>
                <a:off x="3417840" y="1411200"/>
                <a:ext cx="720360" cy="720720"/>
                <a:chOff x="3417840" y="1411200"/>
                <a:chExt cx="720360" cy="720720"/>
              </a:xfrm>
            </p:grpSpPr>
            <p:sp>
              <p:nvSpPr>
                <p:cNvPr id="160" name="Line 23"/>
                <p:cNvSpPr/>
                <p:nvPr/>
              </p:nvSpPr>
              <p:spPr>
                <a:xfrm>
                  <a:off x="3417840" y="141120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24"/>
                <p:cNvSpPr/>
                <p:nvPr/>
              </p:nvSpPr>
              <p:spPr>
                <a:xfrm>
                  <a:off x="3417840" y="1771560"/>
                  <a:ext cx="72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Rectangle 25"/>
              <p:cNvSpPr/>
              <p:nvPr/>
            </p:nvSpPr>
            <p:spPr>
              <a:xfrm>
                <a:off x="3492360" y="1339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Rectangle 26"/>
            <p:cNvSpPr/>
            <p:nvPr/>
          </p:nvSpPr>
          <p:spPr>
            <a:xfrm>
              <a:off x="349272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2844720" y="1627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>
              <a:off x="2914560" y="2058840"/>
              <a:ext cx="43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2985840" y="2130480"/>
              <a:ext cx="27756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0"/>
          <p:cNvGrpSpPr/>
          <p:nvPr/>
        </p:nvGrpSpPr>
        <p:grpSpPr>
          <a:xfrm>
            <a:off x="3421080" y="1771560"/>
            <a:ext cx="1293480" cy="1178280"/>
            <a:chOff x="3421080" y="1771560"/>
            <a:chExt cx="1293480" cy="1178280"/>
          </a:xfrm>
        </p:grpSpPr>
        <p:grpSp>
          <p:nvGrpSpPr>
            <p:cNvPr id="168" name="Group 31"/>
            <p:cNvGrpSpPr/>
            <p:nvPr/>
          </p:nvGrpSpPr>
          <p:grpSpPr>
            <a:xfrm>
              <a:off x="3994200" y="1771560"/>
              <a:ext cx="720360" cy="792000"/>
              <a:chOff x="3994200" y="1771560"/>
              <a:chExt cx="720360" cy="792000"/>
            </a:xfrm>
          </p:grpSpPr>
          <p:grpSp>
            <p:nvGrpSpPr>
              <p:cNvPr id="169" name="Group 32"/>
              <p:cNvGrpSpPr/>
              <p:nvPr/>
            </p:nvGrpSpPr>
            <p:grpSpPr>
              <a:xfrm>
                <a:off x="3994200" y="1842840"/>
                <a:ext cx="720360" cy="720720"/>
                <a:chOff x="3994200" y="1842840"/>
                <a:chExt cx="720360" cy="720720"/>
              </a:xfrm>
            </p:grpSpPr>
            <p:sp>
              <p:nvSpPr>
                <p:cNvPr id="170" name="Line 33"/>
                <p:cNvSpPr/>
                <p:nvPr/>
              </p:nvSpPr>
              <p:spPr>
                <a:xfrm>
                  <a:off x="3994200" y="18428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34"/>
                <p:cNvSpPr/>
                <p:nvPr/>
              </p:nvSpPr>
              <p:spPr>
                <a:xfrm>
                  <a:off x="3994200" y="2203200"/>
                  <a:ext cx="72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Rectangle 35"/>
              <p:cNvSpPr/>
              <p:nvPr/>
            </p:nvSpPr>
            <p:spPr>
              <a:xfrm>
                <a:off x="4068720" y="1771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Rectangle 36"/>
            <p:cNvSpPr/>
            <p:nvPr/>
          </p:nvSpPr>
          <p:spPr>
            <a:xfrm>
              <a:off x="4069080" y="2203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7"/>
            <p:cNvSpPr/>
            <p:nvPr/>
          </p:nvSpPr>
          <p:spPr>
            <a:xfrm>
              <a:off x="3421080" y="2058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8"/>
            <p:cNvSpPr/>
            <p:nvPr/>
          </p:nvSpPr>
          <p:spPr>
            <a:xfrm>
              <a:off x="3490920" y="2490480"/>
              <a:ext cx="43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9"/>
            <p:cNvSpPr/>
            <p:nvPr/>
          </p:nvSpPr>
          <p:spPr>
            <a:xfrm>
              <a:off x="3562200" y="2562120"/>
              <a:ext cx="27756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40"/>
          <p:cNvGrpSpPr/>
          <p:nvPr/>
        </p:nvGrpSpPr>
        <p:grpSpPr>
          <a:xfrm>
            <a:off x="3997080" y="2203560"/>
            <a:ext cx="1294200" cy="1178280"/>
            <a:chOff x="3997080" y="2203560"/>
            <a:chExt cx="1294200" cy="1178280"/>
          </a:xfrm>
        </p:grpSpPr>
        <p:grpSp>
          <p:nvGrpSpPr>
            <p:cNvPr id="178" name="Group 41"/>
            <p:cNvGrpSpPr/>
            <p:nvPr/>
          </p:nvGrpSpPr>
          <p:grpSpPr>
            <a:xfrm>
              <a:off x="4570560" y="2203560"/>
              <a:ext cx="720720" cy="792000"/>
              <a:chOff x="4570560" y="2203560"/>
              <a:chExt cx="720720" cy="792000"/>
            </a:xfrm>
          </p:grpSpPr>
          <p:grpSp>
            <p:nvGrpSpPr>
              <p:cNvPr id="179" name="Group 42"/>
              <p:cNvGrpSpPr/>
              <p:nvPr/>
            </p:nvGrpSpPr>
            <p:grpSpPr>
              <a:xfrm>
                <a:off x="4570560" y="2274840"/>
                <a:ext cx="720720" cy="720720"/>
                <a:chOff x="4570560" y="2274840"/>
                <a:chExt cx="720720" cy="720720"/>
              </a:xfrm>
            </p:grpSpPr>
            <p:sp>
              <p:nvSpPr>
                <p:cNvPr id="180" name="Line 43"/>
                <p:cNvSpPr/>
                <p:nvPr/>
              </p:nvSpPr>
              <p:spPr>
                <a:xfrm>
                  <a:off x="4570560" y="22748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44"/>
                <p:cNvSpPr/>
                <p:nvPr/>
              </p:nvSpPr>
              <p:spPr>
                <a:xfrm>
                  <a:off x="4570560" y="26352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Rectangle 45"/>
              <p:cNvSpPr/>
              <p:nvPr/>
            </p:nvSpPr>
            <p:spPr>
              <a:xfrm>
                <a:off x="4645440" y="22035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Rectangle 46"/>
            <p:cNvSpPr/>
            <p:nvPr/>
          </p:nvSpPr>
          <p:spPr>
            <a:xfrm>
              <a:off x="4753440" y="2743200"/>
              <a:ext cx="3499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7"/>
            <p:cNvSpPr/>
            <p:nvPr/>
          </p:nvSpPr>
          <p:spPr>
            <a:xfrm>
              <a:off x="3997080" y="2490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8"/>
            <p:cNvSpPr/>
            <p:nvPr/>
          </p:nvSpPr>
          <p:spPr>
            <a:xfrm>
              <a:off x="4067280" y="29224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9"/>
            <p:cNvSpPr/>
            <p:nvPr/>
          </p:nvSpPr>
          <p:spPr>
            <a:xfrm>
              <a:off x="4138560" y="299412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61"/>
          <p:cNvSpPr/>
          <p:nvPr/>
        </p:nvSpPr>
        <p:spPr>
          <a:xfrm>
            <a:off x="5292720" y="727200"/>
            <a:ext cx="35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7"/>
          <p:cNvSpPr/>
          <p:nvPr/>
        </p:nvSpPr>
        <p:spPr>
          <a:xfrm>
            <a:off x="838440" y="4219560"/>
            <a:ext cx="160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8"/>
          <p:cNvSpPr/>
          <p:nvPr/>
        </p:nvSpPr>
        <p:spPr>
          <a:xfrm>
            <a:off x="906480" y="39322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4  3  2  1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9"/>
          <p:cNvSpPr/>
          <p:nvPr/>
        </p:nvSpPr>
        <p:spPr>
          <a:xfrm>
            <a:off x="2341080" y="393228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0"/>
          <p:cNvSpPr/>
          <p:nvPr/>
        </p:nvSpPr>
        <p:spPr>
          <a:xfrm>
            <a:off x="2478960" y="4219560"/>
            <a:ext cx="620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6 + 2 + 1 = 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1"/>
          <p:cNvSpPr/>
          <p:nvPr/>
        </p:nvSpPr>
        <p:spPr>
          <a:xfrm flipH="1" flipV="1">
            <a:off x="4211280" y="4292640"/>
            <a:ext cx="57636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2"/>
          <p:cNvSpPr/>
          <p:nvPr/>
        </p:nvSpPr>
        <p:spPr>
          <a:xfrm flipH="1" flipV="1">
            <a:off x="5435280" y="4292640"/>
            <a:ext cx="576360" cy="503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3"/>
          <p:cNvSpPr/>
          <p:nvPr/>
        </p:nvSpPr>
        <p:spPr>
          <a:xfrm rot="18519600">
            <a:off x="2933640" y="1609560"/>
            <a:ext cx="360360" cy="2843280"/>
          </a:xfrm>
          <a:prstGeom prst="upArrow">
            <a:avLst>
              <a:gd name="adj1" fmla="val 50000"/>
              <a:gd name="adj2" fmla="val 19725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179280" y="0"/>
            <a:ext cx="8964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Задание №1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едите число 19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-ую С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519120" y="5473800"/>
            <a:ext cx="8229600" cy="10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стоятельно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ведите числ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-ую, 3-ую, 8-ую и 16-ую СС и обратно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 25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б)  134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90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3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9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3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68440" y="105264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640080" y="342900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2126520" y="1089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"/>
          <p:cNvGrpSpPr/>
          <p:nvPr/>
        </p:nvGrpSpPr>
        <p:grpSpPr>
          <a:xfrm>
            <a:off x="2270880" y="1125360"/>
            <a:ext cx="1293120" cy="1178280"/>
            <a:chOff x="2270880" y="1125360"/>
            <a:chExt cx="1293120" cy="1178280"/>
          </a:xfrm>
        </p:grpSpPr>
        <p:grpSp>
          <p:nvGrpSpPr>
            <p:cNvPr id="202" name="Group 9"/>
            <p:cNvGrpSpPr/>
            <p:nvPr/>
          </p:nvGrpSpPr>
          <p:grpSpPr>
            <a:xfrm>
              <a:off x="2843280" y="1125360"/>
              <a:ext cx="720720" cy="792000"/>
              <a:chOff x="2843280" y="1125360"/>
              <a:chExt cx="720720" cy="792000"/>
            </a:xfrm>
          </p:grpSpPr>
          <p:grpSp>
            <p:nvGrpSpPr>
              <p:cNvPr id="203" name="Group 10"/>
              <p:cNvGrpSpPr/>
              <p:nvPr/>
            </p:nvGrpSpPr>
            <p:grpSpPr>
              <a:xfrm>
                <a:off x="2843280" y="1196640"/>
                <a:ext cx="720720" cy="720720"/>
                <a:chOff x="2843280" y="1196640"/>
                <a:chExt cx="720720" cy="720720"/>
              </a:xfrm>
            </p:grpSpPr>
            <p:sp>
              <p:nvSpPr>
                <p:cNvPr id="204" name="Line 11"/>
                <p:cNvSpPr/>
                <p:nvPr/>
              </p:nvSpPr>
              <p:spPr>
                <a:xfrm>
                  <a:off x="2843280" y="1196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12"/>
                <p:cNvSpPr/>
                <p:nvPr/>
              </p:nvSpPr>
              <p:spPr>
                <a:xfrm>
                  <a:off x="2843280" y="1557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Rectangle 13"/>
              <p:cNvSpPr/>
              <p:nvPr/>
            </p:nvSpPr>
            <p:spPr>
              <a:xfrm>
                <a:off x="2918160" y="1125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Rectangle 14"/>
            <p:cNvSpPr/>
            <p:nvPr/>
          </p:nvSpPr>
          <p:spPr>
            <a:xfrm>
              <a:off x="2918520" y="1557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5"/>
            <p:cNvSpPr/>
            <p:nvPr/>
          </p:nvSpPr>
          <p:spPr>
            <a:xfrm>
              <a:off x="2270880" y="1412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6"/>
            <p:cNvSpPr/>
            <p:nvPr/>
          </p:nvSpPr>
          <p:spPr>
            <a:xfrm>
              <a:off x="2340000" y="18442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7"/>
            <p:cNvSpPr/>
            <p:nvPr/>
          </p:nvSpPr>
          <p:spPr>
            <a:xfrm>
              <a:off x="2411280" y="191592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67"/>
          <p:cNvGrpSpPr/>
          <p:nvPr/>
        </p:nvGrpSpPr>
        <p:grpSpPr>
          <a:xfrm>
            <a:off x="2843280" y="1557360"/>
            <a:ext cx="1295280" cy="1179720"/>
            <a:chOff x="2843280" y="1557360"/>
            <a:chExt cx="1295280" cy="1179720"/>
          </a:xfrm>
        </p:grpSpPr>
        <p:grpSp>
          <p:nvGrpSpPr>
            <p:cNvPr id="212" name="Group 19"/>
            <p:cNvGrpSpPr/>
            <p:nvPr/>
          </p:nvGrpSpPr>
          <p:grpSpPr>
            <a:xfrm>
              <a:off x="3417840" y="1557360"/>
              <a:ext cx="720720" cy="792000"/>
              <a:chOff x="3417840" y="1557360"/>
              <a:chExt cx="720720" cy="792000"/>
            </a:xfrm>
          </p:grpSpPr>
          <p:grpSp>
            <p:nvGrpSpPr>
              <p:cNvPr id="213" name="Group 20"/>
              <p:cNvGrpSpPr/>
              <p:nvPr/>
            </p:nvGrpSpPr>
            <p:grpSpPr>
              <a:xfrm>
                <a:off x="3417840" y="1628640"/>
                <a:ext cx="720720" cy="720720"/>
                <a:chOff x="3417840" y="1628640"/>
                <a:chExt cx="720720" cy="720720"/>
              </a:xfrm>
            </p:grpSpPr>
            <p:sp>
              <p:nvSpPr>
                <p:cNvPr id="214" name="Line 21"/>
                <p:cNvSpPr/>
                <p:nvPr/>
              </p:nvSpPr>
              <p:spPr>
                <a:xfrm>
                  <a:off x="3417840" y="16286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22"/>
                <p:cNvSpPr/>
                <p:nvPr/>
              </p:nvSpPr>
              <p:spPr>
                <a:xfrm>
                  <a:off x="3417840" y="1989000"/>
                  <a:ext cx="72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23"/>
              <p:cNvSpPr/>
              <p:nvPr/>
            </p:nvSpPr>
            <p:spPr>
              <a:xfrm>
                <a:off x="3492720" y="1557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Rectangle 24"/>
            <p:cNvSpPr/>
            <p:nvPr/>
          </p:nvSpPr>
          <p:spPr>
            <a:xfrm>
              <a:off x="3564000" y="2131560"/>
              <a:ext cx="32364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633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5"/>
            <p:cNvSpPr/>
            <p:nvPr/>
          </p:nvSpPr>
          <p:spPr>
            <a:xfrm>
              <a:off x="2843280" y="184428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2914560" y="227628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7"/>
            <p:cNvSpPr/>
            <p:nvPr/>
          </p:nvSpPr>
          <p:spPr>
            <a:xfrm>
              <a:off x="3095640" y="2349360"/>
              <a:ext cx="2779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58"/>
          <p:cNvSpPr/>
          <p:nvPr/>
        </p:nvSpPr>
        <p:spPr>
          <a:xfrm>
            <a:off x="5219640" y="1341360"/>
            <a:ext cx="266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 = 144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0"/>
          <p:cNvSpPr/>
          <p:nvPr/>
        </p:nvSpPr>
        <p:spPr>
          <a:xfrm>
            <a:off x="839880" y="4437000"/>
            <a:ext cx="1598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44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1"/>
          <p:cNvSpPr/>
          <p:nvPr/>
        </p:nvSpPr>
        <p:spPr>
          <a:xfrm>
            <a:off x="1369800" y="41497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2"/>
          <p:cNvSpPr/>
          <p:nvPr/>
        </p:nvSpPr>
        <p:spPr>
          <a:xfrm>
            <a:off x="2341080" y="414972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3"/>
          <p:cNvSpPr/>
          <p:nvPr/>
        </p:nvSpPr>
        <p:spPr>
          <a:xfrm>
            <a:off x="2485800" y="4437000"/>
            <a:ext cx="41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64 + 32 + 4 = 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6"/>
          <p:cNvSpPr/>
          <p:nvPr/>
        </p:nvSpPr>
        <p:spPr>
          <a:xfrm rot="18519600">
            <a:off x="2367720" y="1511640"/>
            <a:ext cx="360360" cy="2413080"/>
          </a:xfrm>
          <a:prstGeom prst="upArrow">
            <a:avLst>
              <a:gd name="adj1" fmla="val 50000"/>
              <a:gd name="adj2" fmla="val 16740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179280" y="0"/>
            <a:ext cx="896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Задание №2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число 10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8-ую С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20:19:36Z</dcterms:created>
  <dc:creator>kp</dc:creator>
  <dc:description/>
  <dc:language>en-US</dc:language>
  <cp:lastModifiedBy>Юрий</cp:lastModifiedBy>
  <dcterms:modified xsi:type="dcterms:W3CDTF">2014-09-10T17:17:25Z</dcterms:modified>
  <cp:revision>363</cp:revision>
  <dc:subject/>
  <dc:title>Слайд 1</dc:title>
</cp:coreProperties>
</file>