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BD5-A052-4F3B-9076-97453DBFB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CC54-8F35-40BC-B666-3212DAF56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649-A994-4317-B96A-26CEF377A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AE55-640E-4FD7-B912-DBFE67BDF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7A80-041D-480A-84A5-9AC74EA83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6E66-34F9-46D9-8211-54F8BF791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6900-2E55-45C1-B1C7-0CCC1BD77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363D-2A99-438D-9CC3-4C1A27AC1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0A5D-458C-4B20-BD96-818CC322D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AB2-842F-4D4A-9DC8-F992777FC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E917-DC02-403E-A35F-EA59BA92A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8A8-B8CE-4170-A90E-A68A6AAAA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3C2B-E15E-4A05-A0D0-A2B229EA2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F4EB-97B5-4272-ADB8-3FD0E74C1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C1A-428D-4C88-BB01-5BBD8C3FF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7E57-24CB-46E3-99BC-E94E87581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FE9A-4F83-4533-A7A4-BA0C6ED6B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68A-94AB-40D5-881E-3A6F985CD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D2E-A716-4E7F-A35C-9442EB977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E40E-E6C3-467C-A3D7-3C5463CC4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FF35-DBB0-46AB-9859-38089C9C9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30E2-33BC-411B-8AF5-5F636C828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5522-3B38-464D-B149-BE7AC6549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665-160E-4F94-B292-9AC870E84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4FCB-8DFF-4189-BE47-78CDF520B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4A2-0BF1-4D87-8AD6-F3E9439A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D7A-C31C-4D21-A40A-3FE107A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0A1-12FF-4EBF-8BC4-C12A1E04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C3C-5917-4D6C-A6AD-EBEB3986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6DC-F86B-40A7-BD94-0620218F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579-970F-4BF7-A4E0-3AAA1BE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D73-73AD-40BB-A494-870088A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CCA-C9EA-4E8E-9282-7791D78D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F00-8A2E-4D42-ABFD-395D4A2A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4C1-AFCC-4A27-AC55-3CD3E9D7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D11-BB94-4DB8-A67E-27CA74CA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4F7-16EE-481A-878A-F31E026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249-E7CB-44E4-A1BB-34153AE38DB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92360" y="0"/>
            <a:ext cx="655164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c9.gif"/>
          <p:cNvPicPr/>
          <p:nvPr/>
        </p:nvPicPr>
        <p:blipFill>
          <a:blip r:embed="rId3"/>
          <a:stretch/>
        </p:blipFill>
        <p:spPr>
          <a:xfrm>
            <a:off x="8280360" y="1080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664000" y="1916280"/>
            <a:ext cx="648000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это способ записи чисе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пец. знако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, 423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1, C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 1, 2, 3,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,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множе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 в ней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 2, 3, 4, 5, 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е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щность алфавита (кол-во цифр в алфави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ипы систем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е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ис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68800" y="137628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40440" y="346536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126520" y="141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4"/>
          <p:cNvGrpSpPr/>
          <p:nvPr/>
        </p:nvGrpSpPr>
        <p:grpSpPr>
          <a:xfrm>
            <a:off x="2232000" y="1449360"/>
            <a:ext cx="1332000" cy="1178280"/>
            <a:chOff x="2232000" y="1449360"/>
            <a:chExt cx="1332000" cy="1178280"/>
          </a:xfrm>
        </p:grpSpPr>
        <p:grpSp>
          <p:nvGrpSpPr>
            <p:cNvPr id="233" name="Group 9"/>
            <p:cNvGrpSpPr/>
            <p:nvPr/>
          </p:nvGrpSpPr>
          <p:grpSpPr>
            <a:xfrm>
              <a:off x="2843280" y="1449360"/>
              <a:ext cx="720720" cy="792000"/>
              <a:chOff x="2843280" y="1449360"/>
              <a:chExt cx="720720" cy="792000"/>
            </a:xfrm>
          </p:grpSpPr>
          <p:grpSp>
            <p:nvGrpSpPr>
              <p:cNvPr id="234" name="Group 10"/>
              <p:cNvGrpSpPr/>
              <p:nvPr/>
            </p:nvGrpSpPr>
            <p:grpSpPr>
              <a:xfrm>
                <a:off x="2843280" y="1520640"/>
                <a:ext cx="720720" cy="720720"/>
                <a:chOff x="2843280" y="1520640"/>
                <a:chExt cx="720720" cy="720720"/>
              </a:xfrm>
            </p:grpSpPr>
            <p:sp>
              <p:nvSpPr>
                <p:cNvPr id="235" name="Line 11"/>
                <p:cNvSpPr/>
                <p:nvPr/>
              </p:nvSpPr>
              <p:spPr>
                <a:xfrm>
                  <a:off x="2843280" y="1520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2"/>
                <p:cNvSpPr/>
                <p:nvPr/>
              </p:nvSpPr>
              <p:spPr>
                <a:xfrm>
                  <a:off x="2843280" y="1881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Rectangle 13"/>
              <p:cNvSpPr/>
              <p:nvPr/>
            </p:nvSpPr>
            <p:spPr>
              <a:xfrm>
                <a:off x="2918520" y="1449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ctangle 14"/>
            <p:cNvSpPr/>
            <p:nvPr/>
          </p:nvSpPr>
          <p:spPr>
            <a:xfrm>
              <a:off x="3024360" y="1881000"/>
              <a:ext cx="414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2270880" y="173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>
              <a:off x="2340000" y="2168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2232000" y="2239920"/>
              <a:ext cx="457200" cy="387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38"/>
          <p:cNvSpPr/>
          <p:nvPr/>
        </p:nvSpPr>
        <p:spPr>
          <a:xfrm>
            <a:off x="5688000" y="108900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851040" y="4473720"/>
            <a:ext cx="182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1369080" y="4184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2341080" y="4186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2591280" y="4473720"/>
            <a:ext cx="48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4"/>
          <p:cNvSpPr/>
          <p:nvPr/>
        </p:nvSpPr>
        <p:spPr>
          <a:xfrm rot="14332800">
            <a:off x="2807280" y="1943280"/>
            <a:ext cx="360360" cy="1717920"/>
          </a:xfrm>
          <a:prstGeom prst="upArrow">
            <a:avLst>
              <a:gd name="adj1" fmla="val 50000"/>
              <a:gd name="adj2" fmla="val 1191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3"/>
          <p:cNvSpPr/>
          <p:nvPr/>
        </p:nvSpPr>
        <p:spPr>
          <a:xfrm>
            <a:off x="1871640" y="2492280"/>
            <a:ext cx="4572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6"/>
          <p:cNvSpPr/>
          <p:nvPr/>
        </p:nvSpPr>
        <p:spPr>
          <a:xfrm>
            <a:off x="4573440" y="3897360"/>
            <a:ext cx="511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9280" y="9036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3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6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дроб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97160" y="981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40080" y="4653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908360" y="9810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410840" y="5516640"/>
            <a:ext cx="118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1447920" y="5229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1 -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2990520" y="52293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081600" y="551664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5 + 0,125 = 5,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1835280" y="177336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1908360" y="177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908000" y="1808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872360" y="2097000"/>
            <a:ext cx="9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1835280" y="288936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1908000" y="2889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1908000" y="2924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1908000" y="3249720"/>
            <a:ext cx="7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1800360" y="4041720"/>
            <a:ext cx="9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1908000" y="40417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1908000" y="407664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5"/>
          <p:cNvSpPr/>
          <p:nvPr/>
        </p:nvSpPr>
        <p:spPr>
          <a:xfrm rot="10800000">
            <a:off x="1294920" y="1736280"/>
            <a:ext cx="289080" cy="2698920"/>
          </a:xfrm>
          <a:prstGeom prst="upArrow">
            <a:avLst>
              <a:gd name="adj1" fmla="val 50000"/>
              <a:gd name="adj2" fmla="val 233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4500360" y="98100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4503240" y="1341360"/>
            <a:ext cx="312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11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(0110)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419640" y="2205000"/>
            <a:ext cx="54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дробные числа нельзя представить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х д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3419640" y="3032280"/>
            <a:ext cx="5400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их точного хранения треб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сконеч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исло раз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3419640" y="3860640"/>
            <a:ext cx="54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инство дробных чисел хранится в памяти с оши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6"/>
          <p:cNvGrpSpPr/>
          <p:nvPr/>
        </p:nvGrpSpPr>
        <p:grpSpPr>
          <a:xfrm>
            <a:off x="4643280" y="4581360"/>
            <a:ext cx="2881440" cy="844560"/>
            <a:chOff x="4643280" y="4581360"/>
            <a:chExt cx="2881440" cy="844560"/>
          </a:xfrm>
        </p:grpSpPr>
        <p:sp>
          <p:nvSpPr>
            <p:cNvPr id="278" name="AutoShape 11"/>
            <p:cNvSpPr/>
            <p:nvPr/>
          </p:nvSpPr>
          <p:spPr>
            <a:xfrm>
              <a:off x="4643280" y="4689360"/>
              <a:ext cx="2881440" cy="684360"/>
            </a:xfrm>
            <a:prstGeom prst="wedgeRoundRectCallout">
              <a:avLst>
                <a:gd name="adj1" fmla="val -33138"/>
                <a:gd name="adj2" fmla="val 8318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45"/>
            <p:cNvGrpSpPr/>
            <p:nvPr/>
          </p:nvGrpSpPr>
          <p:grpSpPr>
            <a:xfrm>
              <a:off x="4772160" y="4581360"/>
              <a:ext cx="2619000" cy="844560"/>
              <a:chOff x="4772160" y="4581360"/>
              <a:chExt cx="2619000" cy="844560"/>
            </a:xfrm>
          </p:grpSpPr>
          <p:sp>
            <p:nvSpPr>
              <p:cNvPr id="280" name="Rectangle 32"/>
              <p:cNvSpPr/>
              <p:nvPr/>
            </p:nvSpPr>
            <p:spPr>
              <a:xfrm>
                <a:off x="4772160" y="4761000"/>
                <a:ext cx="261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2800" spc="-1" strike="noStrike" baseline="30000">
                    <a:solidFill>
                      <a:srgbClr val="ff0000"/>
                    </a:solidFill>
                    <a:latin typeface="Arial"/>
                  </a:rPr>
                  <a:t>-2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=        = 0,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Group 38"/>
              <p:cNvGrpSpPr/>
              <p:nvPr/>
            </p:nvGrpSpPr>
            <p:grpSpPr>
              <a:xfrm>
                <a:off x="5545440" y="4581360"/>
                <a:ext cx="755640" cy="844560"/>
                <a:chOff x="5545440" y="4581360"/>
                <a:chExt cx="755640" cy="844560"/>
              </a:xfrm>
            </p:grpSpPr>
            <p:sp>
              <p:nvSpPr>
                <p:cNvPr id="282" name="Rectangle 33"/>
                <p:cNvSpPr/>
                <p:nvPr/>
              </p:nvSpPr>
              <p:spPr>
                <a:xfrm>
                  <a:off x="5807880" y="4905360"/>
                  <a:ext cx="49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ru-RU" sz="2800" spc="-1" strike="noStrike" baseline="30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35"/>
                <p:cNvSpPr/>
                <p:nvPr/>
              </p:nvSpPr>
              <p:spPr>
                <a:xfrm>
                  <a:off x="5545440" y="45813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37"/>
                <p:cNvSpPr/>
                <p:nvPr/>
              </p:nvSpPr>
              <p:spPr>
                <a:xfrm flipH="1">
                  <a:off x="5724000" y="4834080"/>
                  <a:ext cx="289080" cy="28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5" name="Rectangle 44"/>
          <p:cNvSpPr/>
          <p:nvPr/>
        </p:nvSpPr>
        <p:spPr>
          <a:xfrm>
            <a:off x="3141360" y="981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011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7700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62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36608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87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од чисе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двоичной системы счисления в восьмеричную и шестнадцатеричную систему счис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324000" y="1484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008000" y="26028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8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риады, начиная с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триаду заменить восьмеричной цифр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23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1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9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704880" y="4435560"/>
            <a:ext cx="693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135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2097360" y="2852640"/>
            <a:ext cx="465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0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32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11520" y="2023920"/>
            <a:ext cx="663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2"/>
          <p:cNvSpPr/>
          <p:nvPr/>
        </p:nvSpPr>
        <p:spPr>
          <a:xfrm>
            <a:off x="358920" y="1268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536400" y="2023920"/>
            <a:ext cx="351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4427640" y="2744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      7      2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4103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5148360" y="2060640"/>
            <a:ext cx="97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6119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7164360" y="2060640"/>
            <a:ext cx="1152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 rot="16200000">
            <a:off x="4400640" y="226764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6"/>
          <p:cNvSpPr/>
          <p:nvPr/>
        </p:nvSpPr>
        <p:spPr>
          <a:xfrm rot="16200000">
            <a:off x="548172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7"/>
          <p:cNvSpPr/>
          <p:nvPr/>
        </p:nvSpPr>
        <p:spPr>
          <a:xfrm rot="16200000">
            <a:off x="645336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 rot="16200000">
            <a:off x="753300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5"/>
          <p:cNvSpPr/>
          <p:nvPr/>
        </p:nvSpPr>
        <p:spPr>
          <a:xfrm>
            <a:off x="179280" y="189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8-ой СС в 2-ую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восьмеричную цифру заменить на соответствующую двоичную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иа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1722960" y="3573360"/>
            <a:ext cx="5620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0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1440" y="1015920"/>
            <a:ext cx="372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101010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423360" y="1773360"/>
            <a:ext cx="346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01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473400" y="2492280"/>
            <a:ext cx="321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36120" y="335772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6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708480" y="41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48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08480" y="50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3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>
            <a:off x="358920" y="1916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89000"/>
            <a:ext cx="8140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о перевода из 16-ой СС в 2-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ить каждую шестнадцатеричную цифр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оответствующую двоичную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етра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154440" y="2313000"/>
            <a:ext cx="3731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4176720" y="3033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F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780000" y="2349360"/>
            <a:ext cx="122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1"/>
          <p:cNvSpPr/>
          <p:nvPr/>
        </p:nvSpPr>
        <p:spPr>
          <a:xfrm rot="16200000">
            <a:off x="4178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8"/>
          <p:cNvSpPr/>
          <p:nvPr/>
        </p:nvSpPr>
        <p:spPr>
          <a:xfrm rot="16200000">
            <a:off x="5510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504036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0"/>
          <p:cNvSpPr/>
          <p:nvPr/>
        </p:nvSpPr>
        <p:spPr>
          <a:xfrm>
            <a:off x="630072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1"/>
          <p:cNvSpPr/>
          <p:nvPr/>
        </p:nvSpPr>
        <p:spPr>
          <a:xfrm>
            <a:off x="7561440" y="2349360"/>
            <a:ext cx="13665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 rot="16200000">
            <a:off x="673452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3"/>
          <p:cNvSpPr/>
          <p:nvPr/>
        </p:nvSpPr>
        <p:spPr>
          <a:xfrm rot="16200000">
            <a:off x="799488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950400" y="3789360"/>
            <a:ext cx="719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100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324000" y="1700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95280" y="189000"/>
            <a:ext cx="8140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16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етрады, начиная спра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ждую тетраду записать одной  шестнадцатеричной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73400" y="1844640"/>
            <a:ext cx="65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2133360" y="2924280"/>
            <a:ext cx="478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0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110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48580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363204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4779720" y="3537000"/>
            <a:ext cx="485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5978880" y="3537000"/>
            <a:ext cx="459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645480" y="4400640"/>
            <a:ext cx="690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406080" y="1052640"/>
            <a:ext cx="4740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0101101010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33000" y="180828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001101111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68640" y="256536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10110101111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80" y="3357720"/>
            <a:ext cx="1986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73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64120" y="4184640"/>
            <a:ext cx="190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FE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507440" y="4156200"/>
            <a:ext cx="1565280" cy="270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079640" y="2197080"/>
            <a:ext cx="626400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216000" y="72864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Славянская кириллическая система счислен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а создана в IX веке вместе со славянской алфавитной систем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перевода священных библейских книг греческими монах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тьями Кириллом и Мефод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376200" y="795240"/>
            <a:ext cx="6896160" cy="5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д чисел из 16-ой СС в 8-ую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1143000" y="2097000"/>
            <a:ext cx="203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3238560" y="2143080"/>
            <a:ext cx="4465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 1101 1110 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016000" y="873000"/>
            <a:ext cx="594000" cy="528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5651640" y="944640"/>
            <a:ext cx="476280" cy="423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6"/>
          <p:cNvSpPr/>
          <p:nvPr/>
        </p:nvSpPr>
        <p:spPr>
          <a:xfrm>
            <a:off x="3816360" y="944640"/>
            <a:ext cx="536400" cy="4762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511560" y="14842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еревести в двоичную сис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543240" y="278136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азбить на три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511920" y="400356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Триада – одна восьмеричная циф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2050920" y="3355920"/>
            <a:ext cx="4788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2124360" y="4579920"/>
            <a:ext cx="358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367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право 20"/>
          <p:cNvSpPr/>
          <p:nvPr/>
        </p:nvSpPr>
        <p:spPr>
          <a:xfrm>
            <a:off x="2771640" y="1089000"/>
            <a:ext cx="900360" cy="2523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право 21"/>
          <p:cNvSpPr/>
          <p:nvPr/>
        </p:nvSpPr>
        <p:spPr>
          <a:xfrm>
            <a:off x="4608360" y="1089000"/>
            <a:ext cx="900360" cy="2523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"/>
          <p:cNvSpPr/>
          <p:nvPr/>
        </p:nvSpPr>
        <p:spPr>
          <a:xfrm>
            <a:off x="179280" y="526572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48280" y="6006960"/>
            <a:ext cx="2814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3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962320" y="6021360"/>
            <a:ext cx="2721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95280" y="540864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позиционных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5005080" y="98568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68360" y="1628640"/>
            <a:ext cx="385128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0=0  0+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+0=1  1+1=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1 + 1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5003640" y="1665360"/>
            <a:ext cx="38163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-0=0  1-1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0=1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4032360" y="1881360"/>
            <a:ext cx="1260360" cy="431640"/>
          </a:xfrm>
          <a:prstGeom prst="wedgeRoundRectCallout">
            <a:avLst>
              <a:gd name="adj1" fmla="val -78717"/>
              <a:gd name="adj2" fmla="val 897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2"/>
          <p:cNvSpPr/>
          <p:nvPr/>
        </p:nvSpPr>
        <p:spPr>
          <a:xfrm>
            <a:off x="5724360" y="3249720"/>
            <a:ext cx="1260720" cy="431640"/>
          </a:xfrm>
          <a:prstGeom prst="wedgeRoundRectCallout">
            <a:avLst>
              <a:gd name="adj1" fmla="val 36273"/>
              <a:gd name="adj2" fmla="val -919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912600" y="4473720"/>
            <a:ext cx="2881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>
            <a:off x="792000" y="573408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24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"/>
          <p:cNvSpPr/>
          <p:nvPr/>
        </p:nvSpPr>
        <p:spPr>
          <a:xfrm>
            <a:off x="208080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8"/>
          <p:cNvSpPr/>
          <p:nvPr/>
        </p:nvSpPr>
        <p:spPr>
          <a:xfrm>
            <a:off x="2846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2450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0"/>
          <p:cNvSpPr/>
          <p:nvPr/>
        </p:nvSpPr>
        <p:spPr>
          <a:xfrm>
            <a:off x="248724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1"/>
          <p:cNvSpPr/>
          <p:nvPr/>
        </p:nvSpPr>
        <p:spPr>
          <a:xfrm>
            <a:off x="2054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2"/>
          <p:cNvSpPr/>
          <p:nvPr/>
        </p:nvSpPr>
        <p:spPr>
          <a:xfrm>
            <a:off x="1658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865080" y="5718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126180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3504960" y="5877000"/>
            <a:ext cx="328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4837320" y="4545000"/>
            <a:ext cx="3248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8"/>
          <p:cNvSpPr/>
          <p:nvPr/>
        </p:nvSpPr>
        <p:spPr>
          <a:xfrm>
            <a:off x="4967280" y="57690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54"/>
          <p:cNvGrpSpPr/>
          <p:nvPr/>
        </p:nvGrpSpPr>
        <p:grpSpPr>
          <a:xfrm>
            <a:off x="7526160" y="5732640"/>
            <a:ext cx="627120" cy="898920"/>
            <a:chOff x="7526160" y="5732640"/>
            <a:chExt cx="627120" cy="898920"/>
          </a:xfrm>
        </p:grpSpPr>
        <p:sp>
          <p:nvSpPr>
            <p:cNvPr id="393" name="Rectangle 39"/>
            <p:cNvSpPr/>
            <p:nvPr/>
          </p:nvSpPr>
          <p:spPr>
            <a:xfrm>
              <a:off x="7526160" y="573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0"/>
            <p:cNvSpPr/>
            <p:nvPr/>
          </p:nvSpPr>
          <p:spPr>
            <a:xfrm>
              <a:off x="7824600" y="591336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41"/>
          <p:cNvSpPr/>
          <p:nvPr/>
        </p:nvSpPr>
        <p:spPr>
          <a:xfrm>
            <a:off x="71434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2"/>
          <p:cNvSpPr/>
          <p:nvPr/>
        </p:nvSpPr>
        <p:spPr>
          <a:xfrm>
            <a:off x="523296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3"/>
          <p:cNvSpPr/>
          <p:nvPr/>
        </p:nvSpPr>
        <p:spPr>
          <a:xfrm>
            <a:off x="674604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4"/>
          <p:cNvSpPr/>
          <p:nvPr/>
        </p:nvSpPr>
        <p:spPr>
          <a:xfrm>
            <a:off x="6773040" y="425592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5"/>
          <p:cNvSpPr/>
          <p:nvPr/>
        </p:nvSpPr>
        <p:spPr>
          <a:xfrm>
            <a:off x="637524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6"/>
          <p:cNvSpPr/>
          <p:nvPr/>
        </p:nvSpPr>
        <p:spPr>
          <a:xfrm>
            <a:off x="675936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7"/>
          <p:cNvSpPr/>
          <p:nvPr/>
        </p:nvSpPr>
        <p:spPr>
          <a:xfrm>
            <a:off x="5260680" y="4255920"/>
            <a:ext cx="156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   1   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8"/>
          <p:cNvSpPr/>
          <p:nvPr/>
        </p:nvSpPr>
        <p:spPr>
          <a:xfrm>
            <a:off x="599112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9"/>
          <p:cNvSpPr/>
          <p:nvPr/>
        </p:nvSpPr>
        <p:spPr>
          <a:xfrm>
            <a:off x="560700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0"/>
          <p:cNvSpPr/>
          <p:nvPr/>
        </p:nvSpPr>
        <p:spPr>
          <a:xfrm>
            <a:off x="52228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1"/>
          <p:cNvSpPr/>
          <p:nvPr/>
        </p:nvSpPr>
        <p:spPr>
          <a:xfrm>
            <a:off x="1676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2"/>
          <p:cNvSpPr/>
          <p:nvPr/>
        </p:nvSpPr>
        <p:spPr>
          <a:xfrm>
            <a:off x="1271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3"/>
          <p:cNvSpPr/>
          <p:nvPr/>
        </p:nvSpPr>
        <p:spPr>
          <a:xfrm>
            <a:off x="86652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5"/>
          <p:cNvSpPr/>
          <p:nvPr/>
        </p:nvSpPr>
        <p:spPr>
          <a:xfrm>
            <a:off x="680400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6"/>
          <p:cNvSpPr/>
          <p:nvPr/>
        </p:nvSpPr>
        <p:spPr>
          <a:xfrm>
            <a:off x="640872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7"/>
          <p:cNvSpPr/>
          <p:nvPr/>
        </p:nvSpPr>
        <p:spPr>
          <a:xfrm>
            <a:off x="604836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8"/>
          <p:cNvSpPr/>
          <p:nvPr/>
        </p:nvSpPr>
        <p:spPr>
          <a:xfrm>
            <a:off x="565164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9"/>
          <p:cNvSpPr/>
          <p:nvPr/>
        </p:nvSpPr>
        <p:spPr>
          <a:xfrm>
            <a:off x="525636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2"/>
          <p:cNvGrpSpPr/>
          <p:nvPr/>
        </p:nvGrpSpPr>
        <p:grpSpPr>
          <a:xfrm>
            <a:off x="755640" y="1052640"/>
            <a:ext cx="3421080" cy="2412720"/>
            <a:chOff x="755640" y="1052640"/>
            <a:chExt cx="3421080" cy="2412720"/>
          </a:xfrm>
        </p:grpSpPr>
        <p:sp>
          <p:nvSpPr>
            <p:cNvPr id="416" name="Rectangle 6"/>
            <p:cNvSpPr/>
            <p:nvPr/>
          </p:nvSpPr>
          <p:spPr>
            <a:xfrm>
              <a:off x="75564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7"/>
            <p:cNvSpPr/>
            <p:nvPr/>
          </p:nvSpPr>
          <p:spPr>
            <a:xfrm>
              <a:off x="104292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3"/>
          <p:cNvGrpSpPr/>
          <p:nvPr/>
        </p:nvGrpSpPr>
        <p:grpSpPr>
          <a:xfrm>
            <a:off x="4788000" y="1052640"/>
            <a:ext cx="3421080" cy="2412720"/>
            <a:chOff x="4788000" y="1052640"/>
            <a:chExt cx="3421080" cy="2412720"/>
          </a:xfrm>
        </p:grpSpPr>
        <p:sp>
          <p:nvSpPr>
            <p:cNvPr id="419" name="Rectangle 14"/>
            <p:cNvSpPr/>
            <p:nvPr/>
          </p:nvSpPr>
          <p:spPr>
            <a:xfrm>
              <a:off x="478800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0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>
              <a:off x="507528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"/>
          <p:cNvGrpSpPr/>
          <p:nvPr/>
        </p:nvGrpSpPr>
        <p:grpSpPr>
          <a:xfrm>
            <a:off x="755640" y="3897360"/>
            <a:ext cx="3421080" cy="2412720"/>
            <a:chOff x="755640" y="3897360"/>
            <a:chExt cx="3421080" cy="2412720"/>
          </a:xfrm>
        </p:grpSpPr>
        <p:sp>
          <p:nvSpPr>
            <p:cNvPr id="422" name="Rectangle 17"/>
            <p:cNvSpPr/>
            <p:nvPr/>
          </p:nvSpPr>
          <p:spPr>
            <a:xfrm>
              <a:off x="75564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8"/>
            <p:cNvSpPr/>
            <p:nvPr/>
          </p:nvSpPr>
          <p:spPr>
            <a:xfrm>
              <a:off x="104292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9"/>
          <p:cNvGrpSpPr/>
          <p:nvPr/>
        </p:nvGrpSpPr>
        <p:grpSpPr>
          <a:xfrm>
            <a:off x="4788000" y="3897360"/>
            <a:ext cx="3421080" cy="2412720"/>
            <a:chOff x="4788000" y="3897360"/>
            <a:chExt cx="3421080" cy="2412720"/>
          </a:xfrm>
        </p:grpSpPr>
        <p:sp>
          <p:nvSpPr>
            <p:cNvPr id="425" name="Rectangle 20"/>
            <p:cNvSpPr/>
            <p:nvPr/>
          </p:nvSpPr>
          <p:spPr>
            <a:xfrm>
              <a:off x="478800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>
              <a:off x="507528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430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433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6"/>
          <p:cNvGrpSpPr/>
          <p:nvPr/>
        </p:nvGrpSpPr>
        <p:grpSpPr>
          <a:xfrm>
            <a:off x="5040360" y="3720960"/>
            <a:ext cx="3421080" cy="2412720"/>
            <a:chOff x="5040360" y="3720960"/>
            <a:chExt cx="3421080" cy="2412720"/>
          </a:xfrm>
        </p:grpSpPr>
        <p:sp>
          <p:nvSpPr>
            <p:cNvPr id="436" name="Rectangle 17"/>
            <p:cNvSpPr/>
            <p:nvPr/>
          </p:nvSpPr>
          <p:spPr>
            <a:xfrm>
              <a:off x="504036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532764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Стрелка вниз 13"/>
          <p:cNvSpPr/>
          <p:nvPr/>
        </p:nvSpPr>
        <p:spPr>
          <a:xfrm>
            <a:off x="6616800" y="3282840"/>
            <a:ext cx="438120" cy="584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792000" y="3720960"/>
            <a:ext cx="3421080" cy="2412720"/>
            <a:chOff x="792000" y="3720960"/>
            <a:chExt cx="3421080" cy="2412720"/>
          </a:xfrm>
        </p:grpSpPr>
        <p:sp>
          <p:nvSpPr>
            <p:cNvPr id="440" name="Rectangle 5"/>
            <p:cNvSpPr/>
            <p:nvPr/>
          </p:nvSpPr>
          <p:spPr>
            <a:xfrm>
              <a:off x="79200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>
              <a:off x="107928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8"/>
          <p:cNvSpPr/>
          <p:nvPr/>
        </p:nvSpPr>
        <p:spPr>
          <a:xfrm>
            <a:off x="7453440" y="2781360"/>
            <a:ext cx="97128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7"/>
          <p:cNvSpPr/>
          <p:nvPr/>
        </p:nvSpPr>
        <p:spPr>
          <a:xfrm>
            <a:off x="755640" y="4834080"/>
            <a:ext cx="298764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97080" y="1125360"/>
            <a:ext cx="1872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217560" y="1125360"/>
            <a:ext cx="1447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1146960" y="2276640"/>
            <a:ext cx="2593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46400" y="3500280"/>
            <a:ext cx="3245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8"/>
          <p:cNvSpPr/>
          <p:nvPr/>
        </p:nvSpPr>
        <p:spPr>
          <a:xfrm>
            <a:off x="719280" y="3500280"/>
            <a:ext cx="342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0"/>
          <p:cNvSpPr/>
          <p:nvPr/>
        </p:nvSpPr>
        <p:spPr>
          <a:xfrm>
            <a:off x="839160" y="4834080"/>
            <a:ext cx="286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0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1"/>
          <p:cNvSpPr/>
          <p:nvPr/>
        </p:nvSpPr>
        <p:spPr>
          <a:xfrm>
            <a:off x="539640" y="4761000"/>
            <a:ext cx="342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2"/>
          <p:cNvSpPr/>
          <p:nvPr/>
        </p:nvSpPr>
        <p:spPr>
          <a:xfrm>
            <a:off x="4837680" y="2097000"/>
            <a:ext cx="2486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7380360" y="2168640"/>
            <a:ext cx="1476360" cy="1116000"/>
            <a:chOff x="7380360" y="2168640"/>
            <a:chExt cx="1476360" cy="1116000"/>
          </a:xfrm>
        </p:grpSpPr>
        <p:sp>
          <p:nvSpPr>
            <p:cNvPr id="455" name="Line 43"/>
            <p:cNvSpPr/>
            <p:nvPr/>
          </p:nvSpPr>
          <p:spPr>
            <a:xfrm>
              <a:off x="7380360" y="216864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4"/>
            <p:cNvSpPr/>
            <p:nvPr/>
          </p:nvSpPr>
          <p:spPr>
            <a:xfrm>
              <a:off x="7380360" y="2708280"/>
              <a:ext cx="14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47"/>
          <p:cNvSpPr/>
          <p:nvPr/>
        </p:nvSpPr>
        <p:spPr>
          <a:xfrm>
            <a:off x="7429320" y="2097000"/>
            <a:ext cx="1344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8"/>
          <p:cNvSpPr/>
          <p:nvPr/>
        </p:nvSpPr>
        <p:spPr>
          <a:xfrm>
            <a:off x="7454880" y="27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9"/>
          <p:cNvGrpSpPr/>
          <p:nvPr/>
        </p:nvGrpSpPr>
        <p:grpSpPr>
          <a:xfrm>
            <a:off x="7813440" y="2744640"/>
            <a:ext cx="592200" cy="934200"/>
            <a:chOff x="7813440" y="2744640"/>
            <a:chExt cx="592200" cy="934200"/>
          </a:xfrm>
        </p:grpSpPr>
        <p:sp>
          <p:nvSpPr>
            <p:cNvPr id="460" name="Rectangle 49"/>
            <p:cNvSpPr/>
            <p:nvPr/>
          </p:nvSpPr>
          <p:spPr>
            <a:xfrm>
              <a:off x="7813440" y="2744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8076960" y="296064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Line 51"/>
          <p:cNvSpPr/>
          <p:nvPr/>
        </p:nvSpPr>
        <p:spPr>
          <a:xfrm>
            <a:off x="5256360" y="3321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3"/>
          <p:cNvSpPr/>
          <p:nvPr/>
        </p:nvSpPr>
        <p:spPr>
          <a:xfrm>
            <a:off x="5592600" y="3321000"/>
            <a:ext cx="1725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>
            <a:off x="5400720" y="4545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6"/>
          <p:cNvSpPr/>
          <p:nvPr/>
        </p:nvSpPr>
        <p:spPr>
          <a:xfrm>
            <a:off x="6770520" y="45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8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745440" y="94464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179280" y="1305000"/>
            <a:ext cx="2880000" cy="23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5 6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6 6 2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33020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1928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647640" y="2925720"/>
            <a:ext cx="22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3708360" y="1587600"/>
            <a:ext cx="48592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2 = 8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+ 6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863640" y="765000"/>
            <a:ext cx="3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3"/>
          <p:cNvSpPr/>
          <p:nvPr/>
        </p:nvSpPr>
        <p:spPr>
          <a:xfrm>
            <a:off x="7236000" y="1587600"/>
            <a:ext cx="1763640" cy="43164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6443640" y="90324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179856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2303640" y="2889360"/>
            <a:ext cx="730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125892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176364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3"/>
          <p:cNvSpPr/>
          <p:nvPr/>
        </p:nvSpPr>
        <p:spPr>
          <a:xfrm>
            <a:off x="6985080" y="3711600"/>
            <a:ext cx="1763640" cy="431640"/>
          </a:xfrm>
          <a:prstGeom prst="wedgeRoundRectCallout">
            <a:avLst>
              <a:gd name="adj1" fmla="val -46671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8"/>
          <p:cNvGrpSpPr/>
          <p:nvPr/>
        </p:nvGrpSpPr>
        <p:grpSpPr>
          <a:xfrm>
            <a:off x="2843280" y="4581360"/>
            <a:ext cx="2378160" cy="2097360"/>
            <a:chOff x="2843280" y="4581360"/>
            <a:chExt cx="2378160" cy="2097360"/>
          </a:xfrm>
        </p:grpSpPr>
        <p:sp>
          <p:nvSpPr>
            <p:cNvPr id="483" name="Rectangle 5"/>
            <p:cNvSpPr/>
            <p:nvPr/>
          </p:nvSpPr>
          <p:spPr>
            <a:xfrm>
              <a:off x="2843280" y="4581360"/>
              <a:ext cx="237816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3221280" y="5949360"/>
              <a:ext cx="18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9"/>
          <p:cNvGrpSpPr/>
          <p:nvPr/>
        </p:nvGrpSpPr>
        <p:grpSpPr>
          <a:xfrm>
            <a:off x="5616720" y="4616280"/>
            <a:ext cx="2377800" cy="2097360"/>
            <a:chOff x="5616720" y="4616280"/>
            <a:chExt cx="2377800" cy="2097360"/>
          </a:xfrm>
        </p:grpSpPr>
        <p:sp>
          <p:nvSpPr>
            <p:cNvPr id="486" name="Rectangle 20"/>
            <p:cNvSpPr/>
            <p:nvPr/>
          </p:nvSpPr>
          <p:spPr>
            <a:xfrm>
              <a:off x="5616720" y="4616280"/>
              <a:ext cx="237780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1"/>
            <p:cNvSpPr/>
            <p:nvPr/>
          </p:nvSpPr>
          <p:spPr>
            <a:xfrm>
              <a:off x="5994720" y="5984280"/>
              <a:ext cx="188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3"/>
          <p:cNvSpPr/>
          <p:nvPr/>
        </p:nvSpPr>
        <p:spPr>
          <a:xfrm>
            <a:off x="358920" y="4184640"/>
            <a:ext cx="64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2628720" y="18900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68360" y="800280"/>
            <a:ext cx="291636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06424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900000" y="2421000"/>
            <a:ext cx="233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3708360" y="836640"/>
            <a:ext cx="489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4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59768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2"/>
          <p:cNvSpPr/>
          <p:nvPr/>
        </p:nvSpPr>
        <p:spPr>
          <a:xfrm>
            <a:off x="5040360" y="189000"/>
            <a:ext cx="971640" cy="431640"/>
          </a:xfrm>
          <a:prstGeom prst="wedgeRoundRectCallout">
            <a:avLst>
              <a:gd name="adj1" fmla="val -65361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2572560" y="2384280"/>
            <a:ext cx="71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151344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201852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8"/>
          <p:cNvSpPr/>
          <p:nvPr/>
        </p:nvSpPr>
        <p:spPr>
          <a:xfrm>
            <a:off x="6804000" y="1052640"/>
            <a:ext cx="971640" cy="431640"/>
          </a:xfrm>
          <a:prstGeom prst="wedgeRoundRectCallout">
            <a:avLst>
              <a:gd name="adj1" fmla="val -169115"/>
              <a:gd name="adj2" fmla="val 1176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0"/>
          <p:cNvGrpSpPr/>
          <p:nvPr/>
        </p:nvGrpSpPr>
        <p:grpSpPr>
          <a:xfrm>
            <a:off x="539640" y="4040280"/>
            <a:ext cx="2990880" cy="2484360"/>
            <a:chOff x="539640" y="4040280"/>
            <a:chExt cx="2990880" cy="2484360"/>
          </a:xfrm>
        </p:grpSpPr>
        <p:sp>
          <p:nvSpPr>
            <p:cNvPr id="501" name="Rectangle 4"/>
            <p:cNvSpPr/>
            <p:nvPr/>
          </p:nvSpPr>
          <p:spPr>
            <a:xfrm>
              <a:off x="53964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104616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1"/>
          <p:cNvGrpSpPr/>
          <p:nvPr/>
        </p:nvGrpSpPr>
        <p:grpSpPr>
          <a:xfrm>
            <a:off x="5148360" y="4040280"/>
            <a:ext cx="2990880" cy="2484360"/>
            <a:chOff x="5148360" y="4040280"/>
            <a:chExt cx="2990880" cy="2484360"/>
          </a:xfrm>
        </p:grpSpPr>
        <p:sp>
          <p:nvSpPr>
            <p:cNvPr id="504" name="Rectangle 12"/>
            <p:cNvSpPr/>
            <p:nvPr/>
          </p:nvSpPr>
          <p:spPr>
            <a:xfrm>
              <a:off x="514836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3"/>
            <p:cNvSpPr/>
            <p:nvPr/>
          </p:nvSpPr>
          <p:spPr>
            <a:xfrm>
              <a:off x="565488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3"/>
          <p:cNvSpPr/>
          <p:nvPr/>
        </p:nvSpPr>
        <p:spPr>
          <a:xfrm>
            <a:off x="431640" y="346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900000" y="1665360"/>
            <a:ext cx="270036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C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577260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7"/>
          <p:cNvSpPr/>
          <p:nvPr/>
        </p:nvSpPr>
        <p:spPr>
          <a:xfrm>
            <a:off x="1396440" y="2960640"/>
            <a:ext cx="21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6 D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8"/>
          <p:cNvSpPr/>
          <p:nvPr/>
        </p:nvSpPr>
        <p:spPr>
          <a:xfrm>
            <a:off x="1547640" y="2997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9"/>
          <p:cNvSpPr/>
          <p:nvPr/>
        </p:nvSpPr>
        <p:spPr>
          <a:xfrm>
            <a:off x="4176720" y="1665360"/>
            <a:ext cx="287964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0"/>
          <p:cNvSpPr/>
          <p:nvPr/>
        </p:nvSpPr>
        <p:spPr>
          <a:xfrm>
            <a:off x="468000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1"/>
          <p:cNvSpPr/>
          <p:nvPr/>
        </p:nvSpPr>
        <p:spPr>
          <a:xfrm>
            <a:off x="2195640" y="4581360"/>
            <a:ext cx="486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14=25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+7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+12=22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3"/>
          <p:cNvSpPr/>
          <p:nvPr/>
        </p:nvSpPr>
        <p:spPr>
          <a:xfrm>
            <a:off x="4585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8"/>
          <p:cNvSpPr/>
          <p:nvPr/>
        </p:nvSpPr>
        <p:spPr>
          <a:xfrm>
            <a:off x="4824360" y="3897360"/>
            <a:ext cx="1763640" cy="43164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4"/>
          <p:cNvSpPr/>
          <p:nvPr/>
        </p:nvSpPr>
        <p:spPr>
          <a:xfrm>
            <a:off x="4967280" y="515772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6"/>
          <p:cNvSpPr/>
          <p:nvPr/>
        </p:nvSpPr>
        <p:spPr>
          <a:xfrm>
            <a:off x="561888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7"/>
          <p:cNvSpPr/>
          <p:nvPr/>
        </p:nvSpPr>
        <p:spPr>
          <a:xfrm>
            <a:off x="651852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8"/>
          <p:cNvSpPr/>
          <p:nvPr/>
        </p:nvSpPr>
        <p:spPr>
          <a:xfrm>
            <a:off x="507888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453744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16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757080" y="33336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647640" y="162864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9"/>
          <p:cNvSpPr/>
          <p:nvPr/>
        </p:nvSpPr>
        <p:spPr>
          <a:xfrm>
            <a:off x="3672000" y="3860640"/>
            <a:ext cx="1260360" cy="432000"/>
          </a:xfrm>
          <a:prstGeom prst="wedgeRoundRectCallout">
            <a:avLst>
              <a:gd name="adj1" fmla="val -71157"/>
              <a:gd name="adj2" fmla="val 963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5701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6"/>
          <p:cNvSpPr/>
          <p:nvPr/>
        </p:nvSpPr>
        <p:spPr>
          <a:xfrm>
            <a:off x="1325160" y="2924280"/>
            <a:ext cx="180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D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7"/>
          <p:cNvSpPr/>
          <p:nvPr/>
        </p:nvSpPr>
        <p:spPr>
          <a:xfrm>
            <a:off x="1116000" y="296064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8"/>
          <p:cNvSpPr/>
          <p:nvPr/>
        </p:nvSpPr>
        <p:spPr>
          <a:xfrm>
            <a:off x="4211640" y="1665360"/>
            <a:ext cx="280980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9"/>
          <p:cNvSpPr/>
          <p:nvPr/>
        </p:nvSpPr>
        <p:spPr>
          <a:xfrm>
            <a:off x="464508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1"/>
          <p:cNvSpPr/>
          <p:nvPr/>
        </p:nvSpPr>
        <p:spPr>
          <a:xfrm>
            <a:off x="505368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2"/>
          <p:cNvSpPr/>
          <p:nvPr/>
        </p:nvSpPr>
        <p:spPr>
          <a:xfrm>
            <a:off x="2124000" y="4292640"/>
            <a:ext cx="48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3"/>
          <p:cNvSpPr/>
          <p:nvPr/>
        </p:nvSpPr>
        <p:spPr>
          <a:xfrm>
            <a:off x="6481800" y="907920"/>
            <a:ext cx="1260360" cy="432000"/>
          </a:xfrm>
          <a:prstGeom prst="wedgeRoundRectCallout">
            <a:avLst>
              <a:gd name="adj1" fmla="val -87407"/>
              <a:gd name="adj2" fmla="val 77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5"/>
          <p:cNvSpPr/>
          <p:nvPr/>
        </p:nvSpPr>
        <p:spPr>
          <a:xfrm>
            <a:off x="558396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6"/>
          <p:cNvSpPr/>
          <p:nvPr/>
        </p:nvSpPr>
        <p:spPr>
          <a:xfrm>
            <a:off x="504396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7"/>
          <p:cNvSpPr/>
          <p:nvPr/>
        </p:nvSpPr>
        <p:spPr>
          <a:xfrm>
            <a:off x="630324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79280" y="2529000"/>
            <a:ext cx="896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а записи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цифры, записанные подряд суммируются. (подряд запис-ся не &gt;3х цифр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I=1+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меньшая цифра стоит справа от большей, то она прибавляет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 слева  - то  вычитается 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+1=6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-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чём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 может стоять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9200" y="130320"/>
            <a:ext cx="6346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Римская система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6000" y="602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шите в римской системе счисл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годняшнее число, месяц и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657360"/>
          <a:ext cx="4716720" cy="1079280"/>
        </p:xfrm>
        <a:graphic>
          <a:graphicData uri="http://schemas.openxmlformats.org/drawingml/2006/table">
            <a:tbl>
              <a:tblPr/>
              <a:tblGrid>
                <a:gridCol w="436680"/>
                <a:gridCol w="566640"/>
                <a:gridCol w="608040"/>
                <a:gridCol w="606600"/>
                <a:gridCol w="776160"/>
                <a:gridCol w="776160"/>
                <a:gridCol w="94644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262728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370800" y="432432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1332000" y="5155920"/>
            <a:ext cx="1008000" cy="936720"/>
            <a:chOff x="1332000" y="5155920"/>
            <a:chExt cx="1008000" cy="936720"/>
          </a:xfrm>
        </p:grpSpPr>
        <p:sp>
          <p:nvSpPr>
            <p:cNvPr id="64" name="Oval 20"/>
            <p:cNvSpPr/>
            <p:nvPr/>
          </p:nvSpPr>
          <p:spPr>
            <a:xfrm>
              <a:off x="133200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 flipV="1">
              <a:off x="183672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7"/>
          <p:cNvSpPr/>
          <p:nvPr/>
        </p:nvSpPr>
        <p:spPr>
          <a:xfrm>
            <a:off x="1836000" y="4329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48760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324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963240" y="4329000"/>
            <a:ext cx="6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538880" y="43290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150880" y="4329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546520" y="43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411480" y="47959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2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627880" y="4865760"/>
            <a:ext cx="24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 CCC LXXX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1451520" y="55767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2619360" y="5155920"/>
            <a:ext cx="1008000" cy="936720"/>
            <a:chOff x="2619360" y="5155920"/>
            <a:chExt cx="1008000" cy="936720"/>
          </a:xfrm>
        </p:grpSpPr>
        <p:sp>
          <p:nvSpPr>
            <p:cNvPr id="77" name="Oval 26"/>
            <p:cNvSpPr/>
            <p:nvPr/>
          </p:nvSpPr>
          <p:spPr>
            <a:xfrm>
              <a:off x="26193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V="1">
              <a:off x="31240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4"/>
          <p:cNvSpPr/>
          <p:nvPr/>
        </p:nvSpPr>
        <p:spPr>
          <a:xfrm>
            <a:off x="2707560" y="55879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3868560" y="5155920"/>
            <a:ext cx="1008000" cy="936720"/>
            <a:chOff x="3868560" y="5155920"/>
            <a:chExt cx="1008000" cy="936720"/>
          </a:xfrm>
        </p:grpSpPr>
        <p:sp>
          <p:nvSpPr>
            <p:cNvPr id="81" name="Oval 29"/>
            <p:cNvSpPr/>
            <p:nvPr/>
          </p:nvSpPr>
          <p:spPr>
            <a:xfrm>
              <a:off x="38685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 flipV="1">
              <a:off x="43732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3890880" y="55879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2"/>
          <p:cNvGrpSpPr/>
          <p:nvPr/>
        </p:nvGrpSpPr>
        <p:grpSpPr>
          <a:xfrm>
            <a:off x="4916520" y="5155920"/>
            <a:ext cx="1008000" cy="936720"/>
            <a:chOff x="4916520" y="5155920"/>
            <a:chExt cx="1008000" cy="936720"/>
          </a:xfrm>
        </p:grpSpPr>
        <p:sp>
          <p:nvSpPr>
            <p:cNvPr id="85" name="Oval 33"/>
            <p:cNvSpPr/>
            <p:nvPr/>
          </p:nvSpPr>
          <p:spPr>
            <a:xfrm>
              <a:off x="491652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V="1">
              <a:off x="542124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5"/>
          <p:cNvSpPr/>
          <p:nvPr/>
        </p:nvSpPr>
        <p:spPr>
          <a:xfrm>
            <a:off x="5187600" y="55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015600" y="4329000"/>
            <a:ext cx="9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42"/>
          <p:cNvGrpSpPr/>
          <p:nvPr/>
        </p:nvGrpSpPr>
        <p:grpSpPr>
          <a:xfrm>
            <a:off x="1332000" y="1628640"/>
            <a:ext cx="1981080" cy="900360"/>
            <a:chOff x="1332000" y="1628640"/>
            <a:chExt cx="1981080" cy="900360"/>
          </a:xfrm>
        </p:grpSpPr>
        <p:pic>
          <p:nvPicPr>
            <p:cNvPr id="90" name="Picture 2" descr=""/>
            <p:cNvPicPr/>
            <p:nvPr/>
          </p:nvPicPr>
          <p:blipFill>
            <a:blip r:embed="rId2"/>
            <a:stretch/>
          </p:blipFill>
          <p:spPr>
            <a:xfrm>
              <a:off x="1918800" y="1628640"/>
              <a:ext cx="13942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4"/>
            <p:cNvSpPr/>
            <p:nvPr/>
          </p:nvSpPr>
          <p:spPr>
            <a:xfrm>
              <a:off x="1332000" y="1629360"/>
              <a:ext cx="58680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45"/>
          <p:cNvSpPr/>
          <p:nvPr/>
        </p:nvSpPr>
        <p:spPr>
          <a:xfrm>
            <a:off x="34920" y="1820880"/>
            <a:ext cx="133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полагаемое происхождение римских циф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4176720" y="148428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5280" y="22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вянская и Римская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11480" y="87300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только в декоративных це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0" y="1233360"/>
            <a:ext cx="4427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а глав в книг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веков: 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рат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циферблате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hapter"/>
          <p:cNvPicPr/>
          <p:nvPr/>
        </p:nvPicPr>
        <p:blipFill>
          <a:blip r:embed="rId1"/>
          <a:srcRect l="0" t="0" r="798" b="16722"/>
          <a:stretch/>
        </p:blipFill>
        <p:spPr>
          <a:xfrm>
            <a:off x="3816360" y="1305000"/>
            <a:ext cx="5076720" cy="127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358920" y="3141720"/>
            <a:ext cx="3116160" cy="2073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2"/>
          <p:cNvSpPr/>
          <p:nvPr/>
        </p:nvSpPr>
        <p:spPr>
          <a:xfrm>
            <a:off x="3024360" y="4616280"/>
            <a:ext cx="1877760" cy="792360"/>
          </a:xfrm>
          <a:prstGeom prst="wedgeRoundRectCallout">
            <a:avLst>
              <a:gd name="adj1" fmla="val -83421"/>
              <a:gd name="adj2" fmla="val -5639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Суздаль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280px-Spasskaya_Tower_clock"/>
          <p:cNvPicPr/>
          <p:nvPr/>
        </p:nvPicPr>
        <p:blipFill>
          <a:blip r:embed="rId3"/>
          <a:stretch/>
        </p:blipFill>
        <p:spPr>
          <a:xfrm>
            <a:off x="5759280" y="3033720"/>
            <a:ext cx="3097440" cy="190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2"/>
          <p:cNvSpPr/>
          <p:nvPr/>
        </p:nvSpPr>
        <p:spPr>
          <a:xfrm>
            <a:off x="6948360" y="5192640"/>
            <a:ext cx="1878120" cy="757440"/>
          </a:xfrm>
          <a:prstGeom prst="wedgeRoundRectCallout">
            <a:avLst>
              <a:gd name="adj1" fmla="val 3629"/>
              <a:gd name="adj2" fmla="val -11756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Москов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15920"/>
            <a:ext cx="46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280" y="907920"/>
            <a:ext cx="7201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личество цифр)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69040" y="350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3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64000" y="3213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    1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492360" y="3141720"/>
            <a:ext cx="1079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717440" y="3141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2630880" y="2781360"/>
            <a:ext cx="3144960" cy="504720"/>
            <a:chOff x="2630880" y="2781360"/>
            <a:chExt cx="3144960" cy="504720"/>
          </a:xfrm>
        </p:grpSpPr>
        <p:sp>
          <p:nvSpPr>
            <p:cNvPr id="110" name="Rectangle 11"/>
            <p:cNvSpPr/>
            <p:nvPr/>
          </p:nvSpPr>
          <p:spPr>
            <a:xfrm>
              <a:off x="2630880" y="2781360"/>
              <a:ext cx="31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тни   десятки   еди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327636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442692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068720" y="30704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457560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855960" y="4078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3063240" y="4078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40687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500720" y="38624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>
            <a:off x="3492360" y="38624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716360" y="35020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4751280" y="189000"/>
            <a:ext cx="39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начение цифры определяется ее позицией в записи чис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go4.imgsmail.ru/imgpreview?key=http%3A//sdb.su/uploads/posts/27.08.2010/11/image003.gif&amp;mb=imgdb_preview_1"/>
          <p:cNvPicPr/>
          <p:nvPr/>
        </p:nvPicPr>
        <p:blipFill>
          <a:blip r:embed="rId1"/>
          <a:stretch/>
        </p:blipFill>
        <p:spPr>
          <a:xfrm>
            <a:off x="7667640" y="944640"/>
            <a:ext cx="1117440" cy="133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5"/>
          <p:cNvSpPr/>
          <p:nvPr/>
        </p:nvSpPr>
        <p:spPr>
          <a:xfrm>
            <a:off x="582480" y="5300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6, 2 8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871640" y="530064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6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8*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5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11280" y="5013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  0  -1  -2 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920" y="584208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кращённ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140360" y="5842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907920"/>
          <a:ext cx="8785440" cy="2133720"/>
        </p:xfrm>
        <a:graphic>
          <a:graphicData uri="http://schemas.openxmlformats.org/drawingml/2006/table">
            <a:tbl>
              <a:tblPr/>
              <a:tblGrid>
                <a:gridCol w="2232000"/>
                <a:gridCol w="4969080"/>
                <a:gridCol w="1584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, 8, 9, А, 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 D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), (11), (12), (13), (14), (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78"/>
          <p:cNvSpPr/>
          <p:nvPr/>
        </p:nvSpPr>
        <p:spPr>
          <a:xfrm>
            <a:off x="179280" y="3860640"/>
            <a:ext cx="835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Шестидесятерич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зиционная система счисления. Была придума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ревнем Вавилоне. В ней использовалось шестьдесят цифр. До сих пор мы используем эту систему счисления при измерении времени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час = 60 мин, 1 мин= 60 с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216000" y="4616280"/>
            <a:ext cx="892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Двенадцатерична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 фут = 12 дюймов, 1 шиллинг = 12 пен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12 или дюжина употребляется при исчислении столовых приборов. В наборе их ровно дюжин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ор фломастеров или карандашей содержит дюжину или полдюжины шт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г содержит тридцать дюжин градусов, в сутках - две дюжины часов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3" descr="26359-3-26359_4"/>
          <p:cNvPicPr/>
          <p:nvPr/>
        </p:nvPicPr>
        <p:blipFill>
          <a:blip r:embed="rId1"/>
          <a:stretch/>
        </p:blipFill>
        <p:spPr>
          <a:xfrm>
            <a:off x="7093080" y="5445000"/>
            <a:ext cx="1008000" cy="900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9"/>
          <p:cNvSpPr/>
          <p:nvPr/>
        </p:nvSpPr>
        <p:spPr>
          <a:xfrm>
            <a:off x="0" y="591336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171360"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  <a:ea typeface="Arial"/>
              </a:rPr>
              <a:t>Двадцатерич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 франк = 20 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go1.imgsmail.ru/imgpreview?key=http%3A//planetachasov.ru/pictures/8124.jpg&amp;mb=imgdb_preview_12"/>
          <p:cNvPicPr/>
          <p:nvPr/>
        </p:nvPicPr>
        <p:blipFill>
          <a:blip r:embed="rId2"/>
          <a:stretch/>
        </p:blipFill>
        <p:spPr>
          <a:xfrm>
            <a:off x="8209080" y="3645000"/>
            <a:ext cx="718920" cy="84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go4.imgsmail.ru/imgpreview?key=http%3A//adialshans.ru/d/231856/d/c04204.jpg&amp;mb=imgdb_preview_81"/>
          <p:cNvPicPr/>
          <p:nvPr/>
        </p:nvPicPr>
        <p:blipFill>
          <a:blip r:embed="rId3"/>
          <a:srcRect l="0" t="0" r="26436" b="0"/>
          <a:stretch/>
        </p:blipFill>
        <p:spPr>
          <a:xfrm rot="960000">
            <a:off x="6084720" y="5589360"/>
            <a:ext cx="800280" cy="108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go1.imgsmail.ru/imgpreview?key=http%3A//gzheli.ru/%5Fmod%5Ffiles/ce%5Fimages/eshop/17a021.jpg&amp;mb=imgdb_preview_68"/>
          <p:cNvPicPr/>
          <p:nvPr/>
        </p:nvPicPr>
        <p:blipFill>
          <a:blip r:embed="rId4"/>
          <a:stretch/>
        </p:blipFill>
        <p:spPr>
          <a:xfrm>
            <a:off x="8172360" y="5481720"/>
            <a:ext cx="86364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15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е позиционны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4"/>
          <p:cNvSpPr/>
          <p:nvPr/>
        </p:nvSpPr>
        <p:spPr>
          <a:xfrm>
            <a:off x="1995480" y="3284640"/>
            <a:ext cx="494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,11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12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673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8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целых чисел в позиционных 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700280"/>
            <a:ext cx="9144000" cy="20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целых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исел из 10-ой 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ь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це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ходное число и получаемые частные на основание СС до тех пор, пока частное не стан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н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ания 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олученные остатки от деления в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т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-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58920" y="2997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чисел в 10-ую С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число в развёрнутом виде и вычислить полученную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79280" y="400536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2"/>
          <p:cNvSpPr/>
          <p:nvPr/>
        </p:nvSpPr>
        <p:spPr>
          <a:xfrm>
            <a:off x="324000" y="72720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68440" y="8352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40080" y="321156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270880" y="90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9"/>
          <p:cNvGrpSpPr/>
          <p:nvPr/>
        </p:nvGrpSpPr>
        <p:grpSpPr>
          <a:xfrm>
            <a:off x="2270880" y="907920"/>
            <a:ext cx="1293120" cy="1178280"/>
            <a:chOff x="2270880" y="907920"/>
            <a:chExt cx="1293120" cy="1178280"/>
          </a:xfrm>
        </p:grpSpPr>
        <p:grpSp>
          <p:nvGrpSpPr>
            <p:cNvPr id="148" name="Group 15"/>
            <p:cNvGrpSpPr/>
            <p:nvPr/>
          </p:nvGrpSpPr>
          <p:grpSpPr>
            <a:xfrm>
              <a:off x="2843280" y="907920"/>
              <a:ext cx="720720" cy="792000"/>
              <a:chOff x="2843280" y="907920"/>
              <a:chExt cx="720720" cy="792000"/>
            </a:xfrm>
          </p:grpSpPr>
          <p:grpSp>
            <p:nvGrpSpPr>
              <p:cNvPr id="149" name="Group 13"/>
              <p:cNvGrpSpPr/>
              <p:nvPr/>
            </p:nvGrpSpPr>
            <p:grpSpPr>
              <a:xfrm>
                <a:off x="2843280" y="979200"/>
                <a:ext cx="720720" cy="720720"/>
                <a:chOff x="2843280" y="979200"/>
                <a:chExt cx="720720" cy="720720"/>
              </a:xfrm>
            </p:grpSpPr>
            <p:sp>
              <p:nvSpPr>
                <p:cNvPr id="150" name="Line 10"/>
                <p:cNvSpPr/>
                <p:nvPr/>
              </p:nvSpPr>
              <p:spPr>
                <a:xfrm>
                  <a:off x="2843280" y="9792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1"/>
                <p:cNvSpPr/>
                <p:nvPr/>
              </p:nvSpPr>
              <p:spPr>
                <a:xfrm>
                  <a:off x="2843280" y="133956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Rectangle 12"/>
              <p:cNvSpPr/>
              <p:nvPr/>
            </p:nvSpPr>
            <p:spPr>
              <a:xfrm>
                <a:off x="291816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Rectangle 14"/>
            <p:cNvSpPr/>
            <p:nvPr/>
          </p:nvSpPr>
          <p:spPr>
            <a:xfrm>
              <a:off x="2918160" y="133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2270880" y="1195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340000" y="16268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2411280" y="169848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2844720" y="1339920"/>
            <a:ext cx="1293480" cy="1178280"/>
            <a:chOff x="2844720" y="1339920"/>
            <a:chExt cx="1293480" cy="1178280"/>
          </a:xfrm>
        </p:grpSpPr>
        <p:grpSp>
          <p:nvGrpSpPr>
            <p:cNvPr id="158" name="Group 21"/>
            <p:cNvGrpSpPr/>
            <p:nvPr/>
          </p:nvGrpSpPr>
          <p:grpSpPr>
            <a:xfrm>
              <a:off x="3417840" y="1339920"/>
              <a:ext cx="720360" cy="792000"/>
              <a:chOff x="3417840" y="1339920"/>
              <a:chExt cx="720360" cy="792000"/>
            </a:xfrm>
          </p:grpSpPr>
          <p:grpSp>
            <p:nvGrpSpPr>
              <p:cNvPr id="159" name="Group 22"/>
              <p:cNvGrpSpPr/>
              <p:nvPr/>
            </p:nvGrpSpPr>
            <p:grpSpPr>
              <a:xfrm>
                <a:off x="3417840" y="1411200"/>
                <a:ext cx="720360" cy="720720"/>
                <a:chOff x="3417840" y="1411200"/>
                <a:chExt cx="720360" cy="720720"/>
              </a:xfrm>
            </p:grpSpPr>
            <p:sp>
              <p:nvSpPr>
                <p:cNvPr id="160" name="Line 23"/>
                <p:cNvSpPr/>
                <p:nvPr/>
              </p:nvSpPr>
              <p:spPr>
                <a:xfrm>
                  <a:off x="3417840" y="14112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4"/>
                <p:cNvSpPr/>
                <p:nvPr/>
              </p:nvSpPr>
              <p:spPr>
                <a:xfrm>
                  <a:off x="3417840" y="17715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Rectangle 25"/>
              <p:cNvSpPr/>
              <p:nvPr/>
            </p:nvSpPr>
            <p:spPr>
              <a:xfrm>
                <a:off x="3492360" y="1339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Rectangle 26"/>
            <p:cNvSpPr/>
            <p:nvPr/>
          </p:nvSpPr>
          <p:spPr>
            <a:xfrm>
              <a:off x="34927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2844720" y="1627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2914560" y="20588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2985840" y="21304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3421080" y="1771560"/>
            <a:ext cx="1293480" cy="1178280"/>
            <a:chOff x="3421080" y="1771560"/>
            <a:chExt cx="1293480" cy="1178280"/>
          </a:xfrm>
        </p:grpSpPr>
        <p:grpSp>
          <p:nvGrpSpPr>
            <p:cNvPr id="168" name="Group 31"/>
            <p:cNvGrpSpPr/>
            <p:nvPr/>
          </p:nvGrpSpPr>
          <p:grpSpPr>
            <a:xfrm>
              <a:off x="3994200" y="1771560"/>
              <a:ext cx="720360" cy="792000"/>
              <a:chOff x="3994200" y="1771560"/>
              <a:chExt cx="720360" cy="792000"/>
            </a:xfrm>
          </p:grpSpPr>
          <p:grpSp>
            <p:nvGrpSpPr>
              <p:cNvPr id="169" name="Group 32"/>
              <p:cNvGrpSpPr/>
              <p:nvPr/>
            </p:nvGrpSpPr>
            <p:grpSpPr>
              <a:xfrm>
                <a:off x="3994200" y="1842840"/>
                <a:ext cx="720360" cy="720720"/>
                <a:chOff x="3994200" y="1842840"/>
                <a:chExt cx="720360" cy="720720"/>
              </a:xfrm>
            </p:grpSpPr>
            <p:sp>
              <p:nvSpPr>
                <p:cNvPr id="170" name="Line 33"/>
                <p:cNvSpPr/>
                <p:nvPr/>
              </p:nvSpPr>
              <p:spPr>
                <a:xfrm>
                  <a:off x="3994200" y="18428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34"/>
                <p:cNvSpPr/>
                <p:nvPr/>
              </p:nvSpPr>
              <p:spPr>
                <a:xfrm>
                  <a:off x="3994200" y="220320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Rectangle 35"/>
              <p:cNvSpPr/>
              <p:nvPr/>
            </p:nvSpPr>
            <p:spPr>
              <a:xfrm>
                <a:off x="4068720" y="1771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36"/>
            <p:cNvSpPr/>
            <p:nvPr/>
          </p:nvSpPr>
          <p:spPr>
            <a:xfrm>
              <a:off x="4069080" y="220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7"/>
            <p:cNvSpPr/>
            <p:nvPr/>
          </p:nvSpPr>
          <p:spPr>
            <a:xfrm>
              <a:off x="3421080" y="2058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8"/>
            <p:cNvSpPr/>
            <p:nvPr/>
          </p:nvSpPr>
          <p:spPr>
            <a:xfrm>
              <a:off x="3490920" y="249048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3562200" y="256212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0"/>
          <p:cNvGrpSpPr/>
          <p:nvPr/>
        </p:nvGrpSpPr>
        <p:grpSpPr>
          <a:xfrm>
            <a:off x="3997080" y="2203560"/>
            <a:ext cx="1294200" cy="1178280"/>
            <a:chOff x="3997080" y="2203560"/>
            <a:chExt cx="1294200" cy="1178280"/>
          </a:xfrm>
        </p:grpSpPr>
        <p:grpSp>
          <p:nvGrpSpPr>
            <p:cNvPr id="178" name="Group 41"/>
            <p:cNvGrpSpPr/>
            <p:nvPr/>
          </p:nvGrpSpPr>
          <p:grpSpPr>
            <a:xfrm>
              <a:off x="4570560" y="2203560"/>
              <a:ext cx="720720" cy="792000"/>
              <a:chOff x="4570560" y="2203560"/>
              <a:chExt cx="720720" cy="792000"/>
            </a:xfrm>
          </p:grpSpPr>
          <p:grpSp>
            <p:nvGrpSpPr>
              <p:cNvPr id="179" name="Group 42"/>
              <p:cNvGrpSpPr/>
              <p:nvPr/>
            </p:nvGrpSpPr>
            <p:grpSpPr>
              <a:xfrm>
                <a:off x="4570560" y="2274840"/>
                <a:ext cx="720720" cy="720720"/>
                <a:chOff x="4570560" y="2274840"/>
                <a:chExt cx="720720" cy="720720"/>
              </a:xfrm>
            </p:grpSpPr>
            <p:sp>
              <p:nvSpPr>
                <p:cNvPr id="180" name="Line 43"/>
                <p:cNvSpPr/>
                <p:nvPr/>
              </p:nvSpPr>
              <p:spPr>
                <a:xfrm>
                  <a:off x="4570560" y="22748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44"/>
                <p:cNvSpPr/>
                <p:nvPr/>
              </p:nvSpPr>
              <p:spPr>
                <a:xfrm>
                  <a:off x="4570560" y="26352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Rectangle 45"/>
              <p:cNvSpPr/>
              <p:nvPr/>
            </p:nvSpPr>
            <p:spPr>
              <a:xfrm>
                <a:off x="4645440" y="2203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46"/>
            <p:cNvSpPr/>
            <p:nvPr/>
          </p:nvSpPr>
          <p:spPr>
            <a:xfrm>
              <a:off x="4753440" y="2743200"/>
              <a:ext cx="3499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7"/>
            <p:cNvSpPr/>
            <p:nvPr/>
          </p:nvSpPr>
          <p:spPr>
            <a:xfrm>
              <a:off x="3997080" y="2490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8"/>
            <p:cNvSpPr/>
            <p:nvPr/>
          </p:nvSpPr>
          <p:spPr>
            <a:xfrm>
              <a:off x="4067280" y="29224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9"/>
            <p:cNvSpPr/>
            <p:nvPr/>
          </p:nvSpPr>
          <p:spPr>
            <a:xfrm>
              <a:off x="4138560" y="29941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61"/>
          <p:cNvSpPr/>
          <p:nvPr/>
        </p:nvSpPr>
        <p:spPr>
          <a:xfrm>
            <a:off x="5292720" y="727200"/>
            <a:ext cx="35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7"/>
          <p:cNvSpPr/>
          <p:nvPr/>
        </p:nvSpPr>
        <p:spPr>
          <a:xfrm>
            <a:off x="838440" y="4219560"/>
            <a:ext cx="160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906480" y="3932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 3  2  1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9"/>
          <p:cNvSpPr/>
          <p:nvPr/>
        </p:nvSpPr>
        <p:spPr>
          <a:xfrm>
            <a:off x="2341080" y="39322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0"/>
          <p:cNvSpPr/>
          <p:nvPr/>
        </p:nvSpPr>
        <p:spPr>
          <a:xfrm>
            <a:off x="2478960" y="4219560"/>
            <a:ext cx="62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6 + 2 + 1 =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1"/>
          <p:cNvSpPr/>
          <p:nvPr/>
        </p:nvSpPr>
        <p:spPr>
          <a:xfrm flipH="1" flipV="1">
            <a:off x="4211280" y="42926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2"/>
          <p:cNvSpPr/>
          <p:nvPr/>
        </p:nvSpPr>
        <p:spPr>
          <a:xfrm flipH="1" flipV="1">
            <a:off x="5435280" y="42926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3"/>
          <p:cNvSpPr/>
          <p:nvPr/>
        </p:nvSpPr>
        <p:spPr>
          <a:xfrm rot="18519600">
            <a:off x="2933640" y="1609560"/>
            <a:ext cx="360360" cy="2843280"/>
          </a:xfrm>
          <a:prstGeom prst="upArrow">
            <a:avLst>
              <a:gd name="adj1" fmla="val 50000"/>
              <a:gd name="adj2" fmla="val 19725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79280" y="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19120" y="5473800"/>
            <a:ext cx="8229600" cy="10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стоятельно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и обратн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2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б)  13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68440" y="105264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40080" y="3429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126520" y="108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2270880" y="1125360"/>
            <a:ext cx="1293120" cy="1178280"/>
            <a:chOff x="2270880" y="1125360"/>
            <a:chExt cx="1293120" cy="1178280"/>
          </a:xfrm>
        </p:grpSpPr>
        <p:grpSp>
          <p:nvGrpSpPr>
            <p:cNvPr id="202" name="Group 9"/>
            <p:cNvGrpSpPr/>
            <p:nvPr/>
          </p:nvGrpSpPr>
          <p:grpSpPr>
            <a:xfrm>
              <a:off x="2843280" y="1125360"/>
              <a:ext cx="720720" cy="792000"/>
              <a:chOff x="2843280" y="1125360"/>
              <a:chExt cx="720720" cy="792000"/>
            </a:xfrm>
          </p:grpSpPr>
          <p:grpSp>
            <p:nvGrpSpPr>
              <p:cNvPr id="203" name="Group 10"/>
              <p:cNvGrpSpPr/>
              <p:nvPr/>
            </p:nvGrpSpPr>
            <p:grpSpPr>
              <a:xfrm>
                <a:off x="2843280" y="1196640"/>
                <a:ext cx="720720" cy="720720"/>
                <a:chOff x="2843280" y="1196640"/>
                <a:chExt cx="720720" cy="720720"/>
              </a:xfrm>
            </p:grpSpPr>
            <p:sp>
              <p:nvSpPr>
                <p:cNvPr id="204" name="Line 11"/>
                <p:cNvSpPr/>
                <p:nvPr/>
              </p:nvSpPr>
              <p:spPr>
                <a:xfrm>
                  <a:off x="2843280" y="119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2"/>
                <p:cNvSpPr/>
                <p:nvPr/>
              </p:nvSpPr>
              <p:spPr>
                <a:xfrm>
                  <a:off x="2843280" y="155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Rectangle 13"/>
              <p:cNvSpPr/>
              <p:nvPr/>
            </p:nvSpPr>
            <p:spPr>
              <a:xfrm>
                <a:off x="2918160" y="112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Rectangle 14"/>
            <p:cNvSpPr/>
            <p:nvPr/>
          </p:nvSpPr>
          <p:spPr>
            <a:xfrm>
              <a:off x="2918520" y="1557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2270880" y="1412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>
              <a:off x="2340000" y="184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7"/>
            <p:cNvSpPr/>
            <p:nvPr/>
          </p:nvSpPr>
          <p:spPr>
            <a:xfrm>
              <a:off x="2411280" y="191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7"/>
          <p:cNvGrpSpPr/>
          <p:nvPr/>
        </p:nvGrpSpPr>
        <p:grpSpPr>
          <a:xfrm>
            <a:off x="2843280" y="1557360"/>
            <a:ext cx="1295280" cy="1179720"/>
            <a:chOff x="2843280" y="1557360"/>
            <a:chExt cx="1295280" cy="1179720"/>
          </a:xfrm>
        </p:grpSpPr>
        <p:grpSp>
          <p:nvGrpSpPr>
            <p:cNvPr id="212" name="Group 19"/>
            <p:cNvGrpSpPr/>
            <p:nvPr/>
          </p:nvGrpSpPr>
          <p:grpSpPr>
            <a:xfrm>
              <a:off x="3417840" y="1557360"/>
              <a:ext cx="720720" cy="792000"/>
              <a:chOff x="3417840" y="1557360"/>
              <a:chExt cx="720720" cy="792000"/>
            </a:xfrm>
          </p:grpSpPr>
          <p:grpSp>
            <p:nvGrpSpPr>
              <p:cNvPr id="213" name="Group 20"/>
              <p:cNvGrpSpPr/>
              <p:nvPr/>
            </p:nvGrpSpPr>
            <p:grpSpPr>
              <a:xfrm>
                <a:off x="3417840" y="1628640"/>
                <a:ext cx="720720" cy="720720"/>
                <a:chOff x="3417840" y="1628640"/>
                <a:chExt cx="720720" cy="720720"/>
              </a:xfrm>
            </p:grpSpPr>
            <p:sp>
              <p:nvSpPr>
                <p:cNvPr id="214" name="Line 21"/>
                <p:cNvSpPr/>
                <p:nvPr/>
              </p:nvSpPr>
              <p:spPr>
                <a:xfrm>
                  <a:off x="3417840" y="1628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>
                  <a:off x="3417840" y="1989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23"/>
              <p:cNvSpPr/>
              <p:nvPr/>
            </p:nvSpPr>
            <p:spPr>
              <a:xfrm>
                <a:off x="349272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24"/>
            <p:cNvSpPr/>
            <p:nvPr/>
          </p:nvSpPr>
          <p:spPr>
            <a:xfrm>
              <a:off x="3564000" y="2131560"/>
              <a:ext cx="3236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633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5"/>
            <p:cNvSpPr/>
            <p:nvPr/>
          </p:nvSpPr>
          <p:spPr>
            <a:xfrm>
              <a:off x="2843280" y="184428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2914560" y="22762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7"/>
            <p:cNvSpPr/>
            <p:nvPr/>
          </p:nvSpPr>
          <p:spPr>
            <a:xfrm>
              <a:off x="3095640" y="234936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58"/>
          <p:cNvSpPr/>
          <p:nvPr/>
        </p:nvSpPr>
        <p:spPr>
          <a:xfrm>
            <a:off x="5219640" y="1341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= 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0"/>
          <p:cNvSpPr/>
          <p:nvPr/>
        </p:nvSpPr>
        <p:spPr>
          <a:xfrm>
            <a:off x="839880" y="4437000"/>
            <a:ext cx="159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1"/>
          <p:cNvSpPr/>
          <p:nvPr/>
        </p:nvSpPr>
        <p:spPr>
          <a:xfrm>
            <a:off x="1369800" y="4149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2"/>
          <p:cNvSpPr/>
          <p:nvPr/>
        </p:nvSpPr>
        <p:spPr>
          <a:xfrm>
            <a:off x="2341080" y="4149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3"/>
          <p:cNvSpPr/>
          <p:nvPr/>
        </p:nvSpPr>
        <p:spPr>
          <a:xfrm>
            <a:off x="2485800" y="44370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4 + 32 + 4 =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6"/>
          <p:cNvSpPr/>
          <p:nvPr/>
        </p:nvSpPr>
        <p:spPr>
          <a:xfrm rot="18519600">
            <a:off x="2367720" y="1511640"/>
            <a:ext cx="360360" cy="2413080"/>
          </a:xfrm>
          <a:prstGeom prst="upArrow">
            <a:avLst>
              <a:gd name="adj1" fmla="val 50000"/>
              <a:gd name="adj2" fmla="val 1674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79280" y="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2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8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0:19:36Z</dcterms:created>
  <dc:creator>kp</dc:creator>
  <dc:description/>
  <dc:language>en-US</dc:language>
  <cp:lastModifiedBy>Юрий</cp:lastModifiedBy>
  <dcterms:modified xsi:type="dcterms:W3CDTF">2014-09-10T17:17:25Z</dcterms:modified>
  <cp:revision>363</cp:revision>
  <dc:subject/>
  <dc:title>Слайд 1</dc:title>
</cp:coreProperties>
</file>