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492-EA3A-4DCE-9475-B4F08A0C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A9A-AD92-4E91-93A3-4E1914E8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CB63-23D1-44CB-9BBA-2DC3C750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ADE-E218-43C7-B8EC-43BD0729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2B31-CB85-4AF6-9B2A-FC984F1C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265D-7AF9-48C4-9B96-E725EB64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B51A-4F4A-41D7-B134-B94510C0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7F3F-6A02-4C47-87F0-6E0354B8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B167-A53B-48CB-9002-4B6EF428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8FE1-A87B-44AE-B3E4-6B340B30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2742-463B-4337-BA50-89C82F8B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520-0CF9-42A9-BB2F-3D9E9D0A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67EC-A0C2-4C42-8431-F6F8E7ED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BBFB-65CF-4D43-A53A-AF498FED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46D5-39CF-420D-94E2-E0CA5427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8BB4-026F-45AE-9648-E91268D4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4C84-D6F7-411F-8E7A-19706518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BB3-8355-4313-AE96-D7ACAD8E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68E-A15E-4435-B939-16CF2E23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2B5-90C4-4C54-98C1-0BFC1D87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9A2-B1EF-48BE-A9E5-147350F1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6D6-2370-4ADF-951F-D18AA078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3F6-D5BD-4BEC-B368-6067F8E4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588-FD9C-4BDA-8E86-ED5E97B4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A5DD-4726-4521-9648-2ECEEEF13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919C-0E3B-413E-967F-DB19F4943C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788652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ализуем федеральные  государственны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образовательные стандарты начального общего    образования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42920" y="4652640"/>
            <a:ext cx="56912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одионова Елена Владимировна,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АОУ лицея №3, г. Кропотк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2781360"/>
            <a:ext cx="780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ечевое развитие младших школьник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Картинка 1 из 5726"/>
          <p:cNvPicPr/>
          <p:nvPr/>
        </p:nvPicPr>
        <p:blipFill>
          <a:blip r:embed="rId1"/>
          <a:stretch/>
        </p:blipFill>
        <p:spPr>
          <a:xfrm>
            <a:off x="7596360" y="1341360"/>
            <a:ext cx="10839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«Без поэтической,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эмоционально-эстетической струи невозможно полноценное умственное развитие ребенка»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В.А.Сухомлин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Знакомство с поэзией</a:t>
            </a: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начинаю с первых уроков обучения грамоте, чтения и развития речи. Применяю на занятиях много стихотворного материала (сказки, загадки, стихи о буквах и звуках). С помощью скороговорки дети практически знакомятся с понятием «рифма» и уже без труда справляются с творческими заданиями «Подбери рифму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Творческие способности детей</a:t>
            </a: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продолжаю развивать при изучении и сочинении считалок. Ребята с радостью и гордостью читают свои творения. Во втором полугодии первого и начала второго класса продолжается наблюдение особенностей стихотворной речи. На уроках русского языка, развития речи предлагаю детям занимательные задания:  найти среди данных слов рифмующиеся слова, игра «Пойми рифму», «Четвертый лишний», «Кто-то начал, ты продолжи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ектная деятель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Творческие способност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развиваю и на уроках окружающего мира, во время прогулок и экскурсий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Многое удается увидеть ребятам, если постоянно поддерживать их интерес, помогать видеть прекрасное. Наблюдая за изменениями, происходящими в природе, ребята сочиняют загадки, стихи, песни. В классе уже определились  группы поэтов и писа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Широко применяется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оектный метод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Имеется цикл проектов, участвуя в которых, дети знакомятся друг с      другом, обмениваются информацией о себе, о школе, о своих интересах и увлечениях. Это проекты « Родной город», «Моя семья», «Профессии» и многое другое.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«Книга – источник знаний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А умный  человек, по словам моего учени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должен очень любить читать книг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емалое влияние оказывает чтение книг и на успеваемость, так как много читающие дети привыкаю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самостоятельно учиться, находить ответы на интересующие вопрос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оэтому моими детьми была создана классная библиотека. Ребята выступают в роли библиотекарей, пополняя ее запас необходимой литературой, знакомят с содержанием. Действует принцип: «Узнал что-то новое или интересное - поделись с други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Peterson16"/>
          <p:cNvPicPr/>
          <p:nvPr/>
        </p:nvPicPr>
        <p:blipFill>
          <a:blip r:embed="rId1"/>
          <a:stretch/>
        </p:blipFill>
        <p:spPr>
          <a:xfrm>
            <a:off x="1258920" y="4437000"/>
            <a:ext cx="2449440" cy="1582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Peterson17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580000" y="4508640"/>
            <a:ext cx="2521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«Книга – источник знаний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аз в неделю мы с удовольствием посещаем городскую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библиотеку имени А.П. Гайдар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 Дети с нетерпением ждут этих занятий, активны, не боятся высказывать свое суждение. Благодаря работникам библиотеки дети становятся участниками самых разнообразных конкурсов, викторин, праздников, а порой и сами выступают в роли авторов сценарий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неурочная деятельно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азвитию интеллекта принято большую роль отводить в процессе обучения и частично во внеурочное время. Мое мнение – это единое целое. Существует своеобразная система в моей работе, в которой я стараюсь выстроить внеклассную работу не только по определенным направлениям, но и п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абота проводится в течение всего года, т.е. это марафон творчества,  включающий в себя постепенный, плавный переход от одного вида деятельности к  другому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менно поэтому работа выстроена «цепочкой дел» по направлениям: литература, искусство, наук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нициативные груп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В начале года идет формирование инициативных групп по направлениям. Они отвечают за организацию и проведение мероприятий на данном этапе. Инициативная группа представляет классу свои предложения, и вырабатываются условия конкурса или игры, учитывая мнение всех. Начинается для всего класса кропотливая творческая раб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Этап «Литература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 сентябре был объявлен конкурс «Стань звездой». Нужно было представить стихи собственного сочинения, самостоятельно написанные фантастические и приключенческие рассказы, сказки, скороговорки, загадки, считалки, дразнилки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Инициативная группа проводила индивидуальные консультации ребят, еженедельные выставки творческих работ одноклассников; определяла номинации конкурса, готовила призы, подарки, дипломы, сделанные своими руками. Приглашались, по просьбе ребят, на консультации работники библиотеки, родители, школьные поэты – старшеклассники и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езультатом конкурса стала выставка творчества, публикация работ учащихся в местной газете, оформление  собственных книг, конечно же, большой праздник с подарками и сюрприз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О приоритетных направлениях развития образования в Российской Федерации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«Формируются современные представления о фундаментальности образования – это такое образование, благодаря котором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c231e"/>
                </a:solidFill>
                <a:latin typeface="Arial"/>
              </a:rPr>
              <a:t>человек способен самостоятельно работать, учиться и переучиваться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Речевое развитие младших школьник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абота в данном направлении дала ряд положительных результатов. Мои ученики чувствуют себя увереннее, свободнее, раскованнее, переживают радость собственных достижений, они становятся общительными, коммуникабельными. Дети научились самостоятельно работать, подходить творчески и критически к решению поставленных задач, работать совместно, принимать во внимание точку зрения другого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Речевое развитие младших школьник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Такая работа качественно меняет отношение учителя к ребенку, создает атмосферу со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Я не теряя, своей руководящей и организующей роли, становлюсь участником, консультантом, помощником коллективной деятельности. Исчезают нотки «командования», которые обычно сильно звучат в начальной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147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едеральные  государственные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образовательные стандарт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38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Цель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852640"/>
            <a:ext cx="561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общекультурное, личностное и познавате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развитие учащих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обеспечивающее такую ключевую компетенцию, как умение у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Картинка 1 из 5726"/>
          <p:cNvPicPr/>
          <p:nvPr/>
        </p:nvPicPr>
        <p:blipFill>
          <a:blip r:embed="rId1"/>
          <a:stretch/>
        </p:blipFill>
        <p:spPr>
          <a:xfrm>
            <a:off x="6372360" y="1557360"/>
            <a:ext cx="2168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Я очень умный – что это значит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В сочинении – рассуждении на тему: «Я очень умный – что это значит?» мнения детей были намного шире представления взросл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мный – это не только знания, но и самостоятельность, ответственность, сообразительность, умение делать то, что не умеют другие, способность быстро сориентироваться в любой ситуации.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мный человек- это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иведу несколько примеров таки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Умный человек – это человек, который может подсказать в трудной ситуа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Венько Ол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Умный человек – добрый, вежливый, готовый всегда прийти на помощь другим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Шайкин Аркад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Умный человек – это человек внимательный, честный, исполнительный и мудры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Лаптев Григо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Умный человек должен принимать только правильные решения в различных ситуациях. Он должен быть порядочным, добрым человек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Гроссу Ангел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теллек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355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интересовавшись, я встретилась с рядом определений интеллекта и стала сторонником следующего определения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Интеллект – это обучаемость, то есть способность усваивать и самостоятельно добывать новые 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своей работе по развитию интеллекта я часто возвращаюсь к рассуждениям моих ребят. Это своеобразная подсказка или направление в моей деятельности. На некоторых этапах моей работы я остановлюсь подроб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дним из важнейших показателей интеллекта человека является реч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 понятие хорошей и грамотной речи включается богатство, точность и выразительность. Совместно с ребятами, в целях речевого развития, в нашем классе разработаны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равила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овори ясно и крат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 говори того, что все зн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овори правду: не говори того, что считаешь лож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 говори того, на что у тебя нет достаточных осн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овори так, чтобы тебя поня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Если хочешь стать хорошим оратором, сначала нужно стать хорошим человеком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А для этого необходимо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баяние – умение быть самим со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ыть естестве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веренность в се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мение повести за собой слуш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Дружелюбие, искр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Заинтересованность, увлеченность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Эти Правила помогают детям не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во время выступлений, но и повседнев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жизни, в общении друг с друго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чему?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803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чень часто я задаю себе вопрос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«Почему дети теряют интерес к чтению?»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Есть реше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09:33:35Z</dcterms:created>
  <dc:creator>312</dc:creator>
  <dc:description/>
  <dc:language>en-US</dc:language>
  <cp:lastModifiedBy>Пользователь Windows</cp:lastModifiedBy>
  <dcterms:modified xsi:type="dcterms:W3CDTF">2015-10-04T11:43:40Z</dcterms:modified>
  <cp:revision>16</cp:revision>
  <dc:subject/>
  <dc:title>ТРАДИЦИОННАЯ ТИПОЛОГИЯ УРОКОВ</dc:title>
</cp:coreProperties>
</file>