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343-6785-402A-9EE7-813266DD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799-6A19-496F-8662-07BFAF0A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50F-AAB2-41C3-B93B-F0528DC4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422-4ABB-46C9-BA80-E964709F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73A9-DEF7-400B-AC0F-F3ABFB5B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6BED-3B6F-4FF0-87E0-8FB88722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0C6F-5FB1-4EBC-9D80-88270B90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66D2-5D52-4AE9-8ADC-6CEF3872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7677-944C-420A-B5A8-A32486C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A9E3-4CE5-44FC-A151-6904EB3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E2FC-633D-447C-B0E3-85F90B2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B63-0258-4E06-B2CC-84F7578F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D5D5-F7B1-4416-8A9E-606AE0D5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1611-5D37-45ED-8841-D7DFFED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A695-F69E-4500-B37B-B30A975E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CA2B-A134-425B-B04C-D87A8302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90D2-D069-4971-94E1-B1DAB124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3E4-9DDC-4E08-AD16-B421797C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48C-D0FF-4BA9-9849-86578F76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F50-2A9C-40FA-8A62-934D7929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6FC-54CE-4259-823F-5FA42582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C20-5AF5-460F-A9B4-E4C1EC4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458-FAE5-48C0-84A1-52CB521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61D-9A17-40FA-9D09-285C7E2F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1CE3-30DA-4391-B153-8BBE88834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4BB1-5867-4185-BB6F-31DB5004E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78865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ализуем федеральные  государственны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разовательные стандарты начального общего    образован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42920" y="4652640"/>
            <a:ext cx="5691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одионова Елена Владимировна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ОУ лицея №3, г. Кропот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781360"/>
            <a:ext cx="780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ечевое развитие младших школьник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1 из 5726"/>
          <p:cNvPicPr/>
          <p:nvPr/>
        </p:nvPicPr>
        <p:blipFill>
          <a:blip r:embed="rId1"/>
          <a:stretch/>
        </p:blipFill>
        <p:spPr>
          <a:xfrm>
            <a:off x="7596360" y="1341360"/>
            <a:ext cx="10839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«Без поэтической,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эмоционально-эстетической струи невозможно полноценное умственное развитие ребенка»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В.А.Сухомли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Знакомство с поэзией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начинаю с первых уроков обучения грамоте, чтения и развития речи. Применяю на занятиях много стихотворного материала (сказки, загадки, стихи о буквах и звуках). С помощью скороговорки дети практически знакомятся с понятием «рифма» и уже без труда справляются с творческими заданиями «Подбери рифму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Творческие способности детей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продолжаю развивать при изучении и сочинении считалок. Ребята с радостью и гордостью читают свои творения. Во втором полугодии первого и начала второго класса продолжается наблюдение особенностей стихотворной речи. На уроках русского языка, развития речи предлагаю детям занимательные задания:  найти среди данных слов рифмующиеся слова, игра «Пойми рифму», «Четвертый лишний», «Кто-то начал, ты продолж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ектная дея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ворческие способност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развиваю и на уроках окружающего мира, во время прогулок и экскурсий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Многое удается увидеть ребятам, если постоянно поддерживать их интерес, помогать видеть прекрасное. Наблюдая за изменениями, происходящими в природе, ребята сочиняют загадки, стихи, песни. В классе уже определились  группы поэтов и пис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Широко применяется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оектный метод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меется цикл проектов, участвуя в которых, дети знакомятся друг с      другом, обмениваются информацией о себе, о школе, о своих интересах и увлечениях. Это проекты « Родной город», «Моя семья», «Профессии» и многое другое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«Книга – источник знаний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А умный  человек, по словам моего учени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олжен очень любить читать книг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малое влияние оказывает чтение книг и на успеваемость, так как много читающие дети привыка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амостоятельно учиться, находить ответы на интересующие 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этому моими детьми была создана классная библиотека. Ребята выступают в роли библиотекарей, пополняя ее запас необходимой литературой, знакомят с содержанием. Действует принцип: «Узнал что-то новое или интересное - поделись с друг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Peterson16"/>
          <p:cNvPicPr/>
          <p:nvPr/>
        </p:nvPicPr>
        <p:blipFill>
          <a:blip r:embed="rId1"/>
          <a:stretch/>
        </p:blipFill>
        <p:spPr>
          <a:xfrm>
            <a:off x="1258920" y="4437000"/>
            <a:ext cx="2449440" cy="1582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Peterson17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580000" y="4508640"/>
            <a:ext cx="2521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«Книга – источник знаний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з в неделю мы с удовольствием посещаем городскую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библиотеку имени А.П. Гайдар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Дети с нетерпением ждут этих занятий, активны, не боятся высказывать свое суждение. Благодаря работникам библиотеки дети становятся участниками самых разнообразных конкурсов, викторин, праздников, а порой и сами выступают в роли авторов сценари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неурочная деятель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азвитию интеллекта принято большую роль отводить в процессе обучения и частично во внеурочное время. Мое мнение – это единое целое. Существует своеобразная система в моей работе, в которой я стараюсь выстроить внеклассную работу не только по определенным направлениям, но и п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абота проводится в течение всего года, т.е. это марафон творчества,  включающий в себя постепенный, плавный переход от одного вида деятельности к  другому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менно поэтому работа выстроена «цепочкой дел» по направлениям: литература, искусство, нау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нициативные груп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 начале года идет формирование инициативных групп по направлениям. Они отвечают за организацию и проведение мероприятий на данном этапе. Инициативная группа представляет классу свои предложения, и вырабатываются условия конкурса или игры, учитывая мнение всех. Начинается для всего класса кропотливая творческ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Этап «Литература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сентябре был объявлен конкурс «Стань звездой». Нужно было представить стихи собственного сочинения, самостоятельно написанные фантастические и приключенческие рассказы, сказки, скороговорки, загадки, считалки, дразнилк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нициативная группа проводила индивидуальные консультации ребят, еженедельные выставки творческих работ одноклассников; определяла номинации конкурса, готовила призы, подарки, дипломы, сделанные своими руками. Приглашались, по просьбе ребят, на консультации работники библиотеки, родители, школьные поэты – старшеклассники и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езультатом конкурса стала выставка творчества, публикация работ учащихся в местной газете, оформление  собственных книг, конечно же, большой праздник с подарками и сюрприз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О приоритетных направлениях развития образования в Российской Федерации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«Формируются современные представления о фундаментальности образования – это такое образование, благодаря котором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c231e"/>
                </a:solidFill>
                <a:latin typeface="Arial"/>
              </a:rPr>
              <a:t>человек способен самостоятельно работать, учиться и переучиваться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Речевое развитие младших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бота в данном направлении дала ряд положительных результатов. Мои ученики чувствуют себя увереннее, свободнее, раскованнее, переживают радость собственных достижений, они становятся общительными, коммуникабельными. Дети научились самостоятельно работать, подходить творчески и критически к решению поставленных задач, работать совместно, принимать во внимание точку зрения друг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Речевое развитие младших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акая работа качественно меняет отношение учителя к ребенку, создает атмосферу со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Я не теряя, своей руководящей и организующей роли, становлюсь участником, консультантом, помощником коллективной деятельности. Исчезают нотки «командования», которые обычно сильно звучат в начальной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147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деральные  государственные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образовательные стандарт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Цель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852640"/>
            <a:ext cx="561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общекультурное, личностное и познава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развитие учащих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обеспечивающее такую ключевую компетенцию, как умение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Картинка 1 из 5726"/>
          <p:cNvPicPr/>
          <p:nvPr/>
        </p:nvPicPr>
        <p:blipFill>
          <a:blip r:embed="rId1"/>
          <a:stretch/>
        </p:blipFill>
        <p:spPr>
          <a:xfrm>
            <a:off x="6372360" y="1557360"/>
            <a:ext cx="2168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Я очень умный – что это значит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 сочинении – рассуждении на тему: «Я очень умный – что это значит?» мнения детей были намного шире представления взросл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мный – это не только знания, но и самостоятельность, ответственность, сообразительность, умение делать то, что не умеют другие, способность быстро сориентироваться в любой ситуации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мный человек- это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иведу несколько примеров так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Умный человек – это человек, который может подсказать в трудной ситу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Венько О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Умный человек – добрый, вежливый, готовый всегда прийти на помощь други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Шайкин Аркад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Умный человек – это человек внимательный, честный, исполнительный и мудры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Лаптев Григо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Умный человек должен принимать только правильные решения в различных ситуациях. Он должен быть порядочным, добрым человек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Гроссу Ангел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телл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35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интересовавшись, я встретилась с рядом определений интеллекта и стала сторонником следующего определени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Интеллект – это обучаемость, то есть способность усваивать и самостоятельно добывать новые 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своей работе по развитию интеллекта я часто возвращаюсь к рассуждениям моих ребят. Это своеобразная подсказка или направление в моей деятельности. На некоторых этапах моей работы я остановлюсь подроб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дним из важнейших показателей интеллекта человека является реч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понятие хорошей и грамотной речи включается богатство, точность и выразительность. Совместно с ребятами, в целях речевого развития, в нашем классе разработаны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авила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овори ясно и крат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говори того, что все зн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овори правду: не говори того, что считаешь лож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говори того, на что у тебя нет достаточных ос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овори так, чтобы тебя пон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сли хочешь стать хорошим оратором, сначала нужно стать хорошим человеко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А для этого необходимо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баяние – умение быть самим со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ыть естеств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веренность в с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мение повести за собой слуш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ружелюбие, искр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Заинтересованность, увлеченност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Эти Правила помогают детям не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во время выступлений, но и повседне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жизни, в общении друг с друг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чему?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803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чень часто я задаю себе вопро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«Почему дети теряют интерес к чтению?»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ть реш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09:33:35Z</dcterms:created>
  <dc:creator>312</dc:creator>
  <dc:description/>
  <dc:language>en-US</dc:language>
  <cp:lastModifiedBy>Пользователь Windows</cp:lastModifiedBy>
  <dcterms:modified xsi:type="dcterms:W3CDTF">2015-10-04T11:43:40Z</dcterms:modified>
  <cp:revision>16</cp:revision>
  <dc:subject/>
  <dc:title>ТРАДИЦИОННАЯ ТИПОЛОГИЯ УРОКОВ</dc:title>
</cp:coreProperties>
</file>