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B50-FD5F-457B-942C-9C204792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E6B-D888-4D2D-90DD-3B0A8BBC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238-A36C-42CB-9C4E-BAD4FAEB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034-0337-4CF5-990F-797F695A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CCF5-3D32-4EB4-BFD4-FCF45E44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4E94-779F-490A-8DA7-5DF863DB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10FB-BB73-4642-9B03-461EEE61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16AF-DF9F-4B24-8FA0-AB592177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FB8F-561F-4D14-97CA-B92CE6F3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89D0-E68F-4D17-B6B9-1CDF010C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C7A9-5E19-4E72-B4E2-9C039FF6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FAC-D4BD-4962-9C4B-E4CC894F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E336-64E9-4880-88DA-55DAA0C2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E64E-E6F2-48BA-B774-70027103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AE92-6B15-4538-9E15-2BEA06E0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8D0C-16B1-401F-B0B1-BF11CB6F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FDCA-8D5A-4921-9CD3-2FD2A2D6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E8E3-7E5A-4B4D-B009-F7F43672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9B24-8EA6-4C24-8584-1F3B5407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D6C3-51A5-46E2-B1A7-5380E2B6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5E70-F9DB-47D1-B6D4-C720DC4D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345D-1073-438A-AE12-8A6AE2A2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DE1-4150-4767-B923-8EBB4DEE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7A61F-4DCD-4460-9645-8AE813A4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AD9D-F8EE-4770-B93A-09F1B09D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C6C0-6D6E-4FA0-BFEB-E3BB3939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6E2F7-9057-4416-8776-A20AC1F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23407-8A6E-4020-9D67-DE0EEDC8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2A94-73B5-4E40-8083-16618A0B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BF85-1021-4A0E-8208-B703D37B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34F-8AB1-49B9-9AA7-2A436027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F29-F31E-475E-81D7-EA6F356C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E0C-0DFE-48F6-BC9D-C3F80C5D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B86-433F-4456-86CA-8944E328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D0B-11B6-44F6-9A4E-6C054CBB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DEB-33DE-4569-96CE-A627A4BB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5428-32E5-4801-B1D2-97B50DEA59F0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ACD1-B6E9-445A-BF73-624C3A7E6033}" type="slidenum">
              <a:rPr b="0" lang="ru-RU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E932-D97B-485D-925D-5463636ED172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2212920" y="3432240"/>
            <a:ext cx="4724280" cy="320652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2" descr=""/>
          <p:cNvPicPr/>
          <p:nvPr/>
        </p:nvPicPr>
        <p:blipFill>
          <a:blip r:embed="rId2"/>
          <a:stretch/>
        </p:blipFill>
        <p:spPr>
          <a:xfrm>
            <a:off x="79200" y="2505240"/>
            <a:ext cx="89856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3732120" y="0"/>
            <a:ext cx="5162760" cy="520056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" descr=""/>
          <p:cNvPicPr/>
          <p:nvPr/>
        </p:nvPicPr>
        <p:blipFill>
          <a:blip r:embed="rId2"/>
          <a:stretch/>
        </p:blipFill>
        <p:spPr>
          <a:xfrm>
            <a:off x="2266920" y="6480"/>
            <a:ext cx="4359240" cy="8287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>
            <a:off x="0" y="695160"/>
            <a:ext cx="91440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крепить навыки выполнения одновременно «пружинок» и хлопков, прыжков и хлопков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ышко, солнышк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ляни в окошко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детки  плачу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мушкам  скачу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-ю и 2-ю строчки теста взрослый вместе с детьми выполняет частые полуприседания - «пружинки» - и одновременно хлопает в ладош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текст 3-й и 4-й строчек выполняются прыжки с одновременными хлопками в ладош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произносится в медленном темпе, нараспев, с ярко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ой метрической пульсацией, без остановок, ускорений и замедлени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ходящая интонация голоса приходиться на каждую сильную долю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ышко, солнышко, Выгляни в  окошко и т.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1" descr=""/>
          <p:cNvPicPr/>
          <p:nvPr/>
        </p:nvPicPr>
        <p:blipFill>
          <a:blip r:embed="rId1"/>
          <a:stretch/>
        </p:blipFill>
        <p:spPr>
          <a:xfrm>
            <a:off x="1639800" y="6480"/>
            <a:ext cx="5614920" cy="9205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0" y="830160"/>
            <a:ext cx="914400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: развивать выразительность выполнения легких прыжков, мягкого пружинного ша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Скок, скок - поскок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родвигаются вперед     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Молодой дроздок, 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рыжками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о водичку пошел,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идут мягким пружинным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Молодичку нашел.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шагом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Молодиченька,      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сужают круг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Невеличенька,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Сама с вершок,     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рисаживаются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Голова с горшок.    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рикладывают ладони к щекам,  покачивают голово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Ход игр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Дети стоят по кругу, согнув руки в локтях, кулачки прижаты к плечам - имитируют крылышки. В центре круга -птичка (игрушка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Методические рекомендаци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Текст игры произноситься не спеша, ритмично. На  слова «сама с вершок» - интонация голоса повышается и делается небольшая пауза. Последняя строка произносится чуть быстрее предыдущи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2"/>
          <a:stretch/>
        </p:blipFill>
        <p:spPr>
          <a:xfrm>
            <a:off x="6464160" y="474840"/>
            <a:ext cx="2430720" cy="38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ttp://www.playcast.ru/uploads/2014/11/28/10829477.png"/>
          <p:cNvPicPr/>
          <p:nvPr/>
        </p:nvPicPr>
        <p:blipFill>
          <a:blip r:embed="rId1"/>
          <a:stretch/>
        </p:blipFill>
        <p:spPr>
          <a:xfrm>
            <a:off x="5178600" y="2862360"/>
            <a:ext cx="3628800" cy="332568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1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9205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"/>
          <p:cNvSpPr/>
          <p:nvPr/>
        </p:nvSpPr>
        <p:spPr>
          <a:xfrm>
            <a:off x="0" y="1216080"/>
            <a:ext cx="914400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Задачи: 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развитие чувства ритма, координации    движений в соответствии темпом музык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Ход игры: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 исходное положение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 - 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широко расставив ноги, дети сидят на пол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Хлоп раз,                   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хлопок на слово «хлоп»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Еще  раз                   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удар ладошек по коленям на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слово «раз»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Мы похлопаем сейчас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овтор движений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А потом скорей, скорей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ритмичные удары ладошек об пол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Шлепай, шлепай веселей.    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ервые три строчки произносятся с ярко выраженной ритмической пульсацией, нисходящая интонация голоса приходиться на каждую сильную долю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оследние две строчки приговариваются в ускоренном темпе.      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5413320" y="2011320"/>
            <a:ext cx="3824280" cy="476892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3" descr=""/>
          <p:cNvPicPr/>
          <p:nvPr/>
        </p:nvPicPr>
        <p:blipFill>
          <a:blip r:embed="rId2"/>
          <a:stretch/>
        </p:blipFill>
        <p:spPr>
          <a:xfrm>
            <a:off x="1566720" y="6480"/>
            <a:ext cx="5761080" cy="920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>
            <a:off x="0" y="1407960"/>
            <a:ext cx="9144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навык ходьбы на месте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 заканчивать движение с окончанием текст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ка, киска, киска, брысь!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грозят пальчико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жку не садись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деточка пойдет,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ают на мест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киску упадет!                  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х!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 приседают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одьбе следует обращать внимание на осанку детей, для улучшения которой необходимо  поставить руки на пояс. Окончание произнесения текста должно быть четко зафиксировано - дети приседаю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06:59:26Z</dcterms:created>
  <dc:creator>Екатерина Белова</dc:creator>
  <dc:description/>
  <dc:language>en-US</dc:language>
  <cp:lastModifiedBy>Екатерина Белова</cp:lastModifiedBy>
  <dcterms:modified xsi:type="dcterms:W3CDTF">2015-10-06T14:48:09Z</dcterms:modified>
  <cp:revision>17</cp:revision>
  <dc:subject/>
  <dc:title>Презентация PowerPoint</dc:title>
</cp:coreProperties>
</file>