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5D1-7060-4B40-9893-930B2DA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534-4701-4A0A-8463-880F3E2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EFB-DF0C-4263-8044-ABF5F8A3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5B7-4279-4B3A-A938-FCA1FD7B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58C8-EAB0-46BE-BC57-860B9524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5D10-2801-4388-952B-BBA0BC7B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D20-1941-4D71-9169-0B18F68B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17B-1699-4C2B-A23B-8FBB1C2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01BB-54C4-4F17-87BB-755F5A0E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7911-7E76-43C6-868F-F19234B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BE04-262C-420F-BCEA-6A66102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F13-5B73-485F-9178-DF746A2B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20B-197A-48C6-85DB-6948844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E8CE-94CE-4B0A-A19A-C1776B2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0CE-ACE7-4AF3-92E0-5C78B13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FFA-982E-4C10-AEDC-DB1A8E0F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F3B7-BF27-40A3-BC0E-5A8723DA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DD3E-BEF7-4063-9FCC-243A0957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ACF9-88BA-45CD-A197-87FA601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2648-16BF-4554-9597-F8E26085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B15C-6868-41E3-B19E-C319BA5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A89A-6800-4C00-81BC-F46B1EB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893-D41C-4E86-A5ED-1765534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BFA1-ED3F-4E99-980E-A6E2384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0D14-24D5-440B-A275-F49C727D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3C6D-0169-4E1C-8FCB-4C695E9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CD4C-87CB-4120-B737-04D1960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1EF5-3AEC-4727-A4B9-CA3B4AA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8A58-D13A-4BD7-9FE9-A8236C33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F62C-8396-4F7E-BE7D-062FAB90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E98-8C9F-41FF-A7DB-C8849B3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4C8-4418-4918-A2DE-9E41A0F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E42-AADD-4B83-908D-342C442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71D-99A3-40DA-BE20-1DA78511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AC7-79F0-4BD7-AF0A-934025D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488-1E34-4F85-A1DC-A47FF96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7A2-24B6-488C-BE60-BF5EEF20E06F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381-26A6-40BA-B956-38634CC0D6FA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D06B-020D-4958-8825-AFB89438FC9B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2212920" y="3432240"/>
            <a:ext cx="4724280" cy="320652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79200" y="2505240"/>
            <a:ext cx="8985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3732120" y="0"/>
            <a:ext cx="5162760" cy="52005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2266920" y="6480"/>
            <a:ext cx="43592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0" y="695160"/>
            <a:ext cx="91440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навыки выполнения одновременно «пружинок» и хлопков, прыжков и хлопко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, солнышк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и в окошко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детки  плачу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мушкам  скачу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-ю и 2-ю строчки теста взрослый вместе с детьми выполняет частые полуприседания - «пружинки» - и одновременно хлопает в ладош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екст 3-й и 4-й строчек выполняются прыжки с одновременными хлопками в ладош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ся в медленном темпе, нараспев, с ярк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й метрической пульсацией, без остановок, ускорений и замедле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ходящая интонация голоса приходиться на каждую сильную долю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, солнышко, Выгляни в  окошко и т.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6480"/>
            <a:ext cx="5614920" cy="9205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0" y="830160"/>
            <a:ext cx="914400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: развивать выразительность выполнения легких прыжков, мягкого пружинного ша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кок, скок - поскок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одвигаются вперед    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ой дроздок,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ыжками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 водичку пошел,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идут мягким пружинным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ичку нашел.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агом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олодиченька,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ужают круг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Невеличенька,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ама с вершок,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исаживаются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Голова с горшок.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рикладывают ладони к щекам,  покачивают голово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од игр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Дети стоят по кругу, согнув руки в локтях, кулачки прижаты к плечам - имитируют крылышки. В центре круга -птичка (игрушка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етодические рекомендаци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Текст игры произноситься не спеша, ритмично. На  слова «сама с вершок» - интонация голоса повышается и делается небольшая пауза. Последняя строка произносится чуть быстрее предыдущи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6464160" y="474840"/>
            <a:ext cx="2430720" cy="38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www.playcast.ru/uploads/2014/11/28/10829477.png"/>
          <p:cNvPicPr/>
          <p:nvPr/>
        </p:nvPicPr>
        <p:blipFill>
          <a:blip r:embed="rId1"/>
          <a:stretch/>
        </p:blipFill>
        <p:spPr>
          <a:xfrm>
            <a:off x="5178600" y="2862360"/>
            <a:ext cx="3628800" cy="33256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920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0" y="1216080"/>
            <a:ext cx="9144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развитие чувства ритма, координации    движений в соответствии темпом музы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исходное положение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- 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ироко расставив ноги, дети сидят на пол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лоп раз,             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хлопок на слово «хлоп»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Еще  раз                        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удар ладошек по коленям на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слово «раз»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ы похлопаем сейчас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втор движений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А потом скорей, скорей     </a:t>
            </a: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ритмичные удары ладошек об пол</a:t>
            </a: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Шлепай, шлепай веселей.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ервые три строчки произносятся с ярко выраженной ритмической пульсацией, нисходящая интонация голоса приходиться на каждую сильную дол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Последние две строчки приговариваются в ускоренном темпе.  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5413320" y="2011320"/>
            <a:ext cx="3824280" cy="47689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3" descr=""/>
          <p:cNvPicPr/>
          <p:nvPr/>
        </p:nvPicPr>
        <p:blipFill>
          <a:blip r:embed="rId2"/>
          <a:stretch/>
        </p:blipFill>
        <p:spPr>
          <a:xfrm>
            <a:off x="1566720" y="6480"/>
            <a:ext cx="576108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0" y="1407960"/>
            <a:ext cx="9144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 ходьбы на месте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 заканчивать движение с окончанием текс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ка, киска, киска, брысь!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грозят пальчи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жку не садись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еточка пойдет,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ают на мест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иску упадет!                  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х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 приседаю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одьбе следует обращать внимание на осанку детей, для улучшения которой необходимо  поставить руки на пояс. Окончание произнесения текста должно быть четко зафиксировано - дети приседаю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4:48:09Z</dcterms:modified>
  <cp:revision>17</cp:revision>
  <dc:subject/>
  <dc:title>Презентация PowerPoint</dc:title>
</cp:coreProperties>
</file>