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01D-6492-4983-B36F-E0D121CF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413-39EF-4BC9-BCA6-A8BEC01C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59B-A76D-4674-98F6-9300BD3A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99B-E1D6-484F-94E2-ED7B728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0D33-C748-4B71-A367-C3C64B3D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9C6F-563A-42BD-B37B-3166817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16C-F624-4088-9AFE-24EE48F0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6BB-0655-49E2-A4CF-0243D859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A614-FE01-470B-89B8-512D491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E07E-8765-4545-B26D-FAC9C9E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AC34-8781-4249-9880-10E3F18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002-4216-40AB-AD63-85F2786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09D2-DE64-4756-8130-B951190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DCD6-EC76-4F1F-96AB-4D3368B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FB36-7958-4111-90C6-6075DD22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5422-39DB-430A-B74F-026C016D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7230-BA67-4D6A-84A0-2A7B69F5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8794-8E3F-4BAA-8EA4-EC95D7F2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2193-04C8-4207-BF73-ECFCC6F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63A2-6B95-4C8D-9F71-85E3636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061F-CBA2-45D7-8E02-381A3CF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A08-8DB3-426C-A76D-BE27180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DD8-8769-41CD-A2A7-808382C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D736-C1AD-4FF2-A1A7-7456BBD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35DD-1DD1-4348-BE98-C744280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63E6-AEB4-464F-8F33-219B68C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D9F8-7B57-41F9-8534-1D12F07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F600-7901-481A-8505-D8911FBD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703D-8C37-4DAC-892D-CA734DE9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4D6A-7711-4D41-93DA-6721BCD6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BDD-6926-469B-88A5-02DD74B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DBC-A96D-4462-A205-32A155A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22C-7672-4694-AFE0-82AAC58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F33-5AE6-43F7-9A99-A58B375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2FF-07D8-4A33-8D79-32854F8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043-B641-48FE-9C47-6E53E97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D694-1564-48E9-AC8D-8FBCF475A708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6ED1-FA34-457B-9AF6-73BD0463473D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E65-6039-4CBA-9BF1-726EC05BD44F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5576760" y="0"/>
            <a:ext cx="351180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2249640" y="6480"/>
            <a:ext cx="439560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0" y="666720"/>
            <a:ext cx="91440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навыки выполнения легких прыжков с продвижением вперед, мягкого пружинного шага и легкого стремительного бе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чик, огуречи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ди на тот конечи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мышка жив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е хвостик отгрызё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гры выбирается «ловишка». Им может быть кто - либо из взрослых или ребенок. «Ловишка» уходит в другой конец зала. Руки у играющих находятся на пояс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Ловишка садиться на стул у одной из стен комнаты, дети собираются стайкой у другой стены. На текст 1-й и 2-й строки дети продвигаются в направлении «ловишки». Под текст 3-й строки дети продолжают движение мягким пружинный шагом, грозя пальчиком «ловишке». Последняя фраза произноситься детьми. Стоящими на месте, и является сигналом к бегу. «Ловишка» догоняет убегающих от него дет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кст произноситься выразительно, нараспев, в конце 3-й строки должна быть небольшая пауза, голос при этом «забирается вверх»: там мышка живет. Последняя строчка произноситься скороговорко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2303640" y="1008000"/>
            <a:ext cx="6503760" cy="27846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3" descr=""/>
          <p:cNvPicPr/>
          <p:nvPr/>
        </p:nvPicPr>
        <p:blipFill>
          <a:blip r:embed="rId2"/>
          <a:stretch/>
        </p:blipFill>
        <p:spPr>
          <a:xfrm>
            <a:off x="2408400" y="6480"/>
            <a:ext cx="4078080" cy="9205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0" y="60804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навык дробного шага с продвижением вперед. Развитие воображения и творческие способности дете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х, чух, пыхч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хчу, ворч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 на мест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ч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ами стучу, верч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итесь скоре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чу: чух, чух!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оят друг за другом, руки согнуты в локтях, пальцы крепко сжаты в кулачки. Ноги удобнее  слегка согнуты в коленях. Взрослый предлагает отправиться в путешествие. На весь текст выполняется ритмичное движение дробного шага с ускорением темпа его выполнения к концу игр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ься очень легко, ритмично, с ускорением. Следует обращать внимание на хорошую прямую осанку детей, а так же следить. Чтобы шаг был коротким, не шаркающим. Игру можно продолжить, предложив детям выйти из вагонов и погулять по лесу, собирая цветы, ягоды, или набирая букеты осенних разноцветных листьев. По сигнал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-ту!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2" descr=""/>
          <p:cNvPicPr/>
          <p:nvPr/>
        </p:nvPicPr>
        <p:blipFill>
          <a:blip r:embed="rId1"/>
          <a:stretch/>
        </p:blipFill>
        <p:spPr>
          <a:xfrm>
            <a:off x="5800680" y="588960"/>
            <a:ext cx="3094200" cy="370188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3" descr=""/>
          <p:cNvPicPr/>
          <p:nvPr/>
        </p:nvPicPr>
        <p:blipFill>
          <a:blip r:embed="rId2"/>
          <a:stretch/>
        </p:blipFill>
        <p:spPr>
          <a:xfrm>
            <a:off x="1841400" y="6480"/>
            <a:ext cx="5211720" cy="920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0" y="785880"/>
            <a:ext cx="914400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,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на печи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чат кулачком о кулачо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ари толч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на лавке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 как шьют иголк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шку шь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е котята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ют согнутые в локтя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ке сидят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на уровне груди, опустив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ке сидят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и вниз, и вправо-вле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на котика глядят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ляют к глазам указат. и большие пальцы («очки»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котика глядят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ухарики едят.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кают зубк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ся на распев На 1-е две строчки движения ритмичные. На 2-е две  строки -  движения плавные «тянем ниточку». Слова «малые котята на печке сидят» следует произносить в ускоренном темпе.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   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2914560" y="6480"/>
            <a:ext cx="3065400" cy="920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0" y="1459080"/>
            <a:ext cx="9144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тие чувства ритма. Эмоциональной отзывчивости на музы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ен, бубен, позвени.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ход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ек весели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, встряхив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е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чки играют        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бен ударя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й - раз и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бубен перед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й - два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ребенком, малыш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я игра.                              у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яет ладошк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чка (Ванечка,...) игра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бен ударяе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вторяется с другим участник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4821120" y="3792600"/>
            <a:ext cx="4237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7" descr=""/>
          <p:cNvPicPr/>
          <p:nvPr/>
        </p:nvPicPr>
        <p:blipFill>
          <a:blip r:embed="rId1"/>
          <a:stretch/>
        </p:blipFill>
        <p:spPr>
          <a:xfrm>
            <a:off x="73080" y="6480"/>
            <a:ext cx="874692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0" y="1792440"/>
            <a:ext cx="9144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ыразительность движений, совершенствовать навык легкого бега (на носочках), умения согласовывать движения с текстом песн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солнышко с утра,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ают руками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нам гулять пора.      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арик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д солнышком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в рассыпну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 и играть,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л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д солныш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е гуля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-кап! - по дорожке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чат пальчиком по ладошк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2" name="Рисунок 9" descr=""/>
          <p:cNvPicPr/>
          <p:nvPr/>
        </p:nvPicPr>
        <p:blipFill>
          <a:blip r:embed="rId2"/>
          <a:stretch/>
        </p:blipFill>
        <p:spPr>
          <a:xfrm>
            <a:off x="4905360" y="2670120"/>
            <a:ext cx="3916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5506920" y="3794040"/>
            <a:ext cx="182880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6480"/>
            <a:ext cx="5273640" cy="920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0" y="785880"/>
            <a:ext cx="914400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 движения по кругу,         умения согласовывать движения с текстом. Развивать координацию и быстроту реакции. Воспитывать выдерж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  образуют круг, взявшись за руки. В центре круга ко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и водят хоровод.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дут по круг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жанке дремлет кот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ко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ише, мыши, не шумите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ят друг другу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а Ваську не будите.   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снется Васька-кот-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гивают вперед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ьет весь хоровод.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ладонями ввер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 ушами кот-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ывают ладошки к голове - «уш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чез весь хоровод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 убегают на мест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оется  в размеренном темпе, предпоследняя фраза - в замедленном, растягивая слова.  А последняя скороговоркой. Необходимо. Чтобы дети разбегались на окончание последней фраз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6" name="Рисунок 10" descr=""/>
          <p:cNvPicPr/>
          <p:nvPr/>
        </p:nvPicPr>
        <p:blipFill>
          <a:blip r:embed="rId3"/>
          <a:stretch/>
        </p:blipFill>
        <p:spPr>
          <a:xfrm>
            <a:off x="6994440" y="1444680"/>
            <a:ext cx="21495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2798640" y="6480"/>
            <a:ext cx="3297240" cy="9205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0" y="117000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Вот какой, \ вот какой         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идят на мест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Мячик пестрый, \ озорной.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отрят, как ведущ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Никогда не \ плачет,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есню ударяет мяч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По дорожке \ скачет.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пол и ловит ег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 в руках я подержу.    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мяч и ходит пере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бяткам покажу.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, показывая е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дать? Кому дать?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лыша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будет мяч кид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ик Коленьке я дам.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мяч ребенк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ик Коля бросит сам.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кидает мяч обратно ведущему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 мячика приходиться на каждую сильную дол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озвращает мяч после слов «бросит сам...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9" name="Рисунок 6" descr=""/>
          <p:cNvPicPr/>
          <p:nvPr/>
        </p:nvPicPr>
        <p:blipFill>
          <a:blip r:embed="rId2"/>
          <a:stretch/>
        </p:blipFill>
        <p:spPr>
          <a:xfrm>
            <a:off x="5918040" y="3483000"/>
            <a:ext cx="32259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95400" y="5164200"/>
            <a:ext cx="1652400" cy="16524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" descr=""/>
          <p:cNvPicPr/>
          <p:nvPr/>
        </p:nvPicPr>
        <p:blipFill>
          <a:blip r:embed="rId2"/>
          <a:stretch/>
        </p:blipFill>
        <p:spPr>
          <a:xfrm>
            <a:off x="7405560" y="511956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"/>
          <p:cNvPicPr/>
          <p:nvPr/>
        </p:nvPicPr>
        <p:blipFill>
          <a:blip r:embed="rId3"/>
          <a:stretch/>
        </p:blipFill>
        <p:spPr>
          <a:xfrm>
            <a:off x="6943680" y="-33480"/>
            <a:ext cx="2200320" cy="34261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4"/>
          <a:stretch/>
        </p:blipFill>
        <p:spPr>
          <a:xfrm>
            <a:off x="944640" y="6480"/>
            <a:ext cx="7003800" cy="9205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0" y="7858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ыжкового движения с продвижением впер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ут, скачут лягушата-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-лягушата прыгают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к-поскок, скок-поскок.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ух ногах в произвольном направлен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ут бойкие ребята-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кочку, под лист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 вышел на болото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ягушата» выполняют «пружинки», аист ходи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улять, погулять.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ьтесь живо, лягушата,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ата приседают и не шевеля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е смог вас отыскать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             аист ходит между ними, задевая рукой пошевеливших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ова «...погулять, погулять / » должна быть небольшая пауза (остановка), голос при этом забирается вверх. Последняя фраза произноситься четко, с акцентом на каждое слово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7:40:05Z</dcterms:modified>
  <cp:revision>19</cp:revision>
  <dc:subject/>
  <dc:title>Презентация PowerPoint</dc:title>
</cp:coreProperties>
</file>