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226-0820-4BFC-8B2A-99BC7C74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040-CAA9-46ED-9D0B-569EA84A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A00-B0BB-4A5F-B8DA-FF803BDB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BFB-1D18-42B3-885D-1F8BF56C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47EC-4689-419D-8B42-2B471D3B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E8FA-3F76-4889-A6D6-DDAE507C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6DB3-1CFC-45C3-BF2C-ADD98CAF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3ED2-1194-4FEA-9C37-CD1CB103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0AA0-7F97-4E9E-995D-473D5B13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6B43-35A8-42D2-B163-0BC7496C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9561-A75D-4D2E-ACDF-9448E32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B6B-D235-43D1-901C-A1BB0E61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A138-4D06-4EBD-9273-DDC4538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923C-F6BF-41F1-83DA-8FC376E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EA10-2AD0-4A2C-A69C-33888309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2EF2-015D-4230-A643-B342F2AD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2CF3-6850-4692-864D-88EBB61C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BF05-F8CA-4CF8-9A33-C1A64C8B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3F7A-AF16-4774-9ABB-B26C0939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E19D-54EF-4D6A-8794-6863FD4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E3E8-4F5E-4E85-A4C5-13707BF2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41FED-B2FF-4724-8FEA-4C468D05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507-9B1A-4810-9AEF-5BB6A110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A73F-B5B8-4165-B0D9-D366CC8E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9D04-866E-482A-9F7F-F18394C1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A025-A491-4076-95A5-6A3FE6A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C52E-C085-4238-B053-7BA89AD7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07C6-12FA-47E9-9466-9B84AA28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D9A1-A5F2-449A-92ED-ABF83664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7032-2B84-487C-8C46-9504FE47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38B-9BBE-40F8-AA62-D462EEB9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497-7E3F-4F4A-B5A7-08667182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2FF-E6EB-407B-8016-A9B78E1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70D-1684-444B-A665-96BCC2F0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B2A-7DBA-435D-9864-12A326C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31F-65AF-4269-A4D3-F5CA809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2B85-C8B1-469A-8F55-6E83DC5DBA41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5C9E-BDA7-4EA1-BA3E-164C7776A9C5}" type="slidenum">
              <a:rPr b="0" lang="ru-RU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201A-1D80-4C64-A62A-2AE90E659779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4" descr=""/>
          <p:cNvPicPr/>
          <p:nvPr/>
        </p:nvPicPr>
        <p:blipFill>
          <a:blip r:embed="rId1"/>
          <a:stretch/>
        </p:blipFill>
        <p:spPr>
          <a:xfrm>
            <a:off x="5576760" y="0"/>
            <a:ext cx="351180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2249640" y="6480"/>
            <a:ext cx="4395600" cy="920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0" y="666720"/>
            <a:ext cx="9144000" cy="60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навыки выполнения легких прыжков с продвижением вперед, мягкого пружинного шага и легкого стремительного бе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чик, огуречи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ди на тот конечи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мышка жив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бе хвостик отгрызё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гры выбирается «ловишка». Им может быть кто - либо из взрослых или ребенок. «Ловишка» уходит в другой конец зала. Руки у играющих находятся на пояс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Ловишка садиться на стул у одной из стен комнаты, дети собираются стайкой у другой стены. На текст 1-й и 2-й строки дети продвигаются в направлении «ловишки». Под текст 3-й строки дети продолжают движение мягким пружинный шагом, грозя пальчиком «ловишке». Последняя фраза произноситься детьми. Стоящими на месте, и является сигналом к бегу. «Ловишка» догоняет убегающих от него дете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кст произноситься выразительно, нараспев, в конце 3-й строки должна быть небольшая пауза, голос при этом «забирается вверх»: там мышка живет. Последняя строчка произноситься скороговорко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"/>
          <p:cNvPicPr/>
          <p:nvPr/>
        </p:nvPicPr>
        <p:blipFill>
          <a:blip r:embed="rId1"/>
          <a:stretch/>
        </p:blipFill>
        <p:spPr>
          <a:xfrm>
            <a:off x="2303640" y="1008000"/>
            <a:ext cx="6503760" cy="27846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3" descr=""/>
          <p:cNvPicPr/>
          <p:nvPr/>
        </p:nvPicPr>
        <p:blipFill>
          <a:blip r:embed="rId2"/>
          <a:stretch/>
        </p:blipFill>
        <p:spPr>
          <a:xfrm>
            <a:off x="2408400" y="6480"/>
            <a:ext cx="4078080" cy="9205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"/>
          <p:cNvSpPr/>
          <p:nvPr/>
        </p:nvSpPr>
        <p:spPr>
          <a:xfrm>
            <a:off x="0" y="608040"/>
            <a:ext cx="9144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навык дробного шага с продвижением вперед. Развитие воображения и творческие способности дете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х, чух, пыхчу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хчу, ворч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ь на мест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ч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ами стучу, верчу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итесь скоре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чу: чух, чух!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тоят друг за другом, руки согнуты в локтях, пальцы крепко сжаты в кулачки. Ноги удобнее  слегка согнуты в коленях. Взрослый предлагает отправиться в путешествие. На весь текст выполняется ритмичное движение дробного шага с ускорением темпа его выполнения к концу игр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произноситься очень легко, ритмично, с ускорением. Следует обращать внимание на хорошую прямую осанку детей, а так же следить. Чтобы шаг был коротким, не шаркающим. Игру можно продолжить, предложив детям выйти из вагонов и погулять по лесу, собирая цветы, ягоды, или набирая букеты осенних разноцветных листьев. По сигнал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-ту!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2" descr=""/>
          <p:cNvPicPr/>
          <p:nvPr/>
        </p:nvPicPr>
        <p:blipFill>
          <a:blip r:embed="rId1"/>
          <a:stretch/>
        </p:blipFill>
        <p:spPr>
          <a:xfrm>
            <a:off x="5800680" y="588960"/>
            <a:ext cx="3094200" cy="370188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3" descr=""/>
          <p:cNvPicPr/>
          <p:nvPr/>
        </p:nvPicPr>
        <p:blipFill>
          <a:blip r:embed="rId2"/>
          <a:stretch/>
        </p:blipFill>
        <p:spPr>
          <a:xfrm>
            <a:off x="1841400" y="6480"/>
            <a:ext cx="5211720" cy="9205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0" y="785880"/>
            <a:ext cx="9144000" cy="52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, чувства рит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на печи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чат кулачком о кулачо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ари толч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на лавке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 как шьют иголк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ашку шь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е котята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ют согнутые в локтя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чке сидят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на уровне груди, опустив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чке сидят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и вниз, и вправо-вле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на котика глядят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ляют к глазам указат. и большие пальцы («очки»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котика глядят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ухарики едят.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лкают зубка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произносится на распев На 1-е две строчки движения ритмичные. На 2-е две  строки -  движения плавные «тянем ниточку». Слова «малые котята на печке сидят» следует произносить в ускоренном темпе.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   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3" descr=""/>
          <p:cNvPicPr/>
          <p:nvPr/>
        </p:nvPicPr>
        <p:blipFill>
          <a:blip r:embed="rId1"/>
          <a:stretch/>
        </p:blipFill>
        <p:spPr>
          <a:xfrm>
            <a:off x="2914560" y="6480"/>
            <a:ext cx="3065400" cy="9205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0" y="1459080"/>
            <a:ext cx="9144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витие чувства ритма. Эмоциональной отзывчивости на музык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ен, бубен, позвени.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ход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ишек весели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, встряхив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е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чки играют          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бен ударя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й - раз и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ит бубен перед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й - два!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ребенком, малыш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ая игра.                              у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яет ладошк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чка (Ванечка,...) игра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бен ударяе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овторяется с другим участником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2"/>
          <a:stretch/>
        </p:blipFill>
        <p:spPr>
          <a:xfrm>
            <a:off x="4821120" y="3792600"/>
            <a:ext cx="4237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7" descr=""/>
          <p:cNvPicPr/>
          <p:nvPr/>
        </p:nvPicPr>
        <p:blipFill>
          <a:blip r:embed="rId1"/>
          <a:stretch/>
        </p:blipFill>
        <p:spPr>
          <a:xfrm>
            <a:off x="73080" y="6480"/>
            <a:ext cx="8746920" cy="92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0" y="1792440"/>
            <a:ext cx="91440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выразительность движений, совершенствовать навык легкого бега (на носочках), умения согласовывать движения с текстом песн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т солнышко с утра,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щают руками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 нам гулять пора.      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арики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од солнышком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в рассыпную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ть и играть,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л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од солнышко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дворе гуля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-кап! - по дорожке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чат пальчиком по ладошк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2" name="Рисунок 9" descr=""/>
          <p:cNvPicPr/>
          <p:nvPr/>
        </p:nvPicPr>
        <p:blipFill>
          <a:blip r:embed="rId2"/>
          <a:stretch/>
        </p:blipFill>
        <p:spPr>
          <a:xfrm>
            <a:off x="4905360" y="2670120"/>
            <a:ext cx="39164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"/>
          <p:cNvPicPr/>
          <p:nvPr/>
        </p:nvPicPr>
        <p:blipFill>
          <a:blip r:embed="rId1"/>
          <a:stretch/>
        </p:blipFill>
        <p:spPr>
          <a:xfrm>
            <a:off x="5506920" y="3794040"/>
            <a:ext cx="1828800" cy="19479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5" descr=""/>
          <p:cNvPicPr/>
          <p:nvPr/>
        </p:nvPicPr>
        <p:blipFill>
          <a:blip r:embed="rId2"/>
          <a:stretch/>
        </p:blipFill>
        <p:spPr>
          <a:xfrm>
            <a:off x="1809720" y="6480"/>
            <a:ext cx="5273640" cy="920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6"/>
          <p:cNvSpPr/>
          <p:nvPr/>
        </p:nvSpPr>
        <p:spPr>
          <a:xfrm>
            <a:off x="0" y="785880"/>
            <a:ext cx="914400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 движения по кругу,         умения согласовывать движения с текстом. Развивать координацию и быстроту реакции. Воспитывать выдержк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  образуют круг, взявшись за руки. В центре круга ко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и водят хоровод.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дут по круг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жанке дремлет кот             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кот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ише, мыши, не шумите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зят друг другу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а Ваську не будите.     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снется Васька-кот-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ягивают вперед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бьет весь хоровод.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ладонями ввер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 ушами кот-                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ывают ладошки к голове - «уши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счез весь хоровод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 убегают на мест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поется  в размеренном темпе, предпоследняя фраза - в замедленном, растягивая слова.  А последняя скороговоркой. Необходимо. Чтобы дети разбегались на окончание последней фраз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6" name="Рисунок 10" descr=""/>
          <p:cNvPicPr/>
          <p:nvPr/>
        </p:nvPicPr>
        <p:blipFill>
          <a:blip r:embed="rId3"/>
          <a:stretch/>
        </p:blipFill>
        <p:spPr>
          <a:xfrm>
            <a:off x="6994440" y="1444680"/>
            <a:ext cx="21495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2798640" y="6480"/>
            <a:ext cx="3297240" cy="9205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5"/>
          <p:cNvSpPr/>
          <p:nvPr/>
        </p:nvSpPr>
        <p:spPr>
          <a:xfrm>
            <a:off x="0" y="117000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Вот какой, \ вот какой             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идят на места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Мячик пестрый, \ озорной.    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отрят, как ведущи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Никогда не \ плачет,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есню ударяет мячо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По дорожке \ скачет.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пол и ловит ег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 в руках я подержу.        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ит мяч и ходит пере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бяткам покажу.                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, показывая ег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дать? Кому дать?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алыша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будет мяч кидать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ик Коленьке я дам.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мяч ребенк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ик Коля бросит сам.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кидает мяч обратно ведущему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 мячика приходиться на каждую сильную долю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озвращает мяч после слов «бросит сам...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9" name="Рисунок 6" descr=""/>
          <p:cNvPicPr/>
          <p:nvPr/>
        </p:nvPicPr>
        <p:blipFill>
          <a:blip r:embed="rId2"/>
          <a:stretch/>
        </p:blipFill>
        <p:spPr>
          <a:xfrm>
            <a:off x="5918040" y="3483000"/>
            <a:ext cx="32259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95400" y="5164200"/>
            <a:ext cx="1652400" cy="16524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2" descr=""/>
          <p:cNvPicPr/>
          <p:nvPr/>
        </p:nvPicPr>
        <p:blipFill>
          <a:blip r:embed="rId2"/>
          <a:stretch/>
        </p:blipFill>
        <p:spPr>
          <a:xfrm>
            <a:off x="7405560" y="511956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3" descr=""/>
          <p:cNvPicPr/>
          <p:nvPr/>
        </p:nvPicPr>
        <p:blipFill>
          <a:blip r:embed="rId3"/>
          <a:stretch/>
        </p:blipFill>
        <p:spPr>
          <a:xfrm>
            <a:off x="6943680" y="-33480"/>
            <a:ext cx="2200320" cy="342612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4" descr=""/>
          <p:cNvPicPr/>
          <p:nvPr/>
        </p:nvPicPr>
        <p:blipFill>
          <a:blip r:embed="rId4"/>
          <a:stretch/>
        </p:blipFill>
        <p:spPr>
          <a:xfrm>
            <a:off x="944640" y="6480"/>
            <a:ext cx="7003800" cy="92052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"/>
          <p:cNvSpPr/>
          <p:nvPr/>
        </p:nvSpPr>
        <p:spPr>
          <a:xfrm>
            <a:off x="0" y="7858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прыжкового движения с продвижением впере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ут, скачут лягушата-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-лягушата прыгают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к-поскок, скок-поскок.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ух ногах в произвольном направлен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ут бойкие ребята-  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 на кочку, под лист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ист вышел на болото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ягушата» выполняют «пружинки», аист ходи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улять, погулять.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чьтесь живо, лягушата,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ата приседают и не шевелят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не смог вас отыскать!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             аист ходит между ними, задевая рукой пошевеливших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ова «...погулять, погулять / » должна быть небольшая пауза (остановка), голос при этом забирается вверх. Последняя фраза произноситься четко, с акцентом на каждое слово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6:59:26Z</dcterms:created>
  <dc:creator>Екатерина Белова</dc:creator>
  <dc:description/>
  <dc:language>en-US</dc:language>
  <cp:lastModifiedBy>Екатерина Белова</cp:lastModifiedBy>
  <dcterms:modified xsi:type="dcterms:W3CDTF">2015-10-06T17:40:05Z</dcterms:modified>
  <cp:revision>19</cp:revision>
  <dc:subject/>
  <dc:title>Презентация PowerPoint</dc:title>
</cp:coreProperties>
</file>