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69E-534F-4399-B511-ED66A4D5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D96-97B9-4A18-AB47-83ABB57D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9A6-F6B6-4894-A413-CC51938A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BC4-0C28-4325-BB2F-7AEE0B65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9F5A-4F56-4CDF-8FD2-D4C1E348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8559-162C-4AF2-A69E-80DE86FC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B9D6-B166-433E-A9E4-3301F963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D24C-DD60-447C-A85C-471B9BE8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34C2-F124-4ABB-B1D8-61D6385A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386A-4E79-4C45-92F3-1B773F3B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836C-12BA-4700-8364-42824E4F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F07-2377-4C1F-9157-E30F768A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B0A6-2FE6-426C-B5CA-D0EE19BC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4D7F-328C-4E8E-B9B8-5128FA16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0361-7F98-4946-81C5-7FB10F51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6C11-7933-4CC8-A531-DC878C54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70F-05AE-412E-B612-84E5DAE2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22C5-338C-453B-B7AE-65E16A62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A501-9102-4AF1-95BE-50195555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CBDB-D09C-455C-8CF0-606537D7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EC05-A35C-4025-8DE3-CC998310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ECD3-1375-40ED-AC4C-6182E9C4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DB2-DCE1-4976-A68E-9C9A95EB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FC437-D138-4D3A-94FE-D8C9BA9B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FB1A-79F9-4C2B-B731-BD331CA4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3C1A8-BCDE-4B09-80A8-B5AF46DB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53BE-DFA0-4A16-8A7D-B82CC39D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A568-5705-4C8F-8073-92DFF000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A784-5E07-4A71-A4AA-4E541412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5A95-11D4-472F-B6E5-C758E47D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655-F0CA-40A5-9F08-CA853734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A47-3CB3-4AAB-B5ED-108EA3AC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060-1A95-4A39-A6F8-5BBB369C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BED-3932-4F80-B967-391A827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55E-C2F7-4E5D-B9D6-623F5181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292-E0FE-4E6E-A01A-95C000F8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1ACD-8DBD-419F-A8F9-E385BEBE73F4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B66A-8D8C-4992-94FE-52B3B1425622}" type="slidenum">
              <a:rPr b="0" lang="ru-RU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24E1-B99B-4A34-A48D-C8797B3A689E}" type="slidenum">
              <a:rPr b="0" lang="ru-RU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3895560" y="2459160"/>
            <a:ext cx="5011920" cy="4086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2" descr=""/>
          <p:cNvPicPr/>
          <p:nvPr/>
        </p:nvPicPr>
        <p:blipFill>
          <a:blip r:embed="rId2"/>
          <a:stretch/>
        </p:blipFill>
        <p:spPr>
          <a:xfrm>
            <a:off x="549360" y="6480"/>
            <a:ext cx="7796160" cy="9205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0" y="109368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тие чувства ритм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ата все по лужа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еп-шлеп-шлеп,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елают шлепк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еп-шлеп-шлеп!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еня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ебята по дорожке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-топ-топ, топ-топ-топ!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топы нога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весело иду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песенку поют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-ля-ля, ля-ля-ля!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ают в ладош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1" descr=""/>
          <p:cNvPicPr/>
          <p:nvPr/>
        </p:nvPicPr>
        <p:blipFill>
          <a:blip r:embed="rId1"/>
          <a:stretch/>
        </p:blipFill>
        <p:spPr>
          <a:xfrm>
            <a:off x="804960" y="6480"/>
            <a:ext cx="7284960" cy="92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>
            <a:off x="0" y="1044720"/>
            <a:ext cx="914400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чувства ритм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ерут инструменты (колокольчик, палочки и др.) и ритмично отмечают ритмическую пульсацию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 капнул на ладошку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-кап, кап-кап-кап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веток и на дорожку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-кап, кап-кап-кап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чал по крыше он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-кап, кап-кап-кап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здался чистый звон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-кап, кап-кап-кап!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3" name="Picture 4" descr="http://auto.img.v4.skyrock.net/9636/85809636/pics/3230947611_1_2_IL1Ne6u0.png"/>
          <p:cNvPicPr/>
          <p:nvPr/>
        </p:nvPicPr>
        <p:blipFill>
          <a:blip r:embed="rId2"/>
          <a:stretch/>
        </p:blipFill>
        <p:spPr>
          <a:xfrm>
            <a:off x="3495600" y="185904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7063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0" y="116352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моций, выразительности движений, мелкой моторик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ка по лесу гуляет,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опают ногам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зину шишки собирает.           п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валиваясь с боку на бо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Шишка раз, шишка два-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рукой собирают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у я их сюда.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ют в ладо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 какая это шишка?                        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гивают ладошки впере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Я не знаю,  - шепчет мишка.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мают плечам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м мишку мы считать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, два, три, четыре, пять.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загибают пальчики и считают их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6" name="Picture 2" descr="http://trio-studio.ru/wp-content/uploads/2012/07/0_73bcd_e394e5f3_XL.jpg.png"/>
          <p:cNvPicPr/>
          <p:nvPr/>
        </p:nvPicPr>
        <p:blipFill>
          <a:blip r:embed="rId2"/>
          <a:stretch/>
        </p:blipFill>
        <p:spPr>
          <a:xfrm>
            <a:off x="5656320" y="3208320"/>
            <a:ext cx="34876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0" y="71424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итмической координации, выразительности движений, способности координировать движения с музыкой и текстом, развитие внима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стают в круг, взявшись за руки. Ежи сидит в центре кру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в лесу колючий ежик, да, да, да.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ут по круг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клубочком и без ножек, да, да, 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л он хлопать -   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ают го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-хлоп-хлоп.         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л он топать-     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ают го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-топ-топ.               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топ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л он прыгать       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ают го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- прыг-прыг.      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ки на двух нога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носом шмыгал-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ают го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мыг-шмыг-шмыг.                    п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ть пальчиком но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 ребята приходили, да, да ,да.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 же движен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жа плясать учили, да, да, 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 хлопать - хлоп, хлоп ,хло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 топать - топ, топ, то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 прыгать - прыг, прыг, пры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 их.. носом шмыгать, шмыг, шмыг, шмы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, чтобы движения детей не были суетливыми, соответствовали текст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8" name="Прямоугольник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www.sib-zharki.ru/sites/default/files/resize/remote/9942f16229f471dd434eb39f61e1c73e-800x800.jpg"/>
          <p:cNvPicPr/>
          <p:nvPr/>
        </p:nvPicPr>
        <p:blipFill>
          <a:blip r:embed="rId2"/>
          <a:stretch/>
        </p:blipFill>
        <p:spPr>
          <a:xfrm>
            <a:off x="6380280" y="3703680"/>
            <a:ext cx="31543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7063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"/>
          <p:cNvSpPr/>
          <p:nvPr/>
        </p:nvSpPr>
        <p:spPr>
          <a:xfrm>
            <a:off x="0" y="932040"/>
            <a:ext cx="9144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тие эмоциональной сферы, координации движени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, лей, лей, лей.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ахивают кистями ру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ня и на людей.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к груди и разводят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рон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юдей по ложке,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дошки сложены в «ложки»-углубл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ня по крошке,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к груди и пальцы сложе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епотк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б-а-бу Ягу      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ми схватиться за голову, покачать го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й по целому  ведру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Руки бросить вниз с наклоном  туловищ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2" name="Picture 2" descr="http://content.mycutegraphics.com/graphics/rain/girl-in-the-rain.png"/>
          <p:cNvPicPr/>
          <p:nvPr/>
        </p:nvPicPr>
        <p:blipFill>
          <a:blip r:embed="rId2"/>
          <a:stretch/>
        </p:blipFill>
        <p:spPr>
          <a:xfrm>
            <a:off x="5702400" y="3143160"/>
            <a:ext cx="30765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fcf3"/>
            </a:gs>
            <a:gs pos="100000">
              <a:srgbClr val="e9f0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7063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0" y="974880"/>
            <a:ext cx="914400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чувство ритма, закрепления навыка движения по круг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ите хоровод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круга - ребенок, играющи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гармошки -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армошке. Дети, взявшись за рук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ут вокруг нег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 ручки,     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авливаются, поднимают руки ввер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 в ладошки,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аз хлопают в ладош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 - топ, ножки!      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раза топают ног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повторяются, на гармошке играет другой ребенок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5" name="Picture 2" descr="http://img1.liveinternet.ru/images/attach/c/3/122/239/122239131_pasowanie_foto.png"/>
          <p:cNvPicPr/>
          <p:nvPr/>
        </p:nvPicPr>
        <p:blipFill>
          <a:blip r:embed="rId2"/>
          <a:stretch/>
        </p:blipFill>
        <p:spPr>
          <a:xfrm>
            <a:off x="1457280" y="4224240"/>
            <a:ext cx="5715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6:59:26Z</dcterms:created>
  <dc:creator>Екатерина Белова</dc:creator>
  <dc:description/>
  <dc:language>en-US</dc:language>
  <cp:lastModifiedBy>Екатерина Белова</cp:lastModifiedBy>
  <dcterms:modified xsi:type="dcterms:W3CDTF">2015-10-06T14:45:37Z</dcterms:modified>
  <cp:revision>19</cp:revision>
  <dc:subject/>
  <dc:title>Презентация PowerPoint</dc:title>
</cp:coreProperties>
</file>