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FF3-5487-4A08-A927-466DC84D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7BA-C467-49D1-8CA6-E2F07B4B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942-7695-446E-A3C9-F47D6080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A5F-B44F-408C-AF39-29D21E44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0BC7-D523-4F29-BF2E-717631D0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B941-5368-492A-A429-336F6480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4E09-6D55-4EAB-B879-CE0C51F6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4E53-7FED-41E8-83E6-24E601A2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039F-4C39-424B-9E72-40ACC18D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C815-6E68-4745-A3EA-F3A54E91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D032-F911-47B4-B2DF-EEEA92C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C6D-8043-4D1F-BDEC-5B1083EA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F106-DEFB-4B87-9E6E-CAD35E42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7B32-6E1A-4851-994E-38A6C067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19E7-1AED-4FC8-B097-6FDF4146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EBD1-BC11-49F7-A074-00751F08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67AE-08A8-460E-9E8C-354E22A8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BB7F-C1FE-495A-9605-DE2C544B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34286-1F6F-46E5-B0B9-AD4B9D0D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FA8D-AF16-467D-84BF-B64CF949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53FF-9CA4-4BE4-BB33-CF48C277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6F6C-E2A9-49B6-868B-32B57561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AB5-3D99-4AF2-9D0A-8E2DCBF6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2444-5589-44ED-91E2-2FCE65E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92EC-2425-4AA4-91ED-12D7F95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1C67-DD74-4166-9BB4-FD9FF5C3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3990-F52F-4200-8779-249631CA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74E33-F8F0-450F-9321-D2CA2734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CE6F-BCC1-46A8-AFBD-92F2320F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2F35-461F-4940-9C4C-D27C9AC1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6C9-837D-4448-8D72-DF7AED7A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2A7-4C0A-4EF9-88AD-042D07D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62C-BDD9-4C52-95FF-4758E7D9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6D8-7B6A-47EE-987A-4EF7D225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979-9680-4CEC-9E8D-470DC691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374-2AFB-4F5C-85EA-263B933B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31D5-9B2E-460F-83CC-621847FA6601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5362-DE56-4080-8A52-02D47A2F7F4F}" type="slidenum">
              <a:rPr b="0" lang="ru-RU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03BF-A40F-48AF-B0E8-36A664D18D7C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3895560" y="2459160"/>
            <a:ext cx="5011920" cy="4086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" descr=""/>
          <p:cNvPicPr/>
          <p:nvPr/>
        </p:nvPicPr>
        <p:blipFill>
          <a:blip r:embed="rId2"/>
          <a:stretch/>
        </p:blipFill>
        <p:spPr>
          <a:xfrm>
            <a:off x="549360" y="6480"/>
            <a:ext cx="7796160" cy="9205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0" y="109368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тие чувства ритм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ата все по лужа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п-шлеп-шлеп,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елают шлепк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п-шлеп-шлеп!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еня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ебята по дорожке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-топ-топ, топ-топ-топ!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топы ног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весело иду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песенку поют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-ля-ля, ля-ля-ля!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ают в ладош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1" descr=""/>
          <p:cNvPicPr/>
          <p:nvPr/>
        </p:nvPicPr>
        <p:blipFill>
          <a:blip r:embed="rId1"/>
          <a:stretch/>
        </p:blipFill>
        <p:spPr>
          <a:xfrm>
            <a:off x="804960" y="6480"/>
            <a:ext cx="7284960" cy="92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0" y="1044720"/>
            <a:ext cx="914400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ритм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ерут инструменты (колокольчик, палочки и др.) и ритмично отмечают ритмическую пульсацию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капнул на ладошку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-кап, кап-кап-кап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веток и на дорожку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-кап, кап-кап-кап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чал по крыше он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-кап, кап-кап-кап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здался чистый звон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-кап, кап-кап-кап!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3" name="Picture 4" descr="http://auto.img.v4.skyrock.net/9636/85809636/pics/3230947611_1_2_IL1Ne6u0.png"/>
          <p:cNvPicPr/>
          <p:nvPr/>
        </p:nvPicPr>
        <p:blipFill>
          <a:blip r:embed="rId2"/>
          <a:stretch/>
        </p:blipFill>
        <p:spPr>
          <a:xfrm>
            <a:off x="3495600" y="185904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7063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0" y="116352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моций, выразительности движений, мелкой моторик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ка по лесу гуляет,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опают ногам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зину шишки собирает.           п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валиваясь с боку на бо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Шишка раз, шишка два-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рукой собирают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у я их сюда.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ют в ладо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какая это шишка?                        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гивают ладошки впере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 не знаю,  - шепчет мишка.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мают плечам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м мишку мы считать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, два, три, четыре, пять.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загибают пальчики и считают их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" name="Picture 2" descr="http://trio-studio.ru/wp-content/uploads/2012/07/0_73bcd_e394e5f3_XL.jpg.png"/>
          <p:cNvPicPr/>
          <p:nvPr/>
        </p:nvPicPr>
        <p:blipFill>
          <a:blip r:embed="rId2"/>
          <a:stretch/>
        </p:blipFill>
        <p:spPr>
          <a:xfrm>
            <a:off x="5656320" y="3208320"/>
            <a:ext cx="34876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0" y="71424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итмической координации, выразительности движений, способности координировать движения с музыкой и текстом, развитие внима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стают в круг, взявшись за руки. Ежи сидит в центре кру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в лесу колючий ежик, да, да, да.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ут по круг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клубочком и без ножек, да, да, 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л он хлопать -   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ают го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-хлоп-хлоп.         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л он топать-     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ают го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-топ-топ.               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топ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л он прыгать   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ают го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- прыг-прыг.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ки на двух нога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носом шмыгал-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ают го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мыг-шмыг-шмыг.                    п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ть пальчиком но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 ребята приходили, да, да ,да.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же движен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жа плясать учили, да, да, 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 хлопать - хлоп, хлоп ,хло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 топать - топ, топ, то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 прыгать - прыг, прыг, пры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 их.. носом шмыгать, шмыг, шмыг, шмы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, чтобы движения детей не были суетливыми, соответствовали текст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8" name="Прямоугольник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www.sib-zharki.ru/sites/default/files/resize/remote/9942f16229f471dd434eb39f61e1c73e-800x800.jpg"/>
          <p:cNvPicPr/>
          <p:nvPr/>
        </p:nvPicPr>
        <p:blipFill>
          <a:blip r:embed="rId2"/>
          <a:stretch/>
        </p:blipFill>
        <p:spPr>
          <a:xfrm>
            <a:off x="6380280" y="3703680"/>
            <a:ext cx="31543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7063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>
            <a:off x="0" y="932040"/>
            <a:ext cx="9144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тие эмоциональной сферы, координации движени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, лей, лей, лей.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ахивают кистями ру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ня и на людей.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к груди и разводят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рон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юдей по ложке,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дошки сложены в «ложки»-углуб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ня по крошке,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к груди и пальцы сложе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епотк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б-а-бу Ягу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ми схватиться за голову, покачать го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 по целому  ведру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Руки бросить вниз с наклоном  туловищ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2" name="Picture 2" descr="http://content.mycutegraphics.com/graphics/rain/girl-in-the-rain.png"/>
          <p:cNvPicPr/>
          <p:nvPr/>
        </p:nvPicPr>
        <p:blipFill>
          <a:blip r:embed="rId2"/>
          <a:stretch/>
        </p:blipFill>
        <p:spPr>
          <a:xfrm>
            <a:off x="5702400" y="3143160"/>
            <a:ext cx="30765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7063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0" y="974880"/>
            <a:ext cx="914400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чувство ритма, закрепления навыка движения по круг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ите хоровод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круга - ребенок, играющи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гармошки -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армошке. Дети, взявшись за рук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ут вокруг нег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ручки,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авливаются, поднимают руки ввер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 в ладошки,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аз хлопают в ладош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 - топ, ножки!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раза топают ног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повторяются, на гармошке играет другой ребенок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5" name="Picture 2" descr="http://img1.liveinternet.ru/images/attach/c/3/122/239/122239131_pasowanie_foto.png"/>
          <p:cNvPicPr/>
          <p:nvPr/>
        </p:nvPicPr>
        <p:blipFill>
          <a:blip r:embed="rId2"/>
          <a:stretch/>
        </p:blipFill>
        <p:spPr>
          <a:xfrm>
            <a:off x="1457280" y="4224240"/>
            <a:ext cx="5715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6:59:26Z</dcterms:created>
  <dc:creator>Екатерина Белова</dc:creator>
  <dc:description/>
  <dc:language>en-US</dc:language>
  <cp:lastModifiedBy>Екатерина Белова</cp:lastModifiedBy>
  <dcterms:modified xsi:type="dcterms:W3CDTF">2015-10-06T14:45:37Z</dcterms:modified>
  <cp:revision>19</cp:revision>
  <dc:subject/>
  <dc:title>Презентация PowerPoint</dc:title>
</cp:coreProperties>
</file>