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83C-1F3D-4BC5-9B41-7368A7D7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6DF-B462-4E44-A2B8-76B8B1E3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5D7-27C0-4306-8266-8C42F4BD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DF5-6939-47A1-BC11-4D13A926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50A8-7F95-43EE-8C97-95A80C8C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4C16-5B9C-4B83-87EA-31E4DB4C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50AC-8934-4A25-B580-91E2EB7D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5EBB-9857-49B5-B1E7-314BBEA4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E03-A9D6-477B-93E2-721AD531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8FBD-2D33-4419-8F1D-2CFB6A23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9E90-59B8-4955-BAFE-1555FF31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482-8F65-4C72-96F9-BEE5FC61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5615-D681-4919-AF9C-33936DD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07C2-5EEB-4D33-941E-E3ABD35E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7FEC-134B-45AF-8EF4-160D4BB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0484-FB99-426D-906D-815F5FB7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AE44-3C0D-471E-8DC8-15E5A8E6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72E-8D6F-4B96-972F-CA7152B2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B50-CCBF-4BFE-A0DB-DF18C1D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3E5-C384-40B1-9232-1715A4D9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9AB-3421-4727-9B62-DBD3B100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5A5-959F-48F3-B5A2-76762BC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659-7712-4D48-B9E7-E5315A5D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6EE-772D-4FAD-82C7-BB06BC8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C31A2C-17AE-443E-9C66-9645F4D4E48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E4ABF7-4E5B-4634-8FF0-4841268A76C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mg1.liveinternet.ru/images/attach/c/2/83/136/83136939_shutterstock_60949528.jpg"/>
          <p:cNvPicPr/>
          <p:nvPr/>
        </p:nvPicPr>
        <p:blipFill>
          <a:blip r:embed="rId1"/>
          <a:stretch/>
        </p:blipFill>
        <p:spPr>
          <a:xfrm>
            <a:off x="0" y="-571680"/>
            <a:ext cx="11747880" cy="7857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13440" cy="173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Скандинавская ходьба </a:t>
            </a:r>
            <a:br>
              <a:rPr sz="3200"/>
            </a:b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( </a:t>
            </a: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Nordic Walking)</a:t>
            </a:r>
            <a:r>
              <a:rPr b="1" lang="en-US" sz="3000" spc="-1" strike="noStrike" cap="all">
                <a:solidFill>
                  <a:srgbClr val="0d0d0d"/>
                </a:solidFill>
                <a:latin typeface="Lucida Sans"/>
              </a:rPr>
              <a:t> </a:t>
            </a:r>
            <a:br>
              <a:rPr sz="3000"/>
            </a:b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br>
              <a:rPr sz="3200"/>
            </a:b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Новый вид фитнеса</a:t>
            </a:r>
            <a:r>
              <a:rPr b="1" lang="ru-RU" sz="3600" spc="-1" strike="noStrike" cap="all">
                <a:solidFill>
                  <a:srgbClr val="0d0d0d"/>
                </a:solidFill>
                <a:latin typeface="Book Antiqua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Масса тела: контроль и нормализация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меньшение запасов жировой ткан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ффективное сжигание калорий (на 46% больше чем при обычной ходьбе)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400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калорий за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0 мин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орма 10 000 шагов ежедневно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Нервная и иммунная систем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ыработка эндорфинов – «гормонов счасть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крепляется иммунная систем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кровяное снабжение мозг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сон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Упражнения с палками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обходимая разминк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иятная растяжк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9" descr="exercises"/>
          <p:cNvPicPr/>
          <p:nvPr/>
        </p:nvPicPr>
        <p:blipFill>
          <a:blip r:embed="rId1"/>
          <a:stretch/>
        </p:blipFill>
        <p:spPr>
          <a:xfrm>
            <a:off x="4643280" y="2060640"/>
            <a:ext cx="3889080" cy="388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Структура Занятия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ремя занятия – 40 мин, 60 мин, 90 мин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зминка : суставная гимнастика, ходьба без усилий 300-500 м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сновная часть: время, скорость, дистанция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минка  - упражнения на растягивание мышц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finland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Lucida Sans"/>
              </a:rPr>
              <a:t>Происхождение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Lucida Sans"/>
              </a:rPr>
              <a:t>Финляндия 1940-е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7400" y="2141640"/>
            <a:ext cx="7929360" cy="39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« Если в некоторых странах Европы Вы выходите на прогулку без палок,  то Вы выглядите странно 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Пит Эдвардс, СШ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Скандинавская Ходьба в Мире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990-е самостоятельный вид спор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Международная Ассоциация Скандинавской ходьбы (INWA)  - Финляндия, Германия, Австрия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2011 более 20 стран - членов, а инструкторы проводят тренинги в ещё 40 странах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Ходить может каждый !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heriage%27s+95+yr+old+Agatha"/>
          <p:cNvPicPr/>
          <p:nvPr/>
        </p:nvPicPr>
        <p:blipFill>
          <a:blip r:embed="rId1"/>
          <a:stretch/>
        </p:blipFill>
        <p:spPr>
          <a:xfrm>
            <a:off x="3000240" y="4054320"/>
            <a:ext cx="3736440" cy="280332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0" descr="nordic_walking"/>
          <p:cNvPicPr/>
          <p:nvPr/>
        </p:nvPicPr>
        <p:blipFill>
          <a:blip r:embed="rId2"/>
          <a:stretch/>
        </p:blipFill>
        <p:spPr>
          <a:xfrm>
            <a:off x="0" y="1143000"/>
            <a:ext cx="4606560" cy="30952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8" descr="CherryFestivalNordicSkiWalking"/>
          <p:cNvPicPr/>
          <p:nvPr/>
        </p:nvPicPr>
        <p:blipFill>
          <a:blip r:embed="rId3"/>
          <a:stretch/>
        </p:blipFill>
        <p:spPr>
          <a:xfrm>
            <a:off x="5929200" y="1285920"/>
            <a:ext cx="2952360" cy="2715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643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Палки для Ходьбы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Nordic-Walking-Stick-NW026-1"/>
          <p:cNvPicPr/>
          <p:nvPr/>
        </p:nvPicPr>
        <p:blipFill>
          <a:blip r:embed="rId1"/>
          <a:stretch/>
        </p:blipFill>
        <p:spPr>
          <a:xfrm rot="20215200">
            <a:off x="1994040" y="3828240"/>
            <a:ext cx="6911640" cy="174420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11" descr="nordicWalkingAnatomy"/>
          <p:cNvPicPr/>
          <p:nvPr/>
        </p:nvPicPr>
        <p:blipFill>
          <a:blip r:embed="rId2"/>
          <a:stretch/>
        </p:blipFill>
        <p:spPr>
          <a:xfrm rot="20282400">
            <a:off x="672480" y="1339920"/>
            <a:ext cx="7559280" cy="200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Простая и Доступная Каждому Техни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sandrine"/>
          <p:cNvPicPr/>
          <p:nvPr/>
        </p:nvPicPr>
        <p:blipFill>
          <a:blip r:embed="rId1"/>
          <a:stretch/>
        </p:blipFill>
        <p:spPr>
          <a:xfrm>
            <a:off x="2340000" y="1628640"/>
            <a:ext cx="4095360" cy="4420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Эффективность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 algn="ctr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онус и тренировка 90% мышц тела одновременно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5" descr="benefits3"/>
          <p:cNvPicPr/>
          <p:nvPr/>
        </p:nvPicPr>
        <p:blipFill>
          <a:blip r:embed="rId1"/>
          <a:stretch/>
        </p:blipFill>
        <p:spPr>
          <a:xfrm>
            <a:off x="2484360" y="2276640"/>
            <a:ext cx="4320720" cy="265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Сердечно - Сосудистая Систем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кровообращение, укрепляется сердечная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ышца, снижается пульс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эластичность сосудов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филактика гипер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ической болезни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Опорно-Двигательный Аппарат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филактика остеопороз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осанка, координация движени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вышается эластичность мышц, связок и сухожили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крепляются суставы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Дыхательная Систем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величение объема легких до 30%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крепление мышц, задействованных при дыхани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усвоение кислорода тканям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614</TotalTime>
  <Application>LibreOffice/7.4.7.2$Linux_X86_64 LibreOffice_project/40$Build-2</Application>
  <AppVersion>15.0000</AppVersion>
  <Words>224</Words>
  <Paragraphs>65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4:16:10Z</dcterms:created>
  <dc:creator>Vit</dc:creator>
  <dc:description/>
  <dc:language>en-US</dc:language>
  <cp:lastModifiedBy>Пользователь Windows</cp:lastModifiedBy>
  <dcterms:modified xsi:type="dcterms:W3CDTF">2015-05-21T19:17:0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