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44D-E4E8-4008-8287-9DDD3282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A00-B4DA-4094-A785-9627470B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AC4-AC17-4B57-8503-4BE784CE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E03-BCA4-4C39-AAC3-716DC7B2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8D3B-1F06-4D42-976E-04F54BE9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69C6-60AF-4597-8786-056FD2E9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F52D-64DD-4CB1-82C1-2618AB7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AD62-BFDE-4A16-99F0-CBDFB439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C495-359C-44E1-B7D7-EC9366A6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1A7F-219D-47A9-AE3D-C1280B2D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517C-5F45-43F5-B19C-26C7AE44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F09-F12C-48F1-BAFC-80EC9702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5626-CD09-4DDA-B232-E5A8EF47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2B14-D0BA-4404-AB8A-B3F89CCF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291B-DF0D-4701-A2D8-E0EE546B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8B00-A52C-452B-B689-C4607712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7D65-EF94-4451-A234-1D179F56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A3F-2F49-4769-A113-F3C85670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D1C-1F1A-4A50-BA18-7E7D3262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46C-40AC-4FDC-A90C-4FF6AE7F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493-3AF1-4C57-8E61-2746E120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3EC-C1C6-4DE0-9BF3-6766E029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31B-2337-4D84-BABE-E82A24F1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73A-84B8-4210-8822-E9A040A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08C815-B347-4579-9405-507D829F7F9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F45DA9-ECAA-4137-9AFA-654CE017760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img1.liveinternet.ru/images/attach/c/2/83/136/83136939_shutterstock_60949528.jpg"/>
          <p:cNvPicPr/>
          <p:nvPr/>
        </p:nvPicPr>
        <p:blipFill>
          <a:blip r:embed="rId1"/>
          <a:stretch/>
        </p:blipFill>
        <p:spPr>
          <a:xfrm>
            <a:off x="0" y="-571680"/>
            <a:ext cx="11747880" cy="7857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13440" cy="173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0d0d0d"/>
                </a:solidFill>
                <a:latin typeface="Lucida Sans"/>
              </a:rPr>
              <a:t>Скандинавская ходьба </a:t>
            </a:r>
            <a:br>
              <a:rPr sz="3200"/>
            </a:br>
            <a:r>
              <a:rPr b="1" lang="ru-RU" sz="3200" spc="-1" strike="noStrike" cap="all">
                <a:solidFill>
                  <a:srgbClr val="0d0d0d"/>
                </a:solidFill>
                <a:latin typeface="Lucida Sans"/>
              </a:rPr>
              <a:t>( </a:t>
            </a:r>
            <a:r>
              <a:rPr b="1" lang="en-US" sz="3200" spc="-1" strike="noStrike" cap="all">
                <a:solidFill>
                  <a:srgbClr val="0d0d0d"/>
                </a:solidFill>
                <a:latin typeface="Lucida Sans"/>
              </a:rPr>
              <a:t>Nordic Walking)</a:t>
            </a:r>
            <a:r>
              <a:rPr b="1" lang="en-US" sz="3000" spc="-1" strike="noStrike" cap="all">
                <a:solidFill>
                  <a:srgbClr val="0d0d0d"/>
                </a:solidFill>
                <a:latin typeface="Lucida Sans"/>
              </a:rPr>
              <a:t> </a:t>
            </a:r>
            <a:br>
              <a:rPr sz="3000"/>
            </a:br>
            <a:r>
              <a:rPr b="1" lang="en-US" sz="3200" spc="-1" strike="noStrike" cap="all">
                <a:solidFill>
                  <a:srgbClr val="0d0d0d"/>
                </a:solidFill>
                <a:latin typeface="Lucida Sans"/>
              </a:rPr>
              <a:t>	</a:t>
            </a:r>
            <a:r>
              <a:rPr b="1" lang="en-US" sz="3200" spc="-1" strike="noStrike" cap="all">
                <a:solidFill>
                  <a:srgbClr val="0d0d0d"/>
                </a:solidFill>
                <a:latin typeface="Lucida Sans"/>
              </a:rPr>
              <a:t>	</a:t>
            </a:r>
            <a:r>
              <a:rPr b="1" lang="ru-RU" sz="3200" spc="-1" strike="noStrike" cap="all">
                <a:solidFill>
                  <a:srgbClr val="0d0d0d"/>
                </a:solidFill>
                <a:latin typeface="Lucida Sans"/>
              </a:rPr>
              <a:t>	</a:t>
            </a:r>
            <a:r>
              <a:rPr b="1" lang="ru-RU" sz="3200" spc="-1" strike="noStrike" cap="all">
                <a:solidFill>
                  <a:srgbClr val="0d0d0d"/>
                </a:solidFill>
                <a:latin typeface="Lucida Sans"/>
              </a:rPr>
              <a:t>	</a:t>
            </a:r>
            <a:br>
              <a:rPr sz="3200"/>
            </a:br>
            <a:r>
              <a:rPr b="1" lang="en-US" sz="3200" spc="-1" strike="noStrike" cap="all">
                <a:solidFill>
                  <a:srgbClr val="0d0d0d"/>
                </a:solidFill>
                <a:latin typeface="Lucida Sans"/>
              </a:rPr>
              <a:t>	</a:t>
            </a:r>
            <a:r>
              <a:rPr b="1" lang="ru-RU" sz="3200" spc="-1" strike="noStrike" cap="all">
                <a:solidFill>
                  <a:srgbClr val="0d0d0d"/>
                </a:solidFill>
                <a:latin typeface="Lucida Sans"/>
              </a:rPr>
              <a:t>Новый вид фитнеса</a:t>
            </a:r>
            <a:r>
              <a:rPr b="1" lang="ru-RU" sz="3600" spc="-1" strike="noStrike" cap="all">
                <a:solidFill>
                  <a:srgbClr val="0d0d0d"/>
                </a:solidFill>
                <a:latin typeface="Book Antiqua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d0d0d"/>
                </a:solidFill>
                <a:latin typeface="Book Antiqua"/>
              </a:rPr>
              <a:t>Масса тела: контроль и нормализация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меньшение запасов жировой ткани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ффективное сжигание калорий (на 46% больше чем при обычной ходьбе)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30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400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калорий за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0 мин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орма 10 000 шагов ежедневно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d0d0d"/>
                </a:solidFill>
                <a:latin typeface="Book Antiqua"/>
              </a:rPr>
              <a:t>Нервная и иммунная систем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ыработка эндорфинов – «гормонов счасть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крепляется иммунная систем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кровяное снабжение мозг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сон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d0d0d"/>
                </a:solidFill>
                <a:latin typeface="Lucida Sans"/>
              </a:rPr>
              <a:t>Упражнения с палками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обходимая разминк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иятная растяжк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9" descr="exercises"/>
          <p:cNvPicPr/>
          <p:nvPr/>
        </p:nvPicPr>
        <p:blipFill>
          <a:blip r:embed="rId1"/>
          <a:stretch/>
        </p:blipFill>
        <p:spPr>
          <a:xfrm>
            <a:off x="4643280" y="2060640"/>
            <a:ext cx="3889080" cy="388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d0d0d"/>
                </a:solidFill>
                <a:latin typeface="Lucida Sans"/>
              </a:rPr>
              <a:t>Структура Занятия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ремя занятия – 40 мин, 60 мин, 90 мин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зминка : суставная гимнастика, ходьба без усилий 300-500 м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сновная часть: время, скорость, дистанция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Заминка  - упражнения на растягивание мышц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finland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Lucida Sans"/>
              </a:rPr>
              <a:t>Происхождение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Lucida Sans"/>
              </a:rPr>
              <a:t>Финляндия 1940-е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7400" y="2141640"/>
            <a:ext cx="7929360" cy="39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« Если в некоторых странах Европы Вы выходите на прогулку без палок,  то Вы выглядите странно 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	</a:t>
            </a: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	</a:t>
            </a: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	</a:t>
            </a: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	</a:t>
            </a: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	</a:t>
            </a:r>
            <a:r>
              <a:rPr b="1" lang="ru-RU" sz="2800" spc="-1" strike="noStrike">
                <a:solidFill>
                  <a:schemeClr val="folHlink"/>
                </a:solidFill>
                <a:latin typeface="Book Antiqua"/>
              </a:rPr>
              <a:t>Пит Эдвардс, СШ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d0d0d"/>
                </a:solidFill>
                <a:latin typeface="Lucida Sans"/>
              </a:rPr>
              <a:t>Скандинавская Ходьба в Мире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990-е самостоятельный вид спор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2000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Международная Ассоциация Скандинавской ходьбы (INWA)  - Финляндия, Германия, Австрия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2011 более 20 стран - членов, а инструкторы проводят тренинги в ещё 40 странах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d0d0d"/>
                </a:solidFill>
                <a:latin typeface="Lucida Sans"/>
              </a:rPr>
              <a:t>Ходить может каждый !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heriage%27s+95+yr+old+Agatha"/>
          <p:cNvPicPr/>
          <p:nvPr/>
        </p:nvPicPr>
        <p:blipFill>
          <a:blip r:embed="rId1"/>
          <a:stretch/>
        </p:blipFill>
        <p:spPr>
          <a:xfrm>
            <a:off x="3000240" y="4054320"/>
            <a:ext cx="3736440" cy="280332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10" descr="nordic_walking"/>
          <p:cNvPicPr/>
          <p:nvPr/>
        </p:nvPicPr>
        <p:blipFill>
          <a:blip r:embed="rId2"/>
          <a:stretch/>
        </p:blipFill>
        <p:spPr>
          <a:xfrm>
            <a:off x="0" y="1143000"/>
            <a:ext cx="4606560" cy="30952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8" descr="CherryFestivalNordicSkiWalking"/>
          <p:cNvPicPr/>
          <p:nvPr/>
        </p:nvPicPr>
        <p:blipFill>
          <a:blip r:embed="rId3"/>
          <a:stretch/>
        </p:blipFill>
        <p:spPr>
          <a:xfrm>
            <a:off x="5929200" y="1285920"/>
            <a:ext cx="2952360" cy="2715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6430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d0d0d"/>
                </a:solidFill>
                <a:latin typeface="Lucida Sans"/>
              </a:rPr>
              <a:t>Палки для Ходьбы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7" descr="Nordic-Walking-Stick-NW026-1"/>
          <p:cNvPicPr/>
          <p:nvPr/>
        </p:nvPicPr>
        <p:blipFill>
          <a:blip r:embed="rId1"/>
          <a:stretch/>
        </p:blipFill>
        <p:spPr>
          <a:xfrm rot="20215200">
            <a:off x="1994040" y="3828240"/>
            <a:ext cx="6911640" cy="174420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11" descr="nordicWalkingAnatomy"/>
          <p:cNvPicPr/>
          <p:nvPr/>
        </p:nvPicPr>
        <p:blipFill>
          <a:blip r:embed="rId2"/>
          <a:stretch/>
        </p:blipFill>
        <p:spPr>
          <a:xfrm rot="20282400">
            <a:off x="672480" y="1339920"/>
            <a:ext cx="7559280" cy="2007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d0d0d"/>
                </a:solidFill>
                <a:latin typeface="Lucida Sans"/>
              </a:rPr>
              <a:t>Простая и Доступная Каждому Техни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sandrine"/>
          <p:cNvPicPr/>
          <p:nvPr/>
        </p:nvPicPr>
        <p:blipFill>
          <a:blip r:embed="rId1"/>
          <a:stretch/>
        </p:blipFill>
        <p:spPr>
          <a:xfrm>
            <a:off x="2340000" y="1628640"/>
            <a:ext cx="4095360" cy="4420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9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d0d0d"/>
                </a:solidFill>
                <a:latin typeface="Lucida Sans"/>
              </a:rPr>
              <a:t>Эффективность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 algn="ctr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онус и тренировка 90% мышц тела одновременно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5" descr="benefits3"/>
          <p:cNvPicPr/>
          <p:nvPr/>
        </p:nvPicPr>
        <p:blipFill>
          <a:blip r:embed="rId1"/>
          <a:stretch/>
        </p:blipFill>
        <p:spPr>
          <a:xfrm>
            <a:off x="2484360" y="2276640"/>
            <a:ext cx="4320720" cy="265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d0d0d"/>
                </a:solidFill>
                <a:latin typeface="Lucida Sans"/>
              </a:rPr>
              <a:t>Сердечно - Сосудистая Систем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кровообращение, укрепляется сердечная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ышца, снижается пульс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эластичность сосудов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офилактика гипер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9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ической болезни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d0d0d"/>
                </a:solidFill>
                <a:latin typeface="Book Antiqua"/>
              </a:rPr>
              <a:t>Опорно-Двигательный Аппарат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офилактика остеопороз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осанка, координация движени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овышается эластичность мышц, связок и сухожили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крепляются суставы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d0d0d"/>
                </a:solidFill>
                <a:latin typeface="Book Antiqua"/>
              </a:rPr>
              <a:t>Дыхательная Систем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величение объема легких до 30%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крепление мышц, задействованных при дыхании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лучшается усвоение кислорода тканями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614</TotalTime>
  <Application>LibreOffice/7.4.7.2$Linux_X86_64 LibreOffice_project/40$Build-2</Application>
  <AppVersion>15.0000</AppVersion>
  <Words>224</Words>
  <Paragraphs>65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4:16:10Z</dcterms:created>
  <dc:creator>Vit</dc:creator>
  <dc:description/>
  <dc:language>en-US</dc:language>
  <cp:lastModifiedBy>Пользователь Windows</cp:lastModifiedBy>
  <dcterms:modified xsi:type="dcterms:W3CDTF">2015-05-21T19:17:07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