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4702-2412-449D-BA52-388C5C53E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842A-5E50-4275-87FA-18BCE059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E293-0083-4829-9496-35E0D103F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BC44-0E6D-48E8-AC05-EC33EC893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E132-3C36-4406-8F38-B0275E4ED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1C49-6B92-43DC-AA46-57A18789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1081-E0AC-40F9-9403-AD094BF8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78F6-5425-4FC2-B3CC-45EFA368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F3B5-6D40-41B9-87B6-D77DC80A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E04F-A044-41FC-8E4E-325AB0FE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7FB6-C9B8-4586-8E1C-8A411D87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1C92-DE84-488F-9193-8C1CCF3F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87FA-458D-4971-A30E-6CEE6F62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19CD-EFE8-4F58-B357-3915600D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E15E-7F98-4F08-A016-2021B205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101C-5938-4490-922B-5249353E8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A684-BF30-4532-BF69-C3EAF07E5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2C38-0EC8-4542-9452-FC4ECE8B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B3DE-1207-4BFA-B3DB-85BCBCA0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2099-ED5E-4585-B19A-E3AD58A0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CE56-0646-4617-9182-65F720E9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45CA-7A18-4947-8E92-A7E1C836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343F-F984-473F-BFF5-9124D157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C5A5-9AA7-4F06-A7B7-ACD8429B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4642-ED54-436B-8BB4-F509D862A8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0DEB-D8DD-4C1D-ACDE-B77004EF95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4723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Ар</a:t>
            </a:r>
            <a:endParaRPr b="1" lang="en-US" sz="9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укыш – пасмурны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й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ӧв – северный вете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тны – собира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зӧны – крича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зодзӧг – гус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рни – золтото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эра – дождливы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ымӧра – облачны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ӧнь – тихий, спокойны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ӧч – сентябр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Йирым - октябр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ӧльгым - ноябр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Л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ӧсьӧд серникузяяс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Arial Black"/>
              </a:rPr>
              <a:t>1. Б</a:t>
            </a:r>
            <a:r>
              <a:rPr b="1" lang="ru-RU" sz="4400" spc="-1" strike="noStrike">
                <a:solidFill>
                  <a:srgbClr val="feec94"/>
                </a:solidFill>
                <a:latin typeface="Arial Black"/>
              </a:rPr>
              <a:t>ӧрӧ, шоныд, гожӧм, коли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Arial Black"/>
              </a:rPr>
              <a:t>2. Ар, коръяс, воис, зарни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Arial Black"/>
              </a:rPr>
              <a:t>3. Лунвылӧ, лэбачьяс, мӧд</a:t>
            </a: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i</a:t>
            </a:r>
            <a:r>
              <a:rPr b="1" lang="ru-RU" sz="4400" spc="-1" strike="noStrike">
                <a:solidFill>
                  <a:srgbClr val="feec94"/>
                </a:solidFill>
                <a:latin typeface="Arial Black"/>
              </a:rPr>
              <a:t>сны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Arial Black"/>
              </a:rPr>
              <a:t>4. Заводитам, велӧдчыны, арын, ми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43927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200" spc="-1" strike="noStrike">
                <a:solidFill>
                  <a:srgbClr val="ffffff"/>
                </a:solidFill>
                <a:latin typeface="Arial Black"/>
              </a:rPr>
              <a:t>Арын – пань ва, ведра тыр няйт.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 Black"/>
              </a:rPr>
              <a:t>Усис пу вылысь ӧти кор – виччысь ар.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 Black"/>
              </a:rPr>
              <a:t>Ар пӧ гажтӧм, да озыр.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03760" y="333360"/>
            <a:ext cx="444024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Упал листок с дерева, жди осени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Осень скучна, но богата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Осенью ложка воды – ведро грязи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964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атыстчис … ар. Ывлаын …, но шонд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абу нин гожся кодь … . Кутшӧм … вӧрыс. Кыдзьяс … коръяс. Пипуяс да пелысьяс вылын … коръяс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Arial"/>
              </a:rPr>
              <a:t>Отсӧг вылӧ кывъяс: </a:t>
            </a:r>
            <a:r>
              <a:rPr b="1" i="1" lang="ru-RU" sz="4000" spc="-1" strike="noStrike">
                <a:solidFill>
                  <a:srgbClr val="feec94"/>
                </a:solidFill>
                <a:latin typeface="Arial"/>
              </a:rPr>
              <a:t>зарни, шоныд, мел</a:t>
            </a:r>
            <a:r>
              <a:rPr b="1" i="1" lang="en-US" sz="4000" spc="-1" strike="noStrike">
                <a:solidFill>
                  <a:srgbClr val="feec94"/>
                </a:solidFill>
                <a:latin typeface="Arial"/>
              </a:rPr>
              <a:t>i</a:t>
            </a:r>
            <a:r>
              <a:rPr b="1" i="1" lang="ru-RU" sz="4000" spc="-1" strike="noStrike">
                <a:solidFill>
                  <a:srgbClr val="feec94"/>
                </a:solidFill>
                <a:latin typeface="Arial"/>
              </a:rPr>
              <a:t>, мича, виж, чим гӧрд</a:t>
            </a:r>
            <a:r>
              <a:rPr b="1" lang="ru-RU" sz="4000" spc="-1" strike="noStrike">
                <a:solidFill>
                  <a:srgbClr val="feec94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орсь паныд веж</a:t>
            </a:r>
            <a:r>
              <a:rPr b="1" lang="ru-RU" sz="4000" spc="-1" strike="noStrike">
                <a:solidFill>
                  <a:srgbClr val="feec94"/>
                </a:solidFill>
                <a:latin typeface="Arial"/>
              </a:rPr>
              <a:t>ӧ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ртаса кывъяс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Шоныд –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емыд –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Кымӧра –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Гажа –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Зэра –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96472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Артм</a:t>
            </a:r>
            <a:r>
              <a:rPr b="1" lang="ru-RU" sz="4000" spc="-1" strike="noStrike">
                <a:solidFill>
                  <a:srgbClr val="feec94"/>
                </a:solidFill>
                <a:latin typeface="Arial"/>
              </a:rPr>
              <a:t>ӧд сетӧм кывъясысь шыпассӧ вежӧмӧн вылькывъяс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ӧч тадзи: рас – пас – дас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Рас, лун, зэр, вой, гожӧм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64872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Атть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ӧ уджысь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ставӧн молодечьяс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8T15:53:47Z</dcterms:created>
  <dc:creator>Андрей</dc:creator>
  <dc:description/>
  <dc:language>en-US</dc:language>
  <cp:lastModifiedBy>Андрей</cp:lastModifiedBy>
  <dcterms:modified xsi:type="dcterms:W3CDTF">2014-09-18T16:54:00Z</dcterms:modified>
  <cp:revision>7</cp:revision>
  <dc:subject/>
  <dc:title>Ар</dc:title>
</cp:coreProperties>
</file>