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AA8-8471-4388-89D2-D1C89911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6BB-F429-4479-92DD-41213926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F21-3929-4FE0-8BE2-48CDAD10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804-80D2-4206-A27C-FA0FBA3A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E61E-65FF-4054-B298-38B09848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A504-7BC0-4B67-84A5-9A459033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1431-EECA-4F50-8796-EB9E93C1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0209-4F7E-4FAF-AC1F-C944298E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DE55-B879-4CB3-A569-09DB0091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C19F-445A-4A06-B141-59585A9C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A6BC-05E3-4424-8BD3-199B95B1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FE5-C82A-4866-BE01-4082D491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31EC-7044-4F27-87A2-67991D6F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0AAC-6F01-427D-8EBF-19380E7A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A92B-A898-4094-9E4E-89A3597F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12AF-3325-41B5-A0E9-907A2CF8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EA76-681C-4CDE-AFF9-0D4F1E5B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53B-E4BD-411B-8D53-ED2FCE64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9C2-1D6E-4D53-A9ED-9D32E7A7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671-AD3D-40E6-B85F-8FDC028D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F0D-9396-41B9-8BDB-B2DE5D6D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BE2-9FE6-49E6-844C-889DD91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514-16C1-4094-A0F4-17BEBAAF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60A-7745-4160-8B99-96205A2B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CA88-CF79-4303-AE90-BE72B0C56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292-13B9-4119-8915-DD6819C9D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723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Ар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кыш – пасмур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й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ӧв – северный ве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тны – собир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зӧны – крича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зодзӧг – гу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ни – золтот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эра – дождлив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ымӧра – облач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ӧнь – тихий, спокой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ӧч – сентябр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ирым - октябр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ӧльгым - ноябр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Л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ӧсьӧд серникузяя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Arial Black"/>
              </a:rPr>
              <a:t>1. Б</a:t>
            </a: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ӧрӧ, шоныд, гожӧм, кол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2. Ар, коръяс, воис, зарн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3. Лунвылӧ, лэбачьяс, мӧд</a:t>
            </a: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i</a:t>
            </a: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сны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4. Заводитам, велӧдчыны, арын, м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4392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200" spc="-1" strike="noStrike">
                <a:solidFill>
                  <a:srgbClr val="ffffff"/>
                </a:solidFill>
                <a:latin typeface="Arial Black"/>
              </a:rPr>
              <a:t>Арын – пань ва, ведра тыр няйт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 Black"/>
              </a:rPr>
              <a:t>Усис пу вылысь ӧти кор – виччысь ар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 Black"/>
              </a:rPr>
              <a:t>Ар пӧ гажтӧм, да озыр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03760" y="333360"/>
            <a:ext cx="44402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Упал листок с дерева, жди осен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Осень скучна, но богат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Осенью ложка воды – ведро гряз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тыстчис … ар. Ывлаын …, но шон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абу нин гожся кодь … . Кутшӧм … вӧрыс. Кыдзьяс … коръяс. Пипуяс да пелысьяс вылын … коръяс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Отсӧг вылӧ кывъяс: </a:t>
            </a:r>
            <a:r>
              <a:rPr b="1" i="1" lang="ru-RU" sz="4000" spc="-1" strike="noStrike">
                <a:solidFill>
                  <a:srgbClr val="feec94"/>
                </a:solidFill>
                <a:latin typeface="Arial"/>
              </a:rPr>
              <a:t>зарни, шоныд, мел</a:t>
            </a:r>
            <a:r>
              <a:rPr b="1" i="1" lang="en-US" sz="4000" spc="-1" strike="noStrike">
                <a:solidFill>
                  <a:srgbClr val="feec94"/>
                </a:solidFill>
                <a:latin typeface="Arial"/>
              </a:rPr>
              <a:t>i</a:t>
            </a:r>
            <a:r>
              <a:rPr b="1" i="1" lang="ru-RU" sz="4000" spc="-1" strike="noStrike">
                <a:solidFill>
                  <a:srgbClr val="feec94"/>
                </a:solidFill>
                <a:latin typeface="Arial"/>
              </a:rPr>
              <a:t>, мича, виж, чим гӧрд</a:t>
            </a: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рсь паныд веж</a:t>
            </a: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ӧ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таса кывъяс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Шоныд –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емыд –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ымӧра –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ажа –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эра –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96472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ртм</a:t>
            </a: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ӧд сетӧм кывъясысь шыпассӧ вежӧмӧн вылькывъяс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ӧч тадзи: рас – пас – да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ас, лун, зэр, вой, гожӧм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64872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Атть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ӧ уджысь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ставӧн молодечьяс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15:53:47Z</dcterms:created>
  <dc:creator>Андрей</dc:creator>
  <dc:description/>
  <dc:language>en-US</dc:language>
  <cp:lastModifiedBy>Андрей</cp:lastModifiedBy>
  <dcterms:modified xsi:type="dcterms:W3CDTF">2014-09-18T16:54:00Z</dcterms:modified>
  <cp:revision>7</cp:revision>
  <dc:subject/>
  <dc:title>Ар</dc:title>
</cp:coreProperties>
</file>