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9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6.png" ContentType="image/png"/>
  <Override PartName="/ppt/media/image1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74D8-BA81-4973-AE87-AFA2BF830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4389-DCE8-4A3B-8CE6-FD552843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7CE1-15F9-46EF-9BA8-CF4A25D63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80FD-E66B-40D8-A73C-FDF3F720A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D32C-F7D3-40A6-98B8-BE1146156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3FF8-E1EA-44C8-8837-86E00016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F08C-9E01-4F6A-A4D4-B7E61F74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EDB0-FCEE-487B-845B-4BA5D45D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C60D3-F749-458A-82C7-C37B114D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7A94-AF62-4D0B-A6B6-3BF5C94B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9A07-FF26-4DFD-BB7E-285C74F6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8D29-DA27-41B8-A1D4-311EDAF0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D9A1-C20C-4E64-A6A9-7BB6E6E9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04E5-D5AF-4301-AE48-E04862D7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C92D4-0786-4380-89BF-E6271C19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63B8-95C6-449F-860F-D0388F3AD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0FEB-00FF-453B-ACA2-71803199F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D4905-1EF9-4BB0-A78A-5CC1B12C6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545DA-7BDA-4812-8D13-8E75BE7D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A4EF7-2CA5-4F18-A25F-B1BF957D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7985D-FB16-4788-A401-C156DD28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9F71B-83EA-43FA-9DA2-A21CCBB9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4CB1-A444-49AC-AEE8-1205E14F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09F06-F3FE-4184-B216-4ECA4FA8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9CF34-A467-42B1-8880-559F3948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0059A-7030-461A-BD4D-C57766D2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55D4F-BAD1-4EEC-9CC8-F28228D9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4ACB4-DBA2-477C-B588-D7A69D87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98107-8AF9-4A41-9DA7-609124E8B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1BEFB-6822-4DB5-913C-59B99EE94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48640-9579-40B0-8D4F-C7D64A8D1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088F1-2292-45D8-867E-733175A7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4AA8B-3DAB-4B83-927C-4D53F995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CC09-FAF1-45FD-AFE0-2D07BE0D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75E16-F276-45CE-9BB4-CFD72D9B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6980E-7ACB-442E-B400-ABF411DE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12CB7-2834-4ECC-8323-3E5D69F4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06666-9E58-4AC5-AF41-8E3558F8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648D1-F70F-4DCF-842C-B1DCC929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BD6CB-3957-43B5-9F8A-DFBC7607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35ED7-7DDB-4196-A8A1-6996DA34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7F0AA-829D-4542-8355-13087A7FA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D079E-3C24-401A-AFDC-FE0A4D248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429A4-4F9C-4D82-808B-BF0E4E2B0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265A-2DC5-4A05-8B92-103057D1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5725C-1680-451C-9F04-1482EB12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F3ABF-091A-4DDD-82C1-5940063C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13994-E6A9-4ED3-8CA8-87044018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52C54-BE17-4320-B049-4D1C19F8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D25ED-63B8-43A5-9C0C-87D9B941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59A4C-7397-46C5-A284-75E426D8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558EB-4555-4E11-9FD8-FF64636A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04815-B351-4E82-AE78-070BB45B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5F51A-844B-46F5-91C9-694AF1CA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48049-851C-4D7E-BCEF-8E30CFB16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5E4E-05EA-4FE7-8DCF-25A86D4B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58E54-6AA9-4408-B830-F62EC0264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50B55-12C9-4C53-81F9-10129C321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5C83E-6094-4573-8B5C-6620105E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55494-BBBD-45A7-A39A-29E64F39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54A8D-50DB-4A5D-BFE0-5B48A4846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7FCEC-0D2A-408F-8C8D-5ADE9793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D19D3-E604-455A-A9ED-E3A33947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BFCFB-636C-4DCF-90DF-EA380F49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41005-96E7-4B0E-AAFC-86ABD6FC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E3853-8720-4BE9-967E-8AEBA928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3D22-C114-496C-B184-F4AF8752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A8E7D-4ECD-43D6-91CE-6995DE94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5F9BD-D6C9-4614-A5E0-979AD6663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54049-D4C4-467E-B9D2-85EF25200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F0932-5BFD-49C2-9377-5F33082D5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D151C-E9DF-4A8C-BA97-11766D8E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26F7F-BEC6-454A-A6B5-B6B39238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6F965-A45B-4526-99B8-50476E01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D1CFF-9B5B-4645-B800-841E2ADA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E352E-A74C-418E-B2C7-167A1390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8723F-D577-463A-B399-DEEB7708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DABE-76C1-4A72-AA4D-42B6F72E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5EFAA-63BD-49DD-B78D-A3120C8D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A6BF2-078E-46EB-84DC-2FF0466C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A431B-5F49-49DB-BDED-69E20BF0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24DDA-1265-42A4-8EE8-99956D25D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6F1E2-9062-4814-B188-9E9F33319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9D16-4210-4B90-904B-D3E5D8C5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FDB5-8D7F-43F3-8F2A-5FD3D4EB801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8D77-0C0F-4361-9878-08559173A5C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9E1C-E00A-4DD2-B388-2EF2874BCDF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020F-CC1A-4E4F-99EF-84043C6CAEF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048E-99A7-4833-A643-1988962B3B4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332A-1C41-4F9D-9312-94276A4CCE7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9082-44EE-4543-9DD4-183B27B8619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wmf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wmf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1428840" y="428760"/>
            <a:ext cx="7407360" cy="5324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онструкция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be going to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ый материал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уроку «Мы собираемся путешествовать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английского язык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СОШ № 48 г. Владимир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банова С.В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Использованные источник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зюина  Е.В. Поурочные разработки по английскому языку 5 класс – Москва, изд-во Вако, 2012 г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Контрольно-измерительные материалы, английский язык, к УМК Биболетовой М.З. «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njoy English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»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? 5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класс – Москва, Вако, 2011 г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ttp://festival.1september.ru/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93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am/is/are going to … - </a:t>
            </a:r>
            <a:r>
              <a:rPr b="0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обираться</a:t>
            </a:r>
            <a:r>
              <a:rPr b="0" lang="en-US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…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am going to pla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is going to danc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is going to rea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are going to work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going to buy a ca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929120" y="1523880"/>
            <a:ext cx="421488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обираюсь играть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собирается танцевать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собирается чита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собираемся поработать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собираются купить машину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Прямоугольник 3" descr=""/>
          <p:cNvPicPr/>
          <p:nvPr/>
        </p:nvPicPr>
        <p:blipFill>
          <a:blip r:embed="rId1"/>
          <a:stretch/>
        </p:blipFill>
        <p:spPr>
          <a:xfrm>
            <a:off x="3371760" y="1243080"/>
            <a:ext cx="5205600" cy="2774880"/>
          </a:xfrm>
          <a:prstGeom prst="rect">
            <a:avLst/>
          </a:prstGeom>
          <a:ln w="0">
            <a:noFill/>
          </a:ln>
        </p:spPr>
      </p:pic>
      <p:pic>
        <p:nvPicPr>
          <p:cNvPr id="325" name="Прямоугольник 4" descr=""/>
          <p:cNvPicPr/>
          <p:nvPr/>
        </p:nvPicPr>
        <p:blipFill>
          <a:blip r:embed="rId2"/>
          <a:stretch/>
        </p:blipFill>
        <p:spPr>
          <a:xfrm>
            <a:off x="1060560" y="1219320"/>
            <a:ext cx="2725560" cy="2798640"/>
          </a:xfrm>
          <a:prstGeom prst="rect">
            <a:avLst/>
          </a:prstGeom>
          <a:ln w="0">
            <a:noFill/>
          </a:ln>
        </p:spPr>
      </p:pic>
      <p:pic>
        <p:nvPicPr>
          <p:cNvPr id="326" name="Прямоугольник 5" descr=""/>
          <p:cNvPicPr/>
          <p:nvPr/>
        </p:nvPicPr>
        <p:blipFill>
          <a:blip r:embed="rId3"/>
          <a:stretch/>
        </p:blipFill>
        <p:spPr>
          <a:xfrm>
            <a:off x="1109520" y="4462560"/>
            <a:ext cx="811368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ranslate into Russian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am going to </a:t>
            </a:r>
            <a:r>
              <a:rPr b="0" lang="en-US" sz="3200" spc="-1" strike="noStrike">
                <a:solidFill>
                  <a:srgbClr val="7030a0"/>
                </a:solidFill>
                <a:latin typeface="Gill Sans MT"/>
              </a:rPr>
              <a:t>help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my mother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is going to </a:t>
            </a:r>
            <a:r>
              <a:rPr b="0" lang="en-US" sz="3200" spc="-1" strike="noStrike">
                <a:solidFill>
                  <a:srgbClr val="7030a0"/>
                </a:solidFill>
                <a:latin typeface="Gill Sans MT"/>
              </a:rPr>
              <a:t>pla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football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y sister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is going to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Gill Sans MT"/>
              </a:rPr>
              <a:t>cu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a cak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irls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are going to </a:t>
            </a:r>
            <a:r>
              <a:rPr b="0" lang="en-US" sz="3200" spc="-1" strike="noStrike">
                <a:solidFill>
                  <a:srgbClr val="7030a0"/>
                </a:solidFill>
                <a:latin typeface="Gill Sans MT"/>
              </a:rPr>
              <a:t>fe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a dog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Задание на карточках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2280" indent="-609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Jane … going to sleep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692280" indent="-609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I …    going to take pictures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692280" indent="-609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Students …     going to visit London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692280" indent="-609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The teacher … going to give me a “five”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692280" indent="-609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She … going to stay at home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WordArt 4"/>
          <p:cNvSpPr txBox="1"/>
          <p:nvPr/>
        </p:nvSpPr>
        <p:spPr>
          <a:xfrm>
            <a:off x="3276720" y="148428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i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32" name="WordArt 5"/>
          <p:cNvSpPr txBox="1"/>
          <p:nvPr/>
        </p:nvSpPr>
        <p:spPr>
          <a:xfrm>
            <a:off x="4859280" y="414972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i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33" name="WordArt 6"/>
          <p:cNvSpPr txBox="1"/>
          <p:nvPr/>
        </p:nvSpPr>
        <p:spPr>
          <a:xfrm>
            <a:off x="3132000" y="5445000"/>
            <a:ext cx="381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i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34" name="WordArt 7"/>
          <p:cNvSpPr txBox="1"/>
          <p:nvPr/>
        </p:nvSpPr>
        <p:spPr>
          <a:xfrm>
            <a:off x="2411280" y="2205000"/>
            <a:ext cx="648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m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35" name="WordArt 8"/>
          <p:cNvSpPr txBox="1"/>
          <p:nvPr/>
        </p:nvSpPr>
        <p:spPr>
          <a:xfrm>
            <a:off x="4211640" y="2852640"/>
            <a:ext cx="792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r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C:\Program Files\Microsoft Office\MEDIA\CAGCAT10\j0301480.wmf"/>
          <p:cNvPicPr/>
          <p:nvPr/>
        </p:nvPicPr>
        <p:blipFill>
          <a:blip r:embed="rId1"/>
          <a:stretch/>
        </p:blipFill>
        <p:spPr>
          <a:xfrm>
            <a:off x="4214880" y="2428920"/>
            <a:ext cx="1441440" cy="1071360"/>
          </a:xfrm>
          <a:prstGeom prst="rect">
            <a:avLst/>
          </a:prstGeom>
          <a:ln w="0">
            <a:noFill/>
          </a:ln>
        </p:spPr>
      </p:pic>
      <p:pic>
        <p:nvPicPr>
          <p:cNvPr id="337" name="Прямоугольник 5" descr=""/>
          <p:cNvPicPr/>
          <p:nvPr/>
        </p:nvPicPr>
        <p:blipFill>
          <a:blip r:embed="rId2"/>
          <a:stretch/>
        </p:blipFill>
        <p:spPr>
          <a:xfrm>
            <a:off x="890640" y="2451240"/>
            <a:ext cx="3632040" cy="1120680"/>
          </a:xfrm>
          <a:prstGeom prst="rect">
            <a:avLst/>
          </a:prstGeom>
          <a:ln w="0">
            <a:noFill/>
          </a:ln>
        </p:spPr>
      </p:pic>
      <p:pic>
        <p:nvPicPr>
          <p:cNvPr id="338" name="Прямоугольник 6" descr=""/>
          <p:cNvPicPr/>
          <p:nvPr/>
        </p:nvPicPr>
        <p:blipFill>
          <a:blip r:embed="rId3"/>
          <a:stretch/>
        </p:blipFill>
        <p:spPr>
          <a:xfrm>
            <a:off x="5815080" y="2792520"/>
            <a:ext cx="3378240" cy="596880"/>
          </a:xfrm>
          <a:prstGeom prst="rect">
            <a:avLst/>
          </a:prstGeom>
          <a:ln w="0">
            <a:noFill/>
          </a:ln>
        </p:spPr>
      </p:pic>
      <p:pic>
        <p:nvPicPr>
          <p:cNvPr id="339" name="Заголовок 7" descr=""/>
          <p:cNvPicPr/>
          <p:nvPr/>
        </p:nvPicPr>
        <p:blipFill>
          <a:blip r:embed="rId4"/>
          <a:stretch/>
        </p:blipFill>
        <p:spPr>
          <a:xfrm>
            <a:off x="3376440" y="96840"/>
            <a:ext cx="3670560" cy="20606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3" descr="C:\Program Files\Microsoft Office\MEDIA\CAGCAT10\j0216724.wmf"/>
          <p:cNvPicPr/>
          <p:nvPr/>
        </p:nvPicPr>
        <p:blipFill>
          <a:blip r:embed="rId5"/>
          <a:stretch/>
        </p:blipFill>
        <p:spPr>
          <a:xfrm>
            <a:off x="4429080" y="3643200"/>
            <a:ext cx="1143000" cy="1436760"/>
          </a:xfrm>
          <a:prstGeom prst="rect">
            <a:avLst/>
          </a:prstGeom>
          <a:ln w="0">
            <a:noFill/>
          </a:ln>
        </p:spPr>
      </p:pic>
      <p:pic>
        <p:nvPicPr>
          <p:cNvPr id="341" name="Прямоугольник 9" descr=""/>
          <p:cNvPicPr/>
          <p:nvPr/>
        </p:nvPicPr>
        <p:blipFill>
          <a:blip r:embed="rId6"/>
          <a:stretch/>
        </p:blipFill>
        <p:spPr>
          <a:xfrm>
            <a:off x="1036800" y="3767040"/>
            <a:ext cx="3462120" cy="1219320"/>
          </a:xfrm>
          <a:prstGeom prst="rect">
            <a:avLst/>
          </a:prstGeom>
          <a:ln w="0">
            <a:noFill/>
          </a:ln>
        </p:spPr>
      </p:pic>
      <p:pic>
        <p:nvPicPr>
          <p:cNvPr id="342" name="Прямоугольник 10" descr=""/>
          <p:cNvPicPr/>
          <p:nvPr/>
        </p:nvPicPr>
        <p:blipFill>
          <a:blip r:embed="rId7"/>
          <a:stretch/>
        </p:blipFill>
        <p:spPr>
          <a:xfrm>
            <a:off x="5815080" y="4102200"/>
            <a:ext cx="2908080" cy="695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6" descr="C:\Program Files\Microsoft Office\MEDIA\CAGCAT10\j0149481.wmf"/>
          <p:cNvPicPr/>
          <p:nvPr/>
        </p:nvPicPr>
        <p:blipFill>
          <a:blip r:embed="rId8"/>
          <a:stretch/>
        </p:blipFill>
        <p:spPr>
          <a:xfrm>
            <a:off x="3429000" y="5072040"/>
            <a:ext cx="1511280" cy="1536840"/>
          </a:xfrm>
          <a:prstGeom prst="rect">
            <a:avLst/>
          </a:prstGeom>
          <a:ln w="0">
            <a:noFill/>
          </a:ln>
        </p:spPr>
      </p:pic>
      <p:pic>
        <p:nvPicPr>
          <p:cNvPr id="344" name="Прямоугольник 14" descr=""/>
          <p:cNvPicPr/>
          <p:nvPr/>
        </p:nvPicPr>
        <p:blipFill>
          <a:blip r:embed="rId9"/>
          <a:stretch/>
        </p:blipFill>
        <p:spPr>
          <a:xfrm>
            <a:off x="2000160" y="4968720"/>
            <a:ext cx="1224000" cy="1266840"/>
          </a:xfrm>
          <a:prstGeom prst="rect">
            <a:avLst/>
          </a:prstGeom>
          <a:ln w="0">
            <a:noFill/>
          </a:ln>
        </p:spPr>
      </p:pic>
      <p:pic>
        <p:nvPicPr>
          <p:cNvPr id="345" name="Прямоугольник 15" descr=""/>
          <p:cNvPicPr/>
          <p:nvPr/>
        </p:nvPicPr>
        <p:blipFill>
          <a:blip r:embed="rId10"/>
          <a:stretch/>
        </p:blipFill>
        <p:spPr>
          <a:xfrm>
            <a:off x="5114880" y="5522760"/>
            <a:ext cx="3743280" cy="712800"/>
          </a:xfrm>
          <a:prstGeom prst="rect">
            <a:avLst/>
          </a:prstGeom>
          <a:ln w="0">
            <a:noFill/>
          </a:ln>
        </p:spPr>
      </p:pic>
      <p:pic>
        <p:nvPicPr>
          <p:cNvPr id="346" name="Прямоугольник 16" descr=""/>
          <p:cNvPicPr/>
          <p:nvPr/>
        </p:nvPicPr>
        <p:blipFill>
          <a:blip r:embed="rId11"/>
          <a:stretch/>
        </p:blipFill>
        <p:spPr>
          <a:xfrm>
            <a:off x="3998880" y="2693880"/>
            <a:ext cx="2309760" cy="652680"/>
          </a:xfrm>
          <a:prstGeom prst="rect">
            <a:avLst/>
          </a:prstGeom>
          <a:ln w="0">
            <a:noFill/>
          </a:ln>
        </p:spPr>
      </p:pic>
      <p:pic>
        <p:nvPicPr>
          <p:cNvPr id="347" name="Прямоугольник 17" descr=""/>
          <p:cNvPicPr/>
          <p:nvPr/>
        </p:nvPicPr>
        <p:blipFill>
          <a:blip r:embed="rId12"/>
          <a:stretch/>
        </p:blipFill>
        <p:spPr>
          <a:xfrm>
            <a:off x="3919680" y="4121280"/>
            <a:ext cx="2060280" cy="652320"/>
          </a:xfrm>
          <a:prstGeom prst="rect">
            <a:avLst/>
          </a:prstGeom>
          <a:ln w="0">
            <a:noFill/>
          </a:ln>
        </p:spPr>
      </p:pic>
      <p:pic>
        <p:nvPicPr>
          <p:cNvPr id="348" name="Прямоугольник 18" descr=""/>
          <p:cNvPicPr/>
          <p:nvPr/>
        </p:nvPicPr>
        <p:blipFill>
          <a:blip r:embed="rId13"/>
          <a:stretch/>
        </p:blipFill>
        <p:spPr>
          <a:xfrm>
            <a:off x="2998800" y="5479920"/>
            <a:ext cx="2292480" cy="6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3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Ex. 11 p. 29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213920" y="1447560"/>
            <a:ext cx="792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Я собираюсь посетить Великобританию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Мои друзья собираются организовать школьную вечеринк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Барбара Грей собирается написать письмо-приглашени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Стефан Вудинг собирается пригласить группу русских учащихс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Мы собираемся остановиться в английских семьях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Let us check up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 am going to visit Great Britai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y friends are going to arrange a school party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Barbara Grey is going to write an invitation letter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tephen Wooding is going to invite a group of Russian student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We are going to stay with English famili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72314"/>
                </a:solidFill>
                <a:latin typeface="Gill Sans MT"/>
              </a:rPr>
              <a:t>Homework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428480" y="20570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 MT"/>
              </a:rPr>
              <a:t>Ex. 15 p. 30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6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дрей Губанов</cp:lastModifiedBy>
  <dcterms:modified xsi:type="dcterms:W3CDTF">2015-10-06T20:56:33Z</dcterms:modified>
  <cp:revision>24</cp:revision>
  <dc:subject/>
  <dc:title>The 23d of November.</dc:title>
</cp:coreProperties>
</file>