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929-B3C3-40BC-B7C1-A012535D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AB1-EC89-453D-B3C0-E83B5B5F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EC5-7F42-46FF-8699-C906F883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8AE-326E-4E30-9483-C9D47E94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ED21-A29D-47E7-86FA-65FAEF8B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759A-FFF3-4425-9C49-4F43198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6597-9BB2-4F64-AE65-88BF1B88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DEDF-8805-4713-A4E1-8AAC819A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4CBC-A30A-4D1A-8E1D-0791DBB0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2230-A658-45E0-A7D7-04535C0A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180-1248-4F6F-8DFD-33390FA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66D-7695-49A0-AABF-B589D55B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2DD3-338D-4D51-8BE2-ECEC788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786-7341-4DDE-8631-A3A9A90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6FE-4B71-45E2-938A-747E8AC4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57AC-9044-48CA-B196-C1095D7D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EDB1-72D1-4788-8268-D9962835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8319-BF8F-48E3-9AF8-2FB9BA84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2B66-2D2C-4B3B-B7CE-F7EA11B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1C8C-E7AA-419E-BA0B-1CDB359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1111-02D0-4A97-81E0-A21AC99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D8EE-3E23-42CC-8636-14DDC83D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D01-8247-4ABC-8E66-02BCE11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C99C-BF22-44F1-B92B-4B6A68E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7812-574B-464E-8A3E-8D94A31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0722-7012-42E0-94D0-5AE9522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F82A-A7E5-4EC8-BFEB-027720D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7DA6-A368-4141-B575-8AA8CD6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2953-1D2D-4373-A19D-BE8B2D9C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4521-AA29-4CCD-8599-834466D3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5F58-60C9-43F3-99D5-0FE8D26E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F2BC-C07B-4CA1-B485-A77B9272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1322-F084-4147-8DD0-B18FFAB9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55A-994B-4A5F-BF5B-5025A1DC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A8E12-431D-4093-A967-E540939A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A033-83CF-49A1-8602-557E767F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147E-0807-4E8B-9482-068B8681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CA83-FADC-4B60-8CB0-127722E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1B33-5B1F-482B-B23B-D7E440B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62F1-4EE9-42BA-A6E7-35EFDB4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C0F6-92D1-4DA7-B14A-91B961DE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253E-2E83-40C9-8929-9AC70FE5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EA4C-64B2-4745-945C-43D30694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85C5-BC96-44E8-AE2D-FB1F34FC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942-4909-4CA3-BBAB-62822B50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57BC-0B1C-4B68-ABAF-90AD1C7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75538-4ECD-4514-9EA9-446C347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3C91-75C2-456C-868E-C91C4584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84C2-CE0F-4B52-A0BB-46BC4221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8AF4-91CF-49F9-A3A6-F2C599C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7516-93E4-432B-B582-1130F68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4CE7-2FAE-4A76-AE5A-241D112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91CF-06E0-4A1C-8850-896AC1D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2B685-7119-4331-8142-29ACB2A9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6933-B4CB-443E-B0AB-8185A641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84D-9A32-4116-AB2E-09B6224C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10FE-86C8-4E2C-94E5-C27D197E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7D21-9253-49A4-ABD5-3B511C7D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DDF8-FEAB-48B0-9BB2-F537093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92ED-CC75-4383-8690-DA640251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D039-4991-4FB8-B73F-6E24CB60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F0D42-2FB4-457B-AE4E-7465EF9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049A-FF05-4E08-9DDF-29B970A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F2194-FF83-4B26-9112-299F762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3DCD-1046-4030-842D-E9556B7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29B8D-493B-44CA-97FD-100D152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C74-905A-43A5-A6EA-867F793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28C0-AC99-4783-975E-E541BD0C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6055B-F219-431F-9FE2-1DE0EF6A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BE12-9CFF-4226-BA4B-2092D0DA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3F3D3-CCC6-4913-9B17-6F310D37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56C64-F13E-4DA3-8E2B-61E0FD6D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3B1D-440F-4126-AC6E-B5FF200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4D1E4-6187-4D39-A3C9-B32AC2C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BF3A-6299-462C-9DD1-AE91821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6EE47-3BEF-4FAB-B1C3-B45D774C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C6942-6B45-4000-9EF4-AC5B9542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7F8-89DE-4D2F-A951-8B9E578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471BD-610B-41C0-9192-7B0BB09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93E0-54CB-4E6A-B81F-6406C65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C7724-0132-4CA4-A931-5C5C6DDA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BD3F9-39A5-4995-91B6-7DFF3CB3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F00F-8962-49CA-BF62-9566FBC7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8B8-1298-4805-B76D-46814A4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0FF4-F843-4F73-992C-566FC1CF34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436-B52F-456C-8965-1AC9B04106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F0B-C7F2-468D-AFCF-C1A30A5975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C8D-0186-4398-83A2-9BDEEA13ED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B47-A42F-487B-9EEE-DB9509F9DB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FC7-E65E-450D-806D-D43224ED05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CBF3-4202-4934-B13F-B2AC857017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428760"/>
            <a:ext cx="7407360" cy="5324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рукц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going t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материа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року «Мы собираемся путешествовать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48 г. Владими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анова С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пользованные источн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зюина  Е.В. Поурочные разработки по английскому языку 5 класс – Москва, изд-во Вако, 2012 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трольно-измерительные материалы, английский язык, к УМК Биболетовой М.З. «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joy English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 5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ласс – Москва, Вако, 2011 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ttp://festival.1september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am/is/are going to … - 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бираться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…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going to pl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going to da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going to re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going to wor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going to buy a c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29120" y="1523880"/>
            <a:ext cx="4214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бираюсь игра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обирается танцева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бирается чит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обираемся поработа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обираются купить машин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Прямоугольник 3" descr=""/>
          <p:cNvPicPr/>
          <p:nvPr/>
        </p:nvPicPr>
        <p:blipFill>
          <a:blip r:embed="rId1"/>
          <a:stretch/>
        </p:blipFill>
        <p:spPr>
          <a:xfrm>
            <a:off x="3371760" y="1243080"/>
            <a:ext cx="5205600" cy="277488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4" descr=""/>
          <p:cNvPicPr/>
          <p:nvPr/>
        </p:nvPicPr>
        <p:blipFill>
          <a:blip r:embed="rId2"/>
          <a:stretch/>
        </p:blipFill>
        <p:spPr>
          <a:xfrm>
            <a:off x="1060560" y="1219320"/>
            <a:ext cx="2725560" cy="279864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5" descr=""/>
          <p:cNvPicPr/>
          <p:nvPr/>
        </p:nvPicPr>
        <p:blipFill>
          <a:blip r:embed="rId3"/>
          <a:stretch/>
        </p:blipFill>
        <p:spPr>
          <a:xfrm>
            <a:off x="1109520" y="4462560"/>
            <a:ext cx="81136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late into Russia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 going to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moth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 going to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 going to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cak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rl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 going to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fe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do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на карточк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Jane … going to slee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 …    going to take pictur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tudents …     going to visit London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e teacher … going to give me a “five”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he … going to stay at hom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3276720" y="1484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5"/>
          <p:cNvSpPr txBox="1"/>
          <p:nvPr/>
        </p:nvSpPr>
        <p:spPr>
          <a:xfrm>
            <a:off x="4859280" y="414972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3132000" y="54450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2411280" y="2205000"/>
            <a:ext cx="6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5" name="WordArt 8"/>
          <p:cNvSpPr txBox="1"/>
          <p:nvPr/>
        </p:nvSpPr>
        <p:spPr>
          <a:xfrm>
            <a:off x="4211640" y="2852640"/>
            <a:ext cx="79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Program Files\Microsoft Office\MEDIA\CAGCAT10\j0301480.wmf"/>
          <p:cNvPicPr/>
          <p:nvPr/>
        </p:nvPicPr>
        <p:blipFill>
          <a:blip r:embed="rId1"/>
          <a:stretch/>
        </p:blipFill>
        <p:spPr>
          <a:xfrm>
            <a:off x="4214880" y="2428920"/>
            <a:ext cx="1441440" cy="107136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5" descr=""/>
          <p:cNvPicPr/>
          <p:nvPr/>
        </p:nvPicPr>
        <p:blipFill>
          <a:blip r:embed="rId2"/>
          <a:stretch/>
        </p:blipFill>
        <p:spPr>
          <a:xfrm>
            <a:off x="890640" y="2451240"/>
            <a:ext cx="3632040" cy="11206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" descr=""/>
          <p:cNvPicPr/>
          <p:nvPr/>
        </p:nvPicPr>
        <p:blipFill>
          <a:blip r:embed="rId3"/>
          <a:stretch/>
        </p:blipFill>
        <p:spPr>
          <a:xfrm>
            <a:off x="5815080" y="2792520"/>
            <a:ext cx="3378240" cy="596880"/>
          </a:xfrm>
          <a:prstGeom prst="rect">
            <a:avLst/>
          </a:prstGeom>
          <a:ln w="0">
            <a:noFill/>
          </a:ln>
        </p:spPr>
      </p:pic>
      <p:pic>
        <p:nvPicPr>
          <p:cNvPr id="339" name="Заголовок 7" descr=""/>
          <p:cNvPicPr/>
          <p:nvPr/>
        </p:nvPicPr>
        <p:blipFill>
          <a:blip r:embed="rId4"/>
          <a:stretch/>
        </p:blipFill>
        <p:spPr>
          <a:xfrm>
            <a:off x="3376440" y="96840"/>
            <a:ext cx="3670560" cy="2060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C:\Program Files\Microsoft Office\MEDIA\CAGCAT10\j0216724.wmf"/>
          <p:cNvPicPr/>
          <p:nvPr/>
        </p:nvPicPr>
        <p:blipFill>
          <a:blip r:embed="rId5"/>
          <a:stretch/>
        </p:blipFill>
        <p:spPr>
          <a:xfrm>
            <a:off x="4429080" y="3643200"/>
            <a:ext cx="1143000" cy="14367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9" descr=""/>
          <p:cNvPicPr/>
          <p:nvPr/>
        </p:nvPicPr>
        <p:blipFill>
          <a:blip r:embed="rId6"/>
          <a:stretch/>
        </p:blipFill>
        <p:spPr>
          <a:xfrm>
            <a:off x="1036800" y="3767040"/>
            <a:ext cx="3462120" cy="121932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10" descr=""/>
          <p:cNvPicPr/>
          <p:nvPr/>
        </p:nvPicPr>
        <p:blipFill>
          <a:blip r:embed="rId7"/>
          <a:stretch/>
        </p:blipFill>
        <p:spPr>
          <a:xfrm>
            <a:off x="5815080" y="4102200"/>
            <a:ext cx="2908080" cy="695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C:\Program Files\Microsoft Office\MEDIA\CAGCAT10\j0149481.wmf"/>
          <p:cNvPicPr/>
          <p:nvPr/>
        </p:nvPicPr>
        <p:blipFill>
          <a:blip r:embed="rId8"/>
          <a:stretch/>
        </p:blipFill>
        <p:spPr>
          <a:xfrm>
            <a:off x="3429000" y="5072040"/>
            <a:ext cx="1511280" cy="15368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14" descr=""/>
          <p:cNvPicPr/>
          <p:nvPr/>
        </p:nvPicPr>
        <p:blipFill>
          <a:blip r:embed="rId9"/>
          <a:stretch/>
        </p:blipFill>
        <p:spPr>
          <a:xfrm>
            <a:off x="2000160" y="4968720"/>
            <a:ext cx="1224000" cy="12668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15" descr=""/>
          <p:cNvPicPr/>
          <p:nvPr/>
        </p:nvPicPr>
        <p:blipFill>
          <a:blip r:embed="rId10"/>
          <a:stretch/>
        </p:blipFill>
        <p:spPr>
          <a:xfrm>
            <a:off x="5114880" y="5522760"/>
            <a:ext cx="3743280" cy="7128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6" descr=""/>
          <p:cNvPicPr/>
          <p:nvPr/>
        </p:nvPicPr>
        <p:blipFill>
          <a:blip r:embed="rId11"/>
          <a:stretch/>
        </p:blipFill>
        <p:spPr>
          <a:xfrm>
            <a:off x="3998880" y="2693880"/>
            <a:ext cx="2309760" cy="65268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7" descr=""/>
          <p:cNvPicPr/>
          <p:nvPr/>
        </p:nvPicPr>
        <p:blipFill>
          <a:blip r:embed="rId12"/>
          <a:stretch/>
        </p:blipFill>
        <p:spPr>
          <a:xfrm>
            <a:off x="3919680" y="4121280"/>
            <a:ext cx="2060280" cy="6523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8" descr=""/>
          <p:cNvPicPr/>
          <p:nvPr/>
        </p:nvPicPr>
        <p:blipFill>
          <a:blip r:embed="rId13"/>
          <a:stretch/>
        </p:blipFill>
        <p:spPr>
          <a:xfrm>
            <a:off x="2998800" y="5479920"/>
            <a:ext cx="22924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Ex. 11 p. 29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Я собираюсь посетить Великобрит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ои друзья собираются организовать школьную вечерин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Барбара Грей собирается написать письмо-приглаш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тефан Вудинг собирается пригласить группу русских уча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ы собираемся остановиться в английских семья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t us check up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 am going to visit Great Britai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y friends are going to arrange a school par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rbara Grey is going to write an invitation let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ephen Wooding is going to invite a group of Russian stud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e are going to stay with English famil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Ex. 15 p. 30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 Губанов</cp:lastModifiedBy>
  <dcterms:modified xsi:type="dcterms:W3CDTF">2015-10-06T20:56:33Z</dcterms:modified>
  <cp:revision>24</cp:revision>
  <dc:subject/>
  <dc:title>The 23d of November.</dc:title>
</cp:coreProperties>
</file>