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659-DE7D-438C-8052-42E5704F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00E-843F-461D-BEFF-2882DC9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9AA7-7A96-49E2-A1B4-925C920F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4A599-BC7D-4ED4-9FF7-91EB87AE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7E02-B9AD-4C14-B9EF-093DC32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C9B1-9272-4DC9-A673-D3786CA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B563F-4871-4AC5-90CC-25FC2F0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D02FE-D6DD-4C4F-973B-50ECD74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B3BC-B857-403E-A701-ECB50BC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BEFB-A15B-4425-967E-71245EEC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46A5B-3BB9-46F8-9871-E6E19D9F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62C-4C4C-4B9F-9F60-11EE5758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71E-A9BC-4A36-968F-669B5DCD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1C87-55BC-4448-AFC7-7210EEAF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6373-6C22-43CA-AF9E-791FCEA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9FF8-86C3-4977-8344-9292B9F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62EB-DFDC-4C23-A094-4957254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DAC0-EBF0-415F-9EA4-CD50968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EB0-2583-4780-BF62-1F4217B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1EE-C4A7-4EEE-98EE-44B31C4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390-D6CA-4CB3-9C66-CE1CBA2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A4F-E555-4C10-8674-7CF1F3C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A3C7-5830-42A0-B65A-9814441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B5F-FFB0-49C5-B7F3-6AAB75D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77E8-7C1E-4605-8A97-55745864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B6AE-3F44-4058-8C69-AFB35DB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4254-B15F-4B7A-BF65-2D4196A6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2A2A-37D4-4CEA-848E-821F5C2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4DE9-B012-4C4B-8412-DBE8BB29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94B1-DC76-4321-81C2-A2B75D5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5072-A17A-40BC-80A4-522919CB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00A-DAE3-466D-A58A-873AD15D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FA4A-B4AA-4B53-8040-EBD48BE8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D473-D992-42C2-B27F-35861AE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701B-4790-4EBE-9542-498B323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2347-B273-46E8-9668-E7B815E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9ED2-636E-4FAC-8FBF-CBB335A2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25D1-883F-48DF-BAF0-41CFAEA4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5BEC-C083-4837-8AA4-AA56E60A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6C8C-FD52-4863-A9B8-814B5472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9DA5-F9D2-4E22-8D8D-44C52DD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D8D3-2A2E-4FE3-A75F-5FA4DD2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BAC-1466-4CD5-8A72-E13110C7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4B3B-3D8E-46E4-BE1A-629CE93A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F2E4-49BA-490C-B0E0-BB0C324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6D4A-6298-49FC-830C-4D1F1C13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E918-70A7-41B8-97E4-C53D2D4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3EF0-A2D9-4947-ABF0-F68DA9F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63C7-BD3A-403D-9E01-BCD1A66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10CC-A379-4133-A5D0-166BFCD3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1DA8-69DA-4AB0-9096-53EE952C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A37C-E4C8-4E3D-8F70-E02FD308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817E-E14B-4E20-B8B0-2BC2C49B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575-9A16-451B-9DF8-82D8A49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7523-4A16-476C-BB67-EB214D4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AFCF-DCBF-40E6-AFAB-463E735E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F5F5-52AF-427E-8986-303F0FE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F5436-7DD2-4246-8A3F-E44A076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47E2-A807-4B93-9FC0-879EA10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666A-83F2-4FED-98D1-01170CA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5E13-34D3-41E1-82EF-D29377F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4C8A-C4CE-4A80-B077-BFFE392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8356-9357-4E7D-8A69-83A1CC8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BC06-249C-4438-A719-711B93BB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FC5-3E7F-488E-A9F6-EED5CBE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5D15-6B7F-428A-A199-0CFB35F6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68B2-8232-4419-845B-8D06B2C8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5E15E-EAAB-4035-A469-99C470D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8AC13-3ABA-4308-8F79-B6480CD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7421-A46F-4D8D-8667-A39BE20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2A5B-8E2C-4887-85AB-7A551F06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67AB-7EF8-4130-9712-96E5420B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BDECE-09AD-4777-830F-382404F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F39F-A257-4923-9F72-23C8BD0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79CF-2375-4623-A08F-870B222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42B-48D0-4CD8-9FF6-D225A54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49A6-4200-4DD9-B141-23BFBBE5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F3F6-E237-4FF0-B77F-76DE0F52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7E52-3486-4E2D-9404-06E5EE5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C5324-F5FC-4B80-AC8B-7F1096E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C7B0-53CE-4F27-BDEA-F76CE617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1326-B708-45A3-A40E-0249D679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E9D3-E617-4CEE-A25A-2E2E45C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21C3-54FD-4E4F-BC35-F657E1F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CFADF-1621-47F9-88FD-5A19AD0D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D8FB-E2C9-4805-ADAA-EAC12A8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B89-5C95-4D39-A9ED-5D41536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61D3-C752-4AF5-A9C7-9EA3391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5ACC-CDA4-49FA-A284-0F07E94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D760-DA9E-44A2-B450-9E66FC6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8FA8-E9E5-4E06-B720-19285FCF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7AC9-9755-4548-A657-A9685DD9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8ED94-44B3-4A1A-A20F-57F96DEC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81B7-E893-4434-9127-110F06B3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7B7B8-5A4B-485F-AA54-AC6D5CAC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8CB0-A3E6-4786-AC23-7F40764B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0FA41-F58B-48E7-8747-1D990FF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21B-2B70-43E8-857A-1CBF2F8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4291-E149-4337-A916-F4ACFEA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0EC2-1C9B-4DCB-973E-D919B0C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937F-85E0-4CE5-8731-EF4F800D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0BFE-D4C5-439C-B54A-C78C67D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81250-6E71-4E48-B18B-2E6F64A7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C84B-6B6E-4387-974A-9659EF1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A41C8-7F80-4907-BA34-142B298A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D74DF-6A4C-4C4E-8805-D7FA2717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85C13-D21C-4F5B-88CD-934DB2A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4CA5-8B2C-485C-B8EA-73E34F0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E95-71E2-48C1-AD48-27982C39B4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B7E-95E6-4548-ADB2-D49245B67E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EF0-BFF4-4974-9CC0-6D882F36DD0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C027-A57E-4612-8009-C687D23869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B44F-0710-4931-ADA9-68CC215F945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EBF-0411-45CA-8254-7FA88CAE3E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F215-4377-4970-85F6-4079D9E420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B29-90AB-4F06-A55D-54F561728B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0305-5EF3-42CE-A3D2-779B79DB52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mon.gov.ru/dok/fgos/7195/" TargetMode="External"/><Relationship Id="rId3" Type="http://schemas.openxmlformats.org/officeDocument/2006/relationships/hyperlink" Target="http://mon.gov.ru/dok/fgos/7195/" TargetMode="External"/><Relationship Id="rId4" Type="http://schemas.openxmlformats.org/officeDocument/2006/relationships/hyperlink" Target="http://standart.edu.ru/catalog.aspx?CatalogId=957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82560" y="768240"/>
            <a:ext cx="7785000" cy="2382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Юлия Зайнулл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C:\Documents and Settings\Галя\Рабочий стол\IMG_5459.jpg"/>
          <p:cNvPicPr/>
          <p:nvPr/>
        </p:nvPicPr>
        <p:blipFill>
          <a:blip r:embed="rId2"/>
          <a:stretch/>
        </p:blipFill>
        <p:spPr>
          <a:xfrm>
            <a:off x="2143080" y="2643120"/>
            <a:ext cx="457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14300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Познавательные: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осмысление математических действий и величин, как основа умения учиться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развитие широких познавательных интересов и мотивов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готовность к принятию и решению учебных и познавательных задач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развитие познавательной инициативы (умение задавать вопросы, участвовать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в учебном сотрудничестве)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адекватно, осознанно и произвольно строить речевое высказывание в устной речи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в соответствии с задачами общения и нормами родного языка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излагать основные положения своего сообщения в письменной речи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Franklin Gothic Book"/>
              </a:rPr>
              <a:t>Логические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сравнение данных (с целью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определения общих признаков)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анализ (выделение элементов и «единиц» из  целого; расчленение целого на части)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сериация – упорядочение объектов по выделенному основанию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классификация - отнесение предмета к группе на основе заданного признака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обобщение – генерализация и выведение общности для целого ряда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единичных объектов на основе выделения существенной связи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подведение под понятие – распознавание объектов, выделение существенных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признаков и их синтез;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·        установление аналогий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Регулятивные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освоение способов вычисления и установление взаимосвязи между предметами, умение отвечать на поставленный вопрос, умение работать  в парах.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Целеполагание, как постановка учебной задачи (что известно, а что еще не известно), планирование (составление алгоритма), прогнозирование (предвосхищение результата   и уровня усвоения), контроль в форме сравнения с заданным эталоном, коррекция (дополнение в план и способы действия), оценка (что освоено, а что еще нет), волевая саморегуляция (умение мобилизовать силы и энергию, способность к волевому усилию для преодоления препятствий)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Коммуникативные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применимые как в рамках образовательного процесса, так и при решении проблем в реальных жизненных ситуациях.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эмоционально позитивное отношение к  процессу сотрудничества;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ориентация на партнера по общению, 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2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- умение слушать собеседника, договариваться  при  работе в паре, группе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товность и способность обучающихся к саморазвитию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ность мотивации к обучению и познанию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ценностных отношений, интересов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ые компетенци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ые качеств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и высказывать под руководством педагога самые простые общие для всех людей правила поведения при сотрудничестве (этические нормы)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ных педагогом ситуациях общения и сотрудничества, опираясь на общие для всех простые правила поведения, делать выбор, при поддержке других участников группы и педагога, как поступи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м достижения этих результатов служит организация парно-групповой работ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25120" cy="1060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ситуации, требующ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от одних единиц измерения к други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ать числа по заданному или самостоятельно установленному правил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итуации, требующ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я чисел и величин, их упорядоч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ть явления и события с использованием чисел и велич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имеры итоговых задан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пропущенные числа в натуральном ряду чисел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, ... , 11, ..., 1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.., 6, ...;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положите числа 5, 13, 1, 20,9  от большего к меньше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Рекомендуемые критерии оценива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ильность и надежность ответа, способа рассужде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снованность отве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чность и грамотность в использовании символики, математическая грамотность реч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Стимул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 В школе объявили сбор макулатуры. Коля со своим другом Петей собирали макулатуру в одном подъезде. Чтобы не заходить обоим в одну квартиру, Петя распределил квартиры (смотри справку)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Задачная формулировка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 Определи закономерность, по которой Петя распределил квартиры. Ответь на вопросы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) В какую следующую квартиру зайдёт Коля?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) В какую следующую квартиру зайдёт Петя?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правк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ойти квартиры Коле: №1, №4, №7, №10, №13, …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ойти квартиры Пете: №2, №3, №5, №6, №8, …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ланк ответ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Коля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ет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Инструмент проверки (модельный ответ):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 балла – Записаны числа: Коля) 16, Петя) 9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 балл – Верно записано хотя бы одно число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0 баллов – Записаны другие числа на вопросы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олько зайцев спряталось за забором?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Ответ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рассчитано на различение двух видов объектов – зайцев и их ушей и установление соответствия между счетом тех и других: чтобы найти количество зайцев, нужно подсчитать количество пар ушей.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ый ответ – 1балл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29" name="Группа 3"/>
          <p:cNvGrpSpPr/>
          <p:nvPr/>
        </p:nvGrpSpPr>
        <p:grpSpPr>
          <a:xfrm>
            <a:off x="2924280" y="2616120"/>
            <a:ext cx="3295080" cy="1615680"/>
            <a:chOff x="2924280" y="2616120"/>
            <a:chExt cx="3295080" cy="1615680"/>
          </a:xfrm>
        </p:grpSpPr>
        <p:grpSp>
          <p:nvGrpSpPr>
            <p:cNvPr id="430" name="Group 48"/>
            <p:cNvGrpSpPr/>
            <p:nvPr/>
          </p:nvGrpSpPr>
          <p:grpSpPr>
            <a:xfrm>
              <a:off x="3323880" y="2622960"/>
              <a:ext cx="596880" cy="848520"/>
              <a:chOff x="3323880" y="2622960"/>
              <a:chExt cx="596880" cy="848520"/>
            </a:xfrm>
          </p:grpSpPr>
          <p:sp>
            <p:nvSpPr>
              <p:cNvPr id="431" name="Oval 49"/>
              <p:cNvSpPr/>
              <p:nvPr/>
            </p:nvSpPr>
            <p:spPr>
              <a:xfrm flipH="1" rot="802200">
                <a:off x="3648600" y="2641680"/>
                <a:ext cx="179280" cy="8200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50"/>
              <p:cNvSpPr/>
              <p:nvPr/>
            </p:nvSpPr>
            <p:spPr>
              <a:xfrm rot="20797800">
                <a:off x="3415680" y="263232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51"/>
            <p:cNvGrpSpPr/>
            <p:nvPr/>
          </p:nvGrpSpPr>
          <p:grpSpPr>
            <a:xfrm>
              <a:off x="5263920" y="2619720"/>
              <a:ext cx="596880" cy="848520"/>
              <a:chOff x="5263920" y="2619720"/>
              <a:chExt cx="596880" cy="848520"/>
            </a:xfrm>
          </p:grpSpPr>
          <p:sp>
            <p:nvSpPr>
              <p:cNvPr id="434" name="Oval 52"/>
              <p:cNvSpPr/>
              <p:nvPr/>
            </p:nvSpPr>
            <p:spPr>
              <a:xfrm flipH="1" rot="802200">
                <a:off x="5588640" y="2638440"/>
                <a:ext cx="179280" cy="8200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53"/>
              <p:cNvSpPr/>
              <p:nvPr/>
            </p:nvSpPr>
            <p:spPr>
              <a:xfrm rot="20797800">
                <a:off x="5355720" y="262908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54"/>
            <p:cNvGrpSpPr/>
            <p:nvPr/>
          </p:nvGrpSpPr>
          <p:grpSpPr>
            <a:xfrm>
              <a:off x="4593240" y="2626920"/>
              <a:ext cx="595800" cy="848520"/>
              <a:chOff x="4593240" y="2626920"/>
              <a:chExt cx="595800" cy="848520"/>
            </a:xfrm>
          </p:grpSpPr>
          <p:sp>
            <p:nvSpPr>
              <p:cNvPr id="437" name="Oval 55"/>
              <p:cNvSpPr/>
              <p:nvPr/>
            </p:nvSpPr>
            <p:spPr>
              <a:xfrm flipH="1" rot="802200">
                <a:off x="4917240" y="2647440"/>
                <a:ext cx="179280" cy="81792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 rot="20797800">
                <a:off x="4684680" y="2636280"/>
                <a:ext cx="179640" cy="8128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57"/>
            <p:cNvGrpSpPr/>
            <p:nvPr/>
          </p:nvGrpSpPr>
          <p:grpSpPr>
            <a:xfrm>
              <a:off x="3975840" y="2616120"/>
              <a:ext cx="596880" cy="848520"/>
              <a:chOff x="3975840" y="2616120"/>
              <a:chExt cx="596880" cy="848520"/>
            </a:xfrm>
          </p:grpSpPr>
          <p:sp>
            <p:nvSpPr>
              <p:cNvPr id="440" name="Oval 58"/>
              <p:cNvSpPr/>
              <p:nvPr/>
            </p:nvSpPr>
            <p:spPr>
              <a:xfrm flipH="1" rot="802200">
                <a:off x="4300920" y="2636280"/>
                <a:ext cx="179280" cy="81828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9"/>
              <p:cNvSpPr/>
              <p:nvPr/>
            </p:nvSpPr>
            <p:spPr>
              <a:xfrm rot="20797800">
                <a:off x="4068000" y="2625480"/>
                <a:ext cx="179280" cy="818640"/>
              </a:xfrm>
              <a:prstGeom prst="ellipse">
                <a:avLst/>
              </a:prstGeom>
              <a:solidFill>
                <a:srgbClr val="c0c0c0">
                  <a:alpha val="2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60"/>
            <p:cNvGrpSpPr/>
            <p:nvPr/>
          </p:nvGrpSpPr>
          <p:grpSpPr>
            <a:xfrm>
              <a:off x="2924280" y="3113640"/>
              <a:ext cx="284040" cy="1118160"/>
              <a:chOff x="2924280" y="3113640"/>
              <a:chExt cx="284040" cy="1118160"/>
            </a:xfrm>
          </p:grpSpPr>
          <p:sp>
            <p:nvSpPr>
              <p:cNvPr id="443" name="Rectangle 61"/>
              <p:cNvSpPr/>
              <p:nvPr/>
            </p:nvSpPr>
            <p:spPr>
              <a:xfrm>
                <a:off x="292428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62"/>
              <p:cNvSpPr/>
              <p:nvPr/>
            </p:nvSpPr>
            <p:spPr>
              <a:xfrm>
                <a:off x="292428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3"/>
            <p:cNvGrpSpPr/>
            <p:nvPr/>
          </p:nvGrpSpPr>
          <p:grpSpPr>
            <a:xfrm>
              <a:off x="3181680" y="3113640"/>
              <a:ext cx="283680" cy="1118160"/>
              <a:chOff x="3181680" y="3113640"/>
              <a:chExt cx="283680" cy="1118160"/>
            </a:xfrm>
          </p:grpSpPr>
          <p:sp>
            <p:nvSpPr>
              <p:cNvPr id="446" name="Rectangle 64"/>
              <p:cNvSpPr/>
              <p:nvPr/>
            </p:nvSpPr>
            <p:spPr>
              <a:xfrm>
                <a:off x="318168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65"/>
              <p:cNvSpPr/>
              <p:nvPr/>
            </p:nvSpPr>
            <p:spPr>
              <a:xfrm>
                <a:off x="318168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6"/>
            <p:cNvGrpSpPr/>
            <p:nvPr/>
          </p:nvGrpSpPr>
          <p:grpSpPr>
            <a:xfrm>
              <a:off x="3465000" y="3113640"/>
              <a:ext cx="284400" cy="1118160"/>
              <a:chOff x="3465000" y="3113640"/>
              <a:chExt cx="284400" cy="1118160"/>
            </a:xfrm>
          </p:grpSpPr>
          <p:sp>
            <p:nvSpPr>
              <p:cNvPr id="449" name="Rectangle 67"/>
              <p:cNvSpPr/>
              <p:nvPr/>
            </p:nvSpPr>
            <p:spPr>
              <a:xfrm>
                <a:off x="346500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68"/>
              <p:cNvSpPr/>
              <p:nvPr/>
            </p:nvSpPr>
            <p:spPr>
              <a:xfrm>
                <a:off x="346500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9"/>
            <p:cNvGrpSpPr/>
            <p:nvPr/>
          </p:nvGrpSpPr>
          <p:grpSpPr>
            <a:xfrm>
              <a:off x="3734640" y="3113640"/>
              <a:ext cx="283680" cy="1118160"/>
              <a:chOff x="3734640" y="3113640"/>
              <a:chExt cx="283680" cy="1118160"/>
            </a:xfrm>
          </p:grpSpPr>
          <p:sp>
            <p:nvSpPr>
              <p:cNvPr id="452" name="Rectangle 70"/>
              <p:cNvSpPr/>
              <p:nvPr/>
            </p:nvSpPr>
            <p:spPr>
              <a:xfrm>
                <a:off x="373464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71"/>
              <p:cNvSpPr/>
              <p:nvPr/>
            </p:nvSpPr>
            <p:spPr>
              <a:xfrm>
                <a:off x="373464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2"/>
            <p:cNvGrpSpPr/>
            <p:nvPr/>
          </p:nvGrpSpPr>
          <p:grpSpPr>
            <a:xfrm>
              <a:off x="4005000" y="3113640"/>
              <a:ext cx="283680" cy="1118160"/>
              <a:chOff x="4005000" y="3113640"/>
              <a:chExt cx="283680" cy="1118160"/>
            </a:xfrm>
          </p:grpSpPr>
          <p:sp>
            <p:nvSpPr>
              <p:cNvPr id="455" name="Rectangle 73"/>
              <p:cNvSpPr/>
              <p:nvPr/>
            </p:nvSpPr>
            <p:spPr>
              <a:xfrm>
                <a:off x="4005000" y="3252960"/>
                <a:ext cx="28368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74"/>
              <p:cNvSpPr/>
              <p:nvPr/>
            </p:nvSpPr>
            <p:spPr>
              <a:xfrm>
                <a:off x="4005000" y="3113640"/>
                <a:ext cx="28368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5"/>
            <p:cNvGrpSpPr/>
            <p:nvPr/>
          </p:nvGrpSpPr>
          <p:grpSpPr>
            <a:xfrm>
              <a:off x="4287960" y="3113640"/>
              <a:ext cx="284400" cy="1118160"/>
              <a:chOff x="4287960" y="3113640"/>
              <a:chExt cx="284400" cy="1118160"/>
            </a:xfrm>
          </p:grpSpPr>
          <p:sp>
            <p:nvSpPr>
              <p:cNvPr id="458" name="Rectangle 76"/>
              <p:cNvSpPr/>
              <p:nvPr/>
            </p:nvSpPr>
            <p:spPr>
              <a:xfrm>
                <a:off x="428796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77"/>
              <p:cNvSpPr/>
              <p:nvPr/>
            </p:nvSpPr>
            <p:spPr>
              <a:xfrm>
                <a:off x="428796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8"/>
            <p:cNvGrpSpPr/>
            <p:nvPr/>
          </p:nvGrpSpPr>
          <p:grpSpPr>
            <a:xfrm>
              <a:off x="4558680" y="3113640"/>
              <a:ext cx="284400" cy="1118160"/>
              <a:chOff x="4558680" y="3113640"/>
              <a:chExt cx="284400" cy="1118160"/>
            </a:xfrm>
          </p:grpSpPr>
          <p:sp>
            <p:nvSpPr>
              <p:cNvPr id="461" name="Rectangle 79"/>
              <p:cNvSpPr/>
              <p:nvPr/>
            </p:nvSpPr>
            <p:spPr>
              <a:xfrm>
                <a:off x="455868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utoShape 80"/>
              <p:cNvSpPr/>
              <p:nvPr/>
            </p:nvSpPr>
            <p:spPr>
              <a:xfrm>
                <a:off x="455868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81"/>
            <p:cNvGrpSpPr/>
            <p:nvPr/>
          </p:nvGrpSpPr>
          <p:grpSpPr>
            <a:xfrm>
              <a:off x="4828320" y="3113640"/>
              <a:ext cx="284400" cy="1118160"/>
              <a:chOff x="4828320" y="3113640"/>
              <a:chExt cx="284400" cy="1118160"/>
            </a:xfrm>
          </p:grpSpPr>
          <p:sp>
            <p:nvSpPr>
              <p:cNvPr id="464" name="Rectangle 82"/>
              <p:cNvSpPr/>
              <p:nvPr/>
            </p:nvSpPr>
            <p:spPr>
              <a:xfrm>
                <a:off x="482832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83"/>
              <p:cNvSpPr/>
              <p:nvPr/>
            </p:nvSpPr>
            <p:spPr>
              <a:xfrm>
                <a:off x="482832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4"/>
            <p:cNvGrpSpPr/>
            <p:nvPr/>
          </p:nvGrpSpPr>
          <p:grpSpPr>
            <a:xfrm>
              <a:off x="5098680" y="3113640"/>
              <a:ext cx="284040" cy="1118160"/>
              <a:chOff x="5098680" y="3113640"/>
              <a:chExt cx="284040" cy="1118160"/>
            </a:xfrm>
          </p:grpSpPr>
          <p:sp>
            <p:nvSpPr>
              <p:cNvPr id="467" name="Rectangle 85"/>
              <p:cNvSpPr/>
              <p:nvPr/>
            </p:nvSpPr>
            <p:spPr>
              <a:xfrm>
                <a:off x="509868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86"/>
              <p:cNvSpPr/>
              <p:nvPr/>
            </p:nvSpPr>
            <p:spPr>
              <a:xfrm>
                <a:off x="509868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7"/>
            <p:cNvGrpSpPr/>
            <p:nvPr/>
          </p:nvGrpSpPr>
          <p:grpSpPr>
            <a:xfrm>
              <a:off x="5382000" y="3113640"/>
              <a:ext cx="284400" cy="1118160"/>
              <a:chOff x="5382000" y="3113640"/>
              <a:chExt cx="284400" cy="1118160"/>
            </a:xfrm>
          </p:grpSpPr>
          <p:sp>
            <p:nvSpPr>
              <p:cNvPr id="470" name="Rectangle 88"/>
              <p:cNvSpPr/>
              <p:nvPr/>
            </p:nvSpPr>
            <p:spPr>
              <a:xfrm>
                <a:off x="5382000" y="3252960"/>
                <a:ext cx="28440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89"/>
              <p:cNvSpPr/>
              <p:nvPr/>
            </p:nvSpPr>
            <p:spPr>
              <a:xfrm>
                <a:off x="5382000" y="3113640"/>
                <a:ext cx="28440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90"/>
            <p:cNvGrpSpPr/>
            <p:nvPr/>
          </p:nvGrpSpPr>
          <p:grpSpPr>
            <a:xfrm>
              <a:off x="5652360" y="3113640"/>
              <a:ext cx="284040" cy="1118160"/>
              <a:chOff x="5652360" y="3113640"/>
              <a:chExt cx="284040" cy="1118160"/>
            </a:xfrm>
          </p:grpSpPr>
          <p:sp>
            <p:nvSpPr>
              <p:cNvPr id="473" name="Rectangle 91"/>
              <p:cNvSpPr/>
              <p:nvPr/>
            </p:nvSpPr>
            <p:spPr>
              <a:xfrm>
                <a:off x="565236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92"/>
              <p:cNvSpPr/>
              <p:nvPr/>
            </p:nvSpPr>
            <p:spPr>
              <a:xfrm>
                <a:off x="565236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3"/>
            <p:cNvGrpSpPr/>
            <p:nvPr/>
          </p:nvGrpSpPr>
          <p:grpSpPr>
            <a:xfrm>
              <a:off x="5935320" y="3113640"/>
              <a:ext cx="284040" cy="1118160"/>
              <a:chOff x="5935320" y="3113640"/>
              <a:chExt cx="284040" cy="1118160"/>
            </a:xfrm>
          </p:grpSpPr>
          <p:sp>
            <p:nvSpPr>
              <p:cNvPr id="476" name="Rectangle 94"/>
              <p:cNvSpPr/>
              <p:nvPr/>
            </p:nvSpPr>
            <p:spPr>
              <a:xfrm>
                <a:off x="5935320" y="3252960"/>
                <a:ext cx="284040" cy="978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95"/>
              <p:cNvSpPr/>
              <p:nvPr/>
            </p:nvSpPr>
            <p:spPr>
              <a:xfrm>
                <a:off x="5935320" y="3113640"/>
                <a:ext cx="284040" cy="139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Между домом Пети и будкой Шарика проложены три дорожки. Покажи цветным карандашом самую короткую дорожку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Комментарий. </a:t>
            </a: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Задание может быть отнесено к двум содержательным линиям первого класса – «Элементы геометрии» и «Сравнение величин» – и рассчитано на проявление пространственной интуиции. Фактически, учащиеся должны выйти на понимание важнейшего геометрического факта: кратчайшим расстоянием между двумя точками является длина соединяющего их отрезка. Никаких измерений при выполнении задания не предполагается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Calibri"/>
              </a:rPr>
              <a:t>Правильное выполнение задания оценивается в 2 балла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3606840" y="549360"/>
            <a:ext cx="5276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отивировать учащихся на продуктивную дея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спользовать разнообразные  формы и методы во время урока, поскольку внимание младших школьников неустойчиво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йти индивидуальный подход к каждому ученику и по возможности подкорректировать его дея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думать проведение урока таким образом, чтобы позволить учащимся проявить свое творчество, мастерство. Педагог не должен забывать поощрять детей, тем самым создавая благоприятную эмоциональную обстановку в класс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итель должен четко рассчитать время, необходимое для выполнения задания на каждом этапе, чтобы успеть в заключении подвести выводы, объяснить задание, данное на дом, выставить оценки учащимся за работу на урок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удь предельно внимателе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нимай активное участие во время уро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щайся со сверстниками, используя изученный словарный запа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 ходе проектной работы получены следующие основные результаты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Изучена  научно-методическая  литература  при введении федерального государственного образовательного стандарта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Определена  структура  и  содержание  диагностических материалов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3.Разработан диагностический материал для оценивания планируемых результатов по математике в 1 классе по разделу «Числа и величины»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адеемся, что материал работы будет полезен студентам педагогических факультетов, учителям начальной школы и методистам-предметникам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85000" cy="12495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 в 1 классе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у «Числа и величин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имерная образовательная программа  образовательного учреждения// </a:t>
            </a:r>
            <a:r>
              <a:rPr b="0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Сайт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 Министерства образования и науки РФ. Раздел ФГОС. Общее образование. [Электронный ресурс]-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URL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mon.gov.ru/dok/fgos/7195/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Планируемые результаты начального общего образования //[Электронный ресурс]-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URL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r>
              <a:rPr b="0" lang="ru-RU" sz="1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://standart.edu.ru/catalog.aspx?CatalogId=957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3.Г.В.Дорофеев «Математика»,1 класс// 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4.Г.В. Дорофеев, Т.Н. Миракова. Методические рекомендации.1 класс//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5.Тарасова А.П., Дубцова Е.А., Житникова С.Л., Юшта Е.В. Психолого-педагогические аспекты проблемы обучения математике младших школьников//Начальная школа.- 2010.-№3.-с.25-28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6. Г.В. Дорофеев, Т.Н. Миракова. Пособия для учащихся «Математика. Рабочая тетрадь. 1 класс» (в двух частях) // Издательство «Просвещение»-201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7. Языканова Е.В. Развивающие задания для младших школьников.//М.: Экзамен.- 2008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8.Проектные задачи в начальной школе: пособие для учителя / под ред. А.Б. Воронцова. – 2-е изд. – М.: Просвещение, 2010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9 . Примерные программы по учебным предметам. Начальная школа. В 2 ч. – М.: Просвещение, 2010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0. Оценка достижения планируемых результатов в начальной школе. Система заданий. В 3 ч. Ч. 2 / под ред. Г.С. Ковалевой, О.Б. Логиновой. – М.: Просвещение, 2011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ределить  планируемые результаты у учащихся по математике в 1 классе при изучении раздела «Числа и величины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.Изучить научно-методическую литературу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.Изучить структуру и содержание раздел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3. Разработать диагностический материал для определения уровня обученности учащих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ланируемые результаты освоения основной образовательной программы начального общего образования  являются одним из важнейших механизмов реализации требований Стандарта к результатам обучающихся, освоивших основную образовательную программу. Они представляют собой систему обобщённых личностно ориентированных целей образования, допускающих дальнейшее уточнение и конкретизацию, что обеспечивает определение и выявление всех составляющих планируемых результатов,</a:t>
            </a: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одлежащих формированию и оценк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 разделе «Числа и величины» в процессе изучения темы важно добиться, чтобы учащиеся научились четко дифференцировать такие тесно связанные между собой, но разные по своей сути понятия, как "величина" и "число". Хотя формирование представлений о той или иной конкретной величине и о способах ее измерения имеет свои особенности, тем не менее, целесообразно выделить общие этапы, которые имеют место при изучении каждой из величин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8027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сли мы запланируем ожидаемые результаты, разработаем диагностический материал, определим критерии оценивания данного материала, то можно будет повысить эффективность обучения младших школьни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845000"/>
            <a:ext cx="8955000" cy="32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ределить перечень методической литературы, необходимой для изучения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обрести данную литератур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зучив данные пособия, определить структуру и содержание проек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суждение полученных результатов с научным руководителем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несение необходимых коррективов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пробация  проек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ведение итогов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ведение экспертизы диагностических материало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81160" y="237960"/>
            <a:ext cx="8697600" cy="1487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ть представления об изменении массы, объем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ть представление о величинах: сантиметр, килограмм, лит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ить опыт деятельности по получению нового знания по изменению,  преобразованию и применению различной массы, объема, длины. Использование данных измерений в жизненном опы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2:00:38Z</dcterms:created>
  <dc:creator>Admin</dc:creator>
  <dc:description/>
  <dc:language>en-US</dc:language>
  <cp:lastModifiedBy>Admn</cp:lastModifiedBy>
  <dcterms:modified xsi:type="dcterms:W3CDTF">2015-10-06T19:25:58Z</dcterms:modified>
  <cp:revision>67</cp:revision>
  <dc:subject/>
  <dc:title>Планируемые результаты по математике в 1 классе по разделу «Числа и величины»</dc:title>
</cp:coreProperties>
</file>