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40C8-6450-4BCD-BB2D-F34C5CCE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D5C7-C6EB-4C5B-A148-BCD6103C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E015C-858A-4D2F-85C4-2CD4F0C0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65391-7B05-46E4-826F-CE1D8E5E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8A2B7-C60D-45E5-BC43-E8A62503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CC5CC-2BC1-4A7C-97D2-03F86EE2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1FA4D-7D37-41F0-903C-58C2C629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D7162-C003-4F0D-9B2E-6BB7F32B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70E92-3239-4AF5-BC3B-7E6E4D18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84107-6A64-4F31-B7C5-A4D7674D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D3B92-5980-42F1-B6D8-D7CDCE97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CC8E-CF65-4F8C-AC8F-602EB057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DA27-FBB6-4180-A909-11441A70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8238-DA5E-43E0-8A22-3765F4F13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7D3A-B2C7-40DE-ABC5-BD6698EB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DD15-1B37-4BC4-A9B0-0BA14249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D701-2BD0-4EF5-BAA4-EF21C7F4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B410-ADE4-4EF7-A16B-ADBC9C7D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46B0-5F69-4CF3-A71D-52DBB7D3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DB23-71E4-41AB-9EE3-B228B1BD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6A40-A855-48F8-998E-17CE159D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B9BA-CBCE-41F7-9B65-6AA18719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5E4E-B09F-4FE9-AF29-77AA16EA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2AE3-0240-45E5-95F4-D4EC3719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B3B1-9F92-43B2-9443-CB9BEF67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017B-87F7-4CAA-BA69-8214FD19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17730-F264-4831-B46B-7C812527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72657-996D-4BAC-ADA7-7FC1E9C8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4B22C-4601-44E8-9A22-1CD11CE1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878C4-86A2-449D-A632-28F2E981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B7DF3-F62D-4DCE-93B1-A923A874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0158-5F20-4167-BAB1-6CB249BF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1493A-050D-4FF0-8406-DEC9D8DA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7F49C-62A9-4B93-9C98-D51F5D5E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754C2-FE06-4CD4-92D6-CA7F9438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E01D3-F7AA-467D-970D-C31FF3B1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3E1AF-12A5-4D6D-9892-5E711FBC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5770D-E778-4361-8610-CD96FAC8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33786-8E8E-462D-8105-70EF7D34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49C82-5A7D-4C31-8EF2-647AFA9D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9F895-E81B-4195-B2F8-924B29FC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E5903-54D3-4416-8A3E-8F627D74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3EFA-5A07-4827-9720-DA06C2E0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C3A0A-CE4B-4B91-8F9B-A359DE83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38410-9FA3-43F4-B04A-05CF8FDC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28C1C-F0DA-4521-BA0D-EDB525DB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F4091-2729-4F92-AD98-03FB45BC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E6F83-F5BE-4F3C-94C9-2FA19B8D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07B80-F18D-43B5-B1E5-ECF8CF97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8B3B0-1D72-4D61-9F76-A1264E28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54905-3DEF-45C9-979F-A3429125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38932-A465-44CD-92E4-7D2D5B8C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21E3F-511A-4F9A-A81F-636E9B53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FA1C-6076-4034-80BC-2B23410B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AB837-9377-40AA-9454-7B6557A3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FF922-982F-4E12-BF09-8D4FDE26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A4DF8-76A4-4418-BE2A-818829B7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E6D14-E79F-4EDA-8A98-6346F91E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B1227-6DA8-497F-8152-A729680B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7F431-5EC1-484D-8312-83B4F8F9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CB8E7-E8FD-4CE2-B684-F2DEEC02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C37F6-8C07-4092-B02D-1609F389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57727-DFA3-4FAA-9619-C2B92EBA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A1F01-7BDF-4247-BA07-7737B43E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DDDE-4321-46A3-979E-191DEA98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FE3A2-FE33-4E23-AA62-0D446880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B3B2A-073F-4BB6-85BF-44C47CA7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2D67B-6222-4C68-992C-DAF9BDB1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434C6-AF83-4B4E-A89B-0887761A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1D440-F9EE-45C7-AB6A-E2D9974A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0FBA9-93DA-41A2-BF65-5A7BAFA3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21EAD-AA3C-4467-966D-D116BE87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ED1C1-2EE3-428A-9FCF-38E6D472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0EE45-7BD1-4685-B32B-D2B709B8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7DC2C-FAC5-4726-9342-05D27A61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A7AF-0F94-4649-81CA-73C8D618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635A9-DA2C-461B-BDD7-94B6D76B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75AFC-72B5-4670-A540-6B8300BD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6B1C6-DFFD-4F0E-8221-97C12CAE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182CE-7400-4419-9BB7-4CCA58E3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22CD5-76B5-44C2-92CC-BB4273E9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B4CDE-6D72-474F-92C9-28E94DA4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376A2-2404-4994-B9BF-D03EB2C2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2C808-8A2C-469C-A473-D6447D9A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5722E-2715-4EF9-8706-C5F01730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938A8-30BF-48ED-A204-8EBD5562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F18-85B9-4B8C-AE26-D9285B89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02051-72D5-4B00-AC59-072AC7AC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09E84-6FFB-4506-9110-125896C9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FA38F-82A5-4A67-B9CB-015899E6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C43AA-5004-4214-8D21-114D7315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D72B1-93E5-4CD9-B145-CECFCEA9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26B4D-0288-4173-A5EE-C3ECB897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B0ECC-E936-4123-A7BA-EB15025E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7FA96-B409-44A7-8758-CB340A7B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91EB0-309A-4422-9522-1F3BF87C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65BF9-3BBA-4798-AB94-03055635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437E-637A-4C33-84D9-A28642B7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34BA2-6A3E-4B64-8247-F11F2944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C1205-A374-492C-A4B8-FFD3668B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60E26-1F2A-491D-A04B-9FE46514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DB26F-5144-4361-B597-DA6A0A3B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D9536-8974-4C1F-B6F9-7DD4128E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9800A-E151-4811-BFA7-1BB9139F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4F476-B51F-4E06-BC1E-924D31F8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C45CB-1DCD-442E-AE7E-C4B4C932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6D0B0-6437-4262-B3C9-51BB2AB6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68745-6BCC-4067-B1AB-984FBF37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72E4-647D-4E87-A163-EBBD6DDE6F6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7DA4-A191-4CD0-9027-A2ABD569F3E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E34B-312A-454B-90CB-491910E27CB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A450-9056-40AA-8DBF-4D69BC6B1F8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6095-4251-4F45-BFFB-DCFA14AC121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A3C5-6293-4CF9-AC91-FABA25D5043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093F-5D92-4068-AA56-87AB742A483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CD3F-3E82-4312-966F-80D6173D283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F9AB-C3B4-449D-B993-775B54962CB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mon.gov.ru/dok/fgos/7195/" TargetMode="External"/><Relationship Id="rId3" Type="http://schemas.openxmlformats.org/officeDocument/2006/relationships/hyperlink" Target="http://mon.gov.ru/dok/fgos/7195/" TargetMode="External"/><Relationship Id="rId4" Type="http://schemas.openxmlformats.org/officeDocument/2006/relationships/hyperlink" Target="http://standart.edu.ru/catalog.aspx?CatalogId=957" TargetMode="External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682560" y="768240"/>
            <a:ext cx="7785000" cy="23828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371600" y="5357880"/>
            <a:ext cx="64008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лова Юлия Зайнулловн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3" descr="C:\Documents and Settings\Галя\Рабочий стол\IMG_5459.jpg"/>
          <p:cNvPicPr/>
          <p:nvPr/>
        </p:nvPicPr>
        <p:blipFill>
          <a:blip r:embed="rId2"/>
          <a:stretch/>
        </p:blipFill>
        <p:spPr>
          <a:xfrm>
            <a:off x="2143080" y="2643120"/>
            <a:ext cx="457200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143000"/>
            <a:ext cx="86868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Franklin Gothic Book"/>
              </a:rPr>
              <a:t>Познавательные: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осмысление математических действий и величин, как основа умения учиться.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- развитие широких познавательных интересов и мотивов;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- готовность к принятию и решению учебных и познавательных задач;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- развитие познавательной инициативы (умение задавать вопросы, участвовать 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в учебном сотрудничестве);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- умение адекватно, осознанно и произвольно строить речевое высказывание в устной речи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в соответствии с задачами общения и нормами родного языка; 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- умение излагать основные положения своего сообщения в письменной речи.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Franklin Gothic Book"/>
              </a:rPr>
              <a:t>Логические:</a:t>
            </a: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·        сравнение данных (с целью 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определения общих признаков);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·        анализ (выделение элементов и «единиц» из  целого; расчленение целого на части); 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·        сериация – упорядочение объектов по выделенному основанию;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·        классификация - отнесение предмета к группе на основе заданного признака;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·        обобщение – генерализация и выведение общности для целого ряда 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единичных объектов на основе выделения существенной связи;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·        подведение под понятие – распознавание объектов, выделение существенных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признаков и их синтез;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·        установление аналогий 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Franklin Gothic Book"/>
              </a:rPr>
              <a:t>Регулятивные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Franklin Gothic Book"/>
              </a:rPr>
              <a:t>:</a:t>
            </a: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 освоение способов вычисления и установление взаимосвязи между предметами, умение отвечать на поставленный вопрос, умение работать  в парах. 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Целеполагание, как постановка учебной задачи (что известно, а что еще не известно), планирование (составление алгоритма), прогнозирование (предвосхищение результата   и уровня усвоения), контроль в форме сравнения с заданным эталоном, коррекция (дополнение в план и способы действия), оценка (что освоено, а что еще нет), волевая саморегуляция (умение мобилизовать силы и энергию, способность к волевому усилию для преодоления препятствий).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Franklin Gothic Book"/>
              </a:rPr>
              <a:t>Коммуникативные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Franklin Gothic Book"/>
              </a:rPr>
              <a:t>:</a:t>
            </a: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 применимые как в рамках образовательного процесса, так и при решении проблем в реальных жизненных ситуациях.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- эмоционально позитивное отношение к  процессу сотрудничества; 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- ориентация на партнера по общению, 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- умение слушать собеседника, договариваться  при  работе в паре, группе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товность и способность обучающихся к саморазвитию,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формированность мотивации к обучению и познанию,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ценностных отношений, интересов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циальные компетенции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чностные качеств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ть и высказывать под руководством педагога самые простые общие для всех людей правила поведения при сотрудничестве (этические нормы)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дложенных педагогом ситуациях общения и сотрудничества, опираясь на общие для всех простые правила поведения, делать выбор, при поддержке других участников группы и педагога, как поступить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м достижения этих результатов служит организация парно-групповой работы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925120" cy="10605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ситуации, требующ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а от одних единиц измерения к други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ировать числа по заданному или самостоятельно установленному правилу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ситуации, требующ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я чисел и величин, их упорядоч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ывать явления и события с использованием чисел и величин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04920" y="1554120"/>
            <a:ext cx="868680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Примеры итоговых заданий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зовите пропущенные числа в натуральном ряду чисел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9, ... , 11, ..., 13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.., 6, ...;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асположите числа 5, 13, 1, 20,9  от большего к меньшему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Рекомендуемые критерии оценивани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авильность и надежность ответа, способа рассуждений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боснованность ответ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очность и грамотность в использовании символики, математическая грамотность реч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Стимул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: В школе объявили сбор макулатуры. Коля со своим другом Петей собирали макулатуру в одном подъезде. Чтобы не заходить обоим в одну квартиру, Петя распределил квартиры (смотри справку)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Задачная формулировка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: Определи закономерность, по которой Петя распределил квартиры. Ответь на вопросы: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1) В какую следующую квартиру зайдёт Коля? 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2) В какую следующую квартиру зайдёт Петя?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Справк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Обойти квартиры Коле: №1, №4, №7, №10, №13, …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Обойти квартиры Пете: №2, №3, №5, №6, №8, …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Бланк ответов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Коля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Пет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Инструмент проверки (модельный ответ): 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2 балла – Записаны числа: Коля) 16, Петя) 9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1 балл – Верно записано хотя бы одно число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0 баллов – Записаны другие числа на вопросы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Сколько зайцев спряталось за забором?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Ответ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ментарий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е рассчитано на различение двух видов объектов – зайцев и их ушей и установление соответствия между счетом тех и других: чтобы найти количество зайцев, нужно подсчитать количество пар ушей.  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вильный ответ – 1балл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Calibri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429" name="Группа 3"/>
          <p:cNvGrpSpPr/>
          <p:nvPr/>
        </p:nvGrpSpPr>
        <p:grpSpPr>
          <a:xfrm>
            <a:off x="2924280" y="2616120"/>
            <a:ext cx="3295080" cy="1615680"/>
            <a:chOff x="2924280" y="2616120"/>
            <a:chExt cx="3295080" cy="1615680"/>
          </a:xfrm>
        </p:grpSpPr>
        <p:grpSp>
          <p:nvGrpSpPr>
            <p:cNvPr id="430" name="Group 48"/>
            <p:cNvGrpSpPr/>
            <p:nvPr/>
          </p:nvGrpSpPr>
          <p:grpSpPr>
            <a:xfrm>
              <a:off x="3323880" y="2622960"/>
              <a:ext cx="596880" cy="848520"/>
              <a:chOff x="3323880" y="2622960"/>
              <a:chExt cx="596880" cy="848520"/>
            </a:xfrm>
          </p:grpSpPr>
          <p:sp>
            <p:nvSpPr>
              <p:cNvPr id="431" name="Oval 49"/>
              <p:cNvSpPr/>
              <p:nvPr/>
            </p:nvSpPr>
            <p:spPr>
              <a:xfrm flipH="1" rot="802200">
                <a:off x="3648600" y="2641680"/>
                <a:ext cx="179280" cy="820080"/>
              </a:xfrm>
              <a:prstGeom prst="ellipse">
                <a:avLst/>
              </a:prstGeom>
              <a:solidFill>
                <a:srgbClr val="c0c0c0">
                  <a:alpha val="2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Oval 50"/>
              <p:cNvSpPr/>
              <p:nvPr/>
            </p:nvSpPr>
            <p:spPr>
              <a:xfrm rot="20797800">
                <a:off x="3415680" y="2632320"/>
                <a:ext cx="179280" cy="817920"/>
              </a:xfrm>
              <a:prstGeom prst="ellipse">
                <a:avLst/>
              </a:prstGeom>
              <a:solidFill>
                <a:srgbClr val="c0c0c0">
                  <a:alpha val="2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Group 51"/>
            <p:cNvGrpSpPr/>
            <p:nvPr/>
          </p:nvGrpSpPr>
          <p:grpSpPr>
            <a:xfrm>
              <a:off x="5263920" y="2619720"/>
              <a:ext cx="596880" cy="848520"/>
              <a:chOff x="5263920" y="2619720"/>
              <a:chExt cx="596880" cy="848520"/>
            </a:xfrm>
          </p:grpSpPr>
          <p:sp>
            <p:nvSpPr>
              <p:cNvPr id="434" name="Oval 52"/>
              <p:cNvSpPr/>
              <p:nvPr/>
            </p:nvSpPr>
            <p:spPr>
              <a:xfrm flipH="1" rot="802200">
                <a:off x="5588640" y="2638440"/>
                <a:ext cx="179280" cy="820080"/>
              </a:xfrm>
              <a:prstGeom prst="ellipse">
                <a:avLst/>
              </a:prstGeom>
              <a:solidFill>
                <a:srgbClr val="c0c0c0">
                  <a:alpha val="2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Oval 53"/>
              <p:cNvSpPr/>
              <p:nvPr/>
            </p:nvSpPr>
            <p:spPr>
              <a:xfrm rot="20797800">
                <a:off x="5355720" y="2629080"/>
                <a:ext cx="179280" cy="817920"/>
              </a:xfrm>
              <a:prstGeom prst="ellipse">
                <a:avLst/>
              </a:prstGeom>
              <a:solidFill>
                <a:srgbClr val="c0c0c0">
                  <a:alpha val="2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Group 54"/>
            <p:cNvGrpSpPr/>
            <p:nvPr/>
          </p:nvGrpSpPr>
          <p:grpSpPr>
            <a:xfrm>
              <a:off x="4593240" y="2626920"/>
              <a:ext cx="595800" cy="848520"/>
              <a:chOff x="4593240" y="2626920"/>
              <a:chExt cx="595800" cy="848520"/>
            </a:xfrm>
          </p:grpSpPr>
          <p:sp>
            <p:nvSpPr>
              <p:cNvPr id="437" name="Oval 55"/>
              <p:cNvSpPr/>
              <p:nvPr/>
            </p:nvSpPr>
            <p:spPr>
              <a:xfrm flipH="1" rot="802200">
                <a:off x="4917240" y="2647440"/>
                <a:ext cx="179280" cy="817920"/>
              </a:xfrm>
              <a:prstGeom prst="ellipse">
                <a:avLst/>
              </a:prstGeom>
              <a:solidFill>
                <a:srgbClr val="c0c0c0">
                  <a:alpha val="2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56"/>
              <p:cNvSpPr/>
              <p:nvPr/>
            </p:nvSpPr>
            <p:spPr>
              <a:xfrm rot="20797800">
                <a:off x="4684680" y="2636280"/>
                <a:ext cx="179640" cy="812880"/>
              </a:xfrm>
              <a:prstGeom prst="ellipse">
                <a:avLst/>
              </a:prstGeom>
              <a:solidFill>
                <a:srgbClr val="c0c0c0">
                  <a:alpha val="2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57"/>
            <p:cNvGrpSpPr/>
            <p:nvPr/>
          </p:nvGrpSpPr>
          <p:grpSpPr>
            <a:xfrm>
              <a:off x="3975840" y="2616120"/>
              <a:ext cx="596880" cy="848520"/>
              <a:chOff x="3975840" y="2616120"/>
              <a:chExt cx="596880" cy="848520"/>
            </a:xfrm>
          </p:grpSpPr>
          <p:sp>
            <p:nvSpPr>
              <p:cNvPr id="440" name="Oval 58"/>
              <p:cNvSpPr/>
              <p:nvPr/>
            </p:nvSpPr>
            <p:spPr>
              <a:xfrm flipH="1" rot="802200">
                <a:off x="4300920" y="2636280"/>
                <a:ext cx="179280" cy="818280"/>
              </a:xfrm>
              <a:prstGeom prst="ellipse">
                <a:avLst/>
              </a:prstGeom>
              <a:solidFill>
                <a:srgbClr val="c0c0c0">
                  <a:alpha val="2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Oval 59"/>
              <p:cNvSpPr/>
              <p:nvPr/>
            </p:nvSpPr>
            <p:spPr>
              <a:xfrm rot="20797800">
                <a:off x="4068000" y="2625480"/>
                <a:ext cx="179280" cy="818640"/>
              </a:xfrm>
              <a:prstGeom prst="ellipse">
                <a:avLst/>
              </a:prstGeom>
              <a:solidFill>
                <a:srgbClr val="c0c0c0">
                  <a:alpha val="2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60"/>
            <p:cNvGrpSpPr/>
            <p:nvPr/>
          </p:nvGrpSpPr>
          <p:grpSpPr>
            <a:xfrm>
              <a:off x="2924280" y="3113640"/>
              <a:ext cx="284040" cy="1118160"/>
              <a:chOff x="2924280" y="3113640"/>
              <a:chExt cx="284040" cy="1118160"/>
            </a:xfrm>
          </p:grpSpPr>
          <p:sp>
            <p:nvSpPr>
              <p:cNvPr id="443" name="Rectangle 61"/>
              <p:cNvSpPr/>
              <p:nvPr/>
            </p:nvSpPr>
            <p:spPr>
              <a:xfrm>
                <a:off x="2924280" y="3252960"/>
                <a:ext cx="284040" cy="978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AutoShape 62"/>
              <p:cNvSpPr/>
              <p:nvPr/>
            </p:nvSpPr>
            <p:spPr>
              <a:xfrm>
                <a:off x="2924280" y="3113640"/>
                <a:ext cx="284040" cy="13932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63"/>
            <p:cNvGrpSpPr/>
            <p:nvPr/>
          </p:nvGrpSpPr>
          <p:grpSpPr>
            <a:xfrm>
              <a:off x="3181680" y="3113640"/>
              <a:ext cx="283680" cy="1118160"/>
              <a:chOff x="3181680" y="3113640"/>
              <a:chExt cx="283680" cy="1118160"/>
            </a:xfrm>
          </p:grpSpPr>
          <p:sp>
            <p:nvSpPr>
              <p:cNvPr id="446" name="Rectangle 64"/>
              <p:cNvSpPr/>
              <p:nvPr/>
            </p:nvSpPr>
            <p:spPr>
              <a:xfrm>
                <a:off x="3181680" y="3252960"/>
                <a:ext cx="283680" cy="978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65"/>
              <p:cNvSpPr/>
              <p:nvPr/>
            </p:nvSpPr>
            <p:spPr>
              <a:xfrm>
                <a:off x="3181680" y="3113640"/>
                <a:ext cx="283680" cy="13932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66"/>
            <p:cNvGrpSpPr/>
            <p:nvPr/>
          </p:nvGrpSpPr>
          <p:grpSpPr>
            <a:xfrm>
              <a:off x="3465000" y="3113640"/>
              <a:ext cx="284400" cy="1118160"/>
              <a:chOff x="3465000" y="3113640"/>
              <a:chExt cx="284400" cy="1118160"/>
            </a:xfrm>
          </p:grpSpPr>
          <p:sp>
            <p:nvSpPr>
              <p:cNvPr id="449" name="Rectangle 67"/>
              <p:cNvSpPr/>
              <p:nvPr/>
            </p:nvSpPr>
            <p:spPr>
              <a:xfrm>
                <a:off x="3465000" y="3252960"/>
                <a:ext cx="284400" cy="978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AutoShape 68"/>
              <p:cNvSpPr/>
              <p:nvPr/>
            </p:nvSpPr>
            <p:spPr>
              <a:xfrm>
                <a:off x="3465000" y="3113640"/>
                <a:ext cx="284400" cy="13932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69"/>
            <p:cNvGrpSpPr/>
            <p:nvPr/>
          </p:nvGrpSpPr>
          <p:grpSpPr>
            <a:xfrm>
              <a:off x="3734640" y="3113640"/>
              <a:ext cx="283680" cy="1118160"/>
              <a:chOff x="3734640" y="3113640"/>
              <a:chExt cx="283680" cy="1118160"/>
            </a:xfrm>
          </p:grpSpPr>
          <p:sp>
            <p:nvSpPr>
              <p:cNvPr id="452" name="Rectangle 70"/>
              <p:cNvSpPr/>
              <p:nvPr/>
            </p:nvSpPr>
            <p:spPr>
              <a:xfrm>
                <a:off x="3734640" y="3252960"/>
                <a:ext cx="283680" cy="978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AutoShape 71"/>
              <p:cNvSpPr/>
              <p:nvPr/>
            </p:nvSpPr>
            <p:spPr>
              <a:xfrm>
                <a:off x="3734640" y="3113640"/>
                <a:ext cx="283680" cy="13932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72"/>
            <p:cNvGrpSpPr/>
            <p:nvPr/>
          </p:nvGrpSpPr>
          <p:grpSpPr>
            <a:xfrm>
              <a:off x="4005000" y="3113640"/>
              <a:ext cx="283680" cy="1118160"/>
              <a:chOff x="4005000" y="3113640"/>
              <a:chExt cx="283680" cy="1118160"/>
            </a:xfrm>
          </p:grpSpPr>
          <p:sp>
            <p:nvSpPr>
              <p:cNvPr id="455" name="Rectangle 73"/>
              <p:cNvSpPr/>
              <p:nvPr/>
            </p:nvSpPr>
            <p:spPr>
              <a:xfrm>
                <a:off x="4005000" y="3252960"/>
                <a:ext cx="283680" cy="978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AutoShape 74"/>
              <p:cNvSpPr/>
              <p:nvPr/>
            </p:nvSpPr>
            <p:spPr>
              <a:xfrm>
                <a:off x="4005000" y="3113640"/>
                <a:ext cx="283680" cy="13932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75"/>
            <p:cNvGrpSpPr/>
            <p:nvPr/>
          </p:nvGrpSpPr>
          <p:grpSpPr>
            <a:xfrm>
              <a:off x="4287960" y="3113640"/>
              <a:ext cx="284400" cy="1118160"/>
              <a:chOff x="4287960" y="3113640"/>
              <a:chExt cx="284400" cy="1118160"/>
            </a:xfrm>
          </p:grpSpPr>
          <p:sp>
            <p:nvSpPr>
              <p:cNvPr id="458" name="Rectangle 76"/>
              <p:cNvSpPr/>
              <p:nvPr/>
            </p:nvSpPr>
            <p:spPr>
              <a:xfrm>
                <a:off x="4287960" y="3252960"/>
                <a:ext cx="284400" cy="978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AutoShape 77"/>
              <p:cNvSpPr/>
              <p:nvPr/>
            </p:nvSpPr>
            <p:spPr>
              <a:xfrm>
                <a:off x="4287960" y="3113640"/>
                <a:ext cx="284400" cy="13932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78"/>
            <p:cNvGrpSpPr/>
            <p:nvPr/>
          </p:nvGrpSpPr>
          <p:grpSpPr>
            <a:xfrm>
              <a:off x="4558680" y="3113640"/>
              <a:ext cx="284400" cy="1118160"/>
              <a:chOff x="4558680" y="3113640"/>
              <a:chExt cx="284400" cy="1118160"/>
            </a:xfrm>
          </p:grpSpPr>
          <p:sp>
            <p:nvSpPr>
              <p:cNvPr id="461" name="Rectangle 79"/>
              <p:cNvSpPr/>
              <p:nvPr/>
            </p:nvSpPr>
            <p:spPr>
              <a:xfrm>
                <a:off x="4558680" y="3252960"/>
                <a:ext cx="284400" cy="978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AutoShape 80"/>
              <p:cNvSpPr/>
              <p:nvPr/>
            </p:nvSpPr>
            <p:spPr>
              <a:xfrm>
                <a:off x="4558680" y="3113640"/>
                <a:ext cx="284400" cy="13932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81"/>
            <p:cNvGrpSpPr/>
            <p:nvPr/>
          </p:nvGrpSpPr>
          <p:grpSpPr>
            <a:xfrm>
              <a:off x="4828320" y="3113640"/>
              <a:ext cx="284400" cy="1118160"/>
              <a:chOff x="4828320" y="3113640"/>
              <a:chExt cx="284400" cy="1118160"/>
            </a:xfrm>
          </p:grpSpPr>
          <p:sp>
            <p:nvSpPr>
              <p:cNvPr id="464" name="Rectangle 82"/>
              <p:cNvSpPr/>
              <p:nvPr/>
            </p:nvSpPr>
            <p:spPr>
              <a:xfrm>
                <a:off x="4828320" y="3252960"/>
                <a:ext cx="284400" cy="978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AutoShape 83"/>
              <p:cNvSpPr/>
              <p:nvPr/>
            </p:nvSpPr>
            <p:spPr>
              <a:xfrm>
                <a:off x="4828320" y="3113640"/>
                <a:ext cx="284400" cy="13932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84"/>
            <p:cNvGrpSpPr/>
            <p:nvPr/>
          </p:nvGrpSpPr>
          <p:grpSpPr>
            <a:xfrm>
              <a:off x="5098680" y="3113640"/>
              <a:ext cx="284040" cy="1118160"/>
              <a:chOff x="5098680" y="3113640"/>
              <a:chExt cx="284040" cy="1118160"/>
            </a:xfrm>
          </p:grpSpPr>
          <p:sp>
            <p:nvSpPr>
              <p:cNvPr id="467" name="Rectangle 85"/>
              <p:cNvSpPr/>
              <p:nvPr/>
            </p:nvSpPr>
            <p:spPr>
              <a:xfrm>
                <a:off x="5098680" y="3252960"/>
                <a:ext cx="284040" cy="978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AutoShape 86"/>
              <p:cNvSpPr/>
              <p:nvPr/>
            </p:nvSpPr>
            <p:spPr>
              <a:xfrm>
                <a:off x="5098680" y="3113640"/>
                <a:ext cx="284040" cy="13932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87"/>
            <p:cNvGrpSpPr/>
            <p:nvPr/>
          </p:nvGrpSpPr>
          <p:grpSpPr>
            <a:xfrm>
              <a:off x="5382000" y="3113640"/>
              <a:ext cx="284400" cy="1118160"/>
              <a:chOff x="5382000" y="3113640"/>
              <a:chExt cx="284400" cy="1118160"/>
            </a:xfrm>
          </p:grpSpPr>
          <p:sp>
            <p:nvSpPr>
              <p:cNvPr id="470" name="Rectangle 88"/>
              <p:cNvSpPr/>
              <p:nvPr/>
            </p:nvSpPr>
            <p:spPr>
              <a:xfrm>
                <a:off x="5382000" y="3252960"/>
                <a:ext cx="284400" cy="978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AutoShape 89"/>
              <p:cNvSpPr/>
              <p:nvPr/>
            </p:nvSpPr>
            <p:spPr>
              <a:xfrm>
                <a:off x="5382000" y="3113640"/>
                <a:ext cx="284400" cy="13932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90"/>
            <p:cNvGrpSpPr/>
            <p:nvPr/>
          </p:nvGrpSpPr>
          <p:grpSpPr>
            <a:xfrm>
              <a:off x="5652360" y="3113640"/>
              <a:ext cx="284040" cy="1118160"/>
              <a:chOff x="5652360" y="3113640"/>
              <a:chExt cx="284040" cy="1118160"/>
            </a:xfrm>
          </p:grpSpPr>
          <p:sp>
            <p:nvSpPr>
              <p:cNvPr id="473" name="Rectangle 91"/>
              <p:cNvSpPr/>
              <p:nvPr/>
            </p:nvSpPr>
            <p:spPr>
              <a:xfrm>
                <a:off x="5652360" y="3252960"/>
                <a:ext cx="284040" cy="978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AutoShape 92"/>
              <p:cNvSpPr/>
              <p:nvPr/>
            </p:nvSpPr>
            <p:spPr>
              <a:xfrm>
                <a:off x="5652360" y="3113640"/>
                <a:ext cx="284040" cy="13932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93"/>
            <p:cNvGrpSpPr/>
            <p:nvPr/>
          </p:nvGrpSpPr>
          <p:grpSpPr>
            <a:xfrm>
              <a:off x="5935320" y="3113640"/>
              <a:ext cx="284040" cy="1118160"/>
              <a:chOff x="5935320" y="3113640"/>
              <a:chExt cx="284040" cy="1118160"/>
            </a:xfrm>
          </p:grpSpPr>
          <p:sp>
            <p:nvSpPr>
              <p:cNvPr id="476" name="Rectangle 94"/>
              <p:cNvSpPr/>
              <p:nvPr/>
            </p:nvSpPr>
            <p:spPr>
              <a:xfrm>
                <a:off x="5935320" y="3252960"/>
                <a:ext cx="284040" cy="978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AutoShape 95"/>
              <p:cNvSpPr/>
              <p:nvPr/>
            </p:nvSpPr>
            <p:spPr>
              <a:xfrm>
                <a:off x="5935320" y="3113640"/>
                <a:ext cx="284040" cy="13932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Между домом Пети и будкой Шарика проложены три дорожки. Покажи цветным карандашом самую короткую дорожку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4e3b30"/>
                </a:solidFill>
                <a:latin typeface="Times New Roman"/>
                <a:ea typeface="Calibri"/>
              </a:rPr>
              <a:t>Комментарий. </a:t>
            </a: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Calibri"/>
              </a:rPr>
              <a:t>Задание может быть отнесено к двум содержательным линиям первого класса – «Элементы геометрии» и «Сравнение величин» – и рассчитано на проявление пространственной интуиции. Фактически, учащиеся должны выйти на понимание важнейшего геометрического факта: кратчайшим расстоянием между двумя точками является длина соединяющего их отрезка. Никаких измерений при выполнении задания не предполагается. 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Calibri"/>
              </a:rPr>
              <a:t>Правильное выполнение задания оценивается в 2 балла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9" name="Picture 2" descr=""/>
          <p:cNvPicPr/>
          <p:nvPr/>
        </p:nvPicPr>
        <p:blipFill>
          <a:blip r:embed="rId1"/>
          <a:stretch/>
        </p:blipFill>
        <p:spPr>
          <a:xfrm>
            <a:off x="3606840" y="549360"/>
            <a:ext cx="52768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Мотивировать учащихся на продуктивную деятельность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Использовать разнообразные  формы и методы во время урока, поскольку внимание младших школьников неустойчиво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Найти индивидуальный подход к каждому ученику и по возможности подкорректировать его деятельность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родумать проведение урока таким образом, чтобы позволить учащимся проявить свое творчество, мастерство. Педагог не должен забывать поощрять детей, тем самым создавая благоприятную эмоциональную обстановку в классе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Учитель должен четко рассчитать время, необходимое для выполнения задания на каждом этапе, чтобы успеть в заключении подвести выводы, объяснить задание, данное на дом, выставить оценки учащимся за работу на уроке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удь предельно внимателен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инимай активное участие во время урок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щайся со сверстниками, используя изученный словарный запас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В ходе проектной работы получены следующие основные результаты: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1.Изучена  научно-методическая  литература  при введении федерального государственного образовательного стандарта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2.Определена  структура  и  содержание  диагностических материалов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3.Разработан диагностический материал для оценивания планируемых результатов по математике в 1 классе по разделу «Числа и величины»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Надеемся, что материал работы будет полезен студентам педагогических факультетов, учителям начальной школы и методистам-предметникам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682560" y="682560"/>
            <a:ext cx="7785000" cy="124956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1371600" y="1785960"/>
            <a:ext cx="640080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мые результаты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атематике в 1 классе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азделу «Числа и величины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Примерная образовательная программа  образовательного учреждения// </a:t>
            </a:r>
            <a:r>
              <a:rPr b="0" lang="ru-RU" sz="14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Сайт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 Министерства образования и науки РФ. Раздел ФГОС. Общее образование. [Электронный ресурс]-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URL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4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mon.gov.ru/dok/fgos/7195/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2.Планируемые результаты начального общего образования //[Электронный ресурс]-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URL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Franklin Gothic Book"/>
              </a:rPr>
              <a:t> </a:t>
            </a:r>
            <a:r>
              <a:rPr b="0" lang="ru-RU" sz="14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http://standart.edu.ru/catalog.aspx?CatalogId=957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3.Г.В.Дорофеев «Математика»,1 класс// Издательство «Просвещение»-2011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4.Г.В. Дорофеев, Т.Н. Миракова. Методические рекомендации.1 класс//Издательство «Просвещение»-2011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5.Тарасова А.П., Дубцова Е.А., Житникова С.Л., Юшта Е.В. Психолого-педагогические аспекты проблемы обучения математике младших школьников//Начальная школа.- 2010.-№3.-с.25-28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6. Г.В. Дорофеев, Т.Н. Миракова. Пособия для учащихся «Математика. Рабочая тетрадь. 1 класс» (в двух частях) // Издательство «Просвещение»-2011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7. Языканова Е.В. Развивающие задания для младших школьников.//М.: Экзамен.- 2008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8.Проектные задачи в начальной школе: пособие для учителя / под ред. А.Б. Воронцова. – 2-е изд. – М.: Просвещение, 2010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9 . Примерные программы по учебным предметам. Начальная школа. В 2 ч. – М.: Просвещение, 2010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10. Оценка достижения планируемых результатов в начальной школе. Система заданий. В 3 ч. Ч. 2 / под ред. Г.С. Ковалевой, О.Б. Логиновой. – М.: Просвещение, 2011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пределить  планируемые результаты у учащихся по математике в 1 классе при изучении раздела «Числа и величины»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1.Изучить научно-методическую литературу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2.Изучить структуру и содержание раздел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3. Разработать диагностический материал для определения уровня обученности учащихся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Планируемые результаты освоения основной образовательной программы начального общего образования  являются одним из важнейших механизмов реализации требований Стандарта к результатам обучающихся, освоивших основную образовательную программу. Они представляют собой систему обобщённых личностно ориентированных целей образования, допускающих дальнейшее уточнение и конкретизацию, что обеспечивает определение и выявление всех составляющих планируемых результатов,</a:t>
            </a:r>
            <a:r>
              <a:rPr b="0" lang="en-US" sz="1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подлежащих формированию и оценке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3b30"/>
                </a:solidFill>
                <a:latin typeface="Franklin Gothic Book"/>
              </a:rPr>
              <a:t>         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В разделе «Числа и величины» в процессе изучения темы важно добиться, чтобы учащиеся научились четко дифференцировать такие тесно связанные между собой, но разные по своей сути понятия, как "величина" и "число". Хотя формирование представлений о той или иной конкретной величине и о способах ее измерения имеет свои особенности, тем не менее, целесообразно выделить общие этапы, которые имеют место при изучении каждой из величин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95120" y="450720"/>
            <a:ext cx="8802720" cy="46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500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Если мы запланируем ожидаемые результаты, разработаем диагностический материал, определим критерии оценивания данного материала, то можно будет повысить эффективность обучения младших школьнико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560" y="1845000"/>
            <a:ext cx="8955000" cy="329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пределить перечень методической литературы, необходимой для изучения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риобрести данную литературу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Изучив данные пособия, определить структуру и содержание проект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бсуждение полученных результатов с научным руководителем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несение необходимых коррективов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Апробация  проект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одведение итогов работы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роведение экспертизы диагностических материалов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281160" y="237960"/>
            <a:ext cx="8697600" cy="14875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меть представления об изменении массы, объем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меть представление о величинах: сантиметр, килограмм, литр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лучить опыт деятельности по получению нового знания по изменению,  преобразованию и применению различной массы, объема, длины. Использование данных измерений в жизненном опыт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12:00:38Z</dcterms:created>
  <dc:creator>Admin</dc:creator>
  <dc:description/>
  <dc:language>en-US</dc:language>
  <cp:lastModifiedBy>Admn</cp:lastModifiedBy>
  <dcterms:modified xsi:type="dcterms:W3CDTF">2015-10-06T19:25:58Z</dcterms:modified>
  <cp:revision>67</cp:revision>
  <dc:subject/>
  <dc:title>Планируемые результаты по математике в 1 классе по разделу «Числа и величины»</dc:title>
</cp:coreProperties>
</file>