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378-C33C-4733-9941-2F652B19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1F3-DB22-45C8-9D91-EAC5D623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901-4ABE-472E-A478-C895880A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318-A917-4997-8E91-07256E5A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D77-3D55-4432-9B94-0FA8720C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42F-7EFC-417D-A9A9-E4A17661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9BA-1382-4DA8-B297-3B7A624D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233-3675-496C-A875-BBD0123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D65-D298-48D7-B873-285A989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F48-9871-4869-BF8B-F85AA870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06D-0593-412C-8691-8BA84376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CFF-B183-4795-AF15-8B2E08A1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6EFE-563C-4FE3-9776-17058F4A7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71276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стемно-деятельностный                     подход в рамках ФГОС                                                на уроках истории и обществозн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640" y="4221000"/>
            <a:ext cx="4681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учителя МБОУ СОШ п.Уральский Губановой Ю.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исторической карт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же является одной из форм деятельности учащихся на уроке истории. Этот вид учебной деятельности позволяет не только получить систематизированную историческую информацию о том или ином событии, явлении, процессе, но и умело ориентироваться в историко-географическом пространстве. Опираясь на карту, ребята могут самостоятельно предположить, какие условия жизни у жителей данной страны, какие занятия у них преобладают, что добы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чебнике старшего брата Костя увидел картинку, которая его заинтересовала. Андрей (брат Кости) на вопросы брата ответить не смог. Помоги Андрею.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http://i082.radikal.ru/1110/0d/e60ced6cbdcf.gif"/>
          <p:cNvPicPr/>
          <p:nvPr/>
        </p:nvPicPr>
        <p:blipFill>
          <a:blip r:embed="rId1"/>
          <a:stretch/>
        </p:blipFill>
        <p:spPr>
          <a:xfrm>
            <a:off x="1619280" y="2637000"/>
            <a:ext cx="5715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е событие отражено на карт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́тва на реке́ Ка́лке (31 мая 1223 года) — сражение между объединённым русско-половецким войском и монгольским корпусом, действовавшим в рамках похода Джэбэ и Субэдэя 1221—1224 годов. Сражение происходило на реке Калка, на территории современной Донецкой области. Половцы и основные русские силы были разбиты 31 мая 1223 года, через 3 дня сражение закончилось полной победой монголов. В бою погибло много князей и родовитых бояр южной и центрально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аком году происходило это событи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эти люди изображенные на карте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иб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андр Глебович Дубровиц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дрей Иванович туровс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ять киевского княз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силий Мстиславич кКзельс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черниговского княз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яслав Владимирович Путивль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яслав Ингваревич Дорогобуж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ислав Романович Старый киев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ислав Святославич Чернигов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тослав Ингваревич Шум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тослав Ярославич Канев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тослав Ярославич Яновиц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ий Ярополкович Несвиж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рослав Юрьевич Неговор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увшиеся из похода жи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Рюрикович Овруч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волод Мстиславич, сын киевского княз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иил Романович Волын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ил Всеволодович, племянник черниговского княз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стислав Мстиславич Удатный Галиц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стислав Святославич Рыль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стислав Ярославич Немой Луц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лег Святославич Кур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слав Всеволодович Трубче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боище уцелела только одна десятая часть русского войска («Повесть о битве на Калке»). Единственный автор, который называет русские потери в численном выражении (правда, очень приблизительные, о чём сам же и говорит), — Генрих Латвийский. В «Хронике Ливонии», написанной около 1225 года, он упомин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1222] В тот год в земле вальвов язычников были татары. Вальвов некоторые называют партами. Они не едят хлеба, а питаются сырым мясом своего скота. И бились с ними татары, и победили их, и истребляли всех мечом, а иные бежали к русским, прося помощи. И прошёл по всей Руссии призыв биться с татарами, и выступили короли со всей Руссии против татар, но не хватило у них сил для битвы и бежали они пред врагами. И пал великий король Мстислав из Киева с сорока тысячами воинов, что были при нём. Другой же король, Мстислав галицкий, спасся бегством. Из остальных королей пало в этой битве около пятидесяти. И гнались за ними татары шесть дней и перебили у них более ста тысяч человек (а точное число их знает один Бог), прочие же беж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оложи чем закончилось данное сражение? Свой ответ аргументируй?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ие изменения произошли в нашей жизни в последнее время: изменились запросы общества, внедрены инновационные компьютерные технологии. Сегодняшний ученик – это не ученик, послушно выполняющий задания и повторяющий учителя и учебник. У него есть свой особый менталитет, свои взгляды на изучаемый материал, свой субъективный опыт. Поэтому учителю важно найти на уроке особый индивидуальный подход к учащимся: нужно не заставлять, а мотивировать его к учёбе. Основные задачи образования сегодня – не просто вооружить выпускника фиксированным набором знаний, 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ировать у него умение и желание учиться всю жизн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ить эти задачи поможет деятельностный метод обучения. Системно-деятельностный подход, предполагает включение учащихся в самостоятельную учебную деятельность, готовящих себя для жизни, для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воих уроках я широко использ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позволяют создать эмоциональный настрой на получение знаний, создать образное представление о посещаемом месте, получить знания через личное ощущение, научить строить диалог. Главная цель такого занятия - это создание игрового состояния - специфического эмоционального отношения субъекта к исторической действительности. Понятно, что такая трудная задача требует от ученика мобилизации всех знаний и умений, побуждает осваивать все новые и новые знания и углублять их, расширяет его кругозор. Игры бывают разные: деловая игра, игра-обсуждение, игра-исследование, ретроспективная игра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всего я использ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роспективную иг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ходе которой моделируется ситуация, ставящая учащихся в позицию очевидцев и участников событий в прошлом. Главным признаком игры такого типа является "эффект присутствия" - "так могло быть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троспективные игры помогают ученику "войти" в историческое время, почувствовать "колорит эпохи", "увидеть" конкретных людей с их миропониманием и поступками в конкретной исторической ситуации определенного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риезду папы из командировки Настя решила приготовить на ужин что - ни будь необычное. В интернете она нашла рецепт, который её озадачил. Помоги ответить на вопросы, возникшие у Н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н смешал пульпу дерева, кору, джутовые волокна со старыми одеждами и порванными рыболовными сетями. Вновь полученный материал получился прочным и по многим своим свойствам превосходил как бамбук, так и шелк. Прежде всего, он оказался значительно дешевле и проще в изготовлении. Безусловно, его «сопротивляемость» времени была значительно меньшей, чем у шелковых книг, но общедоступность стала решающим фактором. Его могли изготавливать даже в кустарном производстве. Именно это предопределило стремительный рост письменной литературы различного ро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Что может получиться у Насти, если она последует этому рецепту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 О каком материале идет речь в тексте?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11940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5651640" y="4437000"/>
            <a:ext cx="29527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2808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Как ты думаешь, в какой стране был создан такой рецепт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1993680" cy="2694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2449440" cy="243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4356000" y="4365720"/>
            <a:ext cx="3141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) Где можно применить полученный продукт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бумажные предметы мы постоянно носим при себе. В карманах или сумке каждого хранятся документы. Редко кто обходится без записной книжки. В редкой семье теперь не знают таких удобных и практичных вещей, как бумажные скатерти, полотенца, салфетки, одноразовая п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нечно, всем приходилось иметь дело с бумажными денежными зна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лице бумага представляет перед нами театральной афишей, в школьном классе – географической картой. Бумага дала жизнь множеству непохожих, но  нужных людям предметов – конверту и марке, билету на самолёт и ученической тетрадке. Если раньше бумага предназначалась главным образом для письма и печатных изданий, то теперь границы её службы раздвинулись. В 1960 г. Люди узнали, как выглядит обратная сторона Луны. Космический корабль сфотографировал её и передал изображение на Землю, где оно было воспроизведено на специальной бумаг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всё стремительнее завоёвывает различные области техники. Сегодня бумагу делают огнестойкой, противостоящую газам, парам, влаге, кисло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сегодня – верный помощник строителей. Она успешно заменяет дерево, мрамор, железо, камень. В американском штате Небраска построен настоящий бумажный мост длиной 11 м, по которому открыто автомобильное движение. В США близи Филадельфии работает завод по изготовлению жилых бумажно-картонных домов. Стены делают из двухслойного гофрированного картона, а детали оконных рам, дверей, крыш прессуются их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ждым годом строителям требуется всё больше кирпича, камня, цемента. Раньше цемент перевозили в деревянных бочках. А теперь цемент засыпают в бумажные мешки, которые делают из прочной сульфатной целлюлозы. Они занимают меньше места, легче и дешевле б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ают из бумаги и такие мешки, в которые можно класть овощи и  спокойно оставлять их надолго под дождём или на снегу. В последние годы во многих странах в бумажные мешки стали собирать мусор. Это гораздо удобнее и гигиеничнее, чем пользоваться более привычной металлической или пластмассовой тарой - бочками, вёдрами, ящиками. Пищевые отходы в бумажных мешках не разлагаются потому, что через бумагу непрерывно поступает воздух, они не нагре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Какие полезные свойства этого продукта ты можешь назвать Насте?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В чем значение этого изобретения для человечества?)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20:46:02Z</dcterms:created>
  <dc:creator>User</dc:creator>
  <dc:description/>
  <dc:language>en-US</dc:language>
  <cp:lastModifiedBy>1</cp:lastModifiedBy>
  <dcterms:modified xsi:type="dcterms:W3CDTF">2014-02-23T05:09:35Z</dcterms:modified>
  <cp:revision>9</cp:revision>
  <dc:subject/>
  <dc:title>Слайд 1</dc:title>
</cp:coreProperties>
</file>