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F78-C834-4483-BC36-77D1573D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8A7-9A80-4362-92DD-68A102F9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553-E085-475F-86AA-5C97BBBA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09A-CCD3-44D0-8536-36D7CE51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160-3F3B-49AC-B7A6-A25EF23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CEF-DEE7-4CF5-84D4-AF775E7D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7C2-71E1-48F1-AF46-84E5983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A1C-B14C-42A6-AC4A-ADCC018F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DC8-5C42-4B65-8419-6230D74E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C53-A4DF-4473-AF07-93692F5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81A-AB5A-403C-812F-E505783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D99-7039-4A21-B029-028D567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B335-DA92-4173-A727-F95A3F649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вельева С.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итель начальных клас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гушка – путеше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3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добрал автор, описывая первый полёт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ещё описывае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умали утки о лягу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лова подобрал автор, говоря о храбрости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ы озаглавим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4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лягушка не выдержала и закрич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говорит о хвастовстве ляг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историю придумала лягушка о своём путешест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ы озаглавим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769080" cy="5097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3635280" y="126828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140360" y="126828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643280" y="126828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40328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0800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248436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2987640" y="1916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3564000" y="1916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067280" y="1916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059280" y="2421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4140360" y="2852640"/>
            <a:ext cx="43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3635280" y="2924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4643280" y="2852640"/>
            <a:ext cx="43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5219640" y="2852640"/>
            <a:ext cx="43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2484360" y="335772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305928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56400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140360" y="3357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643280" y="335772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564000" y="3860640"/>
            <a:ext cx="43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4067280" y="378936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464328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521964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5724360" y="378936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3564000" y="436572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4140360" y="4365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4643280" y="436572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5"/>
          <p:cNvSpPr/>
          <p:nvPr/>
        </p:nvSpPr>
        <p:spPr>
          <a:xfrm>
            <a:off x="5148360" y="4365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3564000" y="2421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8"/>
          <p:cNvSpPr/>
          <p:nvPr/>
        </p:nvSpPr>
        <p:spPr>
          <a:xfrm>
            <a:off x="324000" y="260280"/>
            <a:ext cx="266364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 на мне растут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4710240" y="1844640"/>
            <a:ext cx="355932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Мой хвост не отличишь от голо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я в земле найдете 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0760" y="2492280"/>
            <a:ext cx="2300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Одна из сторон с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5762160" y="2924280"/>
            <a:ext cx="33901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Пестрая крякушка, ловит лягу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5211000" y="3429000"/>
            <a:ext cx="34754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Кого много на болоте, не мышка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5862600" y="4581360"/>
            <a:ext cx="299736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Не зверь, не птиц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сок, как спиц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ит – пищит, сядет – молч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108000" y="4149720"/>
            <a:ext cx="2951280" cy="137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Этот старый наш знаком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живет на крыше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инношеий, длиннонос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инноногий, безголос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летает на охо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лягушками к бо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lyag387"/>
          <p:cNvPicPr/>
          <p:nvPr/>
        </p:nvPicPr>
        <p:blipFill>
          <a:blip r:embed="rId1"/>
          <a:stretch/>
        </p:blipFill>
        <p:spPr>
          <a:xfrm>
            <a:off x="826920" y="333360"/>
            <a:ext cx="5759640" cy="408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ad347e979c217230175d37f35b5"/>
          <p:cNvPicPr/>
          <p:nvPr/>
        </p:nvPicPr>
        <p:blipFill>
          <a:blip r:embed="rId2"/>
          <a:stretch/>
        </p:blipFill>
        <p:spPr>
          <a:xfrm>
            <a:off x="4932360" y="3357720"/>
            <a:ext cx="2476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469080" y="473760"/>
            <a:ext cx="77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чему не состоялось путешествие Ляг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а) лягушки не умеют летать;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б) прутик, за который держалась лягу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казался непрочным;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) из-за хвастовства, зазнайства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97094_w464_h260_fc"/>
          <p:cNvPicPr/>
          <p:nvPr/>
        </p:nvPicPr>
        <p:blipFill>
          <a:blip r:embed="rId1"/>
          <a:stretch/>
        </p:blipFill>
        <p:spPr>
          <a:xfrm>
            <a:off x="1332000" y="2708280"/>
            <a:ext cx="6480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1235721055f8c9"/>
          <p:cNvPicPr/>
          <p:nvPr/>
        </p:nvPicPr>
        <p:blipFill>
          <a:blip r:embed="rId1"/>
          <a:stretch/>
        </p:blipFill>
        <p:spPr>
          <a:xfrm>
            <a:off x="611280" y="1484280"/>
            <a:ext cx="3214440" cy="4314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3851280" y="119700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250920" y="595008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855- 1888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1185840" y="403200"/>
            <a:ext cx="76741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Жил в 19 веке в России удивительный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севолод Михайлович Г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fcaa6f202e5a"/>
          <p:cNvPicPr/>
          <p:nvPr/>
        </p:nvPicPr>
        <p:blipFill>
          <a:blip r:embed="rId2"/>
          <a:srcRect l="0" t="0" r="0" b="7357"/>
          <a:stretch/>
        </p:blipFill>
        <p:spPr>
          <a:xfrm>
            <a:off x="4572000" y="1628640"/>
            <a:ext cx="3603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256360" cy="511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57"/>
          <p:cNvPicPr/>
          <p:nvPr/>
        </p:nvPicPr>
        <p:blipFill>
          <a:blip r:embed="rId2"/>
          <a:stretch/>
        </p:blipFill>
        <p:spPr>
          <a:xfrm>
            <a:off x="5651640" y="620640"/>
            <a:ext cx="2943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лягушка названа путешественницей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Кто такой путешественник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в тексте, как лягушка относилась к окружающему ми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лягушка не должна была квак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Госпожи  утки!  - осмелилась сказать лягушка, - что такое юг, на который вы летите? Прошу извинения за беспоко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можете сказать о лягуш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утки не стали  есть лягуш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ватило  ду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rog-garshin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932360" y="1484280"/>
            <a:ext cx="367668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45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ление на части и озаглавли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yag387"/>
          <p:cNvPicPr/>
          <p:nvPr/>
        </p:nvPicPr>
        <p:blipFill>
          <a:blip r:embed="rId1"/>
          <a:stretch/>
        </p:blipFill>
        <p:spPr>
          <a:xfrm>
            <a:off x="1042920" y="1700280"/>
            <a:ext cx="66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сколько смысловых частей вы бы разделили сказ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Жизнь в родном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стреча с ут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думка ляг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утеше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азад в боло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68360" y="2708280"/>
            <a:ext cx="6048360" cy="3313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Garshin-Lyagushka_puteshestvennica"/>
          <p:cNvPicPr/>
          <p:nvPr/>
        </p:nvPicPr>
        <p:blipFill>
          <a:blip r:embed="rId2"/>
          <a:stretch/>
        </p:blipFill>
        <p:spPr>
          <a:xfrm>
            <a:off x="1403280" y="2852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1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жила ляг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жила ляг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главная цель жизни была у лягу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исывает автор благополучную жизнь ляг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ожно озаглавить эту час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ягушка встретилась с ут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ём они гов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лягушка пришла в востор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идумала ляг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ожно озаглавить эту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56:00Z</dcterms:created>
  <dc:creator>Alex</dc:creator>
  <dc:description/>
  <dc:language>en-US</dc:language>
  <cp:lastModifiedBy>www.PHILka.RU</cp:lastModifiedBy>
  <dcterms:modified xsi:type="dcterms:W3CDTF">2015-10-06T13:21:29Z</dcterms:modified>
  <cp:revision>5</cp:revision>
  <dc:subject/>
  <dc:title>Слайд 1</dc:title>
</cp:coreProperties>
</file>