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EF2-F1DC-458F-AA6B-64EF803E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CDEF-FB84-49B7-B481-6A46B27F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9B7-6345-44FE-BB6F-80F72829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D87-25F6-4CCE-BD60-9115CE2E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FC05-4328-4C0C-8A7F-1D8A3143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D8A-9496-4F26-BF4A-5F3F1631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112A-9570-4CCB-B5C5-E61AD95B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DBA-1473-4D9A-9248-6B55A863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3F3-B32D-4714-B3AD-A6A3CA6C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A75F-BF53-40F0-AA64-917F82C5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C6DD-EA29-4A99-8C2F-CA0BB833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1A70-B1ED-45B5-A065-C9DEB541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E65C-5E02-458A-89C0-272351D6C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99"/>
                </a:solidFill>
                <a:latin typeface="Arial"/>
              </a:rPr>
              <a:t>Гортса пемӧсъя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Кӧ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40072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Дзодзӧ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Забавные животные =) Обои :: NoNaMe"/>
          <p:cNvPicPr/>
          <p:nvPr/>
        </p:nvPicPr>
        <p:blipFill>
          <a:blip r:embed="rId1"/>
          <a:stretch/>
        </p:blipFill>
        <p:spPr>
          <a:xfrm>
            <a:off x="1403280" y="1414440"/>
            <a:ext cx="6624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0099"/>
                </a:solidFill>
                <a:latin typeface="Arial"/>
              </a:rPr>
              <a:t>Кань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6600" spc="-1" strike="noStrike">
                <a:solidFill>
                  <a:srgbClr val="008080"/>
                </a:solidFill>
                <a:latin typeface="Arial"/>
              </a:rPr>
              <a:t>кань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0099"/>
                </a:solidFill>
                <a:latin typeface="Arial"/>
              </a:rPr>
              <a:t>Пон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6600" spc="-1" strike="noStrike">
                <a:solidFill>
                  <a:srgbClr val="008080"/>
                </a:solidFill>
                <a:latin typeface="Arial"/>
              </a:rPr>
              <a:t>пон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0099"/>
                </a:solidFill>
                <a:latin typeface="Arial"/>
              </a:rPr>
              <a:t>Чипан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6600" spc="-1" strike="noStrike">
                <a:solidFill>
                  <a:srgbClr val="008080"/>
                </a:solidFill>
                <a:latin typeface="Arial"/>
              </a:rPr>
              <a:t>чипан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0099"/>
                </a:solidFill>
                <a:latin typeface="Arial"/>
              </a:rPr>
              <a:t>Кӧза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6600" spc="-1" strike="noStrike">
                <a:solidFill>
                  <a:srgbClr val="008080"/>
                </a:solidFill>
                <a:latin typeface="Arial"/>
              </a:rPr>
              <a:t>кӧза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к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Выпуск &quot;MOTA.RU - новые обои&quot; рассылки &quot;Mota.ru - новые обои&quot; от 01 мая 2007 года. Рассылки @MAIL.RU: Служба почтовых рассылок"/>
          <p:cNvPicPr/>
          <p:nvPr/>
        </p:nvPicPr>
        <p:blipFill>
          <a:blip r:embed="rId1"/>
          <a:stretch/>
        </p:blipFill>
        <p:spPr>
          <a:xfrm>
            <a:off x="1547640" y="1557360"/>
            <a:ext cx="60580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Мӧ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Скачать - Неожиданные товары с использованием животных ингредиентов"/>
          <p:cNvPicPr/>
          <p:nvPr/>
        </p:nvPicPr>
        <p:blipFill>
          <a:blip r:embed="rId1"/>
          <a:stretch/>
        </p:blipFill>
        <p:spPr>
          <a:xfrm>
            <a:off x="1258920" y="148428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пету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&quot;Варкалось. Хливкие шорьки пырялись по наве, - Страница 267 - Форум"/>
          <p:cNvPicPr/>
          <p:nvPr/>
        </p:nvPicPr>
        <p:blipFill>
          <a:blip r:embed="rId1"/>
          <a:stretch/>
        </p:blipFill>
        <p:spPr>
          <a:xfrm>
            <a:off x="2411280" y="1268280"/>
            <a:ext cx="40640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п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Домашние животные. Домашние животные. Галерея :: Wallpapers / FOTOLIFE.COM.UA фотографии высокого разрешения"/>
          <p:cNvPicPr/>
          <p:nvPr/>
        </p:nvPicPr>
        <p:blipFill>
          <a:blip r:embed="rId1"/>
          <a:stretch/>
        </p:blipFill>
        <p:spPr>
          <a:xfrm>
            <a:off x="1476360" y="1557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чип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2643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пор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Свинья на лугу фото, Свинья на лугу фото обои рабочий стол, Свинья на лугу фото фотографии животные картинка изображение свинья"/>
          <p:cNvPicPr/>
          <p:nvPr/>
        </p:nvPicPr>
        <p:blipFill>
          <a:blip r:embed="rId1"/>
          <a:stretch/>
        </p:blipFill>
        <p:spPr>
          <a:xfrm>
            <a:off x="1692360" y="1628640"/>
            <a:ext cx="588636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Вӧ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6360" y="1555920"/>
            <a:ext cx="63356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ы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69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8T15:45:35Z</dcterms:created>
  <dc:creator>Андрей</dc:creator>
  <dc:description/>
  <dc:language>en-US</dc:language>
  <cp:lastModifiedBy>Андрей</cp:lastModifiedBy>
  <dcterms:modified xsi:type="dcterms:W3CDTF">2014-10-08T16:06:54Z</dcterms:modified>
  <cp:revision>5</cp:revision>
  <dc:subject/>
  <dc:title>Гортса пемӧсъяс</dc:title>
</cp:coreProperties>
</file>