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6BC-63B1-4B47-B0A4-DE186F8D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17B-7905-424D-B7E6-3BD20B6B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D9C-25D9-48EC-B771-2144A51A2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7B7-942D-4BE1-A0A5-5FB5F209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5D81-D324-495F-810B-37A08393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F56B-7041-4E65-A72C-019B0171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799F-5343-4B85-B60B-9DBDE787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B36B-2197-4057-98F2-81D8E47F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C977-6833-41A3-A814-9E19525D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1029-76EF-4695-A0F2-23CAD2EF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370A-E660-4597-AA71-E24DF57B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F5A9-15C6-4D1C-8164-96906CD2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6BD8-C0F3-4E3B-966D-701DDEEC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66F2-D756-4BA5-BE78-16DFAA98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0E5C-352D-4C38-9F3D-4DDC900A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2BC8-1021-4457-8B34-777EB222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167E-DB1E-4C7D-8C05-BD58C4B1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CEE8-DBE7-4C9A-9FAA-80020652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764C-20EE-4A57-8AB0-D4835ADE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92F2-7C88-4791-BF20-32353CEA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EB9-6AED-40C0-B9C6-7A0A5BD3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0FF-B2DE-4922-B181-851BB108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F64C-4A00-494F-9AE3-BCDC62F6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DFC8-6535-4B62-B461-FA6BB229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9A40-0BD6-49F7-846E-11157FFAAFC5}" type="slidenum">
              <a:rPr b="0" lang="ru-RU" sz="1200" spc="-1" strike="noStrike">
                <a:solidFill>
                  <a:srgbClr val="bcbcb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DFDD-1D98-42D2-A70C-475E76EAE6C5}" type="slidenum">
              <a:rPr b="0" lang="ru-RU" sz="1200" spc="-1" strike="noStrike">
                <a:solidFill>
                  <a:srgbClr val="bcbcb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42960" y="4572000"/>
            <a:ext cx="8215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хаков Ильназ, 8 клас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әнни җитәкче: Ахметзянова Д.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МБББУ “Юлтимер төп гомуми белем бирү мәктәбе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Picture 8" descr="ss01"/>
          <p:cNvPicPr/>
          <p:nvPr/>
        </p:nvPicPr>
        <p:blipFill>
          <a:blip r:embed="rId2"/>
          <a:stretch/>
        </p:blipFill>
        <p:spPr>
          <a:xfrm>
            <a:off x="7236000" y="1459080"/>
            <a:ext cx="1618920" cy="1269720"/>
          </a:xfrm>
          <a:prstGeom prst="rect">
            <a:avLst/>
          </a:prstGeom>
          <a:ln w="0">
            <a:noFill/>
          </a:ln>
        </p:spPr>
      </p:pic>
      <p:pic>
        <p:nvPicPr>
          <p:cNvPr id="84" name="Заголовок 5" descr=""/>
          <p:cNvPicPr/>
          <p:nvPr/>
        </p:nvPicPr>
        <p:blipFill>
          <a:blip r:embed="rId3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95280" y="54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39640" y="4572000"/>
            <a:ext cx="603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6"/>
          <p:cNvSpPr/>
          <p:nvPr/>
        </p:nvSpPr>
        <p:spPr>
          <a:xfrm>
            <a:off x="714240" y="571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45 нче елда француз математигы Блез Паскаль тарафыннан  күпурынлы саннарны кушуны тиз башкара торган беренче </a:t>
            </a:r>
            <a:r>
              <a:rPr b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әпләү машинасы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шләнә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7" descr="http://www.streamclub.ru/Istoriya/Comp/2.aspx"/>
          <p:cNvPicPr/>
          <p:nvPr/>
        </p:nvPicPr>
        <p:blipFill>
          <a:blip r:embed="rId1"/>
          <a:stretch/>
        </p:blipFill>
        <p:spPr>
          <a:xfrm>
            <a:off x="1071720" y="3286080"/>
            <a:ext cx="7000560" cy="3000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395280" y="54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39640" y="4572000"/>
            <a:ext cx="603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6"/>
          <p:cNvSpPr/>
          <p:nvPr/>
        </p:nvSpPr>
        <p:spPr>
          <a:xfrm>
            <a:off x="714240" y="5716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йбниц Готфрид Вильгельмның исәпләү машинасы эшлән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Рисунок 5" descr="http://cit.ckipo.edu.ua/wiki/images/5/5d/Arifmometr_Leibnica.jpg"/>
          <p:cNvPicPr/>
          <p:nvPr/>
        </p:nvPicPr>
        <p:blipFill>
          <a:blip r:embed="rId1"/>
          <a:stretch/>
        </p:blipFill>
        <p:spPr>
          <a:xfrm>
            <a:off x="500040" y="2424240"/>
            <a:ext cx="8215200" cy="3504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95280" y="54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39640" y="4572000"/>
            <a:ext cx="603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714240" y="571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1818 нче елдан 1846 елга кадәр рус галимнәре тарафыннан арифмометрларның төрле модельләре төзелгә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Рисунок 7" descr="http://vestnikk.ru/uploads/posts/2012-08/1345838946_ris2.jpg"/>
          <p:cNvPicPr/>
          <p:nvPr/>
        </p:nvPicPr>
        <p:blipFill>
          <a:blip r:embed="rId1"/>
          <a:stretch/>
        </p:blipFill>
        <p:spPr>
          <a:xfrm>
            <a:off x="1428840" y="3000240"/>
            <a:ext cx="6572160" cy="3570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395280" y="54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9640" y="4572000"/>
            <a:ext cx="603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6"/>
          <p:cNvSpPr/>
          <p:nvPr/>
        </p:nvSpPr>
        <p:spPr>
          <a:xfrm>
            <a:off x="714240" y="571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ликс” арифмомет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Рисунок 5" descr="http://s00.yaplakal.com/pics/pics_original/5/5/3/387355.jpg"/>
          <p:cNvPicPr/>
          <p:nvPr/>
        </p:nvPicPr>
        <p:blipFill>
          <a:blip r:embed="rId1"/>
          <a:stretch/>
        </p:blipFill>
        <p:spPr>
          <a:xfrm>
            <a:off x="1214280" y="2500200"/>
            <a:ext cx="6715440" cy="4030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395280" y="54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39640" y="4572000"/>
            <a:ext cx="603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714240" y="571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кенче модель арифмометр-  Курт Херцштарк моделе –  1938 нче елның кышында барлыкка килгә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Рисунок 7" descr="http://img1.liveinternet.ru/images/attach/c/0/33/283/33283154_1223284091_Image05t.jpg"/>
          <p:cNvPicPr/>
          <p:nvPr/>
        </p:nvPicPr>
        <p:blipFill>
          <a:blip r:embed="rId1"/>
          <a:stretch/>
        </p:blipFill>
        <p:spPr>
          <a:xfrm>
            <a:off x="1143000" y="2500200"/>
            <a:ext cx="6858000" cy="3643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395280" y="54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539640" y="4572000"/>
            <a:ext cx="603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714240" y="5716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Чарльз Бэббиджның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Аналитик машина”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Рисунок 5" descr="http://img1.liveinternet.ru/images/attach/c/2/67/537/67537326_1291662860_difference_engine_1991.jpg"/>
          <p:cNvPicPr/>
          <p:nvPr/>
        </p:nvPicPr>
        <p:blipFill>
          <a:blip r:embed="rId1"/>
          <a:stretch/>
        </p:blipFill>
        <p:spPr>
          <a:xfrm>
            <a:off x="1571760" y="2211480"/>
            <a:ext cx="5414760" cy="4646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95280" y="54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39640" y="4572000"/>
            <a:ext cx="603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6"/>
          <p:cNvSpPr/>
          <p:nvPr/>
        </p:nvSpPr>
        <p:spPr>
          <a:xfrm>
            <a:off x="714240" y="142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лькуляторларның камилләшүе таблицас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00040" y="785880"/>
          <a:ext cx="8429760" cy="5854680"/>
        </p:xfrm>
        <a:graphic>
          <a:graphicData uri="http://schemas.openxmlformats.org/drawingml/2006/table">
            <a:tbl>
              <a:tblPr/>
              <a:tblGrid>
                <a:gridCol w="1438200"/>
                <a:gridCol w="6991560"/>
              </a:tblGrid>
              <a:tr h="6602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4</a:t>
                      </a:r>
                      <a:r>
                        <a:rPr b="0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BM</a:t>
                      </a: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фирмасы беренче транзисторлы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ькулятор</a:t>
                      </a: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җитештерә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</a:tr>
              <a:tr h="66060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7</a:t>
                      </a:r>
                      <a:r>
                        <a:rPr b="0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BM фирмасы IBM 608 транзисторлы калькуляторын җитештер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</a:tr>
              <a:tr h="9460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3 </a:t>
                      </a:r>
                      <a:r>
                        <a:rPr b="0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лиядә ANITA MK VIII калькуляторлары җитештерелә башлый. (Газоразрядлы лампалы, саннар кертү өчен һәм 10 гамәл клавишлары ба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</a:tr>
              <a:tr h="6602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4</a:t>
                      </a:r>
                      <a:r>
                        <a:rPr b="0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Ш та FRIDEN 130 калькуляторлары  җитештерелә башлый. Безнең илдә  «Вега» калькуляторы җитештерелә башлы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</a:tr>
              <a:tr h="946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4</a:t>
                      </a:r>
                      <a:r>
                        <a:rPr b="0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нче япон транзисторлы калькуляторы барлыкка килә, күләме язу машинкасы кадәр, авырлыгы 25 кг. Бу калькуляторлар  Sharp фирмасы тарафыннан җитештерелгә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</a:tr>
              <a:tr h="6602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5 е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ngLaboratories лабораториясе логарифмнар исәпли алучы  Wang LOCI-2 исемле калькулятор уйлап таб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</a:tr>
              <a:tr h="6602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9 е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Ш  беренче программалаштырылган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 9100A</a:t>
                      </a: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өстәл калькуляторы уйла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</a:tr>
              <a:tr h="66060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0 е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нче электрон кес</a:t>
                      </a: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ә калькуляторы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кетроник»</a:t>
                      </a: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рлыкка кил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395280" y="54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39640" y="4572000"/>
            <a:ext cx="603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6"/>
          <p:cNvSpPr/>
          <p:nvPr/>
        </p:nvSpPr>
        <p:spPr>
          <a:xfrm>
            <a:off x="714240" y="142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лькуляторларның камилләшүе таблицас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785880"/>
          <a:ext cx="9144000" cy="6602400"/>
        </p:xfrm>
        <a:graphic>
          <a:graphicData uri="http://schemas.openxmlformats.org/drawingml/2006/table">
            <a:tbl>
              <a:tblPr/>
              <a:tblGrid>
                <a:gridCol w="725400"/>
                <a:gridCol w="8418600"/>
              </a:tblGrid>
              <a:tr h="9892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1 е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mwar 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рмас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901B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аркалы кесә калькуляторы,  размер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31х77х37 мм, 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гамәлле һәм 8 разряд сан сыярлык индикаторлы җитештерә башлый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</a:tr>
              <a:tr h="7016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2 е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нче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— HP-35 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женерлар калькуляторы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ewlettPackard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фирмасы тарафыннан җитештерелгә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</a:tr>
              <a:tr h="7016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4 е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нче совет микр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ькулятор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— «Электроника Б3-04» 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лыкка кил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</a:tr>
              <a:tr h="7016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 е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-25C калькулятор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ның өстенлеге шунда, электрдан өзгәч тә андагы программалар һәм бирелмәләр югалм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</a:tr>
              <a:tr h="7016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7 е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нче со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ограмм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аштырылган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икрокалькулятор «Электроника Б3-21»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җитештерелә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</a:tr>
              <a:tr h="7016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9 е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wlettPackard 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рмасы беренче алфавит-цифрлы индикаторл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— HP-41C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лькуляторы барлыкка килә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</a:tr>
              <a:tr h="7016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0 е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3-34 и Б3-35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лькуляторлары барлыкка кил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</a:tr>
              <a:tr h="7016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5 е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дә программалаштырылган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К-61 и МК-52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лькуляторлары барлыкка килә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d2d2ff"/>
                    </a:solidFill>
                  </a:tcPr>
                </a:tc>
              </a:tr>
              <a:tr h="7016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5 е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нче программалаштырылган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ькулятор Casio FX-7000G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5b5bff"/>
                      </a:solidFill>
                    </a:lnL>
                    <a:lnR w="5760">
                      <a:solidFill>
                        <a:srgbClr val="5b5bff"/>
                      </a:solidFill>
                    </a:lnR>
                    <a:lnT w="5760">
                      <a:solidFill>
                        <a:srgbClr val="5b5bff"/>
                      </a:solidFill>
                    </a:lnT>
                    <a:lnB w="5760">
                      <a:solidFill>
                        <a:srgbClr val="5b5bff"/>
                      </a:solidFill>
                    </a:lnB>
                    <a:solidFill>
                      <a:srgbClr val="eaeaff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390600" y="201600"/>
            <a:ext cx="8924760" cy="1419120"/>
          </a:xfrm>
          <a:prstGeom prst="rect">
            <a:avLst/>
          </a:prstGeom>
          <a:ln w="0">
            <a:noFill/>
          </a:ln>
        </p:spPr>
      </p:pic>
      <p:pic>
        <p:nvPicPr>
          <p:cNvPr id="147" name="Содержимое 3" descr="http://vestnikk.ru/uploads/posts/2012-08/1345839146_0u6xop9yazy56c7puqcu.jpg"/>
          <p:cNvPicPr/>
          <p:nvPr/>
        </p:nvPicPr>
        <p:blipFill>
          <a:blip r:embed="rId2"/>
          <a:stretch/>
        </p:blipFill>
        <p:spPr>
          <a:xfrm>
            <a:off x="1571760" y="1635120"/>
            <a:ext cx="6286320" cy="4937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5"/>
          <p:cNvSpPr/>
          <p:nvPr/>
        </p:nvSpPr>
        <p:spPr>
          <a:xfrm flipV="1">
            <a:off x="5508720" y="3499920"/>
            <a:ext cx="7128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22" descr="soch copy"/>
          <p:cNvPicPr/>
          <p:nvPr/>
        </p:nvPicPr>
        <p:blipFill>
          <a:blip r:embed="rId1"/>
          <a:stretch/>
        </p:blipFill>
        <p:spPr>
          <a:xfrm>
            <a:off x="2286000" y="642960"/>
            <a:ext cx="3676680" cy="2601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285840" y="3434040"/>
            <a:ext cx="864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кеге заманда борынгы кешеләр күңелдән исәпләгәннәр. Алар </a:t>
            </a:r>
            <a:r>
              <a:rPr b="0" lang="tt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“</a:t>
            </a:r>
            <a:r>
              <a:rPr b="0" lang="tt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р</a:t>
            </a:r>
            <a:r>
              <a:rPr b="0" lang="tt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”</a:t>
            </a:r>
            <a:r>
              <a:rPr b="0" lang="tt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яки </a:t>
            </a:r>
            <a:r>
              <a:rPr b="0" lang="tt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“</a:t>
            </a:r>
            <a:r>
              <a:rPr b="0" lang="tt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үп</a:t>
            </a:r>
            <a:r>
              <a:rPr b="0" lang="tt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”</a:t>
            </a:r>
            <a:r>
              <a:rPr b="0" lang="tt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игәнне генә аңлатканнар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871560" y="3571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ренче санау, хисаплау вазыйфасын кешенең бармаклары үтәгән. Алар кул бармаклары ярдәмендә 10 га кадәр саный алганнар, кул бармаклары гына җитмәсә аяк бармакларын да кулланганн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042920" y="558972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841320" y="4946760"/>
            <a:ext cx="71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13" descr="пальцы01"/>
          <p:cNvPicPr/>
          <p:nvPr/>
        </p:nvPicPr>
        <p:blipFill>
          <a:blip r:embed="rId1"/>
          <a:srcRect l="5443" t="10199" r="41320" b="24564"/>
          <a:stretch/>
        </p:blipFill>
        <p:spPr>
          <a:xfrm>
            <a:off x="2268360" y="2928960"/>
            <a:ext cx="4248360" cy="3071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11280" y="620640"/>
            <a:ext cx="748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ур саннарны кешеләр истә калдыра алмаганнар. Алар зур саннарны төенле баулар, вак ташлар , таякчылар һәм агачка ясалган киртләр белән күрсәткәннәр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8" descr="3723"/>
          <p:cNvPicPr/>
          <p:nvPr/>
        </p:nvPicPr>
        <p:blipFill>
          <a:blip r:embed="rId1"/>
          <a:stretch/>
        </p:blipFill>
        <p:spPr>
          <a:xfrm>
            <a:off x="428760" y="2714760"/>
            <a:ext cx="3357360" cy="2865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Вестоницкая кость"/>
          <p:cNvPicPr/>
          <p:nvPr/>
        </p:nvPicPr>
        <p:blipFill>
          <a:blip r:embed="rId2"/>
          <a:stretch/>
        </p:blipFill>
        <p:spPr>
          <a:xfrm>
            <a:off x="5143680" y="2714760"/>
            <a:ext cx="361440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95280" y="54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39640" y="4572000"/>
            <a:ext cx="603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785880" y="57168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нең эрага кадәр 5 гасырда Борынгы Грециядә һәм Борынгы Мисырда </a:t>
            </a:r>
            <a:r>
              <a:rPr b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бак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ң таралыш таб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Рисунок 9" descr="http://s3.timetoast.com/public/uploads/photos/1977729/abak.jpg?1322215492"/>
          <p:cNvPicPr/>
          <p:nvPr/>
        </p:nvPicPr>
        <p:blipFill>
          <a:blip r:embed="rId1"/>
          <a:stretch/>
        </p:blipFill>
        <p:spPr>
          <a:xfrm>
            <a:off x="1357200" y="2181240"/>
            <a:ext cx="6572520" cy="3819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971640" y="571680"/>
            <a:ext cx="77151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214200" y="64296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ытайларның абагы – суан-пан дип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ә японнарның абагы – соробан дип аталг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Рисунок 6" descr="https://im0-tub-ru.yandex.net/i?id=ccc24968b26a960754f47a8753b365a6&amp;n=11"/>
          <p:cNvPicPr/>
          <p:nvPr/>
        </p:nvPicPr>
        <p:blipFill>
          <a:blip r:embed="rId1"/>
          <a:stretch/>
        </p:blipFill>
        <p:spPr>
          <a:xfrm>
            <a:off x="428760" y="2714760"/>
            <a:ext cx="3643200" cy="24289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https://im3-tub-ru.yandex.net/i?id=3f4d58d32fae85ac242a4c4e9e67d4da&amp;n=33&amp;h=170"/>
          <p:cNvPicPr/>
          <p:nvPr/>
        </p:nvPicPr>
        <p:blipFill>
          <a:blip r:embed="rId2"/>
          <a:stretch/>
        </p:blipFill>
        <p:spPr>
          <a:xfrm>
            <a:off x="4429080" y="2571840"/>
            <a:ext cx="371484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571680" y="571680"/>
            <a:ext cx="828648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 абагын – счетны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</a:t>
            </a:r>
            <a:r>
              <a:rPr b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асырда куллана башлыйл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Рисунок 4" descr="https://im3-tub-ru.yandex.net/i?id=93b5b28f2d1fa9a8b1e9b79997dcf7ea&amp;n=11"/>
          <p:cNvPicPr/>
          <p:nvPr/>
        </p:nvPicPr>
        <p:blipFill>
          <a:blip r:embed="rId1"/>
          <a:stretch/>
        </p:blipFill>
        <p:spPr>
          <a:xfrm>
            <a:off x="1357200" y="2327400"/>
            <a:ext cx="6572520" cy="3387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612720" y="3727440"/>
            <a:ext cx="78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496800" y="50356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357120" y="14292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I гасыр башында логарифмик линейка барлыкка кил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Рисунок 7" descr="http://s.66.ru/photos/1/33/82/4ffd9a956b0a8.jpg"/>
          <p:cNvPicPr/>
          <p:nvPr/>
        </p:nvPicPr>
        <p:blipFill>
          <a:blip r:embed="rId1"/>
          <a:stretch/>
        </p:blipFill>
        <p:spPr>
          <a:xfrm>
            <a:off x="428760" y="1357200"/>
            <a:ext cx="7715160" cy="1857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http://ibnteo.klava.org/log/kl-1-2.jpg"/>
          <p:cNvPicPr/>
          <p:nvPr/>
        </p:nvPicPr>
        <p:blipFill>
          <a:blip r:embed="rId2"/>
          <a:stretch/>
        </p:blipFill>
        <p:spPr>
          <a:xfrm>
            <a:off x="1571760" y="3857760"/>
            <a:ext cx="600048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395280" y="54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539640" y="4572000"/>
            <a:ext cx="603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Рисунок 5" descr="Модель Вычисляющих часов"/>
          <p:cNvPicPr/>
          <p:nvPr/>
        </p:nvPicPr>
        <p:blipFill>
          <a:blip r:embed="rId1"/>
          <a:stretch/>
        </p:blipFill>
        <p:spPr>
          <a:xfrm>
            <a:off x="1071720" y="1928880"/>
            <a:ext cx="6786360" cy="43578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6"/>
          <p:cNvSpPr/>
          <p:nvPr/>
        </p:nvSpPr>
        <p:spPr>
          <a:xfrm>
            <a:off x="714240" y="5716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 гасырда Вильгельм Шиккард куша белүче хисаплау сәгатьләре уйлап таб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20:06:34Z</dcterms:created>
  <dc:creator>1</dc:creator>
  <dc:description/>
  <dc:language>en-US</dc:language>
  <cp:lastModifiedBy>Admin</cp:lastModifiedBy>
  <dcterms:modified xsi:type="dcterms:W3CDTF">2015-10-06T19:28:18Z</dcterms:modified>
  <cp:revision>64</cp:revision>
  <dc:subject/>
  <dc:title>Кодирование числовой информации</dc:title>
</cp:coreProperties>
</file>