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861-24DA-4382-B4D3-BBFEA542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CE2-0AB2-4A41-BFD6-8917D84B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D8E-3D49-4CB7-85EC-678DF77B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189-4056-4462-890E-3F03FC52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61E8-9482-4831-9AFA-7920046D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BAD-FD0E-46AD-950E-9A9CCBD5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0477-5704-4C8D-8554-2F2FE21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ABF-4FE3-4048-BC5B-2B29DA9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F97-419B-48DA-91FA-1321D79C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79F3-BD7B-45A2-95DA-8B42CCE3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E423-91F2-457B-9133-19979CAA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5BE-B22F-484F-8D13-CA6A157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A9A-E5F3-4C28-AAC2-628339B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1913-A1EA-4B90-88EC-1CF76DE5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983-E445-4922-B316-E5D075D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1BEF-644B-48C5-A535-A3B18039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D9D7-A4F5-4906-B405-FD4AAFF4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FC8-8B4F-46CD-9E10-092FE0E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F10-88A1-4C81-9872-A37C6DD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035-853E-4A2C-B9DA-7746BDB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18D-3A65-423A-8836-0FF88D1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65E-EC3B-43FB-AF98-4E2B2499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B9D-C047-4E4C-B68D-656BFBF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D2C-229D-43B3-B1F5-0786B52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38F-ABE4-4BF3-B129-131853289C46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BE3-ACDD-4BE7-8836-0144BCAF55CA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42960" y="4572000"/>
            <a:ext cx="82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хаков Ильназ, 8 кла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әнни җитәкче: Ахметзянова Д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МБББУ “Юлтимер төп гомуми белем бирү мәктәбе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8" descr="ss01"/>
          <p:cNvPicPr/>
          <p:nvPr/>
        </p:nvPicPr>
        <p:blipFill>
          <a:blip r:embed="rId2"/>
          <a:stretch/>
        </p:blipFill>
        <p:spPr>
          <a:xfrm>
            <a:off x="7236000" y="1459080"/>
            <a:ext cx="1618920" cy="126972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5" descr=""/>
          <p:cNvPicPr/>
          <p:nvPr/>
        </p:nvPicPr>
        <p:blipFill>
          <a:blip r:embed="rId3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714240" y="571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45 нче елда француз математигы Блез Паскаль тарафыннан  күпурынлы саннарны кушуны тиз башкара торган беренче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әпләү машинасы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шләнә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7" descr="http://www.streamclub.ru/Istoriya/Comp/2.aspx"/>
          <p:cNvPicPr/>
          <p:nvPr/>
        </p:nvPicPr>
        <p:blipFill>
          <a:blip r:embed="rId1"/>
          <a:stretch/>
        </p:blipFill>
        <p:spPr>
          <a:xfrm>
            <a:off x="1071720" y="3286080"/>
            <a:ext cx="70005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йбниц Готфрид Вильгельмның исәпләү машинасы эшлән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5" descr="http://cit.ckipo.edu.ua/wiki/images/5/5d/Arifmometr_Leibnica.jpg"/>
          <p:cNvPicPr/>
          <p:nvPr/>
        </p:nvPicPr>
        <p:blipFill>
          <a:blip r:embed="rId1"/>
          <a:stretch/>
        </p:blipFill>
        <p:spPr>
          <a:xfrm>
            <a:off x="500040" y="2424240"/>
            <a:ext cx="821520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714240" y="571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818 нче елдан 1846 елга кадәр рус галимнәре тарафыннан арифмометрларның төрле модельләре төзелг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7" descr="http://vestnikk.ru/uploads/posts/2012-08/1345838946_ris2.jpg"/>
          <p:cNvPicPr/>
          <p:nvPr/>
        </p:nvPicPr>
        <p:blipFill>
          <a:blip r:embed="rId1"/>
          <a:stretch/>
        </p:blipFill>
        <p:spPr>
          <a:xfrm>
            <a:off x="1428840" y="3000240"/>
            <a:ext cx="6572160" cy="357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714240" y="571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ликс” арифмоме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5" descr="http://s00.yaplakal.com/pics/pics_original/5/5/3/387355.jpg"/>
          <p:cNvPicPr/>
          <p:nvPr/>
        </p:nvPicPr>
        <p:blipFill>
          <a:blip r:embed="rId1"/>
          <a:stretch/>
        </p:blipFill>
        <p:spPr>
          <a:xfrm>
            <a:off x="1214280" y="2500200"/>
            <a:ext cx="671544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714240" y="571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енче модель арифмометр-  Курт Херцштарк моделе –  1938 нче елның кышында барлыкка килг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7" descr="http://img1.liveinternet.ru/images/attach/c/0/33/283/33283154_1223284091_Image05t.jpg"/>
          <p:cNvPicPr/>
          <p:nvPr/>
        </p:nvPicPr>
        <p:blipFill>
          <a:blip r:embed="rId1"/>
          <a:stretch/>
        </p:blipFill>
        <p:spPr>
          <a:xfrm>
            <a:off x="1143000" y="2500200"/>
            <a:ext cx="685800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Чарльз Бэббиджны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налитик машина”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http://img1.liveinternet.ru/images/attach/c/2/67/537/67537326_1291662860_difference_engine_1991.jpg"/>
          <p:cNvPicPr/>
          <p:nvPr/>
        </p:nvPicPr>
        <p:blipFill>
          <a:blip r:embed="rId1"/>
          <a:stretch/>
        </p:blipFill>
        <p:spPr>
          <a:xfrm>
            <a:off x="1571760" y="2211480"/>
            <a:ext cx="5414760" cy="464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14240" y="142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ькуляторларның камилләшүе таблиц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0040" y="785880"/>
          <a:ext cx="8429760" cy="5854680"/>
        </p:xfrm>
        <a:graphic>
          <a:graphicData uri="http://schemas.openxmlformats.org/drawingml/2006/table">
            <a:tbl>
              <a:tblPr/>
              <a:tblGrid>
                <a:gridCol w="1438200"/>
                <a:gridCol w="6991560"/>
              </a:tblGrid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ирмасы беренче транзисторлы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җитештерә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7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 фирмасы IBM 608 транзисторлы калькуляторын җитештер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946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3 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ядә ANITA MK VIII калькуляторлары җитештерелә башлый. (Газоразрядлы лампалы, саннар кертү өчен һәм 10 гамәл клавишлары б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Ш та FRIDEN 130 калькуляторлары  җитештерелә башлый. Безнең илдә  «Вега» калькуляторы җитештерелә башл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япон транзисторлы калькуляторы барлыкка килә, күләме язу машинкасы кадәр, авырлыгы 25 кг. Бу калькуляторлар  Sharp фирмасы тарафыннан җитештерелгә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gLaboratories лабораториясе логарифмнар исәпли алучы  Wang LOCI-2 исемле калькулятор уйлап таб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9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Ш  беренче программалаштырылган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 9100A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стәл калькуляторы уйла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электрон кес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 калькулятор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кетроник»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рлыкка кил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714240" y="142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ькуляторларның камилләшүе таблиц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785880"/>
          <a:ext cx="9144000" cy="6602400"/>
        </p:xfrm>
        <a:graphic>
          <a:graphicData uri="http://schemas.openxmlformats.org/drawingml/2006/table">
            <a:tbl>
              <a:tblPr/>
              <a:tblGrid>
                <a:gridCol w="725400"/>
                <a:gridCol w="841860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1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mwar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901B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ркалы кесә калькуляторы,  разме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1х77х37 мм,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амәлле һәм 8 разряд сан сыярлык индикаторлы җитештерә башлый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HP-35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лар калькуляторы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ewlettPackard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ирмасы тарафыннан җитештерелгә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4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совет микр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«Электроника Б3-04»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лыкка кил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-25C калькулятор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ның өстенлеге шунда, электрдан өзгәч тә андагы программалар һәм бирелмәләр югалм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со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грамм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штырылга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крокалькулятор «Электроника Б3-21»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җитештере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9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wlettPackard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сы беренче алфавит-цифрлы индикаторл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HP-41C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ы барлыкка ки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3-34 и Б3-35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лары барлыкка кил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дә программалаштырылган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К-61 и МК-52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лары барлыкка ки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программалаштырылган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 Casio FX-7000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390600" y="201600"/>
            <a:ext cx="8924760" cy="14191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3" descr="http://vestnikk.ru/uploads/posts/2012-08/1345839146_0u6xop9yazy56c7puqcu.jpg"/>
          <p:cNvPicPr/>
          <p:nvPr/>
        </p:nvPicPr>
        <p:blipFill>
          <a:blip r:embed="rId2"/>
          <a:stretch/>
        </p:blipFill>
        <p:spPr>
          <a:xfrm>
            <a:off x="1571760" y="1635120"/>
            <a:ext cx="628632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2" descr="soch copy"/>
          <p:cNvPicPr/>
          <p:nvPr/>
        </p:nvPicPr>
        <p:blipFill>
          <a:blip r:embed="rId1"/>
          <a:stretch/>
        </p:blipFill>
        <p:spPr>
          <a:xfrm>
            <a:off x="2286000" y="642960"/>
            <a:ext cx="3676680" cy="2601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85840" y="34340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кеге заманда борынгы кешеләр күңелдән исәпләгәннәр. Алар 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”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яки 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үп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”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игәнне генә аңлатканна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871560" y="3571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нче санау, хисаплау вазыйфасын кешенең бармаклары үтәгән. Алар кул бармаклары ярдәмендә 10 га кадәр саный алганнар, кул бармаклары гына җитмәсә аяк бармакларын да кулланганн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841320" y="494676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3" descr="пальцы01"/>
          <p:cNvPicPr/>
          <p:nvPr/>
        </p:nvPicPr>
        <p:blipFill>
          <a:blip r:embed="rId1"/>
          <a:srcRect l="5443" t="10199" r="41320" b="24564"/>
          <a:stretch/>
        </p:blipFill>
        <p:spPr>
          <a:xfrm>
            <a:off x="2268360" y="2928960"/>
            <a:ext cx="424836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11280" y="620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ур саннарны кешеләр истә калдыра алмаганнар. Алар зур саннарны төенле баулар, вак ташлар , таякчылар һәм агачка ясалган киртләр белән күрсәткәннә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8" descr="3723"/>
          <p:cNvPicPr/>
          <p:nvPr/>
        </p:nvPicPr>
        <p:blipFill>
          <a:blip r:embed="rId1"/>
          <a:stretch/>
        </p:blipFill>
        <p:spPr>
          <a:xfrm>
            <a:off x="428760" y="2714760"/>
            <a:ext cx="3357360" cy="286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естоницкая кость"/>
          <p:cNvPicPr/>
          <p:nvPr/>
        </p:nvPicPr>
        <p:blipFill>
          <a:blip r:embed="rId2"/>
          <a:stretch/>
        </p:blipFill>
        <p:spPr>
          <a:xfrm>
            <a:off x="5143680" y="2714760"/>
            <a:ext cx="36144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785880" y="57168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ең эрага кадәр 5 гасырда Борынгы Грециядә һәм Борынгы Мисырда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ак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ң таралыш та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9" descr="http://s3.timetoast.com/public/uploads/photos/1977729/abak.jpg?1322215492"/>
          <p:cNvPicPr/>
          <p:nvPr/>
        </p:nvPicPr>
        <p:blipFill>
          <a:blip r:embed="rId1"/>
          <a:stretch/>
        </p:blipFill>
        <p:spPr>
          <a:xfrm>
            <a:off x="1357200" y="2181240"/>
            <a:ext cx="657252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71640" y="571680"/>
            <a:ext cx="7715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14200" y="6429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ытайларның абагы – суан-пан ди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 японнарның абагы – соробан дип аталг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6" descr="https://im0-tub-ru.yandex.net/i?id=ccc24968b26a960754f47a8753b365a6&amp;n=11"/>
          <p:cNvPicPr/>
          <p:nvPr/>
        </p:nvPicPr>
        <p:blipFill>
          <a:blip r:embed="rId1"/>
          <a:stretch/>
        </p:blipFill>
        <p:spPr>
          <a:xfrm>
            <a:off x="428760" y="27147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s://im3-tub-ru.yandex.net/i?id=3f4d58d32fae85ac242a4c4e9e67d4da&amp;n=33&amp;h=170"/>
          <p:cNvPicPr/>
          <p:nvPr/>
        </p:nvPicPr>
        <p:blipFill>
          <a:blip r:embed="rId2"/>
          <a:stretch/>
        </p:blipFill>
        <p:spPr>
          <a:xfrm>
            <a:off x="4429080" y="2571840"/>
            <a:ext cx="371484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571680" y="571680"/>
            <a:ext cx="82864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 абагын – счетны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сырда куллана башлый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4" descr="https://im3-tub-ru.yandex.net/i?id=93b5b28f2d1fa9a8b1e9b79997dcf7ea&amp;n=11"/>
          <p:cNvPicPr/>
          <p:nvPr/>
        </p:nvPicPr>
        <p:blipFill>
          <a:blip r:embed="rId1"/>
          <a:stretch/>
        </p:blipFill>
        <p:spPr>
          <a:xfrm>
            <a:off x="1357200" y="2327400"/>
            <a:ext cx="6572520" cy="338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12720" y="3727440"/>
            <a:ext cx="78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96800" y="50356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57120" y="1429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 гасыр башында логарифмик линейка барлыкка кил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7" descr="http://s.66.ru/photos/1/33/82/4ffd9a956b0a8.jpg"/>
          <p:cNvPicPr/>
          <p:nvPr/>
        </p:nvPicPr>
        <p:blipFill>
          <a:blip r:embed="rId1"/>
          <a:stretch/>
        </p:blipFill>
        <p:spPr>
          <a:xfrm>
            <a:off x="428760" y="1357200"/>
            <a:ext cx="7715160" cy="18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ibnteo.klava.org/log/kl-1-2.jpg"/>
          <p:cNvPicPr/>
          <p:nvPr/>
        </p:nvPicPr>
        <p:blipFill>
          <a:blip r:embed="rId2"/>
          <a:stretch/>
        </p:blipFill>
        <p:spPr>
          <a:xfrm>
            <a:off x="1571760" y="3857760"/>
            <a:ext cx="60004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" descr="Модель Вычисляющих часов"/>
          <p:cNvPicPr/>
          <p:nvPr/>
        </p:nvPicPr>
        <p:blipFill>
          <a:blip r:embed="rId1"/>
          <a:stretch/>
        </p:blipFill>
        <p:spPr>
          <a:xfrm>
            <a:off x="1071720" y="1928880"/>
            <a:ext cx="6786360" cy="4357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 гасырда Вильгельм Шиккард куша белүче хисаплау сәгатьләре уйлап та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06:34Z</dcterms:created>
  <dc:creator>1</dc:creator>
  <dc:description/>
  <dc:language>en-US</dc:language>
  <cp:lastModifiedBy>Admin</cp:lastModifiedBy>
  <dcterms:modified xsi:type="dcterms:W3CDTF">2015-10-06T19:28:18Z</dcterms:modified>
  <cp:revision>64</cp:revision>
  <dc:subject/>
  <dc:title>Кодирование числовой информации</dc:title>
</cp:coreProperties>
</file>