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6C0-578B-4008-97F9-556A8639E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C9E-0F02-4521-8E5F-C8F954327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4B3-4F89-49FB-8DE8-C37B022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03E-8B52-4156-BE2D-6C0990A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939-22B2-4869-AB16-F8F9150F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DD9-4770-440D-A5C1-FBD2EDFF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278-48FC-4610-8576-1865FE64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7D4-14F5-4C36-8546-4AB9D92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877C-015B-487D-ADD9-0F3FE50A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4754-CD3C-4CD6-B1D2-41D3C06B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8623-74C4-4201-AC97-71E13D5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2D2-6DD8-4801-8422-5363500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513-A547-4618-BADD-4707272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539-AB7F-43E6-A9F6-3FD3B37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C2A-1373-43EF-B80A-79A2EEC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720D-08E2-49D1-BC43-B3DB9FA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0676-ED35-4839-BF38-9B63047C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43D-C78F-4D8B-907F-DA7B9554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20CD-4A92-4086-B1FC-203B499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91F14-D724-43BF-9CCA-B550C9F4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74C8E-C175-4A24-95B9-89E950C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D48DB-E6B8-4926-908D-9A150C67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6E03B-ACD6-4C4D-8A1E-E5DEC95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71912-84FC-4894-90E4-9346C39A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EEA-E83F-4F40-A740-A616693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B743E-6CF2-4974-B769-4569E03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335A6-402F-445D-90B6-74E0BDA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2E6D8-9769-4F53-97A5-93929F0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89DB7-3D19-45D0-A160-E90F1A0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830E6-A7B6-4D36-8D32-06CFB745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835A4-12C6-465E-82DE-82A005DF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E0559-5E13-4498-B9B2-C194FD35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45B0-4D6D-4FE0-BF96-B3482505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3483-2F34-4A31-92C6-7F008E4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9330-4B52-4828-A585-22ADE0F2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BF0-E1FB-4BD6-9DF4-0E9FBBA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BC46-4E61-41B7-AD46-DB4C62B9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9819-202C-40D6-B8B2-FBA0818A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27B7-A6AE-4F92-9F00-46FCDB2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E8A6-7D03-43D3-BBCA-61F4D17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DFF5-6F7D-4B7D-8171-8A5DF2C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2632-2785-4E94-8037-6DDDB8EA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D6D4-81B1-4201-8FA3-C2188E8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5E91-845E-4CA3-B22A-F5406047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93FD-CC6D-4663-841E-60F919B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9AA64-EC38-4A43-949E-BD33E6C7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D52-68B6-4DDD-ADC5-15C7CB8D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E78DF-15C3-4874-B7ED-4F09A6E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233C0-6214-4DC8-93B7-25E662F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845CA-1EB6-426F-B3A4-ECE0683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E184A-A6DF-46ED-8A41-B211340E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EDF18-5809-401B-9DD1-81E10B5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CBC6F-AFFE-4B80-913D-1A755F9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E1125-7CE6-4147-8E6F-6E0D82E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13A61-C2A5-4EEA-BE4E-BA01C7C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56C42-8E80-4F84-B232-D1745150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4DED3-416B-4763-99F3-5EBA16AD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D3E-2D97-4B30-8C96-70E3182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3C266-C429-4C08-AB2A-14494ABA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4CAE8-F872-4A54-BF6B-87F22513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41F55-9005-455B-9145-3DE2956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5759D-9076-4724-9D04-C2AF4EF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DF176-618B-4AB8-83AF-8ECD1257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FA490-460C-4FDB-94CD-ECE9052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70775-2E36-4334-9692-93A4199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462BB-AC03-4BDF-8BA8-894E59F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8DDC6-45C4-44EC-9598-BC69DB9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E39B0-DDBB-433D-A5DC-9E4BA5B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788-1E2B-405B-9E8F-013D8FB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46A68-5C15-44EC-9329-B2B47F5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B3CBA-ECE7-4EBB-AA3D-8EC16D8B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97791-B9C3-49EF-A49A-A09FD109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EF215-4B43-4ED7-8DF7-359E4D40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4EC78-CF37-4F18-A63C-9843AD5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39EC6-D8CD-44E6-9903-D13C91B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33E61-299A-4FCA-BC1E-AA976FF2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5B3A9-0DA6-4D3D-8685-99968DF6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6A85E-B7DB-47F9-9059-6571D93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6DA0A-CB17-453B-945F-3F6269D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81B-D359-4871-806C-8BE989E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39847-9776-4CA3-8A22-D57EE19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37FBB-D9D2-4090-95B8-75D86465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D064B-B76F-4276-970F-2B265ED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9B156-5874-4C48-9DA2-748E50D1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7E1B6-7ADB-4D80-88B9-65B1A0D3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3A7-C551-4270-A515-0816F90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7D61-37A9-4E56-957D-58D6A9E6BD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4C4D-3092-48D1-BA3B-60770903F2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31CE-9B8B-4CBD-AE7A-47A9174985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4E6-4518-4441-8C50-9B11D6F38C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2B3F-204F-4CE4-8FDD-36973E7AB0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8C8-B55F-4B7F-AA14-81C13A2962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811-945D-4C9A-9A58-9EB4C23CB1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458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АНТИИГРУШК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916360" y="3213000"/>
            <a:ext cx="56563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ь группы №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рохова С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24000" y="1052280"/>
            <a:ext cx="6624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1" i="1" lang="ru-RU" sz="2000" spc="-1" strike="noStrike">
                <a:solidFill>
                  <a:srgbClr val="862110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ГРУШКА — ИНСТРУМЕНТ ПОЗНАНИЯ ВСЕГО БОГАТСТВА ЧЕЛОВЕЧЕСКОЙ КУЛЬТУРЫ ДЛЯ РЕБЕНКА,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ОНА ЖЕ ПОКАЗАТЕЛЬ ТЕНДЕНЦИЙ РАЗВИТИЯ САМОЙ КУЛЬТУРЫ — ДЛЯ ВЗРОСЛОГО. ПОЭТОМУ ОЧЕНЬ ВАЖНО ДЛЯ НАС, РОДИТЕЛЕЙ, ПЕДАГОГОВ, ЛЮДЕЙ САМЫХ РАЗНЫХ ПРОФЕССИЙ, ЗНАТЬ ЭТИ ТЕНДЕНЦИИ,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Х ЦЕННОСТНЫЙ ДУХОВНЫЙ СМЫСЛ, ОПРЕДЕЛЯЮЩИЙ НАШЕ ДВИЖЕНИЕ С ДЕТЬМИ В НАПРАВЛЕНИИ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ДОБРА, КРАСОТЫ И ИСТИНЫ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ЛИ В ПРОТИВОПОЛОЖНУЮ СТОРОНУ.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О</a:t>
            </a:r>
            <a:r>
              <a:rPr b="1" i="1" lang="ru-RU" sz="1800" spc="-1" strike="noStrike">
                <a:solidFill>
                  <a:srgbClr val="575f6d"/>
                </a:solidFill>
                <a:latin typeface="Century Schoolbook"/>
              </a:rPr>
              <a:t>Т НАС, ВЗРОСЛЫХ, ЗАВИСИТ, ЧТО ОКАЖЕТСЯ СЕГОДНЯ В РУКАХ НАШИХ ДЕТЕЙ — ИГРУШКИ ИЛИ АНТИИГРУШКИ.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18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360" y="274680"/>
            <a:ext cx="2663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АБОР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EGGZORCIST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 – ДЕВОЧКИ С ТАКИМИ ГЛАЗАМИ И В ТАКИХ КОСТЮМАХ НАВЕРНЯКА СПОСОБНЫ НАПУГАТЬ ДО СМЕРТИ ЛЮБОЙ ЗЛОЙ ДУХ, ЕГО ДАЖЕ ИЗГОНЯТЬ ОСОБО НЕ ПРИДЁТСЯ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6" descr="Living Dead Dolls, Eggzorcist"/>
          <p:cNvPicPr/>
          <p:nvPr/>
        </p:nvPicPr>
        <p:blipFill>
          <a:blip r:embed="rId1"/>
          <a:stretch/>
        </p:blipFill>
        <p:spPr>
          <a:xfrm>
            <a:off x="611280" y="333360"/>
            <a:ext cx="447516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500040"/>
            <a:ext cx="75708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КУКЛА МОРГАНА,                           ЦЫГАНКА</a:t>
            </a:r>
            <a:br>
              <a:rPr sz="27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ЕСТРА КОРОЛЯ АРТУРА.</a:t>
            </a:r>
            <a:br>
              <a:rPr sz="27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6" descr="Living Dead Dolls, Morgana"/>
          <p:cNvPicPr/>
          <p:nvPr/>
        </p:nvPicPr>
        <p:blipFill>
          <a:blip r:embed="rId1"/>
          <a:stretch/>
        </p:blipFill>
        <p:spPr>
          <a:xfrm>
            <a:off x="762120" y="1687680"/>
            <a:ext cx="3573360" cy="411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Living Dead Dolls, Gypsy"/>
          <p:cNvPicPr/>
          <p:nvPr/>
        </p:nvPicPr>
        <p:blipFill>
          <a:blip r:embed="rId2"/>
          <a:stretch/>
        </p:blipFill>
        <p:spPr>
          <a:xfrm>
            <a:off x="5003640" y="1413000"/>
            <a:ext cx="273384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ЗАМЕРЗШАЯ ДЕВОЧКА ТРЕСНУВШАЯ ОТ МОРОЗ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4" descr="Living Dead Dolls, Frozen Charlotte"/>
          <p:cNvPicPr/>
          <p:nvPr/>
        </p:nvPicPr>
        <p:blipFill>
          <a:blip r:embed="rId1"/>
          <a:stretch/>
        </p:blipFill>
        <p:spPr>
          <a:xfrm>
            <a:off x="3276720" y="968400"/>
            <a:ext cx="266364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39280" y="333360"/>
            <a:ext cx="76345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2002 году все прогрессивное человечество отпраздновало столетний юбилей... плюшевого мишки, впервые появившегося, как выяснилось, в Англии. На наших глазах на примере игры и игрушки происходит нивелировка понятия взрослости как серьезности, трезвения и ответственности, а значит, происходит и обесценивание самого детства. Ребенок в игре серьезен, и игрушка для него не просто забава, а культурное орудие, с помощью которого он осваивает огромный и сложный мир, постигает законы человеческих взаимоотношений и вечные истины. </a:t>
            </a:r>
            <a:br>
              <a:rPr sz="4000"/>
            </a:br>
            <a:r>
              <a:rPr b="0" i="1" lang="ru-RU" sz="4000" spc="-1" strike="noStrike">
                <a:solidFill>
                  <a:srgbClr val="86211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9:24:50Z</dcterms:created>
  <dc:creator>ГОУ НШДС 1646</dc:creator>
  <dc:description/>
  <dc:language>en-US</dc:language>
  <cp:lastModifiedBy>Deafult User</cp:lastModifiedBy>
  <dcterms:modified xsi:type="dcterms:W3CDTF">2015-10-04T19:39:00Z</dcterms:modified>
  <cp:revision>237</cp:revision>
  <dc:subject/>
  <dc:title>Слайд 1</dc:title>
</cp:coreProperties>
</file>