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DF4D-08C0-49A7-BA5C-69837AA72A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5BDA-F61D-4C3B-A535-D76EE9E5FE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19E-8056-459A-B8EE-7DEA92AF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B19-5C18-4422-AB58-7792A933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135-71AC-4324-89AC-8A593FAF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4E8-3358-4254-88BB-ADD876F4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9756-0D43-456D-9490-160B6183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07CC-F59B-4EA1-B629-3A5A3C7F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0C95-B162-48FF-947B-E6770C1A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7ECC-E8BF-4AE5-A83C-F412A9D7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1415-A519-4435-8024-332500FA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0E4C-64A6-41F1-993F-6D37DA82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E1ED-5B29-4BCF-86CD-314C89F9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CD4-FD7E-48F4-A2C7-725753FD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73FA-4AC0-43BF-AE7D-B9DF040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7ED4-8CF2-4864-959B-5BB30C7C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27F6-56FA-403A-9DCC-8628F378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7DEC-DBAA-43F9-A51D-80A45994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1FF4-A753-4678-BF89-BBA5B009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78760-952C-4695-9814-9CBC602E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CEA90-B144-4EC7-BD07-B745D5AA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89DB6-CFB4-4235-A27A-F47FA0BB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36F0E-8011-4E91-94B8-7051FE88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EC8FB-C046-4DC8-9B86-9D79C40B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06C-FEF5-4F5E-AA24-790E50FC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8B867-BBE0-4AA7-94A4-9A03B0CB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61BD8-74CA-4EF0-BBA2-08F90CC8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8202A-73FD-4EDC-AE5C-2EC5CC9D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8D332-AAE7-40FA-845C-E0D0373D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D3500-EC28-4035-815B-330E9752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F7C38-3B5C-4EBD-8039-F750CCA6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1ED0E-C8E7-49AF-BA67-E4696370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DB08-6067-4D8C-A793-033ED543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6811-8781-43F6-8F3A-8A452A01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18153-ABBB-4802-AC62-9AAB2A8F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525-B936-4428-ACA7-2AEC5048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E7CA-2B6A-4BC6-A46A-3935D479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3D314-3F5F-499E-80FD-8F16AD30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0EBAC-2A6E-4D3B-AB54-CA2A185D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27677-B7B1-40DA-8489-4BA7945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A1B6-CFFF-40F2-9036-EF92C802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F4AE-9066-4120-9948-0F682577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B3B3C-FE6A-42F5-BBAF-BEFECCCE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BD94-AE76-4E50-BE21-FEAF9500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134B7-1BD3-44DE-B0D8-568CB6B7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B2D85-D8B0-4640-B6B0-396F5463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7DE-4383-4CCC-AC32-BE0AC9E2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9073D-ED18-49AF-9014-9054D57C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CB988-FED6-46C2-89F3-2BCF062A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B127B-F334-4347-96B5-664503CE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3A734-4451-45CF-93B8-560E82AF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AC69E-03C0-422E-B617-AE32C5E8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17422-623C-4825-94EE-84005A14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7C08F-0F87-46AB-B102-244CA9C9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A8934-E11A-4D2B-9E5B-F940F49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DBBCB-86EC-43D2-95E7-55BEADC0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E8A62-9ECC-4298-ADA7-0EAE617C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B61-80DA-432C-9C3E-1DA876BB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5C416-1B16-4E48-B7DF-8B921709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B1C70-91CA-41C2-A696-5B3FC6E5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A453B-7FCE-4C0F-ADA3-9DFBB6CC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025DB-2EE3-4B79-97D2-6C1D3BC1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75D26-860A-4546-AAFF-D560DD86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0CB28-D48B-4CF0-BBAD-A95F4E8C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9DB65-2B7B-4434-B741-89B1454C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80006-F5C2-4E57-8368-121DA1AC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F599B-C7B3-49A8-A544-426EAF77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0439A-3118-4402-B2C1-41842E66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DAC-34E0-421A-8122-2CCF72A0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FA43C-54CD-4690-94E6-016412E6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BCC4C-C827-421D-8FBD-E7F11D35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CEA8A-BD54-477C-B5FB-3F28086F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A3BE50-0D9E-4F5B-A726-685F4808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57B94-BAC0-44B9-B50E-EBD0ACA9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1B181-450D-4771-8C98-CBB5E7B5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E5D189-7888-4C4D-BD58-2E6284CA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DEDF8D-69C5-40BB-B105-D96E1454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E1AAE-FF10-432B-BC09-B215C42A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4C848-8660-4B06-960F-F10186FE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FC8-BACE-4A27-95A2-331215EC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7FFCA-496C-4B96-B5FD-4F6CC0A5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0E93A0-AF41-4A92-AE9D-10FCAF7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EF424-CA85-4EC4-AA30-E332A8A0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71B8BA-5737-4848-A70B-C0901542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AFDA66-AF13-4697-AFBA-2D45F8FE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47E-DD81-46A3-80EB-34439803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8FAF-C839-4CD8-A8F6-03D49CA072C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8B1C-DCDE-46D5-B731-68B7F7594E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8CF8-3946-4AA4-9B9E-8420DB3C92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9350-635B-4DE8-AE30-A503DC4BBBA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8BCC-667D-4E62-8BCD-557C0B3E43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1F46-D608-48E3-8286-2956B0F504F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8637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D231-9DE9-4C04-B054-C908CB6C5C4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0920" y="1483920"/>
            <a:ext cx="74581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АНТИИГРУШКА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916360" y="3213000"/>
            <a:ext cx="565632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питатель группы №2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рохова С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24000" y="1052280"/>
            <a:ext cx="66247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r>
              <a:rPr b="1" i="1" lang="ru-RU" sz="2000" spc="-1" strike="noStrike">
                <a:solidFill>
                  <a:srgbClr val="862110"/>
                </a:solidFill>
                <a:latin typeface="Monotype Corsiva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ИГРУШКА — ИНСТРУМЕНТ ПОЗНАНИЯ ВСЕГО БОГАТСТВА ЧЕЛОВЕЧЕСКОЙ КУЛЬТУРЫ ДЛЯ РЕБЕНКА, </a:t>
            </a:r>
            <a:br>
              <a:rPr sz="2000"/>
            </a:b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ОНА ЖЕ ПОКАЗАТЕЛЬ ТЕНДЕНЦИЙ РАЗВИТИЯ САМОЙ КУЛЬТУРЫ — ДЛЯ ВЗРОСЛОГО. ПОЭТОМУ ОЧЕНЬ ВАЖНО ДЛЯ НАС, РОДИТЕЛЕЙ, ПЕДАГОГОВ, ЛЮДЕЙ САМЫХ РАЗНЫХ ПРОФЕССИЙ, ЗНАТЬ ЭТИ ТЕНДЕНЦИИ, </a:t>
            </a:r>
            <a:br>
              <a:rPr sz="2000"/>
            </a:b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ИХ ЦЕННОСТНЫЙ ДУХОВНЫЙ СМЫСЛ, ОПРЕДЕЛЯЮЩИЙ НАШЕ ДВИЖЕНИЕ С ДЕТЬМИ В НАПРАВЛЕНИИ </a:t>
            </a:r>
            <a:br>
              <a:rPr sz="2000"/>
            </a:b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ДОБРА, КРАСОТЫ И ИСТИНЫ </a:t>
            </a:r>
            <a:br>
              <a:rPr sz="2000"/>
            </a:b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ИЛИ В ПРОТИВОПОЛОЖНУЮ СТОРОНУ. </a:t>
            </a:r>
            <a:br>
              <a:rPr sz="2000"/>
            </a:b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О</a:t>
            </a:r>
            <a:r>
              <a:rPr b="1" i="1" lang="ru-RU" sz="1800" spc="-1" strike="noStrike">
                <a:solidFill>
                  <a:srgbClr val="575f6d"/>
                </a:solidFill>
                <a:latin typeface="Century Schoolbook"/>
              </a:rPr>
              <a:t>Т НАС, ВЗРОСЛЫХ, ЗАВИСИТ, ЧТО ОКАЖЕТСЯ СЕГОДНЯ В РУКАХ НАШИХ ДЕТЕЙ — ИГРУШКИ ИЛИ АНТИИГРУШКИ.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1800"/>
            </a:br>
            <a:br>
              <a:rPr sz="2000"/>
            </a:br>
            <a:br>
              <a:rPr sz="2900"/>
            </a:br>
            <a:br>
              <a:rPr sz="29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508360" y="274680"/>
            <a:ext cx="26636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АБОР 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EGGZORCIST</a:t>
            </a: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 – ДЕВОЧКИ С ТАКИМИ ГЛАЗАМИ И В ТАКИХ КОСТЮМАХ НАВЕРНЯКА СПОСОБНЫ НАПУГАТЬ ДО СМЕРТИ ЛЮБОЙ ЗЛОЙ ДУХ, ЕГО ДАЖЕ ИЗГОНЯТЬ ОСОБО НЕ ПРИДЁТСЯ.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6" descr="Living Dead Dolls, Eggzorcist"/>
          <p:cNvPicPr/>
          <p:nvPr/>
        </p:nvPicPr>
        <p:blipFill>
          <a:blip r:embed="rId1"/>
          <a:stretch/>
        </p:blipFill>
        <p:spPr>
          <a:xfrm>
            <a:off x="611280" y="333360"/>
            <a:ext cx="4475160" cy="55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1280" y="500040"/>
            <a:ext cx="75708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КУКЛА МОРГАНА,                           ЦЫГАНКА</a:t>
            </a:r>
            <a:br>
              <a:rPr sz="2700"/>
            </a:b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СЕСТРА КОРОЛЯ АРТУРА.</a:t>
            </a:r>
            <a:br>
              <a:rPr sz="27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6" descr="Living Dead Dolls, Morgana"/>
          <p:cNvPicPr/>
          <p:nvPr/>
        </p:nvPicPr>
        <p:blipFill>
          <a:blip r:embed="rId1"/>
          <a:stretch/>
        </p:blipFill>
        <p:spPr>
          <a:xfrm>
            <a:off x="762120" y="1687680"/>
            <a:ext cx="3573360" cy="411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Living Dead Dolls, Gypsy"/>
          <p:cNvPicPr/>
          <p:nvPr/>
        </p:nvPicPr>
        <p:blipFill>
          <a:blip r:embed="rId2"/>
          <a:stretch/>
        </p:blipFill>
        <p:spPr>
          <a:xfrm>
            <a:off x="5003640" y="1413000"/>
            <a:ext cx="273384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ЗАМЕРЗШАЯ ДЕВОЧКА ТРЕСНУВШАЯ ОТ МОРОЗ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Picture 4" descr="Living Dead Dolls, Frozen Charlotte"/>
          <p:cNvPicPr/>
          <p:nvPr/>
        </p:nvPicPr>
        <p:blipFill>
          <a:blip r:embed="rId1"/>
          <a:stretch/>
        </p:blipFill>
        <p:spPr>
          <a:xfrm>
            <a:off x="3276720" y="968400"/>
            <a:ext cx="266364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39280" y="333360"/>
            <a:ext cx="76345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2002 году все прогрессивное человечество отпраздновало столетний юбилей... плюшевого мишки, впервые появившегося, как выяснилось, в Англии. На наших глазах на примере игры и игрушки происходит нивелировка понятия взрослости как серьезности, трезвения и ответственности, а значит, происходит и обесценивание самого детства. Ребенок в игре серьезен, и игрушка для него не просто забава, а культурное орудие, с помощью которого он осваивает огромный и сложный мир, постигает законы человеческих взаимоотношений и вечные истины. </a:t>
            </a:r>
            <a:br>
              <a:rPr sz="4000"/>
            </a:br>
            <a:r>
              <a:rPr b="0" i="1" lang="ru-RU" sz="4000" spc="-1" strike="noStrike">
                <a:solidFill>
                  <a:srgbClr val="862110"/>
                </a:solidFill>
                <a:latin typeface="Mistr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09:24:50Z</dcterms:created>
  <dc:creator>ГОУ НШДС 1646</dc:creator>
  <dc:description/>
  <dc:language>en-US</dc:language>
  <cp:lastModifiedBy>Deafult User</cp:lastModifiedBy>
  <dcterms:modified xsi:type="dcterms:W3CDTF">2015-10-04T19:39:00Z</dcterms:modified>
  <cp:revision>237</cp:revision>
  <dc:subject/>
  <dc:title>Слайд 1</dc:title>
</cp:coreProperties>
</file>