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DDA-2E69-4747-8D85-4C45742D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141-30D8-48EE-9925-AB88E50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00B-4E77-49E4-80C5-716151B3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01D-4C46-49B8-ADC6-E100CD1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9686-C7BB-41B5-95CD-3E51360F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8BA2-E7FC-48A0-A60A-D9505419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2856-188C-4F3A-A9A3-CEA34BDA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308-F86D-4419-B376-C69B2E9C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926-098B-465D-9B65-87B2AB88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D657-D3C6-40E7-8ACE-7B71D868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A265-643F-4790-9D5F-EFDA223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105-7790-4829-BE13-51A20BE5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561-3990-469A-89F7-B0A598C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9E3D-68D6-43E0-8675-E88E974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CCC7-56F2-438D-BAB0-2266C958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151-0185-43FB-8915-4D922608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BBD1-1F0F-4ED0-A5BF-D76B3427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CE38-3A0B-4D24-AB29-A712ADC2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003C-D928-43CA-AF4A-DDF5CB3B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E676-AD66-4E22-B910-47CC935B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043D-878B-4291-9967-B1AF19C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9876-1622-4293-8EA0-E0161D1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F17-053A-4979-A9A4-F455A96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163D-ADC7-421B-9E05-E0FA2C6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0131-7E00-4D87-8D24-8A07470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964B-1054-438C-86C2-C3A81B5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9286-E667-4110-BD61-DFD1620A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EA46-AF19-4138-81E5-72C4821A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F225-2B50-4F43-8036-744DAFFA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7982-EBF4-40E3-8BE6-37EA1A94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0189-74A0-43AB-835F-3185614B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4AB7-E222-445F-9AC9-B1A9404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10F7-98AD-45B5-8533-CE3C95C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CFD-59DB-4789-968E-3CC89091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74DB-F2AA-497A-B7C0-9E627367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5B1B-FED0-4C48-A479-EA67CC7F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CD77-F2A4-4614-B3C2-0A08F90C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5020-35B3-42D1-9C50-B6D633C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925C-C0AA-4683-AC69-65DB8C5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26B0-865A-4F5E-B403-CD05F57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84A8E-E349-4794-8960-577EEA5B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0314-1A67-481F-A7FF-262FC20F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31C4-A160-4228-8D87-2CB84F80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2BBB-5009-4CAC-8F2C-F3DEC7D0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3FE-0A90-403F-B5A1-7E5B4FED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A266-27FC-475D-A1D4-1701B559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7E4F-0144-4E42-9CB0-0A6B517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3F85-84C4-48D4-A6A1-193402BB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EE13-0508-4BEA-B4FC-965E226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DA45-AC8E-45AA-BB5A-A16C8BD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E638-6FEA-4657-85D6-B9B58A1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212C-A122-4AC6-A816-0D280901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58BD-3641-4CB4-9200-5379D697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735C-6BE2-40CE-8302-FD37E87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080B-0DC4-4ED7-ADB9-5CF639D0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089-3800-462D-9F7A-3601BF8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6C38-4D47-41EF-B008-37151305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AF4D5-12FE-4226-BD2B-A2918F54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8C51E-B7A5-4518-943F-9560624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62A0-ECB4-4A46-973D-38035D5A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8932-BD9E-4BB9-9010-0A2C1CD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B39DC-9086-4BD8-954B-D9BECAC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0D6E-9C91-4587-9906-C516582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481A-5071-4BD5-ACEF-5CFB5DB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220A-67A4-42E6-B77B-75BCED9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0AB5-947A-4E7D-96B0-CF678F7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05B-A89F-4BE5-B8C9-9C74980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8460-21D5-4ADA-A3F8-1764707B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F8219-55B8-4BE2-842D-3F8244DC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8F3B-BD35-43E8-94AD-EE722B21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A2F8-75EF-4942-B5A6-74461DB7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4AA8F-3A72-465D-90FE-8923ECF7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341AA-710A-42FB-8B28-8A3B66F4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05B8-32E6-4829-ACDB-14051E4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2C38-939A-46A7-836C-059B8BF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BE95-2D77-49A6-9719-357FF58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29BAA-476C-4D5E-9C43-DB553DE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875-7326-451C-8394-CDF4A27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0585F-7BB4-4D3D-8DDA-9F5425B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A2A6-66CE-43CE-8F2D-673A88A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5BFE-2D3F-46B5-B605-E8AA7BF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C0065-8B35-4E94-B3B7-C0BD3D57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6943B-0CD0-417A-A2A4-CC1EEA4F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C34FF-9A8C-473E-8172-6ABF20F3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72528-0F1F-413A-ADA5-DC5D2012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E798-8A65-490E-AFDD-2212A6D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AF629-F3DF-4F7D-A6A8-A883B1D2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A6BC1-0464-4C98-A8C3-A2FAED0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F59-C217-4D36-8165-C36EDFC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BCB63-DAFD-45C3-A035-9C740528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EBD83-AEED-43AB-8730-E140FA5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37ECC-C67B-4FE4-841D-EA4F1BED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4AE75-FD2C-4BDB-849F-299E951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58BD-0431-4301-A8EA-9D88872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AC74-B275-41F6-B2AC-FE7A546A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4CABB-6334-44D1-8B4E-DA716099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B505-F64F-4B0E-876B-7115050EC60A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D26-DEA5-499B-B71A-42FC676E9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1A15-121E-417A-B768-4E708A9686ED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CC2-A366-4C40-8D0B-F763191D3D5B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5166-B4AA-4266-ABB4-DC07AD7BDC60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53BD-142D-455B-AFCF-971CEE6007B7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0EEE-1378-4009-B108-3A9FD5E6D0DF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6CD2-D474-4524-9CC3-06B7A94C6B78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nfoegehelp.ru/index.php?option=com_content&amp;view=article&amp;id=243:diagreilervenn&amp;catid=40:2011-12-18-14-30-56&amp;Itemid=65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nfoegehelp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хема 4" descr=""/>
          <p:cNvPicPr/>
          <p:nvPr/>
        </p:nvPicPr>
        <p:blipFill>
          <a:blip r:embed="rId1"/>
          <a:stretch/>
        </p:blipFill>
        <p:spPr>
          <a:xfrm>
            <a:off x="1987560" y="285840"/>
            <a:ext cx="60958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143000" y="356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85a"/>
                </a:solidFill>
                <a:latin typeface="Corbel"/>
              </a:rPr>
              <a:t>Алфавитный подход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это способ измерения информационного объема текста, не связанного с его содержани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171e"/>
                </a:solidFill>
                <a:latin typeface="Corbel"/>
              </a:rPr>
              <a:t>Алфавит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3171e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a3171e"/>
                </a:solidFill>
                <a:latin typeface="Corbel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85a"/>
                </a:solidFill>
                <a:latin typeface="Corbel"/>
              </a:rPr>
              <a:t>Мощность  алфавита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это число символов в н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1428840" y="228600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 = N       </a:t>
            </a:r>
            <a:r>
              <a:rPr b="1" lang="en-US" sz="2800" spc="-1" strike="noStrike">
                <a:solidFill>
                  <a:srgbClr val="35385a"/>
                </a:solidFill>
                <a:latin typeface="Arial"/>
              </a:rPr>
              <a:t>(1)</a:t>
            </a:r>
            <a:r>
              <a:rPr b="1" lang="ru-RU" sz="2800" spc="-1" strike="noStrike">
                <a:solidFill>
                  <a:srgbClr val="35385a"/>
                </a:solidFill>
                <a:latin typeface="Arial"/>
              </a:rPr>
              <a:t> – это формула Харт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I = K*b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385a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1357200" y="4071960"/>
            <a:ext cx="692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N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мощность алфавита.</a:t>
            </a: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b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информационный вес симв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K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число символов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I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информационный объем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285920" y="42876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1 бит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– информационный вес одного символа двухсимвольного алфавита(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=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Информационный вес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символа (разрядность двоичного кода) (</a:t>
            </a:r>
            <a:r>
              <a:rPr b="0" lang="en-US" sz="1800" spc="-1" strike="noStrike">
                <a:solidFill>
                  <a:srgbClr val="35385a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) и мощность алфавита (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) связаны формулой 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5385a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 = N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Информационный объем текста (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3538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 равен сумме информационных весов всех символов, составляющих текст 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I = K*b</a:t>
            </a:r>
            <a:r>
              <a:rPr b="1" lang="en-US" sz="1800" spc="-1" strike="noStrike" baseline="30000">
                <a:solidFill>
                  <a:srgbClr val="35385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2143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Corbel"/>
              </a:rPr>
              <a:t>Пример 1.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187280" y="1196640"/>
            <a:ext cx="7715520" cy="3794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Пусть передаётся простое арифметическое выраж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Алфавит арифметических выражений состоит из 16 знаков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0, 1, 2, 3, 4, 5, 6, 7, 8, 9, +, -, *, /, (, ) 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N=16  - мощность алфави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По формуле </a:t>
            </a:r>
            <a:r>
              <a:rPr b="1" lang="en-US" sz="2400" spc="-1" strike="noStrike">
                <a:solidFill>
                  <a:srgbClr val="35385a"/>
                </a:solidFill>
                <a:latin typeface="Gill Sans MT"/>
              </a:rPr>
              <a:t>2</a:t>
            </a:r>
            <a:r>
              <a:rPr b="1" lang="en-US" sz="2400" spc="-1" strike="noStrike" baseline="30000">
                <a:solidFill>
                  <a:srgbClr val="35385a"/>
                </a:solidFill>
                <a:latin typeface="Gill Sans MT"/>
              </a:rPr>
              <a:t>b</a:t>
            </a:r>
            <a:r>
              <a:rPr b="1" lang="en-US" sz="2400" spc="-1" strike="noStrike">
                <a:solidFill>
                  <a:srgbClr val="35385a"/>
                </a:solidFill>
                <a:latin typeface="Gill Sans MT"/>
              </a:rPr>
              <a:t> = N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 вычисляем информационный вес символа (</a:t>
            </a:r>
            <a:r>
              <a:rPr b="0" lang="en-US" sz="2400" spc="-1" strike="noStrike">
                <a:solidFill>
                  <a:srgbClr val="252525"/>
                </a:solidFill>
                <a:latin typeface="Gill Sans MT"/>
              </a:rPr>
              <a:t>b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16=2</a:t>
            </a:r>
            <a:r>
              <a:rPr b="0" lang="ru-RU" sz="2400" spc="-1" strike="noStrike" baseline="30000">
                <a:solidFill>
                  <a:srgbClr val="252525"/>
                </a:solidFill>
                <a:latin typeface="Corbel"/>
              </a:rPr>
              <a:t>4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2</a:t>
            </a:r>
            <a:r>
              <a:rPr b="0" lang="ru-RU" sz="2400" spc="-1" strike="noStrike" baseline="30000">
                <a:solidFill>
                  <a:srgbClr val="252525"/>
                </a:solidFill>
                <a:latin typeface="Corbel"/>
              </a:rPr>
              <a:t>4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 = 2</a:t>
            </a:r>
            <a:r>
              <a:rPr b="0" lang="en-US" sz="2400" spc="-1" strike="noStrike" baseline="30000">
                <a:solidFill>
                  <a:srgbClr val="252525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  </a:t>
            </a:r>
            <a:r>
              <a:rPr b="0" lang="en-US" sz="2400" spc="-1" strike="noStrike">
                <a:solidFill>
                  <a:srgbClr val="252525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= 4 би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Один знак арифметического выражения несёт 4 бита информ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192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Corbel"/>
              </a:rPr>
              <a:t>Пример 2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214280" y="1356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Пусть сообщение записано русскими букв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Алфавит русского языка состоит из 33 знаков(включая ё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N=32, =&gt; 32=2</a:t>
            </a:r>
            <a:r>
              <a:rPr b="0" lang="ru-RU" sz="3200" spc="-1" strike="noStrike" baseline="30000">
                <a:solidFill>
                  <a:srgbClr val="35385a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&gt;2</a:t>
            </a:r>
            <a:r>
              <a:rPr b="0" lang="ru-RU" sz="3200" spc="-1" strike="noStrike" baseline="30000">
                <a:solidFill>
                  <a:srgbClr val="35385a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 2</a:t>
            </a:r>
            <a:r>
              <a:rPr b="0" lang="en-US" sz="3200" spc="-1" strike="noStrike" baseline="30000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&gt; </a:t>
            </a:r>
            <a:r>
              <a:rPr b="0" lang="en-US" sz="3200" spc="-1" strike="noStrike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= 5 би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Один знак русского алфавита несёт 5 бит информ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24973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Corbel"/>
              </a:rPr>
              <a:t>Пример 3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000080" y="128592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Алфавит двоичной знаковой системы состоит из двух знаков (0,1), поэт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N=2, =&gt;2=2</a:t>
            </a:r>
            <a:r>
              <a:rPr b="0" lang="en-US" sz="3200" spc="-1" strike="noStrike" baseline="30000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&gt; 2</a:t>
            </a:r>
            <a:r>
              <a:rPr b="0" lang="ru-RU" sz="3200" spc="-1" strike="noStrike" baseline="30000">
                <a:solidFill>
                  <a:srgbClr val="35385a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=2</a:t>
            </a:r>
            <a:r>
              <a:rPr b="0" lang="en-US" sz="3200" spc="-1" strike="noStrike" baseline="30000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=&gt; </a:t>
            </a:r>
            <a:r>
              <a:rPr b="0" lang="en-US" sz="3200" spc="-1" strike="noStrike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= 1 бит,</a:t>
            </a:r>
            <a:br>
              <a:rPr sz="3200"/>
            </a:b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т.</a:t>
            </a:r>
            <a:r>
              <a:rPr b="0" lang="en-US" sz="3200" spc="-1" strike="noStrike">
                <a:solidFill>
                  <a:srgbClr val="35385a"/>
                </a:solidFill>
                <a:latin typeface="Gill Sans MT"/>
              </a:rPr>
              <a:t>o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. в двоичной знаковой системе знак несёт 1 бит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2640" y="1714680"/>
            <a:ext cx="37148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Corbel"/>
              </a:rPr>
              <a:t>Задание 1.</a:t>
            </a:r>
            <a:r>
              <a:rPr b="0" lang="en-US" sz="2000" spc="-1" strike="noStrike">
                <a:solidFill>
                  <a:srgbClr val="464646"/>
                </a:solidFill>
                <a:latin typeface="Gill Sans MT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64646"/>
                </a:solidFill>
                <a:latin typeface="Corbel"/>
              </a:rPr>
              <a:t>Без труда не вытащишь и рыбки из пруда.</a:t>
            </a: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5286240" y="1714680"/>
            <a:ext cx="35719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385a"/>
                </a:solidFill>
                <a:latin typeface="Corbel"/>
              </a:rPr>
              <a:t>Задание 2.</a:t>
            </a:r>
            <a:br>
              <a:rPr sz="2000"/>
            </a:br>
            <a:r>
              <a:rPr b="0" lang="ru-RU" sz="2000" spc="-1" strike="noStrike">
                <a:solidFill>
                  <a:srgbClr val="35385a"/>
                </a:solidFill>
                <a:latin typeface="Corbel"/>
              </a:rPr>
              <a:t> Обед узнают по кушанью, а ум по слушанью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1143000" y="285840"/>
            <a:ext cx="7643880" cy="1285920"/>
          </a:xfrm>
          <a:prstGeom prst="rect">
            <a:avLst/>
          </a:prstGeom>
          <a:solidFill>
            <a:srgbClr val="00b0f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пределить информационный объем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2500200" y="3714840"/>
            <a:ext cx="43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Задание №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Сравните количество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а) 200 байт и 0,25 К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б) 3 байта и 24 б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в) 1536 бит и 1,5 К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г) 1000 бит и 1 К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д) 8192 байта и 1 Кба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920" y="285480"/>
            <a:ext cx="24940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385a"/>
                </a:solidFill>
                <a:latin typeface="Corbel"/>
              </a:rPr>
              <a:t>Задания 4-5-6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071360" y="1213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Подсчитать в Килобайтах  количество информации в тексте, если текст  состоит из 800 символов, а мощность используемого алфавита – 128 симво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1214280" y="2500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Сколько символов в тексте, если мощность алфавита – 64 симво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а объем информации, содержащийся в нем – 1,5 Килобай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4"/>
          <p:cNvSpPr/>
          <p:nvPr/>
        </p:nvSpPr>
        <p:spPr>
          <a:xfrm>
            <a:off x="1214280" y="364320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Определите объем текста, если для его записи использованы буквы русского алфавита строчные и заглавные, десять цифр и пробел. Причем каждый символ весит одинаковое целое число  бит и в тексте 1500 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5072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Д/З : 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§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4 – прочитать, стр.22-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Ответить (письменно) на вопросы №4 и №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499160" cy="1198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дания для проверочной работы по теме «Применение формулы Хартли» 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500120" y="1714320"/>
            <a:ext cx="71755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1. В каком алфавите, русском или латинском, одна буква несет больше информац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2329"/>
                </a:solidFill>
                <a:latin typeface="Corbel"/>
              </a:rPr>
              <a:t>Ответ: В русско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2. При угадывании целого числа в диапазоне от 1 до </a:t>
            </a:r>
            <a:r>
              <a:rPr b="0" lang="en-US" sz="3200" spc="-1" strike="noStrike">
                <a:solidFill>
                  <a:srgbClr val="062329"/>
                </a:solidFill>
                <a:latin typeface="Gill Sans MT"/>
              </a:rPr>
              <a:t>N 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 было получено 6 бит информации. Чему равно </a:t>
            </a:r>
            <a:r>
              <a:rPr b="0" lang="en-US" sz="3200" spc="-1" strike="noStrike">
                <a:solidFill>
                  <a:srgbClr val="062329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62329"/>
                </a:solidFill>
                <a:latin typeface="Corbel"/>
              </a:rPr>
              <a:t>Ответ: 64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6516720" y="3068640"/>
            <a:ext cx="2000160" cy="576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6516720" y="5668920"/>
            <a:ext cx="1928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434960" y="213840"/>
            <a:ext cx="7499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риблизительно какое количество информации несет сообщение о том, что встреча назначена на понедельник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3 би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Какое количество вопрос достаточно задать вашему собеседнику, чтобы наверняка определить название месяца, в котором он родилс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4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219640" y="2133720"/>
            <a:ext cx="2857680" cy="785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5724360" y="5857920"/>
            <a:ext cx="2643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Какое количество вопросов достаточно задать вашему собеседнику, чтобы точно определить день и месяц его рождения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колько килобайт информации содержится в сообщении объемом ¼ мегабайт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256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508720" y="5715000"/>
            <a:ext cx="1928880" cy="531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5508720" y="2619360"/>
            <a:ext cx="1928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Схема 5" descr=""/>
          <p:cNvPicPr/>
          <p:nvPr/>
        </p:nvPicPr>
        <p:blipFill>
          <a:blip r:embed="rId1"/>
          <a:stretch/>
        </p:blipFill>
        <p:spPr>
          <a:xfrm>
            <a:off x="1139760" y="201600"/>
            <a:ext cx="77914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071720" y="213840"/>
            <a:ext cx="78580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. Емкость текстового файла, соответствующего одному условному печатному лист (усл. печ. л.), приблизительно равна 32 Кбайта. Сколько времени потребуется для его распечатки на лазерном принтере, печатающем 512 символов в секунду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64 секунд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8. Скорость модема 9600 бит/сек . Сколько времени потребуется для передачи 111 страниц текста, состоящих из 40 сток по 50 символов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185 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219640" y="5715000"/>
            <a:ext cx="2571840" cy="53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5392800" y="3068640"/>
            <a:ext cx="30002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214280" y="214200"/>
            <a:ext cx="74995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0. В текстовом режиме экран обычно разбивается на 25 строк по 80 символов в строке. Определите объем текстовой информации в килобайтах, занимающей весь экран монит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  около 1,95 Кбай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1. Скорость чтения ученика 8 класса составляет приблизительно 200 символов в секунду. Какой объем информации в килобайтах получит ученик, если он будет непрерывно читать в течение 40 минут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468,75 Кбай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1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219640" y="5805360"/>
            <a:ext cx="3214800" cy="532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4572000" y="2835360"/>
            <a:ext cx="41432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Емкость текстового файла, соответствующего одному условному печатному листу (усл. печ. л.) приблизительно равна 32 Кбайта. На одном стандартном машинописном печатном листе размещается 40 строк по 60 символов в каждой строке. Сколько таких листов потребуется для текста, объемом 1,5  усл. печ. л.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21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4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148360" y="5207040"/>
            <a:ext cx="3000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6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f28"/>
                </a:solidFill>
                <a:latin typeface="Corbel"/>
              </a:rPr>
              <a:t>Повторение темы «Алфавитный подход к измерению информации»</a:t>
            </a: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99720" y="714240"/>
            <a:ext cx="76438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лфавитный подход к измерению информации позволяет определить количество информации, заключенной в тек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лфавитный подход является </a:t>
            </a:r>
            <a:r>
              <a:rPr b="1" lang="ru-RU" sz="2000" spc="-1" strike="noStrike">
                <a:solidFill>
                  <a:srgbClr val="da1f28"/>
                </a:solidFill>
                <a:latin typeface="Corbel"/>
              </a:rPr>
              <a:t>объективным</a:t>
            </a:r>
            <a:r>
              <a:rPr b="0" lang="ru-RU" sz="2000" spc="-1" strike="noStrike">
                <a:solidFill>
                  <a:srgbClr val="da1f28"/>
                </a:solidFill>
                <a:latin typeface="Corbel"/>
              </a:rPr>
              <a:t>, 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т.е. он не зависи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от субъекта (человека), воспринимающего текс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143000" y="2500200"/>
            <a:ext cx="7643880" cy="106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о символов, используемых при записи текста, называется </a:t>
            </a:r>
            <a:r>
              <a:rPr b="0" lang="ru-RU" sz="1600" spc="-1" strike="noStrike">
                <a:solidFill>
                  <a:srgbClr val="da1f28"/>
                </a:solidFill>
                <a:latin typeface="Arial"/>
              </a:rPr>
              <a:t>алфави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1e25"/>
                </a:solidFill>
                <a:latin typeface="Arial"/>
              </a:rPr>
              <a:t>Полное количество символов в алфавите называется </a:t>
            </a:r>
            <a:r>
              <a:rPr b="0" lang="ru-RU" sz="1600" spc="-1" strike="noStrike">
                <a:solidFill>
                  <a:srgbClr val="da1f28"/>
                </a:solidFill>
                <a:latin typeface="Arial"/>
              </a:rPr>
              <a:t> мощ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1e25"/>
                </a:solidFill>
                <a:latin typeface="Arial"/>
              </a:rPr>
              <a:t>(размером) алфав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143000" y="3643200"/>
            <a:ext cx="778680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 допустит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е символы алфавита встречаются в тексте с одинаковой частотой (равновероятно), то количество информации, которое несет каждый символ, вычисляется по формуле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мощность алфави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ледователь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 –символьном алфавите каждый символ «весит» 1 бит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в 4- символьном алфавите каждый символ несет 2 бита информаци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8-символьном  - 3 бит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1071360" y="785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Один символ из алфавита мощностью 256 (2</a:t>
            </a:r>
            <a:r>
              <a:rPr b="1" lang="ru-RU" sz="2000" spc="-1" strike="noStrike" baseline="30000">
                <a:solidFill>
                  <a:srgbClr val="595959"/>
                </a:solidFill>
                <a:latin typeface="Corbel"/>
              </a:rPr>
              <a:t>8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) несет в тексте 8 битов информ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Такое количество информации называется байт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Алфавит из 256 символов используется для представления текстов в компьютер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Corbel"/>
              </a:rPr>
              <a:t>1 байт  =  8 би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Если весь текст состоит из К символов, то при алфавитном подходе размер содержащейся в нем информации равен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Gill Sans MT"/>
              </a:rPr>
              <a:t>I = K * i</a:t>
            </a:r>
            <a:r>
              <a:rPr b="1" lang="ru-RU" sz="2000" spc="-1" strike="noStrike">
                <a:solidFill>
                  <a:srgbClr val="da1f28"/>
                </a:solidFill>
                <a:latin typeface="Corbel"/>
              </a:rPr>
              <a:t>  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где  </a:t>
            </a:r>
            <a:r>
              <a:rPr b="1" lang="en-US" sz="2000" spc="-1" strike="noStrike">
                <a:solidFill>
                  <a:srgbClr val="595959"/>
                </a:solidFill>
                <a:latin typeface="Gill Sans MT"/>
              </a:rPr>
              <a:t>i – 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информационный вес одного символа в используемом алфави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1640" y="142920"/>
            <a:ext cx="4357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a1f28"/>
                </a:solidFill>
                <a:latin typeface="Corbel"/>
              </a:rPr>
              <a:t>Подготовка к решению задач повышенной сложности.</a:t>
            </a:r>
            <a:br>
              <a:rPr sz="3900"/>
            </a:br>
            <a:r>
              <a:rPr b="0" lang="ru-RU" sz="1600" spc="-1" strike="noStrike">
                <a:solidFill>
                  <a:srgbClr val="227a8f"/>
                </a:solidFill>
                <a:latin typeface="Corbel"/>
              </a:rPr>
              <a:t>Диаграммы Эйлера - Венна</a:t>
            </a:r>
            <a:endParaRPr b="0" lang="en-US" sz="16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41" name="Прямоугольник 3"/>
          <p:cNvSpPr/>
          <p:nvPr/>
        </p:nvSpPr>
        <p:spPr>
          <a:xfrm>
            <a:off x="1214280" y="1357200"/>
            <a:ext cx="7715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7a8f"/>
                </a:solidFill>
                <a:latin typeface="Arial"/>
              </a:rPr>
              <a:t>Диаграмма Эйлера-Венна</a:t>
            </a:r>
            <a:r>
              <a:rPr b="1" lang="ru-RU" sz="2000" spc="-1" strike="noStrike">
                <a:solidFill>
                  <a:srgbClr val="227a8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глядное средство для работы со множ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х диаграммах изображаются все возможные варианты пересечения множ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пересечений (областей) n определяется по формуле: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N - количество множ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если в задаче используется два множества, то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=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три множества, то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четыре множества, то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=1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диаграммы Эйлера-Венна используются в основном для двух или трех множест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3"/>
          <p:cNvSpPr/>
          <p:nvPr/>
        </p:nvSpPr>
        <p:spPr>
          <a:xfrm>
            <a:off x="1143000" y="428760"/>
            <a:ext cx="77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а изображаются в виде кругов (если используется 2-3 множества) и эллипсов (если используется 4 множества), помещенных в прямоугольник (универсум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a1f28"/>
                </a:solidFill>
                <a:latin typeface="Arial"/>
              </a:rPr>
              <a:t>Универсальное множест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универсум) </a:t>
            </a:r>
            <a:r>
              <a:rPr b="1" i="1" lang="ru-RU" sz="2000" spc="-1" strike="noStrike">
                <a:solidFill>
                  <a:srgbClr val="da1f28"/>
                </a:solidFill>
                <a:latin typeface="Arial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контексте задачи) - множество, содержащее все элементы рассматриваемой задачи: элементы всех множеств задачи и элементы, не входящие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е множество Ø (в контексте задачи) - множество, не содержащее ни одного элемента рассматриваемой задач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иаграмме строят пересекающиеся множества, заключают их в универсум. Выделяют области, количество которых равно количеству пересечен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Arial"/>
              </a:rPr>
              <a:t>Диаграммы Эйлера-Венна также используются для визуального представления логических операц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4"/>
          <p:cNvSpPr/>
          <p:nvPr/>
        </p:nvSpPr>
        <p:spPr>
          <a:xfrm>
            <a:off x="1143000" y="21420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рем примеры построения диаграм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лера-Венна для двух и трех мн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есть следующие множеств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{1,2,3,4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{3,4,5,6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у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={0,1,2,3,4,5,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раммы Эйлера-Венна для двух множеств А и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Диаграмма Эйлера-Венна для двух множеств"/>
          <p:cNvPicPr/>
          <p:nvPr/>
        </p:nvPicPr>
        <p:blipFill>
          <a:blip r:embed="rId1"/>
          <a:stretch/>
        </p:blipFill>
        <p:spPr>
          <a:xfrm>
            <a:off x="1143000" y="3000240"/>
            <a:ext cx="3786120" cy="330228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6"/>
          <p:cNvSpPr/>
          <p:nvPr/>
        </p:nvSpPr>
        <p:spPr>
          <a:xfrm>
            <a:off x="5651640" y="3459240"/>
            <a:ext cx="292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76"/>
                </a:solidFill>
                <a:latin typeface="Arial"/>
              </a:rPr>
              <a:t>Определим области, и числа которые им принадлеж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3"/>
          <p:cNvSpPr/>
          <p:nvPr/>
        </p:nvSpPr>
        <p:spPr>
          <a:xfrm>
            <a:off x="100008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b4a76"/>
                </a:solidFill>
                <a:uFillTx/>
                <a:latin typeface="Arial"/>
              </a:rPr>
              <a:t>Определим области, и числа которые им принадлеж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143000" y="1265400"/>
          <a:ext cx="7643880" cy="5190840"/>
        </p:xfrm>
        <a:graphic>
          <a:graphicData uri="http://schemas.openxmlformats.org/drawingml/2006/table">
            <a:tbl>
              <a:tblPr/>
              <a:tblGrid>
                <a:gridCol w="1911240"/>
                <a:gridCol w="1909800"/>
                <a:gridCol w="1911600"/>
                <a:gridCol w="1911240"/>
              </a:tblGrid>
              <a:tr h="21312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А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2b4a76"/>
                          </a:solidFill>
                          <a:uFillTx/>
                          <a:latin typeface="Gill Sans MT"/>
                        </a:rPr>
                        <a:t>B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Обозначение</a:t>
                      </a:r>
                      <a:br>
                        <a:rPr sz="2400"/>
                      </a:b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области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Числа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6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2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4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3"/>
          <p:cNvSpPr/>
          <p:nvPr/>
        </p:nvSpPr>
        <p:spPr>
          <a:xfrm>
            <a:off x="1071720" y="214200"/>
            <a:ext cx="792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есть следующие множеств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{1,2,3,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{3,4,5,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{1,3,6,7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76"/>
                </a:solidFill>
                <a:latin typeface="Arial"/>
              </a:rPr>
              <a:t>Универсум U={0,1,2,3,4,5,6,7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раммы Эйлера-Венна для трех множеств А, В, 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Диаграмма Эйлера-Венна для трех множеств"/>
          <p:cNvPicPr/>
          <p:nvPr/>
        </p:nvPicPr>
        <p:blipFill>
          <a:blip r:embed="rId1"/>
          <a:stretch/>
        </p:blipFill>
        <p:spPr>
          <a:xfrm>
            <a:off x="2987640" y="2892600"/>
            <a:ext cx="36054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одержимое 3" descr=""/>
          <p:cNvPicPr/>
          <p:nvPr/>
        </p:nvPicPr>
        <p:blipFill>
          <a:blip r:embed="rId1"/>
          <a:stretch/>
        </p:blipFill>
        <p:spPr>
          <a:xfrm>
            <a:off x="1060560" y="212760"/>
            <a:ext cx="788184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3"/>
          <p:cNvSpPr/>
          <p:nvPr/>
        </p:nvSpPr>
        <p:spPr>
          <a:xfrm>
            <a:off x="1071720" y="14292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b4a76"/>
                </a:solidFill>
                <a:uFillTx/>
                <a:latin typeface="Arial"/>
              </a:rPr>
              <a:t>Определим области, и числа которые им принадлежат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000080" y="857160"/>
          <a:ext cx="7929720" cy="5815080"/>
        </p:xfrm>
        <a:graphic>
          <a:graphicData uri="http://schemas.openxmlformats.org/drawingml/2006/table">
            <a:tbl>
              <a:tblPr/>
              <a:tblGrid>
                <a:gridCol w="1585800"/>
                <a:gridCol w="1586160"/>
                <a:gridCol w="1585800"/>
                <a:gridCol w="1585800"/>
                <a:gridCol w="1586160"/>
              </a:tblGrid>
              <a:tr h="125604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53535"/>
                          </a:solidFill>
                          <a:latin typeface="Gill Sans MT"/>
                        </a:rPr>
                        <a:t>B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53535"/>
                          </a:solidFill>
                          <a:latin typeface="Gill Sans MT"/>
                        </a:rPr>
                        <a:t>C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Обознач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Числ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7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2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5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3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4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2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5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6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4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7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1071720" y="142920"/>
            <a:ext cx="807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есть следующие множества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{0,1,2,3,4,5,6,7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={3,4,5,7,8,9,10,1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={0,2,3,7,8,10,11,1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={0,3,4,6,9,10,11,1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4a76"/>
                </a:solidFill>
                <a:latin typeface="Arial"/>
              </a:rPr>
              <a:t>Универсум  U={0,1,2,3,4,5,6,7,8,9,10,11,12,13,14,15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раммы Эйлера-Венна  для четырех множеств А, В, С, 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Диаграмма Эйлера-Венна для четырех множеств"/>
          <p:cNvPicPr/>
          <p:nvPr/>
        </p:nvPicPr>
        <p:blipFill>
          <a:blip r:embed="rId1"/>
          <a:stretch/>
        </p:blipFill>
        <p:spPr>
          <a:xfrm>
            <a:off x="2843280" y="2728800"/>
            <a:ext cx="37465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оугольник 3"/>
          <p:cNvSpPr/>
          <p:nvPr/>
        </p:nvSpPr>
        <p:spPr>
          <a:xfrm>
            <a:off x="1143000" y="2142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ределим области, и числа которые им принадлежа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143000" y="642960"/>
          <a:ext cx="7786800" cy="597996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  <a:gridCol w="1297080"/>
                <a:gridCol w="1298520"/>
                <a:gridCol w="1297080"/>
                <a:gridCol w="1298520"/>
              </a:tblGrid>
              <a:tr h="90792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А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62626"/>
                          </a:solidFill>
                          <a:latin typeface="Gill Sans MT"/>
                        </a:rPr>
                        <a:t>B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62626"/>
                          </a:solidFill>
                          <a:latin typeface="Gill Sans MT"/>
                        </a:rPr>
                        <a:t>C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62626"/>
                          </a:solidFill>
                          <a:latin typeface="Gill Sans MT"/>
                        </a:rPr>
                        <a:t>D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Обозначени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Числа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09600" y="115920"/>
            <a:ext cx="7934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767c"/>
                </a:solidFill>
                <a:latin typeface="Corbel"/>
              </a:rPr>
              <a:t>Перейдем к разбору задач на множества из ЕГЭ по информатике</a:t>
            </a: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57" name="Прямоугольник 3"/>
          <p:cNvSpPr/>
          <p:nvPr/>
        </p:nvSpPr>
        <p:spPr>
          <a:xfrm>
            <a:off x="3415680" y="701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aecd"/>
                </a:solidFill>
                <a:latin typeface="Arial"/>
              </a:rPr>
              <a:t>Разбор задачи B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1143000" y="107172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766"/>
                </a:solidFill>
                <a:latin typeface="Arial"/>
              </a:rPr>
              <a:t>Время выполнения-2 мин, уровень сложности - повышенный</a:t>
            </a:r>
            <a:r>
              <a:rPr b="0" lang="ru-RU" sz="1800" spc="-1" strike="noStrike">
                <a:solidFill>
                  <a:srgbClr val="1057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зыке запросов поискового сервера для обозначения логической операции «ИЛИ» используется символ «|», а для логической операции «И» – символ «&amp;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блице приведены запросы и количество найденных по ним страниц некоторого сегмента сети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3071880"/>
          <a:ext cx="3214800" cy="3357360"/>
        </p:xfrm>
        <a:graphic>
          <a:graphicData uri="http://schemas.openxmlformats.org/drawingml/2006/table">
            <a:tbl>
              <a:tblPr/>
              <a:tblGrid>
                <a:gridCol w="1624320"/>
                <a:gridCol w="1590480"/>
              </a:tblGrid>
              <a:tr h="1166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йдено страниц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в тысяч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16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ахматы | 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15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ахматы &amp; 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60" name="Прямоугольник 7"/>
          <p:cNvSpPr/>
          <p:nvPr/>
        </p:nvSpPr>
        <p:spPr>
          <a:xfrm>
            <a:off x="5000760" y="3000240"/>
            <a:ext cx="4000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Какое количество стран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(в тысячах) будет найдено по запросу Шахматы?</a:t>
            </a:r>
            <a:br>
              <a:rPr sz="2000"/>
            </a:b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Считается, что все запросы выполнялись практически одновременно, так что набор страниц, содержащих все искомые слова, не изменялся за время выполнения за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62329"/>
                </a:solidFill>
                <a:uFillTx/>
                <a:latin typeface="Arial"/>
              </a:rPr>
              <a:t>Ответ: 3270</a:t>
            </a: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3"/>
          <p:cNvSpPr/>
          <p:nvPr/>
        </p:nvSpPr>
        <p:spPr>
          <a:xfrm>
            <a:off x="1143000" y="2142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образим запросы в виде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диаграмм Эйлера-Вен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 "Шахматы" обозначим символом "Ш", "Теннис" - символом "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задача B12 ЕГЭ по информатике 2012 поисковые запросы"/>
          <p:cNvPicPr/>
          <p:nvPr/>
        </p:nvPicPr>
        <p:blipFill>
          <a:blip r:embed="rId2"/>
          <a:stretch/>
        </p:blipFill>
        <p:spPr>
          <a:xfrm>
            <a:off x="2643120" y="1285920"/>
            <a:ext cx="4214880" cy="338940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5"/>
          <p:cNvSpPr/>
          <p:nvPr/>
        </p:nvSpPr>
        <p:spPr>
          <a:xfrm>
            <a:off x="2500200" y="56437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=(Ш|Т)-Т+(Ш&amp;Т)=7770-5500+1000=</a:t>
            </a:r>
            <a:r>
              <a:rPr b="1" lang="ru-RU" sz="1800" spc="-1" strike="noStrike">
                <a:solidFill>
                  <a:srgbClr val="da1f28"/>
                </a:solidFill>
                <a:latin typeface="Arial"/>
              </a:rPr>
              <a:t>32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Corbel"/>
              </a:rPr>
              <a:t>Список используемой литературы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600" y="1447920"/>
            <a:ext cx="685188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емакин И.Г. Информатика и ИКТ: учебник для 8 класса / И.Г. Семакин, Л.А. Залогова, С.В. Русаков,Л.В. Шестакова. - М.:БИНОМ. Лаборатория знаний, 201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логова Л.А., Плаксин М.А., Семакин И.Г.: «Задачник-практикум», часть1, 200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гринович Н.Д.  Практикум по Информатике и ИКТ.  Лаборатория знаний,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ндреева Е.В. , Л.Л. Босова, И.Н. Фалина: методическое пособие «Математические основы информатики». БИНОМ. Лаборатория знаний. 200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нтернет- материалы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Gill Sans MT"/>
                <a:hlinkClick r:id="rId1"/>
              </a:rPr>
              <a:t>http://infoegehelp.ru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Группа 54"/>
          <p:cNvGrpSpPr/>
          <p:nvPr/>
        </p:nvGrpSpPr>
        <p:grpSpPr>
          <a:xfrm>
            <a:off x="684360" y="2619360"/>
            <a:ext cx="3240000" cy="1619280"/>
            <a:chOff x="684360" y="2619360"/>
            <a:chExt cx="3240000" cy="1619280"/>
          </a:xfrm>
        </p:grpSpPr>
        <p:sp>
          <p:nvSpPr>
            <p:cNvPr id="363" name="Скругленный прямоугольник 73"/>
            <p:cNvSpPr/>
            <p:nvPr/>
          </p:nvSpPr>
          <p:spPr>
            <a:xfrm>
              <a:off x="684360" y="261936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Скругленный прямоугольник 4"/>
            <p:cNvSpPr/>
            <p:nvPr/>
          </p:nvSpPr>
          <p:spPr>
            <a:xfrm>
              <a:off x="731880" y="266688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Передача информаци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Группа 55"/>
          <p:cNvGrpSpPr/>
          <p:nvPr/>
        </p:nvGrpSpPr>
        <p:grpSpPr>
          <a:xfrm>
            <a:off x="3906000" y="1553760"/>
            <a:ext cx="1332000" cy="1887840"/>
            <a:chOff x="3906000" y="1553760"/>
            <a:chExt cx="1332000" cy="1887840"/>
          </a:xfrm>
        </p:grpSpPr>
        <p:sp>
          <p:nvSpPr>
            <p:cNvPr id="366" name="Прямая соединительная линия 5"/>
            <p:cNvSpPr/>
            <p:nvPr/>
          </p:nvSpPr>
          <p:spPr>
            <a:xfrm rot="18289200">
              <a:off x="3437640" y="2475000"/>
              <a:ext cx="2268360" cy="44640"/>
            </a:xfrm>
            <a:custGeom>
              <a:avLst/>
              <a:gdLst>
                <a:gd name="textAreaLeft" fmla="*/ 0 w 2268360"/>
                <a:gd name="textAreaRight" fmla="*/ 2268720 w 226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269323" h="44126">
                  <a:moveTo>
                    <a:pt x="0" y="22675"/>
                  </a:moveTo>
                  <a:lnTo>
                    <a:pt x="2269323" y="22675"/>
                  </a:lnTo>
                </a:path>
              </a:pathLst>
            </a:custGeom>
            <a:noFill/>
            <a:ln w="25560">
              <a:solidFill>
                <a:srgbClr val="228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6"/>
            <p:cNvSpPr/>
            <p:nvPr/>
          </p:nvSpPr>
          <p:spPr>
            <a:xfrm rot="18289200">
              <a:off x="4515480" y="2440080"/>
              <a:ext cx="1126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56"/>
          <p:cNvGrpSpPr/>
          <p:nvPr/>
        </p:nvGrpSpPr>
        <p:grpSpPr>
          <a:xfrm>
            <a:off x="5214960" y="285840"/>
            <a:ext cx="3240000" cy="1619280"/>
            <a:chOff x="5214960" y="285840"/>
            <a:chExt cx="3240000" cy="1619280"/>
          </a:xfrm>
        </p:grpSpPr>
        <p:sp>
          <p:nvSpPr>
            <p:cNvPr id="369" name="Скругленный прямоугольник 69"/>
            <p:cNvSpPr/>
            <p:nvPr/>
          </p:nvSpPr>
          <p:spPr>
            <a:xfrm>
              <a:off x="5214960" y="28584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Скругленный прямоугольник 8"/>
            <p:cNvSpPr/>
            <p:nvPr/>
          </p:nvSpPr>
          <p:spPr>
            <a:xfrm>
              <a:off x="5262480" y="33336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Источни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Группа 57"/>
          <p:cNvGrpSpPr/>
          <p:nvPr/>
        </p:nvGrpSpPr>
        <p:grpSpPr>
          <a:xfrm>
            <a:off x="3924360" y="3397320"/>
            <a:ext cx="1295280" cy="63360"/>
            <a:chOff x="3924360" y="3397320"/>
            <a:chExt cx="1295280" cy="63360"/>
          </a:xfrm>
        </p:grpSpPr>
        <p:sp>
          <p:nvSpPr>
            <p:cNvPr id="372" name="Прямая соединительная линия 9"/>
            <p:cNvSpPr/>
            <p:nvPr/>
          </p:nvSpPr>
          <p:spPr>
            <a:xfrm>
              <a:off x="3924360" y="3406680"/>
              <a:ext cx="1295280" cy="442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95929" h="45357">
                  <a:moveTo>
                    <a:pt x="0" y="22675"/>
                  </a:moveTo>
                  <a:lnTo>
                    <a:pt x="1295929" y="22675"/>
                  </a:lnTo>
                </a:path>
              </a:pathLst>
            </a:custGeom>
            <a:noFill/>
            <a:ln w="25560">
              <a:solidFill>
                <a:srgbClr val="228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0"/>
            <p:cNvSpPr/>
            <p:nvPr/>
          </p:nvSpPr>
          <p:spPr>
            <a:xfrm>
              <a:off x="4540320" y="3397320"/>
              <a:ext cx="6336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Группа 58"/>
          <p:cNvGrpSpPr/>
          <p:nvPr/>
        </p:nvGrpSpPr>
        <p:grpSpPr>
          <a:xfrm>
            <a:off x="5219640" y="2619360"/>
            <a:ext cx="3240000" cy="1619280"/>
            <a:chOff x="5219640" y="2619360"/>
            <a:chExt cx="3240000" cy="1619280"/>
          </a:xfrm>
        </p:grpSpPr>
        <p:sp>
          <p:nvSpPr>
            <p:cNvPr id="375" name="Скругленный прямоугольник 65"/>
            <p:cNvSpPr/>
            <p:nvPr/>
          </p:nvSpPr>
          <p:spPr>
            <a:xfrm>
              <a:off x="5219640" y="261936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Скругленный прямоугольник 12"/>
            <p:cNvSpPr/>
            <p:nvPr/>
          </p:nvSpPr>
          <p:spPr>
            <a:xfrm>
              <a:off x="5267160" y="266688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Кана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Группа 59"/>
          <p:cNvGrpSpPr/>
          <p:nvPr/>
        </p:nvGrpSpPr>
        <p:grpSpPr>
          <a:xfrm>
            <a:off x="3906000" y="3416400"/>
            <a:ext cx="1332360" cy="1887480"/>
            <a:chOff x="3906000" y="3416400"/>
            <a:chExt cx="1332360" cy="1887480"/>
          </a:xfrm>
        </p:grpSpPr>
        <p:sp>
          <p:nvSpPr>
            <p:cNvPr id="378" name="Прямая соединительная линия 13"/>
            <p:cNvSpPr/>
            <p:nvPr/>
          </p:nvSpPr>
          <p:spPr>
            <a:xfrm rot="3310200">
              <a:off x="3437640" y="4337640"/>
              <a:ext cx="2268360" cy="44640"/>
            </a:xfrm>
            <a:custGeom>
              <a:avLst/>
              <a:gdLst>
                <a:gd name="textAreaLeft" fmla="*/ 0 w 2268360"/>
                <a:gd name="textAreaRight" fmla="*/ 2268720 w 226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269323" h="44126">
                  <a:moveTo>
                    <a:pt x="0" y="22675"/>
                  </a:moveTo>
                  <a:lnTo>
                    <a:pt x="2269323" y="22675"/>
                  </a:lnTo>
                </a:path>
              </a:pathLst>
            </a:custGeom>
            <a:noFill/>
            <a:ln w="25560">
              <a:solidFill>
                <a:srgbClr val="228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14"/>
            <p:cNvSpPr/>
            <p:nvPr/>
          </p:nvSpPr>
          <p:spPr>
            <a:xfrm rot="3310200">
              <a:off x="4515480" y="4302720"/>
              <a:ext cx="1126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60"/>
          <p:cNvGrpSpPr/>
          <p:nvPr/>
        </p:nvGrpSpPr>
        <p:grpSpPr>
          <a:xfrm>
            <a:off x="5357880" y="5000760"/>
            <a:ext cx="3240000" cy="1619280"/>
            <a:chOff x="5357880" y="5000760"/>
            <a:chExt cx="3240000" cy="1619280"/>
          </a:xfrm>
        </p:grpSpPr>
        <p:sp>
          <p:nvSpPr>
            <p:cNvPr id="381" name="Скругленный прямоугольник 61"/>
            <p:cNvSpPr/>
            <p:nvPr/>
          </p:nvSpPr>
          <p:spPr>
            <a:xfrm>
              <a:off x="5357880" y="500076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Скругленный прямоугольник 16"/>
            <p:cNvSpPr/>
            <p:nvPr/>
          </p:nvSpPr>
          <p:spPr>
            <a:xfrm>
              <a:off x="5405400" y="504828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Приёмни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3" name="Прямая со стрелкой 77"/>
          <p:cNvCxnSpPr>
            <a:stCxn id="369" idx="2"/>
          </p:cNvCxnSpPr>
          <p:nvPr/>
        </p:nvCxnSpPr>
        <p:spPr>
          <a:xfrm>
            <a:off x="6834240" y="1904760"/>
            <a:ext cx="24480" cy="595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Прямая со стрелкой 79"/>
          <p:cNvCxnSpPr>
            <a:stCxn id="375" idx="2"/>
          </p:cNvCxnSpPr>
          <p:nvPr/>
        </p:nvCxnSpPr>
        <p:spPr>
          <a:xfrm>
            <a:off x="6839280" y="4238640"/>
            <a:ext cx="18360" cy="691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3" descr=""/>
          <p:cNvPicPr/>
          <p:nvPr/>
        </p:nvPicPr>
        <p:blipFill>
          <a:blip r:embed="rId1"/>
          <a:stretch/>
        </p:blipFill>
        <p:spPr>
          <a:xfrm>
            <a:off x="1200240" y="212760"/>
            <a:ext cx="774864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9344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63c"/>
                </a:solidFill>
                <a:latin typeface="Corbel"/>
              </a:rPr>
              <a:t>Задание №1.</a:t>
            </a:r>
            <a:br>
              <a:rPr sz="2000"/>
            </a:br>
            <a:r>
              <a:rPr b="0" lang="ru-RU" sz="2000" spc="-1" strike="noStrike">
                <a:solidFill>
                  <a:srgbClr val="23263c"/>
                </a:solidFill>
                <a:latin typeface="Corbel"/>
              </a:rPr>
              <a:t>Опишите, кто или что будет являться источником и кто или что – приемником информации, укажите канал передачи информации в следующих ситуациях:</a:t>
            </a:r>
            <a:br>
              <a:rPr sz="2800"/>
            </a:b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71720" y="1428840"/>
          <a:ext cx="7929360" cy="5103720"/>
        </p:xfrm>
        <a:graphic>
          <a:graphicData uri="http://schemas.openxmlformats.org/drawingml/2006/table">
            <a:tbl>
              <a:tblPr/>
              <a:tblGrid>
                <a:gridCol w="3031920"/>
                <a:gridCol w="1797120"/>
                <a:gridCol w="1438200"/>
                <a:gridCol w="1662120"/>
              </a:tblGrid>
              <a:tr h="98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Ситу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Источник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Приемник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Ка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Сергей Иванович  и внучка Дарья  собираются переходить перекресток, регулируемый светофор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Мария Ивановна  беседует с внуком Даниилом  по телеф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Екатерина Петровна  смотрит передачу «Что? Где? Когда? »  по  телевизору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Евгения  Соколова  учит стихотворение Михаила Юрьевича Лермонтова «Бородино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47862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Corbel"/>
              </a:rPr>
              <a:t>Задание №2. </a:t>
            </a:r>
            <a:br>
              <a:rPr sz="2400"/>
            </a:br>
            <a:r>
              <a:rPr b="0" lang="ru-RU" sz="2400" spc="-1" strike="noStrike">
                <a:solidFill>
                  <a:srgbClr val="464646"/>
                </a:solidFill>
                <a:latin typeface="Corbel"/>
              </a:rPr>
              <a:t>1.</a:t>
            </a:r>
            <a:r>
              <a:rPr b="0" lang="ru-RU" sz="2400" spc="-1" strike="noStrike">
                <a:solidFill>
                  <a:srgbClr val="545e70"/>
                </a:solidFill>
                <a:latin typeface="Corbel"/>
              </a:rPr>
              <a:t>В каких единицах мы измеряем информацию</a:t>
            </a:r>
            <a:r>
              <a:rPr b="0" lang="en-US" sz="2400" spc="-1" strike="noStrike">
                <a:solidFill>
                  <a:srgbClr val="545e70"/>
                </a:solidFill>
                <a:latin typeface="Gill Sans MT"/>
              </a:rPr>
              <a:t>?</a:t>
            </a:r>
            <a:br>
              <a:rPr sz="2400"/>
            </a:br>
            <a:r>
              <a:rPr b="0" lang="ru-RU" sz="2400" spc="-1" strike="noStrike">
                <a:solidFill>
                  <a:srgbClr val="545e70"/>
                </a:solidFill>
                <a:latin typeface="Corbel"/>
              </a:rPr>
              <a:t>2.Как они связаны между собой</a:t>
            </a:r>
            <a:r>
              <a:rPr b="0" lang="en-US" sz="2400" spc="-1" strike="noStrike">
                <a:solidFill>
                  <a:srgbClr val="545e70"/>
                </a:solidFill>
                <a:latin typeface="Gill Sans MT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3708360" y="4071960"/>
            <a:ext cx="486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5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, байт, килобайт, мегабайт, гигаба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байт=8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илобайт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йт=1024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егабайт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илобайт=1024 К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гигабайт(Гб)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габайт=1024 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4500360" y="3500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C:\Users\Алсу\Pictures\Безымянный5.png"/>
          <p:cNvPicPr/>
          <p:nvPr/>
        </p:nvPicPr>
        <p:blipFill>
          <a:blip r:embed="rId1"/>
          <a:stretch/>
        </p:blipFill>
        <p:spPr>
          <a:xfrm>
            <a:off x="1004760" y="2560680"/>
            <a:ext cx="34020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43574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Задание №3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Найдите лишнее слово в каждом из данных списков. 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Ответы могут быть различны, но должны быть доказательны с точки зрения классификации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1. Вишня, груша, землетрясение, яблоко, лимон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2. Пилотка, берет, каска, шарф, шапка. </a:t>
            </a:r>
            <a:endParaRPr b="0" lang="en-US" sz="22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5643720" y="427212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1.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емлетряс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тихийное бедствие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не головной убор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а сделана из твердого матери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5858280" y="38577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C:\Users\Алсу\Pictures\Безымянный5.png"/>
          <p:cNvPicPr/>
          <p:nvPr/>
        </p:nvPicPr>
        <p:blipFill>
          <a:blip r:embed="rId1"/>
          <a:stretch/>
        </p:blipFill>
        <p:spPr>
          <a:xfrm>
            <a:off x="5707080" y="836640"/>
            <a:ext cx="3016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214280" y="928440"/>
            <a:ext cx="7499520" cy="2857320"/>
          </a:xfrm>
          <a:prstGeom prst="rect">
            <a:avLst/>
          </a:prstGeom>
          <a:solidFill>
            <a:srgbClr val="878bb8"/>
          </a:solidFill>
          <a:ln w="0">
            <a:noFill/>
          </a:ln>
        </p:spPr>
        <p:txBody>
          <a:bodyPr anchor="t">
            <a:normAutofit fontScale="86000"/>
          </a:bodyPr>
          <a:p>
            <a:pPr marL="313920" indent="-243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rbel"/>
              </a:rPr>
              <a:t>Алфавитный подход к  измерению информаци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оугольник 2"/>
          <p:cNvSpPr/>
          <p:nvPr/>
        </p:nvSpPr>
        <p:spPr>
          <a:xfrm>
            <a:off x="4143240" y="4286160"/>
            <a:ext cx="178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 =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I = K*b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4:12:30Z</dcterms:created>
  <dc:creator>Учитель</dc:creator>
  <dc:description/>
  <dc:language>en-US</dc:language>
  <cp:lastModifiedBy>user</cp:lastModifiedBy>
  <dcterms:modified xsi:type="dcterms:W3CDTF">2015-10-06T06:00:28Z</dcterms:modified>
  <cp:revision>188</cp:revision>
  <dc:subject/>
  <dc:title>Какое количество информации  мы получим при бросании четырехгранной пирамидки?</dc:title>
</cp:coreProperties>
</file>