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4FF-D0A9-40F3-962D-AA6098DC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BA4-AE95-4001-94AF-B25DBA60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4B2-38BB-4C23-AD8C-7F05704C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03E-3A08-49EF-9006-3001CF5A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0161-EF7B-4626-B9D2-B6681398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8A5-30B5-4D74-9612-3DE7D38E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B602-779D-4E69-A9B6-4E756602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CF3-2859-444B-AFD1-24B20E59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75A-F747-4AAE-BEF2-6B2718AF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C5AB-6463-4F05-8CB2-51910870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885-D1AD-4C34-BB9E-DAAFBD67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2D60-7913-4FD7-A1DC-D89D3B57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16B7-BC80-4832-B9A1-908A30CC3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8900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 «Краснозаводская средняя общеобразовательная  школа №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573408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Анашкина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920" y="981000"/>
            <a:ext cx="7417080" cy="330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ЮБОВНАЯ  ЛИР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.С.ПУШКИНА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9280" y="230760"/>
            <a:ext cx="374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на мила - скажу меж нами –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дворных витязей гроза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можно с южными звездами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равнить, особенно стихами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ё черкесские глаза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на владеет ими смело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ни горят огня живей;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о, сам признайся, то ли дело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за Олениной моей!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акой задумчивый в них гений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сколько детской простоты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сколько томных выражений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сколько неги и мечты!.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тупит их с улыбкой Леля –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них скромных граций торжество;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днимет - ангел Рафаэля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ак созерцает боже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828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219640" y="2060640"/>
            <a:ext cx="3456000" cy="4176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140360" y="333360"/>
            <a:ext cx="467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.А.ОЛЕН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140360" y="1172880"/>
            <a:ext cx="4608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жель умолк волшебный глас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меновой, сей чудной музы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жель навек, оставя нас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на расторгла с Фебом узы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славы русской луч угас!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верю, вновь она восстанет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й вновь готова дань сердец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 нами долго не увянет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ё торжественный венец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для нее любовник славы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персник важных аонид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ладой Катенин воскресит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фокла гений величавый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ей порфиру возврат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«В кругу семей, в пирах счастливых...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313080" cy="388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324000" y="476280"/>
            <a:ext cx="388764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.С.СЕМЁНО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Евдокия Ильинична Истомина"/>
          <p:cNvPicPr/>
          <p:nvPr/>
        </p:nvPicPr>
        <p:blipFill>
          <a:blip r:embed="rId1"/>
          <a:stretch/>
        </p:blipFill>
        <p:spPr>
          <a:xfrm>
            <a:off x="395280" y="2637000"/>
            <a:ext cx="3313080" cy="3887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00720" y="182160"/>
            <a:ext cx="41749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еатр уж полон; ложи блещут;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артер и кресла - все кипит;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райке нетерпеливо плещут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, взвившись, занавес шумит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листательна, полувоздушна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мычку волшебному послушна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олпою нимф окружена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тоит Истомина; она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дной ногой касаясь пола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ругою медленно кружит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 вдруг прыжок, и вдруг летит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етит, как пух от уст Эола;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о стан совьет, то разовьет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 быстрой ножкой ножку бь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«Евгений Онегин», глава I, строфа X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 rot="20841000">
            <a:off x="150840" y="628560"/>
            <a:ext cx="4029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.И.ИСТОМ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71640" y="333360"/>
            <a:ext cx="712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.Н.ГОНЧАРО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188360"/>
            <a:ext cx="561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воспоминаний Д.Ф.Фикельмон: «…Пушкин приехал из Москвы и привез свою жену… Я видела ее у маменьки – это очень молодая и очень красивая особа, тонкая, стройная, высокая – лицо Мадонны, чрезвычайно бледное, с кротким, застенчивым и меланхолическим выражением, глаза зеленовато-карие, светлые и прозрачные, взгляд не то чтобы косящий, но неопределенный, - тонкие черты, красивые черные волосы…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95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600360" cy="4680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042920" y="404640"/>
            <a:ext cx="7489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МАДОННА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/>
          <p:nvPr/>
        </p:nvSpPr>
        <p:spPr>
          <a:xfrm>
            <a:off x="4067280" y="1773360"/>
            <a:ext cx="47527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нились мои жел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вор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бя мне ниспослал, тебя, моя Мадон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истейшей прелести чистейший образе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8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751640" cy="3168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403280" y="40464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 И  О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4941720"/>
            <a:ext cx="748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 вас любил так искренно, так неж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дай Вам Бог любимой быть друг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692360" y="404640"/>
            <a:ext cx="590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1279800"/>
            <a:ext cx="705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Я думал, сердце позабы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пособность легкую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Я говорил: тому, что бы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ж не бывать! Уж не бы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ошли восторги, и печ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легковерные мечт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о вот опять затрепе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ед мощной властью кра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83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424240"/>
            <a:ext cx="845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ушкин А.С. «Я помню чудное мгновенье…». Стихотворения / Сост. С.Селиванова. – М.: Эксмо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Пушкин в школе / Составитель В. Я. Коровина– М.: РОСТ, 199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катов Н. Пушкин. Очерк жизни и творчества. – Л.: Детская литература, 199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Тынянов Ю. Пушкин. – М.: Книга, 198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Чижова И. Б. Души волшебное светило. – Л.: Лениздат, 19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47640" y="692280"/>
            <a:ext cx="6264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ьзуемые материал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Познакомиться с любовными адресатами лирики А.С.Пушк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Изучение любовной лирики А.С.Пушкина в эволю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Развитие ассоциативного мышления и творческого воображения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87280" y="333360"/>
            <a:ext cx="6697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И  И  ЗАДАЧ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671640" cy="489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28560" y="549360"/>
            <a:ext cx="7886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деал в любовной лирике А.С. Пушк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1916280"/>
            <a:ext cx="4464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к и мне узнать случило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за птица Купид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рдце страстное пленилос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знаюсь – и я влюблён!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826920" y="189000"/>
            <a:ext cx="7705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ДРЕСАТЫ  ЛИРИ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.С.ПУШК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484280"/>
            <a:ext cx="8893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юбовь для А.С.Пушкина – лирика – предм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сокой поэз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его стихотворениях выражены  философ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ставления поэта о Женщине как о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точнике красоты, гармонии, неизъясни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лажд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ушкин любил женщин, он воспел Женщ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692360" y="692280"/>
            <a:ext cx="60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. П. К Е Р Н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2060640"/>
            <a:ext cx="540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 помню чудное мгнов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до мной явилась 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мимолётное вид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гений чистой красот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867280" y="2205000"/>
            <a:ext cx="2952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21170400">
            <a:off x="826920" y="404280"/>
            <a:ext cx="513432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.Н.Раевск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2881080" cy="3560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08360" y="2133720"/>
            <a:ext cx="5256360" cy="46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воя печальная пусты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ледний звук твоих ре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 сокровище, святы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а любовь души мо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из посвящения к «Полтаве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26920" y="549360"/>
            <a:ext cx="720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.К.ВОРОНЦО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060640"/>
            <a:ext cx="6012000" cy="30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м, под заветными скал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перь она сидит, печальна и одн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икто её любви небесной не досто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«Ненастный день потух…», 18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651640" y="1700280"/>
            <a:ext cx="3313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 rot="442800">
            <a:off x="658440" y="547200"/>
            <a:ext cx="76327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МАЛИЯ  РИЗНИ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024000" cy="4104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08360" y="1989000"/>
            <a:ext cx="518472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стишь ли мне ревнивые меч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ей любви безумное волнень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ы мне верна: зачем же любишь 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егда пугать моё воображень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«Простишь ли мне…», 18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 rot="20926200">
            <a:off x="371520" y="762120"/>
            <a:ext cx="669132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КАТЕРИНЕ  УШАКОВ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3168720" cy="4392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2852640"/>
            <a:ext cx="5616360" cy="28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гда я слышу голос т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речи резвые, жив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 очарован, я гор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содрогаюсь пред тобо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«Когда, бывало» в старину…», 18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8:14:44Z</dcterms:created>
  <dc:creator>Света</dc:creator>
  <dc:description/>
  <dc:language>en-US</dc:language>
  <cp:lastModifiedBy>Света</cp:lastModifiedBy>
  <dcterms:modified xsi:type="dcterms:W3CDTF">2009-03-16T12:36:08Z</dcterms:modified>
  <cp:revision>7</cp:revision>
  <dc:subject/>
  <dc:title>Слайд 1</dc:title>
</cp:coreProperties>
</file>