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E8B-6EDB-4C9F-BBF1-2A4FCB65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0E3-825C-44CC-902C-A86ABBB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18E-7494-42CE-BAC7-39238274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009-8C79-4015-8AA9-118141DC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B84-4268-4E1A-8C39-8A69190A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7D5-3574-4854-8F31-735A471C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E2C-A643-42E9-A27E-7F3B2D80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BE1-2EB7-4896-A49F-89EBB5B1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B1B-6D7D-49DD-B5FF-ED73FAA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C48-86E8-45DE-B1CB-84DE80F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193-B1C5-406A-AE3E-1B4E001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14B-D3C7-4D4B-85F9-8BCB6A3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C21E-798B-4276-B7D9-CD498D8FB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900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 «Краснозаводская средняя общеобразовательная  школа №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7340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Анашкин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981000"/>
            <a:ext cx="7417080" cy="33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БОВНАЯ  ЛИР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С.ПУШКИНА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230760"/>
            <a:ext cx="37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мила - скажу меж нами –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дворных витязей гроз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можно с южными звездами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авнить, особенно стихами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ё черкесские глаз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владеет ими смело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и горят огня живей;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, сам признайся, то ли дело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за Олениной моей!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ой задумчивый в них гений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детской простоты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томных выражений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неги и мечты!.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тупит их с улыбкой Леля –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их скромных граций торжество;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нимет - ангел Рафаэля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ак созерцает бож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828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45600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140360" y="333360"/>
            <a:ext cx="46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А.ОЛЕН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40360" y="1172880"/>
            <a:ext cx="4608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жель умолк волшебный гла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меновой, сей чудной муз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жель навек, оставя нас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а расторгла с Фебом уз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славы русской луч угас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ерю, вновь она восстанет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й вновь готова дань сердец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 нами долго не увянет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ё торжественный венец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для нее любовник слав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ерсник важных аонид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ладой Катенин воскресит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фокла гений величавый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ей порфиру возвра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«В кругу семей, в пирах счастливых...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130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476280"/>
            <a:ext cx="38876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С.СЕМЁН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Евдокия Ильинична Истомина"/>
          <p:cNvPicPr/>
          <p:nvPr/>
        </p:nvPicPr>
        <p:blipFill>
          <a:blip r:embed="rId1"/>
          <a:stretch/>
        </p:blipFill>
        <p:spPr>
          <a:xfrm>
            <a:off x="395280" y="2637000"/>
            <a:ext cx="3313080" cy="388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82160"/>
            <a:ext cx="41749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еатр уж полон; ложи блещу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ртер и кресла - все кипи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райке нетерпеливо плещу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, взвившись, занавес шумит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листательна, полувоздуш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ычку волшебному послуш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олпою нимф окруже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оит Истомина; о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дной ногой касаясь пол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ругою медленно кружи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вдруг прыжок, и вдруг лети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тит, как пух от уст Эола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о стан совьет, то разовь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быстрой ножкой ножку бь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«Евгений Онегин», глава I, строфа 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20841000">
            <a:off x="150840" y="628560"/>
            <a:ext cx="4029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И.ИСТОМ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71640" y="33336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Н.ГОНЧАР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188360"/>
            <a:ext cx="56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воспоминаний Д.Ф.Фикельмон: «…Пушкин приехал из Москвы и привез свою жену… Я видела ее у маменьки – это очень молодая и очень красивая особа, тонкая, стройная, высокая – лицо Мадонны, чрезвычайно бледное, с кротким, застенчивым и меланхолическим выражением, глаза зеленовато-карие, светлые и прозрачные, взгляд не то чтобы косящий, но неопределенный, - тонкие черты, красивые черные волосы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5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042920" y="404640"/>
            <a:ext cx="748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МАДОННА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1773360"/>
            <a:ext cx="475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ились мои жел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бя мне ниспослал, тебя, моя Мадо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тейшей прелести чистейший образе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751640" cy="316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03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И  О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941720"/>
            <a:ext cx="74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40464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279800"/>
            <a:ext cx="70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думал, сердце поза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пособность легку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говорил: тому, что бы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ж не бывать! Уж не бы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шли восторги, и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легковерные меч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 вот опять затреп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 мощной властью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3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424240"/>
            <a:ext cx="84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ушкин А.С. «Я помню чудное мгновенье…». Стихотворения / Сост. С.Селиванова. – М.: Эксмо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ушкин в школе / Составитель В. Я. Коровина– М.: РОСТ,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катов Н. Пушкин. Очерк жизни и творчества. – Л.: Детская литература,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Тынянов Ю. Пушкин. – М.: Книга, 19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ижова И. Б. Души волшебное светило. – Л.: Лениздат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47640" y="692280"/>
            <a:ext cx="626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уемые материал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Познакомиться с любовными адресатами лирики А.С.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Изучение любовной лирики А.С.Пушкина в эволю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Развитие ассоциативного мышления и творческого воображе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333360"/>
            <a:ext cx="6697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 И  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28560" y="549360"/>
            <a:ext cx="7886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еал в любовной лирике А.С. 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916280"/>
            <a:ext cx="446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 и мне узнать случило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за птица Купид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дце страстное пленило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юсь – и я влюблён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189000"/>
            <a:ext cx="77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РЕСАТЫ  ЛИР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С.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484280"/>
            <a:ext cx="88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бовь для А.С.Пушкина – лирика – предм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кой поэ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его стихотворениях выражены  философ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я поэта о Женщине как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е красоты, гармонии, неизъясн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ажд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шкин любил женщин, он воспел Женщ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92360" y="692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 П. К Е Р Н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060640"/>
            <a:ext cx="54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помню чудное мгнов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до мной явилась 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имолётное вид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гений чистой красо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952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21170400">
            <a:off x="826920" y="404280"/>
            <a:ext cx="51343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Н.Раев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881080" cy="356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2133720"/>
            <a:ext cx="525636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я печальная пусты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ний звук твоих ре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 сокровище, святы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а любовь души м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из посвящения к «Полтав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549360"/>
            <a:ext cx="720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К.ВОРОНЦ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60640"/>
            <a:ext cx="6012000" cy="30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м, под заветными скал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перь она сидит, печальна и од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то её любви небесной не досто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Ненастный день потух…», 18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31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442800">
            <a:off x="658440" y="547200"/>
            <a:ext cx="7632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АЛИЯ  РИЗНИ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024000" cy="410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360" y="1989000"/>
            <a:ext cx="518472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тишь ли мне ревнивые меч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ей любви безумное волнен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ы мне верна: зачем же любишь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гда пугать моё воображен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Простишь ли мне…», 18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20926200">
            <a:off x="371520" y="762120"/>
            <a:ext cx="66913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КАТЕРИНЕ  УШАКО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16872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2852640"/>
            <a:ext cx="561636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 я слышу голос т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речи резвые, жив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очарован, я го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одрогаюсь пред тоб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Когда, бывало» в старину…», 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14:44Z</dcterms:created>
  <dc:creator>Света</dc:creator>
  <dc:description/>
  <dc:language>en-US</dc:language>
  <cp:lastModifiedBy>Света</cp:lastModifiedBy>
  <dcterms:modified xsi:type="dcterms:W3CDTF">2009-03-16T12:36:08Z</dcterms:modified>
  <cp:revision>7</cp:revision>
  <dc:subject/>
  <dc:title>Слайд 1</dc:title>
</cp:coreProperties>
</file>