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E14-0C36-4DCE-A19F-98FFB790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B85-B724-4A0A-8F30-6956809F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0AA-B38A-4D8A-BE0B-7510463F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54F-3C8E-4890-9E4D-CE851A9E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A03-321E-4AD7-9696-9256BEB9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087-FD07-4D28-89CB-30515D79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F47-D3FC-4588-8185-339B636A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00B-A6D7-440A-BF4E-09E97A2E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575-7804-463A-9E0F-4D70EBB7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30E-0ABC-40E3-A2B0-0B9B1080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16C-CAC5-4E08-B8EC-5A0ECA09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AC9-5F55-4971-B990-AA71D4A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552A-B3D5-4812-B3EB-FA6D2BFF4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Box 7" descr=""/>
          <p:cNvPicPr/>
          <p:nvPr/>
        </p:nvPicPr>
        <p:blipFill>
          <a:blip r:embed="rId1"/>
          <a:stretch/>
        </p:blipFill>
        <p:spPr>
          <a:xfrm>
            <a:off x="4632480" y="4406760"/>
            <a:ext cx="4530600" cy="104328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8" descr=""/>
          <p:cNvPicPr/>
          <p:nvPr/>
        </p:nvPicPr>
        <p:blipFill>
          <a:blip r:embed="rId2"/>
          <a:stretch/>
        </p:blipFill>
        <p:spPr>
          <a:xfrm>
            <a:off x="1384200" y="6308640"/>
            <a:ext cx="4407120" cy="4399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6" descr=""/>
          <p:cNvPicPr/>
          <p:nvPr/>
        </p:nvPicPr>
        <p:blipFill>
          <a:blip r:embed="rId3"/>
          <a:stretch/>
        </p:blipFill>
        <p:spPr>
          <a:xfrm>
            <a:off x="1328760" y="1895400"/>
            <a:ext cx="63403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832680" y="141228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ление  опорной таблицы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8200" y="47520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о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2205000"/>
          <a:ext cx="7345440" cy="555840"/>
        </p:xfrm>
        <a:graphic>
          <a:graphicData uri="http://schemas.openxmlformats.org/drawingml/2006/table">
            <a:tbl>
              <a:tblPr/>
              <a:tblGrid>
                <a:gridCol w="3961080"/>
                <a:gridCol w="3384360"/>
              </a:tblGrid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ая? (какой?, какое?)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18"/>
          <p:cNvSpPr/>
          <p:nvPr/>
        </p:nvSpPr>
        <p:spPr>
          <a:xfrm>
            <a:off x="468360" y="30679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ыбор объ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3775680" y="364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71640" y="4581360"/>
          <a:ext cx="7345440" cy="555840"/>
        </p:xfrm>
        <a:graphic>
          <a:graphicData uri="http://schemas.openxmlformats.org/drawingml/2006/table">
            <a:tbl>
              <a:tblPr/>
              <a:tblGrid>
                <a:gridCol w="3960720"/>
                <a:gridCol w="3384720"/>
              </a:tblGrid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ой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4000" y="25956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полнение левой части таблицы: «Какой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87280" y="1413000"/>
          <a:ext cx="6077160" cy="198576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ой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 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30"/>
          <p:cNvSpPr/>
          <p:nvPr/>
        </p:nvSpPr>
        <p:spPr>
          <a:xfrm>
            <a:off x="303120" y="3490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полнение правой части таблицы: «Что такое ж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89240" y="4470480"/>
          <a:ext cx="6076800" cy="208908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о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 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49"/>
          <p:cNvSpPr/>
          <p:nvPr/>
        </p:nvSpPr>
        <p:spPr>
          <a:xfrm>
            <a:off x="3888360" y="8352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0"/>
          <p:cNvSpPr/>
          <p:nvPr/>
        </p:nvSpPr>
        <p:spPr>
          <a:xfrm>
            <a:off x="3796920" y="39762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66280" y="549000"/>
            <a:ext cx="609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ставка «слов – связки» - НО, 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ие загадки о ТЕМБ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55640" y="1964520"/>
            <a:ext cx="6408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Загад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ский, но не во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ий, но не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ий, но не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6156360" y="2997360"/>
            <a:ext cx="20160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538560" y="47520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ти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832680" y="141228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ление  опорной таблицы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2205000"/>
          <a:ext cx="8280360" cy="822240"/>
        </p:xfrm>
        <a:graphic>
          <a:graphicData uri="http://schemas.openxmlformats.org/drawingml/2006/table">
            <a:tbl>
              <a:tblPr/>
              <a:tblGrid>
                <a:gridCol w="4176720"/>
                <a:gridCol w="41036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8"/>
          <p:cNvSpPr/>
          <p:nvPr/>
        </p:nvSpPr>
        <p:spPr>
          <a:xfrm>
            <a:off x="826920" y="3572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ыбор объ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3542040" y="421992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4724280"/>
          <a:ext cx="8280360" cy="822600"/>
        </p:xfrm>
        <a:graphic>
          <a:graphicData uri="http://schemas.openxmlformats.org/drawingml/2006/table">
            <a:tbl>
              <a:tblPr/>
              <a:tblGrid>
                <a:gridCol w="4176720"/>
                <a:gridCol w="41036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24000" y="475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полнение левой части таблицы: «Что   делае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87280" y="1989000"/>
          <a:ext cx="6048720" cy="2621160"/>
        </p:xfrm>
        <a:graphic>
          <a:graphicData uri="http://schemas.openxmlformats.org/drawingml/2006/table">
            <a:tbl>
              <a:tblPr/>
              <a:tblGrid>
                <a:gridCol w="3024360"/>
                <a:gridCol w="3024360"/>
              </a:tblGrid>
              <a:tr h="124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м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ет рит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6"/>
          <p:cNvSpPr/>
          <p:nvPr/>
        </p:nvSpPr>
        <p:spPr>
          <a:xfrm>
            <a:off x="3452760" y="141156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0920" y="47592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полнение правой части таблицы: «Кто (что) делает такое же действи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470400" y="14115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7280" y="1989000"/>
          <a:ext cx="6048720" cy="2792520"/>
        </p:xfrm>
        <a:graphic>
          <a:graphicData uri="http://schemas.openxmlformats.org/drawingml/2006/table">
            <a:tbl>
              <a:tblPr/>
              <a:tblGrid>
                <a:gridCol w="3024360"/>
                <a:gridCol w="3024360"/>
              </a:tblGrid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ми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ет рит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рон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6"/>
          <p:cNvSpPr/>
          <p:nvPr/>
        </p:nvSpPr>
        <p:spPr>
          <a:xfrm>
            <a:off x="689400" y="5084640"/>
            <a:ext cx="580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ставка «слов – связки» - А, 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ие загадки о бараб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68360" y="1206360"/>
            <a:ext cx="6408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Загад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удит, а не ве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емит, а не г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ет ритм, а не метр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6622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47640" y="2060640"/>
          <a:ext cx="6077160" cy="55548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11280" y="3284640"/>
          <a:ext cx="8137440" cy="555480"/>
        </p:xfrm>
        <a:graphic>
          <a:graphicData uri="http://schemas.openxmlformats.org/drawingml/2006/table">
            <a:tbl>
              <a:tblPr/>
              <a:tblGrid>
                <a:gridCol w="4032000"/>
                <a:gridCol w="41054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ая? (какой?, какое?)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такое 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9640" y="4869000"/>
          <a:ext cx="8136000" cy="822240"/>
        </p:xfrm>
        <a:graphic>
          <a:graphicData uri="http://schemas.openxmlformats.org/drawingml/2006/table">
            <a:tbl>
              <a:tblPr/>
              <a:tblGrid>
                <a:gridCol w="4173480"/>
                <a:gridCol w="396252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делает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то (что) делает такое же действи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WordArt 26"/>
          <p:cNvSpPr txBox="1"/>
          <p:nvPr/>
        </p:nvSpPr>
        <p:spPr>
          <a:xfrm>
            <a:off x="2050920" y="333360"/>
            <a:ext cx="5257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ЕНИНГ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3866040" y="1484280"/>
            <a:ext cx="11988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, 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3924360" y="2781360"/>
            <a:ext cx="12952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3995640" y="4292640"/>
            <a:ext cx="12970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24000" y="2274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ление загадок коллективно для одного отгад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5280" y="34272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ление и загадывание загадок детей друг другу в двух командах или под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95280" y="465156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ление загадок дома по опорным таблиц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extBox 5" descr=""/>
          <p:cNvPicPr/>
          <p:nvPr/>
        </p:nvPicPr>
        <p:blipFill>
          <a:blip r:embed="rId1"/>
          <a:stretch/>
        </p:blipFill>
        <p:spPr>
          <a:xfrm>
            <a:off x="1328760" y="542880"/>
            <a:ext cx="65530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1"/>
          <a:stretch/>
        </p:blipFill>
        <p:spPr>
          <a:xfrm>
            <a:off x="669960" y="2548080"/>
            <a:ext cx="8089920" cy="37242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3" descr=""/>
          <p:cNvPicPr/>
          <p:nvPr/>
        </p:nvPicPr>
        <p:blipFill>
          <a:blip r:embed="rId2"/>
          <a:stretch/>
        </p:blipFill>
        <p:spPr>
          <a:xfrm>
            <a:off x="1689120" y="907920"/>
            <a:ext cx="59799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371520" y="1536840"/>
            <a:ext cx="8448480" cy="4924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" descr=""/>
          <p:cNvPicPr/>
          <p:nvPr/>
        </p:nvPicPr>
        <p:blipFill>
          <a:blip r:embed="rId2"/>
          <a:stretch/>
        </p:blipFill>
        <p:spPr>
          <a:xfrm>
            <a:off x="603360" y="828720"/>
            <a:ext cx="27921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9640" y="1268280"/>
            <a:ext cx="806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8"/>
                    </a:gs>
                    <a:gs pos="100000">
                      <a:srgbClr val="efeff7"/>
                    </a:gs>
                  </a:gsLst>
                  <a:lin ang="5400000"/>
                </a:gradFill>
                <a:latin typeface="+mn-lt"/>
              </a:rPr>
              <a:t>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8"/>
                  </a:gs>
                  <a:gs pos="100000">
                    <a:srgbClr val="efeff7"/>
                  </a:gs>
                </a:gsLst>
                <a:lin ang="5400000"/>
              </a:gradFill>
              <a:latin typeface="+mn-lt"/>
              <a:ea typeface="+mn-lt"/>
            </a:endParaRPr>
          </a:p>
        </p:txBody>
      </p:sp>
      <p:pic>
        <p:nvPicPr>
          <p:cNvPr id="49" name="TextBox 2" descr=""/>
          <p:cNvPicPr/>
          <p:nvPr/>
        </p:nvPicPr>
        <p:blipFill>
          <a:blip r:embed="rId1"/>
          <a:stretch/>
        </p:blipFill>
        <p:spPr>
          <a:xfrm>
            <a:off x="1298520" y="1663560"/>
            <a:ext cx="629136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4360" y="1449360"/>
            <a:ext cx="75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едварительная рабо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учить детей сравнивать предм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 На что похож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3492360" y="549360"/>
            <a:ext cx="163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ЭТАП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4" descr="MCj04300270000[1]"/>
          <p:cNvPicPr/>
          <p:nvPr/>
        </p:nvPicPr>
        <p:blipFill>
          <a:blip r:embed="rId1"/>
          <a:stretch/>
        </p:blipFill>
        <p:spPr>
          <a:xfrm>
            <a:off x="6012000" y="3068640"/>
            <a:ext cx="2003400" cy="9460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pic>
        <p:nvPicPr>
          <p:cNvPr id="53" name="Picture 6" descr="MPj04073620000[1]"/>
          <p:cNvPicPr/>
          <p:nvPr/>
        </p:nvPicPr>
        <p:blipFill>
          <a:blip r:embed="rId2"/>
          <a:stretch/>
        </p:blipFill>
        <p:spPr>
          <a:xfrm>
            <a:off x="6372360" y="4149720"/>
            <a:ext cx="1439640" cy="115092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024360" cy="3024360"/>
          </a:xfrm>
          <a:prstGeom prst="rect">
            <a:avLst/>
          </a:prstGeom>
          <a:ln w="76320">
            <a:solidFill>
              <a:srgbClr val="003399"/>
            </a:solidFill>
            <a:miter/>
          </a:ln>
        </p:spPr>
      </p:pic>
      <p:pic>
        <p:nvPicPr>
          <p:cNvPr id="55" name="Picture 8" descr=""/>
          <p:cNvPicPr/>
          <p:nvPr/>
        </p:nvPicPr>
        <p:blipFill>
          <a:blip r:embed="rId4"/>
          <a:stretch/>
        </p:blipFill>
        <p:spPr>
          <a:xfrm>
            <a:off x="6300720" y="5445000"/>
            <a:ext cx="1511280" cy="124164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56" name="Line 9"/>
          <p:cNvSpPr/>
          <p:nvPr/>
        </p:nvSpPr>
        <p:spPr>
          <a:xfrm flipV="1">
            <a:off x="3851280" y="3716280"/>
            <a:ext cx="2089080" cy="100800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851280" y="4724280"/>
            <a:ext cx="23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3851280" y="4724280"/>
            <a:ext cx="2376360" cy="13687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3492360" y="549360"/>
            <a:ext cx="163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ЭТАП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476360" y="1412640"/>
            <a:ext cx="613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Алгоритм сочинения загадок по опорным таб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94920" y="260244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908640" y="3583800"/>
            <a:ext cx="73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Составление  опорной таблицы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19280" y="4221000"/>
          <a:ext cx="6076800" cy="55584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20"/>
          <p:cNvSpPr/>
          <p:nvPr/>
        </p:nvSpPr>
        <p:spPr>
          <a:xfrm>
            <a:off x="0" y="367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68360" y="3992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ыбор объ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627720" y="97488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76360" y="1557360"/>
          <a:ext cx="6076800" cy="57636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2"/>
          <p:cNvSpPr/>
          <p:nvPr/>
        </p:nvSpPr>
        <p:spPr>
          <a:xfrm>
            <a:off x="395280" y="22032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полнение левой части таблицы: «На что похож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3556080" y="313560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47640" y="3789360"/>
          <a:ext cx="6077160" cy="170640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доч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ксо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24000" y="2599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полнение правой части таблицы: «Чем отличается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419640" y="1195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03280" y="1989000"/>
          <a:ext cx="6077160" cy="207180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51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что похоже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м отличается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доч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кс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отверс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ьзя опере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н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32"/>
          <p:cNvSpPr/>
          <p:nvPr/>
        </p:nvSpPr>
        <p:spPr>
          <a:xfrm>
            <a:off x="544680" y="4005000"/>
            <a:ext cx="635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ставка «слов – связки» - КАК, 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ие загадки о КЛАР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00000" y="810360"/>
            <a:ext cx="7488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Загад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дудочка, но больше отверс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трость, но нельзя опере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клаксон, но дли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4608360" y="3429000"/>
            <a:ext cx="36878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9:33:18Z</dcterms:created>
  <dc:creator>МДОУ-2</dc:creator>
  <dc:description/>
  <dc:language>en-US</dc:language>
  <cp:lastModifiedBy>AgapovaIU</cp:lastModifiedBy>
  <dcterms:modified xsi:type="dcterms:W3CDTF">2015-10-06T06:13:52Z</dcterms:modified>
  <cp:revision>23</cp:revision>
  <dc:subject/>
  <dc:title>Слайд 1</dc:title>
</cp:coreProperties>
</file>