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D5F1-73C3-4EAA-A833-A1670C580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C597-4D64-44DA-937A-D83308E4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266C-EB04-478E-B2BD-42A0B44F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60CD-E109-4F08-9D09-2B10F75E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F22E-D6D4-4B78-9075-CA276625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3A02-A041-472B-97DA-417E59DF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40AC-8F88-4F2D-BF55-580F8BA2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2023-92F1-4EA0-9BCB-DFA164F0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6317-FAB6-4E44-BFF0-34707CB3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7E54-3CD5-4FCD-AA2B-6B936CEB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875D-05D1-4C9A-B0FC-2B4DBDE1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572D-FFDC-4B76-A1CA-6B4E96C6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4B3F-BD50-44D6-82BA-1E1A8FEDF7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 Box 7" descr=""/>
          <p:cNvPicPr/>
          <p:nvPr/>
        </p:nvPicPr>
        <p:blipFill>
          <a:blip r:embed="rId1"/>
          <a:stretch/>
        </p:blipFill>
        <p:spPr>
          <a:xfrm>
            <a:off x="4632480" y="4406760"/>
            <a:ext cx="4530600" cy="1043280"/>
          </a:xfrm>
          <a:prstGeom prst="rect">
            <a:avLst/>
          </a:prstGeom>
          <a:ln w="0">
            <a:noFill/>
          </a:ln>
        </p:spPr>
      </p:pic>
      <p:pic>
        <p:nvPicPr>
          <p:cNvPr id="42" name="Text Box 8" descr=""/>
          <p:cNvPicPr/>
          <p:nvPr/>
        </p:nvPicPr>
        <p:blipFill>
          <a:blip r:embed="rId2"/>
          <a:stretch/>
        </p:blipFill>
        <p:spPr>
          <a:xfrm>
            <a:off x="1384200" y="6308640"/>
            <a:ext cx="4407120" cy="43992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6" descr=""/>
          <p:cNvPicPr/>
          <p:nvPr/>
        </p:nvPicPr>
        <p:blipFill>
          <a:blip r:embed="rId3"/>
          <a:stretch/>
        </p:blipFill>
        <p:spPr>
          <a:xfrm>
            <a:off x="1328760" y="1895400"/>
            <a:ext cx="63403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832680" y="1412280"/>
            <a:ext cx="658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оставление  опорной таблицы ви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38200" y="475200"/>
            <a:ext cx="322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торой спос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39640" y="2205000"/>
          <a:ext cx="7345440" cy="555840"/>
        </p:xfrm>
        <a:graphic>
          <a:graphicData uri="http://schemas.openxmlformats.org/drawingml/2006/table">
            <a:tbl>
              <a:tblPr/>
              <a:tblGrid>
                <a:gridCol w="3961080"/>
                <a:gridCol w="3384360"/>
              </a:tblGrid>
              <a:tr h="55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акая? (какой?, какое?)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то такое же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Rectangle 18"/>
          <p:cNvSpPr/>
          <p:nvPr/>
        </p:nvSpPr>
        <p:spPr>
          <a:xfrm>
            <a:off x="468360" y="306792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Выбор объек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9"/>
          <p:cNvSpPr/>
          <p:nvPr/>
        </p:nvSpPr>
        <p:spPr>
          <a:xfrm>
            <a:off x="3775680" y="364356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Б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71640" y="4581360"/>
          <a:ext cx="7345440" cy="555840"/>
        </p:xfrm>
        <a:graphic>
          <a:graphicData uri="http://schemas.openxmlformats.org/drawingml/2006/table">
            <a:tbl>
              <a:tblPr/>
              <a:tblGrid>
                <a:gridCol w="3960720"/>
                <a:gridCol w="3384720"/>
              </a:tblGrid>
              <a:tr h="55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акой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то такое же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324000" y="25956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Заполнение левой части таблицы: «Какой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187280" y="1413000"/>
          <a:ext cx="6077160" cy="1985760"/>
        </p:xfrm>
        <a:graphic>
          <a:graphicData uri="http://schemas.openxmlformats.org/drawingml/2006/table">
            <a:tbl>
              <a:tblPr/>
              <a:tblGrid>
                <a:gridCol w="3038760"/>
                <a:gridCol w="3038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акой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то такое же? 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7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к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Rectangle 30"/>
          <p:cNvSpPr/>
          <p:nvPr/>
        </p:nvSpPr>
        <p:spPr>
          <a:xfrm>
            <a:off x="303120" y="349056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Заполнение правой части таблицы: «Что такое же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389240" y="4470480"/>
          <a:ext cx="6076800" cy="2089080"/>
        </p:xfrm>
        <a:graphic>
          <a:graphicData uri="http://schemas.openxmlformats.org/drawingml/2006/table">
            <a:tbl>
              <a:tblPr/>
              <a:tblGrid>
                <a:gridCol w="3038400"/>
                <a:gridCol w="3038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акое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то такое же? 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0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Rectangle 49"/>
          <p:cNvSpPr/>
          <p:nvPr/>
        </p:nvSpPr>
        <p:spPr>
          <a:xfrm>
            <a:off x="3888360" y="83520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Б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0"/>
          <p:cNvSpPr/>
          <p:nvPr/>
        </p:nvSpPr>
        <p:spPr>
          <a:xfrm>
            <a:off x="3796920" y="397620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Б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9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9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566280" y="549000"/>
            <a:ext cx="6099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Вставка «слов – связки» - НО, 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авление загадки о ТЕМБ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755640" y="1964520"/>
            <a:ext cx="640872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8920" indent="-8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Загад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тский, но не возра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сокий, но не 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ркий, но не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50007" t="0" r="0" b="0"/>
          <a:stretch/>
        </p:blipFill>
        <p:spPr>
          <a:xfrm>
            <a:off x="6156360" y="2997360"/>
            <a:ext cx="201600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9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9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9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9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538560" y="475200"/>
            <a:ext cx="316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етий спос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832680" y="1412280"/>
            <a:ext cx="658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оставление  опорной таблицы ви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39640" y="2205000"/>
          <a:ext cx="8280360" cy="822240"/>
        </p:xfrm>
        <a:graphic>
          <a:graphicData uri="http://schemas.openxmlformats.org/drawingml/2006/table">
            <a:tbl>
              <a:tblPr/>
              <a:tblGrid>
                <a:gridCol w="4176720"/>
                <a:gridCol w="4103640"/>
              </a:tblGrid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то делает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то (что) делает такое же действие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Rectangle 18"/>
          <p:cNvSpPr/>
          <p:nvPr/>
        </p:nvSpPr>
        <p:spPr>
          <a:xfrm>
            <a:off x="826920" y="357264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Выбор объек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3542040" y="421992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АБ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8360" y="4724280"/>
          <a:ext cx="8280360" cy="822600"/>
        </p:xfrm>
        <a:graphic>
          <a:graphicData uri="http://schemas.openxmlformats.org/drawingml/2006/table">
            <a:tbl>
              <a:tblPr/>
              <a:tblGrid>
                <a:gridCol w="4176720"/>
                <a:gridCol w="4103640"/>
              </a:tblGrid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то делает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то (что) делает такое же действие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9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324000" y="47592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Заполнение левой части таблицы: «Что   делает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187280" y="1989000"/>
          <a:ext cx="6048720" cy="2621160"/>
        </p:xfrm>
        <a:graphic>
          <a:graphicData uri="http://schemas.openxmlformats.org/drawingml/2006/table">
            <a:tbl>
              <a:tblPr/>
              <a:tblGrid>
                <a:gridCol w="3024360"/>
                <a:gridCol w="3024360"/>
              </a:tblGrid>
              <a:tr h="1249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то делает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то (что) делает такое же действие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уд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ем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здает рит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16"/>
          <p:cNvSpPr/>
          <p:nvPr/>
        </p:nvSpPr>
        <p:spPr>
          <a:xfrm>
            <a:off x="3452760" y="1411560"/>
            <a:ext cx="17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РАБ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250920" y="47592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Заполнение правой части таблицы: «Кто (что) делает такое же действие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3470400" y="141156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АБ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87280" y="1989000"/>
          <a:ext cx="6048720" cy="2792520"/>
        </p:xfrm>
        <a:graphic>
          <a:graphicData uri="http://schemas.openxmlformats.org/drawingml/2006/table">
            <a:tbl>
              <a:tblPr/>
              <a:tblGrid>
                <a:gridCol w="3024360"/>
                <a:gridCol w="3024360"/>
              </a:tblGrid>
              <a:tr h="124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то делает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то (что) делает такое же действие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уд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еми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здает рит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т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рон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Rectangle 16"/>
          <p:cNvSpPr/>
          <p:nvPr/>
        </p:nvSpPr>
        <p:spPr>
          <a:xfrm>
            <a:off x="689400" y="5084640"/>
            <a:ext cx="580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Вставка «слов – связки» - А, 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авление загадки о бараб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9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468360" y="1206360"/>
            <a:ext cx="640872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8920" indent="-8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Загад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удит, а не ве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емит, а не гр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здает ритм, а не метро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796000" y="3860640"/>
            <a:ext cx="266220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547640" y="2060640"/>
          <a:ext cx="6077160" cy="555480"/>
        </p:xfrm>
        <a:graphic>
          <a:graphicData uri="http://schemas.openxmlformats.org/drawingml/2006/table">
            <a:tbl>
              <a:tblPr/>
              <a:tblGrid>
                <a:gridCol w="3038760"/>
                <a:gridCol w="3038400"/>
              </a:tblGrid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На что похоже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ем отличается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11280" y="3284640"/>
          <a:ext cx="8137440" cy="555480"/>
        </p:xfrm>
        <a:graphic>
          <a:graphicData uri="http://schemas.openxmlformats.org/drawingml/2006/table">
            <a:tbl>
              <a:tblPr/>
              <a:tblGrid>
                <a:gridCol w="4032000"/>
                <a:gridCol w="4105440"/>
              </a:tblGrid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акая? (какой?, какое?)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то такое же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39640" y="4869000"/>
          <a:ext cx="8136000" cy="822240"/>
        </p:xfrm>
        <a:graphic>
          <a:graphicData uri="http://schemas.openxmlformats.org/drawingml/2006/table">
            <a:tbl>
              <a:tblPr/>
              <a:tblGrid>
                <a:gridCol w="4173480"/>
                <a:gridCol w="3962520"/>
              </a:tblGrid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то делает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то (что) делает такое же действие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WordArt 26"/>
          <p:cNvSpPr txBox="1"/>
          <p:nvPr/>
        </p:nvSpPr>
        <p:spPr>
          <a:xfrm>
            <a:off x="2050920" y="333360"/>
            <a:ext cx="52578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РЕНИНГ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Text Box 29"/>
          <p:cNvSpPr/>
          <p:nvPr/>
        </p:nvSpPr>
        <p:spPr>
          <a:xfrm>
            <a:off x="3866040" y="1484280"/>
            <a:ext cx="119880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, 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0"/>
          <p:cNvSpPr/>
          <p:nvPr/>
        </p:nvSpPr>
        <p:spPr>
          <a:xfrm>
            <a:off x="3924360" y="2781360"/>
            <a:ext cx="129528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, 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1"/>
          <p:cNvSpPr/>
          <p:nvPr/>
        </p:nvSpPr>
        <p:spPr>
          <a:xfrm>
            <a:off x="3995640" y="4292640"/>
            <a:ext cx="129708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, 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324000" y="22748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6040" indent="-176040"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ставление загадок коллективно для одного отгадч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95280" y="34272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6040" indent="-176040">
              <a:buClr>
                <a:srgbClr val="333399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ставление и загадывание загадок детей друг другу в двух командах или подгрупп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333399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395280" y="4651560"/>
            <a:ext cx="842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ставление загадок дома по опорным таблиц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TextBox 5" descr=""/>
          <p:cNvPicPr/>
          <p:nvPr/>
        </p:nvPicPr>
        <p:blipFill>
          <a:blip r:embed="rId1"/>
          <a:stretch/>
        </p:blipFill>
        <p:spPr>
          <a:xfrm>
            <a:off x="1328760" y="542880"/>
            <a:ext cx="655308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ectangle 2" descr=""/>
          <p:cNvPicPr/>
          <p:nvPr/>
        </p:nvPicPr>
        <p:blipFill>
          <a:blip r:embed="rId1"/>
          <a:stretch/>
        </p:blipFill>
        <p:spPr>
          <a:xfrm>
            <a:off x="669960" y="2548080"/>
            <a:ext cx="8089920" cy="3724200"/>
          </a:xfrm>
          <a:prstGeom prst="rect">
            <a:avLst/>
          </a:prstGeom>
          <a:ln w="0">
            <a:noFill/>
          </a:ln>
        </p:spPr>
      </p:pic>
      <p:pic>
        <p:nvPicPr>
          <p:cNvPr id="45" name="WordArt 3" descr=""/>
          <p:cNvPicPr/>
          <p:nvPr/>
        </p:nvPicPr>
        <p:blipFill>
          <a:blip r:embed="rId2"/>
          <a:stretch/>
        </p:blipFill>
        <p:spPr>
          <a:xfrm>
            <a:off x="1689120" y="907920"/>
            <a:ext cx="5979960" cy="15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ctangle 2" descr=""/>
          <p:cNvPicPr/>
          <p:nvPr/>
        </p:nvPicPr>
        <p:blipFill>
          <a:blip r:embed="rId1"/>
          <a:stretch/>
        </p:blipFill>
        <p:spPr>
          <a:xfrm>
            <a:off x="371520" y="1536840"/>
            <a:ext cx="8448480" cy="492444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3" descr=""/>
          <p:cNvPicPr/>
          <p:nvPr/>
        </p:nvPicPr>
        <p:blipFill>
          <a:blip r:embed="rId2"/>
          <a:stretch/>
        </p:blipFill>
        <p:spPr>
          <a:xfrm>
            <a:off x="603360" y="828720"/>
            <a:ext cx="279216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539640" y="1268280"/>
            <a:ext cx="806472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58"/>
                    </a:gs>
                    <a:gs pos="100000">
                      <a:srgbClr val="efeff7"/>
                    </a:gs>
                  </a:gsLst>
                  <a:lin ang="5400000"/>
                </a:gradFill>
                <a:latin typeface="+mn-lt"/>
              </a:rPr>
              <a:t>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58"/>
                  </a:gs>
                  <a:gs pos="100000">
                    <a:srgbClr val="efeff7"/>
                  </a:gs>
                </a:gsLst>
                <a:lin ang="5400000"/>
              </a:gradFill>
              <a:latin typeface="+mn-lt"/>
              <a:ea typeface="+mn-lt"/>
            </a:endParaRPr>
          </a:p>
        </p:txBody>
      </p:sp>
      <p:pic>
        <p:nvPicPr>
          <p:cNvPr id="49" name="TextBox 2" descr=""/>
          <p:cNvPicPr/>
          <p:nvPr/>
        </p:nvPicPr>
        <p:blipFill>
          <a:blip r:embed="rId1"/>
          <a:stretch/>
        </p:blipFill>
        <p:spPr>
          <a:xfrm>
            <a:off x="1298520" y="1663560"/>
            <a:ext cx="629136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84360" y="1449360"/>
            <a:ext cx="756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редварительная работ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научить детей сравнивать предме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« На что похоже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3"/>
          <p:cNvSpPr txBox="1"/>
          <p:nvPr/>
        </p:nvSpPr>
        <p:spPr>
          <a:xfrm>
            <a:off x="3492360" y="549360"/>
            <a:ext cx="1638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3366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 ЭТАП</a:t>
            </a:r>
            <a:endParaRPr b="1" lang="en-US" sz="1800" spc="1" strike="noStrike">
              <a:ln w="12600">
                <a:solidFill>
                  <a:srgbClr val="003366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" name="Picture 4" descr="MCj04300270000[1]"/>
          <p:cNvPicPr/>
          <p:nvPr/>
        </p:nvPicPr>
        <p:blipFill>
          <a:blip r:embed="rId1"/>
          <a:stretch/>
        </p:blipFill>
        <p:spPr>
          <a:xfrm>
            <a:off x="6012000" y="3068640"/>
            <a:ext cx="2003400" cy="946080"/>
          </a:xfrm>
          <a:prstGeom prst="rect">
            <a:avLst/>
          </a:prstGeom>
          <a:ln w="38160">
            <a:solidFill>
              <a:srgbClr val="003399"/>
            </a:solidFill>
            <a:miter/>
          </a:ln>
        </p:spPr>
      </p:pic>
      <p:pic>
        <p:nvPicPr>
          <p:cNvPr id="53" name="Picture 6" descr="MPj04073620000[1]"/>
          <p:cNvPicPr/>
          <p:nvPr/>
        </p:nvPicPr>
        <p:blipFill>
          <a:blip r:embed="rId2"/>
          <a:stretch/>
        </p:blipFill>
        <p:spPr>
          <a:xfrm>
            <a:off x="6372360" y="4149720"/>
            <a:ext cx="1439640" cy="1150920"/>
          </a:xfrm>
          <a:prstGeom prst="rect">
            <a:avLst/>
          </a:prstGeom>
          <a:ln w="38160">
            <a:solidFill>
              <a:srgbClr val="003399"/>
            </a:solidFill>
            <a:miter/>
          </a:ln>
        </p:spPr>
      </p:pic>
      <p:pic>
        <p:nvPicPr>
          <p:cNvPr id="54" name="Picture 7" descr=""/>
          <p:cNvPicPr/>
          <p:nvPr/>
        </p:nvPicPr>
        <p:blipFill>
          <a:blip r:embed="rId3"/>
          <a:stretch/>
        </p:blipFill>
        <p:spPr>
          <a:xfrm>
            <a:off x="826920" y="3429000"/>
            <a:ext cx="3024360" cy="3024360"/>
          </a:xfrm>
          <a:prstGeom prst="rect">
            <a:avLst/>
          </a:prstGeom>
          <a:ln w="76320">
            <a:solidFill>
              <a:srgbClr val="003399"/>
            </a:solidFill>
            <a:miter/>
          </a:ln>
        </p:spPr>
      </p:pic>
      <p:pic>
        <p:nvPicPr>
          <p:cNvPr id="55" name="Picture 8" descr=""/>
          <p:cNvPicPr/>
          <p:nvPr/>
        </p:nvPicPr>
        <p:blipFill>
          <a:blip r:embed="rId4"/>
          <a:stretch/>
        </p:blipFill>
        <p:spPr>
          <a:xfrm>
            <a:off x="6300720" y="5445000"/>
            <a:ext cx="1511280" cy="1241640"/>
          </a:xfrm>
          <a:prstGeom prst="rect">
            <a:avLst/>
          </a:prstGeom>
          <a:ln w="38160">
            <a:solidFill>
              <a:srgbClr val="003399"/>
            </a:solidFill>
            <a:miter/>
          </a:ln>
        </p:spPr>
      </p:pic>
      <p:sp>
        <p:nvSpPr>
          <p:cNvPr id="56" name="Line 9"/>
          <p:cNvSpPr/>
          <p:nvPr/>
        </p:nvSpPr>
        <p:spPr>
          <a:xfrm flipV="1">
            <a:off x="3851280" y="3716280"/>
            <a:ext cx="2089080" cy="1008000"/>
          </a:xfrm>
          <a:prstGeom prst="line">
            <a:avLst/>
          </a:prstGeom>
          <a:ln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3851280" y="4724280"/>
            <a:ext cx="2376360" cy="0"/>
          </a:xfrm>
          <a:prstGeom prst="line">
            <a:avLst/>
          </a:prstGeom>
          <a:ln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3851280" y="4724280"/>
            <a:ext cx="2376360" cy="1368720"/>
          </a:xfrm>
          <a:prstGeom prst="line">
            <a:avLst/>
          </a:prstGeom>
          <a:ln w="763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2"/>
          <p:cNvSpPr txBox="1"/>
          <p:nvPr/>
        </p:nvSpPr>
        <p:spPr>
          <a:xfrm>
            <a:off x="3492360" y="549360"/>
            <a:ext cx="1638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3366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 ЭТАП</a:t>
            </a:r>
            <a:endParaRPr b="1" lang="en-US" sz="1800" spc="1" strike="noStrike">
              <a:ln w="12600">
                <a:solidFill>
                  <a:srgbClr val="003366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476360" y="1412640"/>
            <a:ext cx="613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Алгоритм сочинения загадок по опорным таблиц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94920" y="2602440"/>
            <a:ext cx="33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вый спос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908640" y="3583800"/>
            <a:ext cx="73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Составление  опорной таблицы ви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619280" y="4221000"/>
          <a:ext cx="6076800" cy="555840"/>
        </p:xfrm>
        <a:graphic>
          <a:graphicData uri="http://schemas.openxmlformats.org/drawingml/2006/table">
            <a:tbl>
              <a:tblPr/>
              <a:tblGrid>
                <a:gridCol w="3038400"/>
                <a:gridCol w="3038400"/>
              </a:tblGrid>
              <a:tr h="55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На что похоже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ем отличается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20"/>
          <p:cNvSpPr/>
          <p:nvPr/>
        </p:nvSpPr>
        <p:spPr>
          <a:xfrm>
            <a:off x="0" y="3678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468360" y="39924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Выбор объек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627720" y="974880"/>
            <a:ext cx="16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476360" y="1557360"/>
          <a:ext cx="6076800" cy="576360"/>
        </p:xfrm>
        <a:graphic>
          <a:graphicData uri="http://schemas.openxmlformats.org/drawingml/2006/table">
            <a:tbl>
              <a:tblPr/>
              <a:tblGrid>
                <a:gridCol w="3038400"/>
                <a:gridCol w="30384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На что похоже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ем отличается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22"/>
          <p:cNvSpPr/>
          <p:nvPr/>
        </p:nvSpPr>
        <p:spPr>
          <a:xfrm>
            <a:off x="395280" y="220320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Заполнение левой части таблицы: «На что похож?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3"/>
          <p:cNvSpPr/>
          <p:nvPr/>
        </p:nvSpPr>
        <p:spPr>
          <a:xfrm>
            <a:off x="3556080" y="3135600"/>
            <a:ext cx="16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47640" y="3789360"/>
          <a:ext cx="6077160" cy="1706400"/>
        </p:xfrm>
        <a:graphic>
          <a:graphicData uri="http://schemas.openxmlformats.org/drawingml/2006/table">
            <a:tbl>
              <a:tblPr/>
              <a:tblGrid>
                <a:gridCol w="3038760"/>
                <a:gridCol w="303840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На что похож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ем отличается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доч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ксо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9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324000" y="25992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Заполнение правой части таблицы: «Чем отличается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419640" y="11959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403280" y="1989000"/>
          <a:ext cx="6077160" cy="2071800"/>
        </p:xfrm>
        <a:graphic>
          <a:graphicData uri="http://schemas.openxmlformats.org/drawingml/2006/table">
            <a:tbl>
              <a:tblPr/>
              <a:tblGrid>
                <a:gridCol w="3038400"/>
                <a:gridCol w="3038760"/>
              </a:tblGrid>
              <a:tr h="51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На что похоже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ем отличается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доч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кс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 отверст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льзя опере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н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Rectangle 32"/>
          <p:cNvSpPr/>
          <p:nvPr/>
        </p:nvSpPr>
        <p:spPr>
          <a:xfrm>
            <a:off x="544680" y="4005000"/>
            <a:ext cx="6359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Вставка «слов – связки» - КАК, 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авление загадки о КЛАРН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9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9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900000" y="810360"/>
            <a:ext cx="748836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8920" indent="-8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Загад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дудочка, но больше отверс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трость, но нельзя опере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клаксон, но длин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4608360" y="3429000"/>
            <a:ext cx="36878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9:33:18Z</dcterms:created>
  <dc:creator>МДОУ-2</dc:creator>
  <dc:description/>
  <dc:language>en-US</dc:language>
  <cp:lastModifiedBy>AgapovaIU</cp:lastModifiedBy>
  <dcterms:modified xsi:type="dcterms:W3CDTF">2015-10-06T06:13:52Z</dcterms:modified>
  <cp:revision>23</cp:revision>
  <dc:subject/>
  <dc:title>Слайд 1</dc:title>
</cp:coreProperties>
</file>