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image13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22.gif" ContentType="image/gi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F60-AF13-443C-8FDC-E0F86BD8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AD1-C23E-4492-B985-6F87CF1C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CA5-2CA4-495F-ABEA-E082EA3B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3DA-429F-45F6-BB93-4B36430A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A8A-7E59-4D39-9A10-2E0F9412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A72-037F-45C7-B15A-05ADB659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FD5-EA29-4E73-BD56-A386710B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441-441C-4494-9E6B-3DAEE53B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276-EE7D-4335-9131-66BAFEAD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761-C446-48FD-BB3F-D376532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C81-5909-42AF-824C-60DC0AED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22B-9D6B-439C-9667-5FB994B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14DB-FD2F-41A2-8F41-49716822F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image" Target="../media/image19.gif"/><Relationship Id="rId11" Type="http://schemas.openxmlformats.org/officeDocument/2006/relationships/image" Target="../media/image20.gif"/><Relationship Id="rId12" Type="http://schemas.openxmlformats.org/officeDocument/2006/relationships/image" Target="../media/image21.gif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31840" y="1484280"/>
            <a:ext cx="68803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намическая подел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абочка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436572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Техника: симметричное выре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Материал: бум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7120" y="5608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 учитель начальных классов  Балалаева О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2702" r="9599" b="0"/>
          <a:stretch/>
        </p:blipFill>
        <p:spPr>
          <a:xfrm>
            <a:off x="2411280" y="0"/>
            <a:ext cx="43578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3300"/>
                </a:solidFill>
                <a:latin typeface="Arial"/>
              </a:rPr>
              <a:t>Правила техники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Во время работы держи рабочий материал в порядке: откуда взял инструмент, туда и положи его посл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Экономь материалы, всегда думай как сделать работу луч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При работе не держи ножницы концам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Закончил работу, аккуратно убери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Главное! Работай друж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404640"/>
            <a:ext cx="676764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трежь половину листа А4. Сложи её пополам вдоль. Нарисуй силуэты бабочки и цветка.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делай прорези для цветка и вырежи баб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аметь линии сгиба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4. Разверни бумагу и вогни внутрь цветок и бабочку, поменяв направление линий сгиб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5. Раскрывай створки листа, и бабочка будет садиться на цветок и взлетать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423200" y="1125360"/>
            <a:ext cx="1720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125280"/>
            <a:ext cx="2016000" cy="184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0920" y="2828880"/>
            <a:ext cx="172872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95280" y="4206960"/>
            <a:ext cx="1359000" cy="122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453440" y="5373720"/>
            <a:ext cx="169056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050920" y="5465880"/>
            <a:ext cx="129708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916360" y="2781360"/>
            <a:ext cx="1655640" cy="189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76720" y="404640"/>
            <a:ext cx="1365480" cy="13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732720" y="907920"/>
            <a:ext cx="1992240" cy="183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211640" y="4724280"/>
            <a:ext cx="1009800" cy="943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4859280" y="2060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3276720" y="765000"/>
            <a:ext cx="1190520" cy="75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5364000" y="5805360"/>
            <a:ext cx="66708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6300720" y="1916280"/>
            <a:ext cx="2654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260280"/>
            <a:ext cx="1800360" cy="1473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341360"/>
            <a:ext cx="1800360" cy="1473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1989000"/>
            <a:ext cx="1800000" cy="1473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ощу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д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2492280"/>
            <a:ext cx="1800000" cy="1473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туац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0720" y="2852640"/>
            <a:ext cx="1800360" cy="1473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96360" y="907920"/>
            <a:ext cx="433080" cy="648000"/>
          </a:xfrm>
          <a:custGeom>
            <a:avLst/>
            <a:gdLst/>
            <a:ahLst/>
            <a:rect l="l" t="t" r="r" b="b"/>
            <a:pathLst>
              <a:path w="273" h="408">
                <a:moveTo>
                  <a:pt x="273" y="408"/>
                </a:moveTo>
                <a:cubicBezTo>
                  <a:pt x="272" y="306"/>
                  <a:pt x="272" y="204"/>
                  <a:pt x="227" y="136"/>
                </a:cubicBezTo>
                <a:cubicBezTo>
                  <a:pt x="182" y="68"/>
                  <a:pt x="91" y="34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907920"/>
            <a:ext cx="433440" cy="648000"/>
          </a:xfrm>
          <a:custGeom>
            <a:avLst/>
            <a:gdLst/>
            <a:ahLst/>
            <a:rect l="l" t="t" r="r" b="b"/>
            <a:pathLst>
              <a:path w="273" h="362">
                <a:moveTo>
                  <a:pt x="0" y="362"/>
                </a:moveTo>
                <a:cubicBezTo>
                  <a:pt x="0" y="279"/>
                  <a:pt x="1" y="196"/>
                  <a:pt x="46" y="136"/>
                </a:cubicBezTo>
                <a:cubicBezTo>
                  <a:pt x="91" y="76"/>
                  <a:pt x="182" y="38"/>
                  <a:pt x="27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16720" y="1557360"/>
            <a:ext cx="1727280" cy="172728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0" t="15832" r="31920" b="14406"/>
          <a:stretch/>
        </p:blipFill>
        <p:spPr>
          <a:xfrm>
            <a:off x="0" y="0"/>
            <a:ext cx="914400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0" t="0" r="63511" b="0"/>
          <a:stretch/>
        </p:blipFill>
        <p:spPr>
          <a:xfrm>
            <a:off x="2484360" y="260280"/>
            <a:ext cx="44229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34827" t="0" r="34827" b="0"/>
          <a:stretch/>
        </p:blipFill>
        <p:spPr>
          <a:xfrm>
            <a:off x="2843280" y="333360"/>
            <a:ext cx="35002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66894" t="4805" r="0" b="7006"/>
          <a:stretch/>
        </p:blipFill>
        <p:spPr>
          <a:xfrm>
            <a:off x="2771640" y="333360"/>
            <a:ext cx="4222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9:43:00Z</dcterms:created>
  <dc:creator>-=Slipknot=-</dc:creator>
  <dc:description/>
  <dc:language>en-US</dc:language>
  <cp:lastModifiedBy>user</cp:lastModifiedBy>
  <dcterms:modified xsi:type="dcterms:W3CDTF">2015-06-30T18:06:54Z</dcterms:modified>
  <cp:revision>6</cp:revision>
  <dc:subject/>
  <dc:title>Слайд 1</dc:title>
</cp:coreProperties>
</file>