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11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3BA-DF9F-4296-AD17-14A1699E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FCC-208A-4803-9364-704204D2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263C-E9BF-4B55-91DD-5D8CAB62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7E6-BB44-4D3E-B24B-F413384D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EDC-62F7-4395-B926-3E53AF60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571-D1EC-4554-B6AE-F6C87AF7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552-B14B-4B9F-A173-793FB86B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691-52F4-4574-8564-EFEF6439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CAAB-103F-4152-B864-ACC5D959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796C-CC46-481E-AA2C-A467605C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513-8E90-4874-B59A-405EA0C1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78C-23FA-4877-A5CD-374E5FEC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6BFC-2460-4BB7-819F-B002A00581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214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тематическая статистика в метеоролог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17375e"/>
                </a:solidFill>
                <a:latin typeface="Calibri"/>
              </a:rPr>
              <a:t>Подготовил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17375e"/>
                </a:solidFill>
                <a:latin typeface="Calibri"/>
              </a:rPr>
              <a:t>студентка группы 2 РИС  Демидкина 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17375e"/>
                </a:solidFill>
                <a:latin typeface="Calibri"/>
              </a:rPr>
              <a:t>преподаватель Пашикина С.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H:\Documents and Settings\Aida\Рабочий стол\текстуры и фоны, клипарты\новеньки картинки\protractor measuring a hb.gif"/>
          <p:cNvPicPr/>
          <p:nvPr/>
        </p:nvPicPr>
        <p:blipFill>
          <a:blip r:embed="rId1"/>
          <a:stretch/>
        </p:blipFill>
        <p:spPr>
          <a:xfrm>
            <a:off x="633240" y="853920"/>
            <a:ext cx="1970280" cy="1455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:\Documents and Settings\Aida\Рабочий стол\текстуры и фоны, клипарты\новеньки картинки\points appearing on g a hc.gif"/>
          <p:cNvPicPr/>
          <p:nvPr/>
        </p:nvPicPr>
        <p:blipFill>
          <a:blip r:embed="rId2"/>
          <a:stretch/>
        </p:blipFill>
        <p:spPr>
          <a:xfrm>
            <a:off x="5992920" y="781200"/>
            <a:ext cx="2273040" cy="1601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Documents and Settings\Aida\Рабочий стол\текстуры и фоны, клипарты\новеньки картинки\geometry compass shapes hc.gif"/>
          <p:cNvPicPr/>
          <p:nvPr/>
        </p:nvPicPr>
        <p:blipFill>
          <a:blip r:embed="rId3"/>
          <a:stretch/>
        </p:blipFill>
        <p:spPr>
          <a:xfrm>
            <a:off x="3214800" y="500040"/>
            <a:ext cx="247464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выделить этапы математического моделирования в процессе анализа результатов метеорологических измерений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Администратор\Рабочий стол\полоски из бутылок\0_62e64_23b5a34b_XL.jpg"/>
          <p:cNvPicPr/>
          <p:nvPr/>
        </p:nvPicPr>
        <p:blipFill>
          <a:blip r:embed="rId1"/>
          <a:stretch/>
        </p:blipFill>
        <p:spPr>
          <a:xfrm>
            <a:off x="1835280" y="1700280"/>
            <a:ext cx="56908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2143080" y="3357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483920"/>
            <a:ext cx="8472600" cy="18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тематическая статисти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это наука об изучении закономерностей в случайных процессах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тмосферные процессы, обусловленные большим количеством  независимых факторов, могут рассматриваться как случайные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методы статистических исследований могут применяться в метеоролог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042920" y="5516640"/>
            <a:ext cx="66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ий алгорит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аког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Documents and Settings\Администратор\Рабочий стол\урок\GoMW59acLl.gif"/>
          <p:cNvPicPr/>
          <p:nvPr/>
        </p:nvPicPr>
        <p:blipFill>
          <a:blip r:embed="rId1"/>
          <a:stretch/>
        </p:blipFill>
        <p:spPr>
          <a:xfrm>
            <a:off x="1979640" y="3213000"/>
            <a:ext cx="48243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1628640"/>
            <a:ext cx="7932600" cy="487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1 этап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– определение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енеральной совокупности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сследуемых объектов.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Это может быть множество значений метеорологической величины  за наибольший возможный промежуток времени, полученных в результате измерений.</a:t>
            </a:r>
            <a:br>
              <a:rPr sz="1600"/>
            </a:br>
            <a:br>
              <a:rPr sz="16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2 этап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ыборка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элементов для исследования из генеральной совокупности.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Этому вопросу посвящено немало математических и метеорологических исследований, и сроки неоднозначны: от 10 до 100 лет. Проблема определения срока, дающего  возможно более точный результат так и не решена, и зависит от многих географических, физических и других факторов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Длина выборк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: период наблюдений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бъём выборк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: количество значений исследуемых метеорологических величин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ри определении объёма количество не всегда переходит в качество: исследование выборки больших объёмов трудоёмкий процесс, что не всегда оправдано при необходимости быстрого результата исследования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692360" y="33336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этапы математического модел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142920" y="1714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250920" y="1471680"/>
            <a:ext cx="5976720" cy="4513680"/>
          </a:xfrm>
          <a:prstGeom prst="rect">
            <a:avLst/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 этап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обработка данных отобранной выборки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этого все результаты выборки систематизируют в таблицу по принципу возрастания и определяют частоту, с которой встречается каждое из этих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величина, имеющая большую частоту повтор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диа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величина, занимающая среднее значение в таблице выборки, скомпонованной по принципу возрас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 знач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среднее арифметическое значение всех данных выбо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м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азница между наибольшим и наименьшим знач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носительная часто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Выражение процентного значения част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C:\Documents and Settings\Администратор\Рабочий стол\урок\weather_symbols_clip_art_17362.jpg"/>
          <p:cNvPicPr/>
          <p:nvPr/>
        </p:nvPicPr>
        <p:blipFill>
          <a:blip r:embed="rId1"/>
          <a:stretch/>
        </p:blipFill>
        <p:spPr>
          <a:xfrm>
            <a:off x="6516720" y="1989000"/>
            <a:ext cx="24051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108000" y="1413000"/>
            <a:ext cx="554364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эта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ставле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иго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стограм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астот значений выборки. Полигон это график ломанной, соединяющей точки, у которых координата по оси абсцисс – значение метеорологической величины, а координата по оси ординат – частота, с которой она встречается в заданной выборке (иногда координатные оси меняют места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получ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ик распредел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ы, например график распределения температур в исследуемой мес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е время это делается не вручную, а помощью компьютерных технологий, с использованием специально разработанных для метеорологических служб программ, в том числе с помощью АМК - автоматического метеорологического комплек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http://rus.ferhri.ru/japan/Meteo/images/Temp_stat_pic2.gif"/>
          <p:cNvPicPr/>
          <p:nvPr/>
        </p:nvPicPr>
        <p:blipFill>
          <a:blip r:embed="rId1"/>
          <a:stretch/>
        </p:blipFill>
        <p:spPr>
          <a:xfrm>
            <a:off x="5614920" y="2133720"/>
            <a:ext cx="33386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55640" y="1773000"/>
            <a:ext cx="788832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 этап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авнительный анализ с результатами других исследований (климатических норм), изображение столбчатых и круговых диаграмм результатов исслед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9" descr="http://dok.opredelim.com/pars_docs/refs/24/23138/img29.jpg"/>
          <p:cNvPicPr/>
          <p:nvPr/>
        </p:nvPicPr>
        <p:blipFill>
          <a:blip r:embed="rId1"/>
          <a:stretch/>
        </p:blipFill>
        <p:spPr>
          <a:xfrm>
            <a:off x="395280" y="2852640"/>
            <a:ext cx="3745080" cy="2955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http://www.pogoda.by/press-release/charts/diagramm-mar-pcp.png"/>
          <p:cNvPicPr/>
          <p:nvPr/>
        </p:nvPicPr>
        <p:blipFill>
          <a:blip r:embed="rId2"/>
          <a:stretch/>
        </p:blipFill>
        <p:spPr>
          <a:xfrm>
            <a:off x="4284720" y="2781360"/>
            <a:ext cx="452448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3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вод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воём докладе я рассмотрела тольк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этапы математического моделирования статистического исследования в применении к метеорологии. На самом деле, этот процесс более сложен и в современном мире –технологиче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02_03_04_06"/>
          <p:cNvPicPr/>
          <p:nvPr/>
        </p:nvPicPr>
        <p:blipFill>
          <a:blip r:embed="rId1"/>
          <a:stretch/>
        </p:blipFill>
        <p:spPr>
          <a:xfrm>
            <a:off x="1979640" y="3213000"/>
            <a:ext cx="48243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07:06:53Z</dcterms:created>
  <dc:creator>user-1</dc:creator>
  <dc:description/>
  <dc:language>en-US</dc:language>
  <cp:lastModifiedBy>admin</cp:lastModifiedBy>
  <dcterms:modified xsi:type="dcterms:W3CDTF">2014-03-26T12:30:17Z</dcterms:modified>
  <cp:revision>95</cp:revision>
  <dc:subject/>
  <dc:title>Прикладные математические методы в радиотехнике</dc:title>
</cp:coreProperties>
</file>