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2C6-DF1F-497F-8881-827D2F44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083-313F-4CB0-9F41-7E6FDF08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B37-2AAB-47A3-B46D-DBB7A2E2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CE2-FAA1-49EF-96C6-240BE4B1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968D-B403-4D6D-BD33-C0E73887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102D-5DD1-45D6-AA9F-CDC6BDA8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4D20-7FBA-4651-9088-DE95874A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28E7-09F9-454C-8DE2-D729031D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B6D6-4625-4BFC-88F4-C8226561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CB86-0812-432A-975E-ED0BD273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CCC4-FB8A-4BBB-814F-5143CDB3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B8F-C56E-4D60-95A6-76EB88BA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4CD9-16E6-4081-9850-A16E4C70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D651-4E1E-4192-8AC1-DB986FA2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A677-66AB-4956-A962-0EF7A399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88E9-1E6A-4222-9E24-C1DF53B6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C91A-5048-41ED-BB04-562BE53E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3DF-50E4-4ED3-AC8D-782F4F5D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F2B-021A-4782-B452-45002FF9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460-C980-4CFF-AD12-3E0F379C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86F-5C56-41E3-9743-C65DA2CB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948-58EB-4204-8511-68ECAC33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148-A653-4F75-BA8A-5B01E4E4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F78-261C-4362-B0A5-D7415BA4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37DD-E07A-4CF1-AF5F-16A3A1CAB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1AE6-13C7-45AA-8FC5-4BC030ED6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14720"/>
            <a:ext cx="7772400" cy="13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roadway BT"/>
              </a:rPr>
              <a:t>Modalverben</a:t>
            </a:r>
            <a:r>
              <a:rPr b="1" lang="ru-RU" sz="5400" spc="-1" strike="noStrike">
                <a:solidFill>
                  <a:srgbClr val="ff0000"/>
                </a:solidFill>
                <a:latin typeface="Broadway BT"/>
              </a:rPr>
              <a:t>/Модальные глагол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roadway BT"/>
              </a:rPr>
              <a:t>Выполнила учитель немецкого языка Колесниченко О.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roadway BT"/>
              </a:rPr>
              <a:t>МБОУ СОШ п. Нивенс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Что такое модальные глаголы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Модальные глагол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ак правило, употребляются в сочетании с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нфинитивом смыслового глаго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Они описывают каким образом что-то происходит, и часто отражают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ичное отношение или возможности говоряще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Поэтому один и тот же глагол может иметь разные знач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928960" y="1000080"/>
            <a:ext cx="59292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olle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хотеть, жел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öge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юбить, желать, хоте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üsse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ыть долж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ürfe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очь, иметь разреш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olle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ыть обязанным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ыть долж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önne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очь, уметь, быть в состоя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4357800" y="1000080"/>
            <a:ext cx="14284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4500720" y="1571760"/>
            <a:ext cx="2786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4714920" y="1643040"/>
            <a:ext cx="257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1143000" y="571680"/>
            <a:ext cx="7143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Überzetzt ins Russis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h will am Wochenende nach Deutschland fah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i Rot  dürfen die Menschen nicht über die Straße ge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s Mädchen kann schön tanz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s Kind mag Schokoladene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ch muss die Verkehrsregeln kenn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ch soll die Hausaufgaben jeden Tag ma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31:32Z</dcterms:created>
  <dc:creator>qwerty</dc:creator>
  <dc:description/>
  <cp:keywords>шаблоны для презентаций</cp:keywords>
  <dc:language>en-US</dc:language>
  <cp:lastModifiedBy>Учитель</cp:lastModifiedBy>
  <dcterms:modified xsi:type="dcterms:W3CDTF">2014-11-25T18:55:40Z</dcterms:modified>
  <cp:revision>10</cp:revision>
  <dc:subject/>
  <dc:title>фон облака</dc:title>
</cp:coreProperties>
</file>