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3E9-853B-4730-AD24-9025C173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DF5-9B9A-4359-ABF8-5F59857C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812-DDBD-4064-8175-955C0F67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944-1CEA-42B2-A610-119088C1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728E-55D2-4BF7-9AC0-341FC0E6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0D4C-DDE0-462B-AB93-684F20A7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A925-3B21-4B63-BCFC-F3B3A2B2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9642-DB48-4AA5-8248-B03F327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CF93-F09D-4856-BC6A-0EF71EF2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70AF-29A5-4EF7-8BE2-ADB607BB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D100-5F3D-4A72-AB1F-347C5967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A81-A533-43C4-9729-3A10D85F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D8D4-FEB6-4DC4-A227-855F7617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F863-5D63-4796-A549-37B4E94B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91A-7BEE-47BF-A023-6C7BEC25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C9A8-37EE-483F-B454-B7ADBDF6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896C-1F87-4D1E-8197-117AAAA8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B2F-7A12-42A3-8556-83EB2F58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913-8DE3-489B-9DB4-6F30EEB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9F0-CB46-4782-8122-404DF6F1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EA8-7BF9-46CF-B046-9E4F5A09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5B5-1924-4363-BAA0-D42DE04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1FE-477B-497D-8D43-4C1F6837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13D-9885-4598-9902-05247BB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96CE-F5B6-46D6-9462-3F9603B74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5AE8-50A0-4496-B445-9419E6374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14720"/>
            <a:ext cx="7772400" cy="13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roadway BT"/>
              </a:rPr>
              <a:t>Modalverben</a:t>
            </a:r>
            <a:r>
              <a:rPr b="1" lang="ru-RU" sz="5400" spc="-1" strike="noStrike">
                <a:solidFill>
                  <a:srgbClr val="ff0000"/>
                </a:solidFill>
                <a:latin typeface="Broadway BT"/>
              </a:rPr>
              <a:t>/Модальные глагол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roadway BT"/>
              </a:rPr>
              <a:t>Выполнила учитель немецкого языка Колесниченко О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roadway BT"/>
              </a:rPr>
              <a:t>МБОУ СОШ п. Нивен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такое модальные глагол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Модальные глагол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ак правило, употребляются в сочетании с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нфинитивом смыслового глаго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Они описывают каким образом что-то происходит, и часто отражаю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ичное отношение или возможности говорящ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Поэтому один и тот же глагол может иметь разные знач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928960" y="1000080"/>
            <a:ext cx="59292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oll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отеть, жел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ög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юбить, желать, хот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üsse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ыть долж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ürf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очь, иметь разре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oll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ыть обязанным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ыть долж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önn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очь, уметь, быть в состоя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357800" y="1000080"/>
            <a:ext cx="14284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4500720" y="1571760"/>
            <a:ext cx="2786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4714920" y="1643040"/>
            <a:ext cx="257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143000" y="571680"/>
            <a:ext cx="7143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Überzetzt ins Russi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h will am Wochenende nach Deutschland fah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i Rot  dürfen die Menschen nicht über die Straße g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s Mädchen kann schön tanz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s Kind mag Schokoladene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ch muss die Verkehrsregeln ken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ch soll die Hausaufgaben jeden Tag ma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Учитель</cp:lastModifiedBy>
  <dcterms:modified xsi:type="dcterms:W3CDTF">2014-11-25T18:55:40Z</dcterms:modified>
  <cp:revision>10</cp:revision>
  <dc:subject/>
  <dc:title>фон облака</dc:title>
</cp:coreProperties>
</file>