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C1C-2C6F-46F3-9D4F-0EF9291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E44-412C-4FF4-84A2-A164C960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866-AD16-487B-BE4B-DCAA5056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29-9B7A-4F47-BA6A-A98530FE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E2C-4B9B-4F8B-9DC2-79F70A89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E82-4EAF-46F4-99F2-C331AEC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83FE-0611-40EB-ADE5-C0B612A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8240-A681-4151-851A-ACF7305C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1F1-D349-4BB3-B5F8-0953232C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A2C-430C-4BD4-B648-10103D6B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BBC-1D3E-433C-AC78-0821AB5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D7D-E081-4A60-84EB-6C4C6C3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F083-BFBF-4D0C-8BE1-0FEDC93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7982-3F2C-4055-BD80-B387714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187A-5E9D-4D4F-B03A-83065F7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949-CC5C-47B0-B4B0-2A8ABD11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0A78-622A-436B-852D-FF6F677C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83CF-1923-4110-ADBC-9D23AAF9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A817-85CB-40D5-A3D3-995AECD7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CC56-968C-4A19-8B35-9466D519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AADB-A47B-4910-82AC-0C715ED8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AC9C-F06E-4AB5-93F7-F7B7029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D27-499F-4DBA-86A0-B102CFAF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E99C-CE17-4CBC-B49F-1E2F332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E21A-2E70-4AFF-9123-8D03858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4B6D-BB68-4144-9D80-0BE4C76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0431-0377-4A49-895C-4914849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20AB-D3D6-477B-8CAB-05FAE1A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CC68-78C6-4FAC-9E19-D37EB95A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321E-8B4E-43AC-B272-94A4DF11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7D0A-7B23-4A87-9FA9-2821D86F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ABEA-98D4-41C1-8C79-3A62CA5A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7129-475F-4E24-B2C6-F821CE8E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999-C192-4D18-BA50-1D9CADD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98A4-5AC7-4FD4-9EB1-FD9848F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07D5-045F-46E4-A213-DF07E696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0A5A-CC57-4C05-9841-2A64174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D714-1968-499A-B316-018955D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5D0A-B48B-431F-88A5-D5B3958B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F078-2290-4451-A072-EB7A677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9645-6D6A-40CB-9139-7A998AF2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90C2-231C-401B-9475-0FB45124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4662-D5C1-4B84-BABC-B2700E2D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3EB-7997-43DD-9C91-8037A60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8D8-7C20-40FD-AD6B-F93B9030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40D-7639-4C18-A455-528798F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51C-3558-4EBC-BACF-8C92BE7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692-4EFE-4DAE-A280-047A30D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AECA-08CC-4514-A7B0-029D197133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B43-4624-4C1E-94A0-155956CEC6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30F-DE6A-46C7-A53E-7385C6AB7E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C390-F08F-43BC-93E9-2D3073E08D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тары являются одним из крупных тюркоязычных этносов. Татарский народ прошёл длительный путь исторического развития и имел в прошлом свою государственность. Во всех этих государствах существовала и развивалась самостоятельная культура, достигшая высокого для своего времени уровня. Однако мы, наследники этой культуры, мало что знае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ы , ученики 4 М класса, решили поближе познакомиться с культурой татарского народа. Для этого наметили план рабо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осещение школьной библиотеки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осещение краеведческого музе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амостоятельная работа дом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ыступление на классном часу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онкурс рисунков «Татарский национальный костюм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изготовление костюма на уроках технолог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бобщ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остранённым головным убором мужчин ( кроме кряшен) являлась четырёхклинная, полусферической формы тюбетейка или в виде усечённого конуса. Праздничная бархатная позументная тюбетейка искусно вышивалась тамбурной, гладьевой вышивкой. Поверх тюбетейки в холодное время года надевали полусферическую шапку, а летом войлочную, с опущенными полями, шляп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о оригинальными были женские головные уборы. Вышитая (жемчугом, мелкой позолоченной монетой, золотошвейной гладью ) шапочка- калфак была распространена у всех групп татар, кроме кряшен. Шапочка-кашпау, обшитая серебряными монетами, бытовала у лямбирских мишарей, вышитые тамбуром покрывала- у казанских татар, полотенцеобразные тастары- у мишарей, касимовских татар, самобытные покрывала-характерны для кряш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Женщины и девушки заплетали волосы в две косы, гладко, на прямой пробор, только кряшенки убирали их короной вокруг головы наподобие русских женщи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 женских украшений у казанских татар наиболее распространёнными были крупные миндалевидные серьги- алка, подвески к косам- чулпы, нагрудное украшение- воротниковая застёжка с подвесками-яка чылбыры, перевязь, эффектные широкие браслеты. При изготовлении украшений татарские ювелиры применяли скань(плоскую и «татарскую» бугорчатую), зернение, чеканку, литьё, графировку, чернение, инкрустацию драгоценными камнями и самоцветами. В сельской местности особенно у мишарей и кряшен при изготовлении украшений широко использовались серебряные мон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онной обувью являлись кожаные ичиги и башмаки с мягкой и жёсткой подошвой, нередко сшитые из цветной кож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здничные женские ичиги и башмачки, как правило, были оригинально орнаментированы в стиле многоцветной кожаной мозаики. Рабочую обувь составляли лапти татарского образца с прямоплетёной головкой и низкими бортиками. Их одевали с белыми суконными чул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щение школьной библиотеки. Библиотекарь Рамиля Ахмедовна познакомила нас с литературой о истории татарского народа, о культуре, о традициях татар. Посоветовала книги для самостоятельного чтения. Каждый из нас выбрал для себя кни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K:\ФОТО\ЛИЛЬ-ФОТО\школа\Изображение 041.jpg"/>
          <p:cNvPicPr/>
          <p:nvPr/>
        </p:nvPicPr>
        <p:blipFill>
          <a:blip r:embed="rId1"/>
          <a:stretch/>
        </p:blipFill>
        <p:spPr>
          <a:xfrm>
            <a:off x="1628640" y="1857240"/>
            <a:ext cx="5886720" cy="380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ещение музе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3" descr="K:\ФОТО\ЛИЛЬ-ФОТО\школа\Изображение 034.jpg"/>
          <p:cNvPicPr/>
          <p:nvPr/>
        </p:nvPicPr>
        <p:blipFill>
          <a:blip r:embed="rId1"/>
          <a:stretch/>
        </p:blipFill>
        <p:spPr>
          <a:xfrm>
            <a:off x="1643040" y="2428920"/>
            <a:ext cx="5969160" cy="37861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4"/>
          <p:cNvSpPr/>
          <p:nvPr/>
        </p:nvSpPr>
        <p:spPr>
          <a:xfrm>
            <a:off x="3461400" y="32446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ещение музе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оружившись литературой, занимательным материалом, полученным в музее, стали готовить выступление на классный ч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что у нас получилос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традиционной одежде татарского народа отразились природно- географические и социально- экономические условия жизни народа. В конце 19- начале 20 веков для изготовления одежды у казанских татар использовались в основном ткани фабричного производства(особенно у городской части населения). У татар- мишарей и кряшен широко использовались наряду с покупными материалами и ткань домашнего производства(холст, сукно). Нижней одеждой как мужчин, так и женщин служили широкая и длинная рубаха туникообразного покроя и широкие свободного покроя штаны- так называемые «штаны с широким шагом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 Женская рубаха дополнительно украшалась воланами и мелкими оборками: нагрудная часть дугообразно оформлялась аппликацией, рюшами, либо специальным нагрудным украшением-изу(особенно у казанских татар). В оформлении мужских и женских рубах кроме аппликации нередко использовались тамбурная вышивка (цветочно- растительный орнамент) и художественное ткачество (геометрический орнамент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няя одежда татар была распашной со сплошной приталенной спинкой. Поверх рубахи одевали безрукавный (или с коротким рукавом) камзол. Женские камзолы шили из цветного , чаще однотонного бархата и украшали по бортам и низу позументной тесьмой, мехом. Поверх камзола мужчины одевали длинный просторный халат с небольшим шалевым воротни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го шили из фабричной однотонной или полосатой (чаще тяжёлой полушёлковой) ткани и подпоясывали кушаком. В холодное время года мужчины и женщины одевали бишметы, чикмени, крытые либо дублёные шуб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6:07:53Z</dcterms:created>
  <dc:creator>111</dc:creator>
  <dc:description/>
  <dc:language>en-US</dc:language>
  <cp:lastModifiedBy>111</cp:lastModifiedBy>
  <dcterms:modified xsi:type="dcterms:W3CDTF">2010-05-23T16:18:51Z</dcterms:modified>
  <cp:revision>2</cp:revision>
  <dc:subject/>
  <dc:title>Слайд 1</dc:title>
</cp:coreProperties>
</file>