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AB7-3550-45E3-A59E-4B693D78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257-8333-4C05-A9ED-077FB12D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2EA-0325-443C-B96C-BEDBCC8A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161-3A56-43C8-B68B-59918FA7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0B9E-D0D9-40CD-B9A3-44490121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0B89-306C-4B1C-930E-C3FBBD53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6445-2103-41FC-8818-8E3AAC7A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4FE3-4F4A-499A-9207-FC710A4A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C67C-28BD-4033-8578-D48949B6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1FA2-C969-4659-A9EF-1D391312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AE86-40FC-4EF1-B39C-B3EBE266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1D5-F537-4A05-B430-86BE0E73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64E9-A7E4-4CFC-AA8A-9E0D9257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6225-6BDD-4A53-913D-09FA9C1B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6CB6-A91C-43BD-A6B8-4C73FCA7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5C8F-4F65-43D3-8497-C549EEA3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70D6-5518-4A76-B166-C2A0FC7F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A2FC-06A5-446D-B4DC-43E913C6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2A9D-61DB-4879-BC6D-94E828A7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63663-AF66-41ED-BF3D-5BFCCAA1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C499C-6308-4D36-8B74-EF530A81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78B89-4EA1-4A5C-AFD7-6C17F756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B49-B69A-4442-9C0A-8AAA08A4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90B0F-5B6C-4FD6-B103-20CA9CD3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99022-59FE-4153-B384-EFD5EA98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EF548-B214-4714-BA68-70DBFF4F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F501C-121E-4363-B320-815A6818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AB6FB-1145-4D97-9A86-AA0ED8A0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F4321-D984-4A20-BAB5-A85B20C4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A7B57-C593-48DD-BC27-AA8AF7D2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E42BC-87CA-4D02-806B-A411306D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E4EA9-F5D1-490B-90B2-A858F9B6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FB764-2DC1-4663-B3E5-799B5787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C24-4B19-4C3F-A55A-FDA39BC7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6D803-FB2A-492A-BA4E-9549D4E5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887D3-0AC5-4E05-BD21-ECD97117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A7863-E02B-465A-9F0E-65081911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061F7-FB00-4652-AEDA-931C5E7A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4E494-5474-438B-B50E-C8C0A831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EA840-9B15-481E-AA77-C3E5DA7B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6D6BE-E52C-4717-B94A-AB46B7E2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5A230-07FF-4D10-94E3-0785AD59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2FD61-B1A8-4AE9-9F8A-69FB9C21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F58-40AA-4CA0-8F14-091F142D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A38-12C4-4773-A6B3-E5D13431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A607-64F8-4248-86AB-52CFE9C0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0A4-6214-4549-B9D7-B7658713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DAF-FE9A-48DA-AA0E-346F0286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C395-9B3D-4302-822A-6F24DCA0A13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834D-1504-47B8-90C5-91E518E4EAA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0F24-10EA-4355-B5CB-EB78FFADF72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A2D8-9355-4FB1-9C1C-B1E51B242BA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тары являются одним из крупных тюркоязычных этносов. Татарский народ прошёл длительный путь исторического развития и имел в прошлом свою государственность. Во всех этих государствах существовала и развивалась самостоятельная культура, достигшая высокого для своего времени уровня. Однако мы, наследники этой культуры, мало что знае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ы , ученики 4 М класса, решили поближе познакомиться с культурой татарского народа. Для этого наметили план работы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посещение школьной библиотеки 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посещение краеведческого музе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самостоятельная работа дом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ыступление на классном часу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конкурс рисунков «Татарский национальный костюм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изготовление костюма на уроках технолог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обобщ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пространённым головным убором мужчин ( кроме кряшен) являлась четырёхклинная, полусферической формы тюбетейка или в виде усечённого конуса. Праздничная бархатная позументная тюбетейка искусно вышивалась тамбурной, гладьевой вышивкой. Поверх тюбетейки в холодное время года надевали полусферическую шапку, а летом войлочную, с опущенными полями, шляп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обо оригинальными были женские головные уборы. Вышитая (жемчугом, мелкой позолоченной монетой, золотошвейной гладью ) шапочка- калфак была распространена у всех групп татар, кроме кряшен. Шапочка-кашпау, обшитая серебряными монетами, бытовала у лямбирских мишарей, вышитые тамбуром покрывала- у казанских татар, полотенцеобразные тастары- у мишарей, касимовских татар, самобытные покрывала-характерны для кряш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Женщины и девушки заплетали волосы в две косы, гладко, на прямой пробор, только кряшенки убирали их короной вокруг головы наподобие русских женщи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 женских украшений у казанских татар наиболее распространёнными были крупные миндалевидные серьги- алка, подвески к косам- чулпы, нагрудное украшение- воротниковая застёжка с подвесками-яка чылбыры, перевязь, эффектные широкие браслеты. При изготовлении украшений татарские ювелиры применяли скань(плоскую и «татарскую» бугорчатую), зернение, чеканку, литьё, графировку, чернение, инкрустацию драгоценными камнями и самоцветами. В сельской местности особенно у мишарей и кряшен при изготовлении украшений широко использовались серебряные моне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радиционной обувью являлись кожаные ичиги и башмаки с мягкой и жёсткой подошвой, нередко сшитые из цветной кож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здничные женские ичиги и башмачки, как правило, были оригинально орнаментированы в стиле многоцветной кожаной мозаики. Рабочую обувь составляли лапти татарского образца с прямоплетёной головкой и низкими бортиками. Их одевали с белыми суконными чулк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ещение школьной библиотеки. Библиотекарь Рамиля Ахмедовна познакомила нас с литературой о истории татарского народа, о культуре, о традициях татар. Посоветовала книги для самостоятельного чтения. Каждый из нас выбрал для себя книг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Содержимое 3" descr="K:\ФОТО\ЛИЛЬ-ФОТО\школа\Изображение 041.jpg"/>
          <p:cNvPicPr/>
          <p:nvPr/>
        </p:nvPicPr>
        <p:blipFill>
          <a:blip r:embed="rId1"/>
          <a:stretch/>
        </p:blipFill>
        <p:spPr>
          <a:xfrm>
            <a:off x="1628640" y="1857240"/>
            <a:ext cx="5886720" cy="380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сещение музея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Содержимое 3" descr="K:\ФОТО\ЛИЛЬ-ФОТО\школа\Изображение 034.jpg"/>
          <p:cNvPicPr/>
          <p:nvPr/>
        </p:nvPicPr>
        <p:blipFill>
          <a:blip r:embed="rId1"/>
          <a:stretch/>
        </p:blipFill>
        <p:spPr>
          <a:xfrm>
            <a:off x="1643040" y="2428920"/>
            <a:ext cx="5969160" cy="378612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4"/>
          <p:cNvSpPr/>
          <p:nvPr/>
        </p:nvSpPr>
        <p:spPr>
          <a:xfrm>
            <a:off x="3461400" y="32446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сещение музе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оружившись литературой, занимательным материалом, полученным в музее, стали готовить выступление на классный ча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т что у нас получилос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традиционной одежде татарского народа отразились природно- географические и социально- экономические условия жизни народа. В конце 19- начале 20 веков для изготовления одежды у казанских татар использовались в основном ткани фабричного производства(особенно у городской части населения). У татар- мишарей и кряшен широко использовались наряду с покупными материалами и ткань домашнего производства(холст, сукно). Нижней одеждой как мужчин, так и женщин служили широкая и длинная рубаха туникообразного покроя и широкие свободного покроя штаны- так называемые «штаны с широким шагом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. Женская рубаха дополнительно украшалась воланами и мелкими оборками: нагрудная часть дугообразно оформлялась аппликацией, рюшами, либо специальным нагрудным украшением-изу(особенно у казанских татар). В оформлении мужских и женских рубах кроме аппликации нередко использовались тамбурная вышивка (цветочно- растительный орнамент) и художественное ткачество (геометрический орнамент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хняя одежда татар была распашной со сплошной приталенной спинкой. Поверх рубахи одевали безрукавный (или с коротким рукавом) камзол. Женские камзолы шили из цветного , чаще однотонного бархата и украшали по бортам и низу позументной тесьмой, мехом. Поверх камзола мужчины одевали длинный просторный халат с небольшим шалевым воротник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го шили из фабричной однотонной или полосатой (чаще тяжёлой полушёлковой) ткани и подпоясывали кушаком. В холодное время года мужчины и женщины одевали бишметы, чикмени, крытые либо дублёные шуб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6:07:53Z</dcterms:created>
  <dc:creator>111</dc:creator>
  <dc:description/>
  <dc:language>en-US</dc:language>
  <cp:lastModifiedBy>111</cp:lastModifiedBy>
  <dcterms:modified xsi:type="dcterms:W3CDTF">2010-05-23T16:18:51Z</dcterms:modified>
  <cp:revision>2</cp:revision>
  <dc:subject/>
  <dc:title>Слайд 1</dc:title>
</cp:coreProperties>
</file>