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29.png" ContentType="image/png"/>
  <Override PartName="/ppt/media/image20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38.jpeg" ContentType="image/jpeg"/>
  <Override PartName="/ppt/media/image5.png" ContentType="image/png"/>
  <Override PartName="/ppt/media/image35.png" ContentType="image/png"/>
  <Override PartName="/ppt/media/image43.jpeg" ContentType="image/jpeg"/>
  <Override PartName="/ppt/media/image10.png" ContentType="image/png"/>
  <Override PartName="/ppt/media/image1.jpeg" ContentType="image/jpeg"/>
  <Override PartName="/ppt/media/image41.jpeg" ContentType="image/jpeg"/>
  <Override PartName="/ppt/media/image45.jpeg" ContentType="image/jpeg"/>
  <Override PartName="/ppt/media/image9.png" ContentType="image/png"/>
  <Override PartName="/ppt/media/image44.jpeg" ContentType="image/jpeg"/>
  <Override PartName="/ppt/media/image30.png" ContentType="image/png"/>
  <Override PartName="/ppt/media/image7.png" ContentType="image/png"/>
  <Override PartName="/ppt/media/image37.png" ContentType="image/png"/>
  <Override PartName="/ppt/media/image39.jpeg" ContentType="image/jpeg"/>
  <Override PartName="/ppt/media/image8.png" ContentType="image/png"/>
  <Override PartName="/ppt/media/image46.jpeg" ContentType="image/jpeg"/>
  <Override PartName="/ppt/media/image31.png" ContentType="image/png"/>
  <Override PartName="/ppt/media/image36.png" ContentType="image/png"/>
  <Override PartName="/ppt/media/image6.png" ContentType="image/png"/>
  <Override PartName="/ppt/media/image47.jpeg" ContentType="image/jpeg"/>
  <Override PartName="/ppt/media/image27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12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198E-D9E3-4148-9BB2-C9E811B4C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C3AF-3B0C-49A1-8E6F-E51741AA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1D82-9B2B-40F6-96D7-0AC8FE31A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BE85-6EED-4C6E-9075-4D18B210C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B293-0918-4F97-B058-4F89AA9A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483E-81FB-4B7E-AF4D-7406F993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3AA7-9AC9-4C06-8F12-E7A31163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8A53-33FA-47A6-A722-8C9BF53B9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40B2-B42B-4A1C-8529-A3CF7DC6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B77F-407D-4251-AF57-4585FCC6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7791-21B5-4333-8EEB-BC91F60D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4F8D-BB6E-4B50-8D3B-68AC5BEC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7964-5269-4164-9114-927EAAA877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МДОУ &quot;Головчинский детский сад &quot;Солнышк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>
            <a:off x="826920" y="907920"/>
            <a:ext cx="603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MS Reference Sans Serif"/>
              </a:rPr>
              <a:t>Тема работы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MS Reference Sans Serif"/>
              </a:rPr>
              <a:t>«Формирование оптико-пространственных представлений, зрительного анализа и синтеза у дошкольников с нарушением речи с целью профилактики оптической дисграфии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5"/>
          <p:cNvSpPr/>
          <p:nvPr/>
        </p:nvSpPr>
        <p:spPr>
          <a:xfrm>
            <a:off x="2286000" y="4797360"/>
            <a:ext cx="581508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MS Reference Sans Serif"/>
                <a:ea typeface="Times New Roman"/>
              </a:rPr>
              <a:t>Лакеева Л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b050"/>
                </a:solidFill>
                <a:latin typeface="MS Reference Sans Serif"/>
              </a:rPr>
              <a:t>Учитель-логопе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b050"/>
                </a:solidFill>
                <a:latin typeface="MS Reference Sans Serif"/>
              </a:rPr>
              <a:t>МБДОУ д/с «Казачок»х. Лоз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b050"/>
                </a:solidFill>
                <a:latin typeface="MS Reference Sans Serif"/>
              </a:rPr>
              <a:t>2015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3" descr="МДОУ &quot;Головчинский детский сад &quot;Солнышк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"/>
          <p:cNvSpPr/>
          <p:nvPr/>
        </p:nvSpPr>
        <p:spPr>
          <a:xfrm>
            <a:off x="900000" y="776160"/>
            <a:ext cx="69850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торое направление: </a:t>
            </a:r>
            <a:r>
              <a:rPr b="1" i="1" lang="ru-RU" sz="2000" spc="-1" strike="noStrike">
                <a:solidFill>
                  <a:srgbClr val="0070c0"/>
                </a:solidFill>
                <a:latin typeface="Calibri"/>
                <a:ea typeface="Times New Roman"/>
              </a:rPr>
              <a:t>развитие пространственной ориентации, оптико-пространственного анализа и синтеза (в том числе развитие сенсомоторной координации) и коррекции их недостат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684360" y="2232720"/>
            <a:ext cx="7559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Развитие умения ориентировки в схеме тела, умение указывать местоположение предметов в пространстве относительно себ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Формирование временных представлений и пространственных отношений; преобразование в расположении предметов относительно друг друга; выполнить рисунок по словесной инструкции или наглядно представляющему образцу; формировать речевые средства, отражающие зрительно-пространственные отнош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Игровые упражнения и задания на формирование координации в системе «глаз-рука» и коррекцию ее недостатк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Игровые упражнения и задания на формирование координации в системе «ухо – рука» и коррекцию ее недостат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Игровые упражнения и задания на формирование координации в системе «глаз – ухо – рука» и коррекцию ее недостат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(добавление недостающего элемента буквы, зрительное узнавание буквы, написание букв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3" descr="МДОУ &quot;Головчинский детский сад &quot;Солнышк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"/>
          <p:cNvSpPr/>
          <p:nvPr/>
        </p:nvSpPr>
        <p:spPr>
          <a:xfrm>
            <a:off x="826920" y="1240920"/>
            <a:ext cx="72741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Calibri"/>
                <a:ea typeface="Times New Roman"/>
              </a:rPr>
              <a:t>Третье направление:  </a:t>
            </a:r>
            <a:r>
              <a:rPr b="1" i="1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развитие зрительно -  моторной координ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Дидактический материал представляет собой графические задания, при выполнении которых у ребенка совершаются навыки точных действий руки под контролем зрения и происходит развитие зрительных операций и ум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5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3" descr="МДОУ &quot;Головчинский детский сад &quot;Солнышко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5"/>
          <p:cNvSpPr/>
          <p:nvPr/>
        </p:nvSpPr>
        <p:spPr>
          <a:xfrm>
            <a:off x="826920" y="1916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1403280" y="981000"/>
            <a:ext cx="554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Выявление предпосылок оптической дисграфии у детей старшего дошкольного возраста с речевыми наруше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В начале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Объект 3" descr=""/>
          <p:cNvPicPr/>
          <p:nvPr/>
        </p:nvPicPr>
        <p:blipFill>
          <a:blip r:embed="rId3"/>
          <a:stretch/>
        </p:blipFill>
        <p:spPr>
          <a:xfrm>
            <a:off x="1136520" y="2873520"/>
            <a:ext cx="3270240" cy="24778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7"/>
          <p:cNvSpPr/>
          <p:nvPr/>
        </p:nvSpPr>
        <p:spPr>
          <a:xfrm>
            <a:off x="1187280" y="2433960"/>
            <a:ext cx="252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"/>
                <a:ea typeface="Times New Roman"/>
              </a:rPr>
              <a:t>Исследование зрительного восприят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3"/>
          <p:cNvSpPr/>
          <p:nvPr/>
        </p:nvSpPr>
        <p:spPr>
          <a:xfrm>
            <a:off x="5724360" y="2492280"/>
            <a:ext cx="18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Исследование зрительной памят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Объект 1" descr=""/>
          <p:cNvPicPr/>
          <p:nvPr/>
        </p:nvPicPr>
        <p:blipFill>
          <a:blip r:embed="rId4"/>
          <a:stretch/>
        </p:blipFill>
        <p:spPr>
          <a:xfrm>
            <a:off x="4665600" y="2946240"/>
            <a:ext cx="341316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3" descr="МДОУ &quot;Головчинский детский сад &quot;Солнышк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6"/>
          <p:cNvSpPr/>
          <p:nvPr/>
        </p:nvSpPr>
        <p:spPr>
          <a:xfrm>
            <a:off x="900000" y="907920"/>
            <a:ext cx="7056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3"/>
          <p:cNvSpPr/>
          <p:nvPr/>
        </p:nvSpPr>
        <p:spPr>
          <a:xfrm>
            <a:off x="1042920" y="1341360"/>
            <a:ext cx="597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"/>
                <a:ea typeface="Times New Roman"/>
              </a:rPr>
              <a:t>Исследование зрительно-моторной координации, пространственной ориентировки, пространственного восприят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Объект 4" descr=""/>
          <p:cNvPicPr/>
          <p:nvPr/>
        </p:nvPicPr>
        <p:blipFill>
          <a:blip r:embed="rId2"/>
          <a:stretch/>
        </p:blipFill>
        <p:spPr>
          <a:xfrm>
            <a:off x="2433600" y="2370240"/>
            <a:ext cx="341964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3" descr="МДОУ &quot;Головчинский детский сад &quot;Солнышк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2"/>
          <p:cNvSpPr/>
          <p:nvPr/>
        </p:nvSpPr>
        <p:spPr>
          <a:xfrm>
            <a:off x="3059280" y="1628640"/>
            <a:ext cx="26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В конце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Объект 2" descr=""/>
          <p:cNvPicPr/>
          <p:nvPr/>
        </p:nvPicPr>
        <p:blipFill>
          <a:blip r:embed="rId2"/>
          <a:stretch/>
        </p:blipFill>
        <p:spPr>
          <a:xfrm>
            <a:off x="992160" y="2657520"/>
            <a:ext cx="3198960" cy="290988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971640" y="2349360"/>
            <a:ext cx="389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Зрительное восприят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5651640" y="2349360"/>
            <a:ext cx="18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Зрительная памя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Объект 1" descr=""/>
          <p:cNvPicPr/>
          <p:nvPr/>
        </p:nvPicPr>
        <p:blipFill>
          <a:blip r:embed="rId3"/>
          <a:stretch/>
        </p:blipFill>
        <p:spPr>
          <a:xfrm>
            <a:off x="4881600" y="2657520"/>
            <a:ext cx="298908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3" descr="МДОУ &quot;Головчинский детский сад &quot;Солнышк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2"/>
          <p:cNvSpPr/>
          <p:nvPr/>
        </p:nvSpPr>
        <p:spPr>
          <a:xfrm>
            <a:off x="1258920" y="105264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рительно-моторная координация, пространственная ориентировка, пространственное восприят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Объект 7" descr=""/>
          <p:cNvPicPr/>
          <p:nvPr/>
        </p:nvPicPr>
        <p:blipFill>
          <a:blip r:embed="rId2"/>
          <a:stretch/>
        </p:blipFill>
        <p:spPr>
          <a:xfrm>
            <a:off x="2649600" y="2225520"/>
            <a:ext cx="381456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Рисунок 3" descr="МДОУ &quot;Головчинский детский сад &quot;Солнышк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1187280" y="2257200"/>
            <a:ext cx="63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  <a:ea typeface="Times New Roman"/>
              </a:rPr>
              <a:t>дидактические игры и упражн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3" descr="МДОУ &quot;Головчинский детский сад &quot;Солнышк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3"/>
          <p:cNvSpPr/>
          <p:nvPr/>
        </p:nvSpPr>
        <p:spPr>
          <a:xfrm>
            <a:off x="405756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4"/>
          <p:cNvSpPr/>
          <p:nvPr/>
        </p:nvSpPr>
        <p:spPr>
          <a:xfrm>
            <a:off x="826920" y="981000"/>
            <a:ext cx="42498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Развитие у детей зрительного восприятия и узнавания предм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развитие зрительного гнози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-развитие восприятия цве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-развитие восприятия фор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-развитие восприятия размера и велич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Дидактические иг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«Найди пару»(геом. Фигуры), «Какой предмет спрятался» (зашумленные картинки), «Отгадай загадку, найди отгадку», «Соедини одинаковые снежинки»,«Найди отличия», «Дорисуй фигуру»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C:\Documents and Settings\коля\Мои документы\Мои рисунки\фигуры.bmp"/>
          <p:cNvPicPr/>
          <p:nvPr/>
        </p:nvPicPr>
        <p:blipFill>
          <a:blip r:embed="rId2"/>
          <a:stretch/>
        </p:blipFill>
        <p:spPr>
          <a:xfrm>
            <a:off x="5219640" y="1989000"/>
            <a:ext cx="3168720" cy="23194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107" name="Picture 6" descr="C:\Documents and Settings\коля\Мои документы\Мои рисунки\снежинки.bmp"/>
          <p:cNvPicPr/>
          <p:nvPr/>
        </p:nvPicPr>
        <p:blipFill>
          <a:blip r:embed="rId3"/>
          <a:stretch/>
        </p:blipFill>
        <p:spPr>
          <a:xfrm>
            <a:off x="5219640" y="4508640"/>
            <a:ext cx="2160720" cy="1709640"/>
          </a:xfrm>
          <a:prstGeom prst="rect">
            <a:avLst/>
          </a:prstGeom>
          <a:ln w="9360">
            <a:solidFill>
              <a:srgbClr val="cc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3" descr="МДОУ &quot;Головчинский детский сад &quot;Солнышк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2"/>
          <p:cNvSpPr/>
          <p:nvPr/>
        </p:nvSpPr>
        <p:spPr>
          <a:xfrm>
            <a:off x="826920" y="10526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Зашумленные картинки по лексическим тем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4" descr="iмедведь"/>
          <p:cNvPicPr/>
          <p:nvPr/>
        </p:nvPicPr>
        <p:blipFill>
          <a:blip r:embed="rId2"/>
          <a:stretch/>
        </p:blipFill>
        <p:spPr>
          <a:xfrm>
            <a:off x="1619280" y="1700280"/>
            <a:ext cx="2736720" cy="2388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" descr="iлев"/>
          <p:cNvPicPr/>
          <p:nvPr/>
        </p:nvPicPr>
        <p:blipFill>
          <a:blip r:embed="rId3"/>
          <a:stretch/>
        </p:blipFill>
        <p:spPr>
          <a:xfrm>
            <a:off x="4572000" y="1700280"/>
            <a:ext cx="2376360" cy="2376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3" name="Picture 11" descr="iкоза"/>
          <p:cNvPicPr/>
          <p:nvPr/>
        </p:nvPicPr>
        <p:blipFill>
          <a:blip r:embed="rId4"/>
          <a:stretch/>
        </p:blipFill>
        <p:spPr>
          <a:xfrm>
            <a:off x="900000" y="4149720"/>
            <a:ext cx="1722600" cy="2117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4" name="Picture 12" descr="list3"/>
          <p:cNvPicPr/>
          <p:nvPr/>
        </p:nvPicPr>
        <p:blipFill>
          <a:blip r:embed="rId5"/>
          <a:stretch/>
        </p:blipFill>
        <p:spPr>
          <a:xfrm>
            <a:off x="2916360" y="4149720"/>
            <a:ext cx="2127240" cy="2119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15" name="Picture 9" descr="imgpreview8"/>
          <p:cNvPicPr/>
          <p:nvPr/>
        </p:nvPicPr>
        <p:blipFill>
          <a:blip r:embed="rId6"/>
          <a:stretch/>
        </p:blipFill>
        <p:spPr>
          <a:xfrm>
            <a:off x="5148360" y="4149720"/>
            <a:ext cx="2232000" cy="223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3" descr="МДОУ &quot;Головчинский детский сад &quot;Солнышк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2"/>
          <p:cNvSpPr/>
          <p:nvPr/>
        </p:nvSpPr>
        <p:spPr>
          <a:xfrm>
            <a:off x="900000" y="981000"/>
            <a:ext cx="70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«Назови предметы по их контурам», «Расположи предметы по величине», «Найди правильную тень предмета», «Найди одинаковые тен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Содержимое 13" descr="лошади6.bmp"/>
          <p:cNvPicPr/>
          <p:nvPr/>
        </p:nvPicPr>
        <p:blipFill>
          <a:blip r:embed="rId2"/>
          <a:stretch/>
        </p:blipFill>
        <p:spPr>
          <a:xfrm>
            <a:off x="900000" y="2276640"/>
            <a:ext cx="2116080" cy="2404800"/>
          </a:xfrm>
          <a:prstGeom prst="rect">
            <a:avLst/>
          </a:prstGeom>
          <a:ln w="9360">
            <a:solidFill>
              <a:srgbClr val="55a839"/>
            </a:solidFill>
            <a:miter/>
          </a:ln>
        </p:spPr>
      </p:pic>
      <p:pic>
        <p:nvPicPr>
          <p:cNvPr id="119" name="Содержимое 14" descr="слоны.bmp"/>
          <p:cNvPicPr/>
          <p:nvPr/>
        </p:nvPicPr>
        <p:blipFill>
          <a:blip r:embed="rId3"/>
          <a:stretch/>
        </p:blipFill>
        <p:spPr>
          <a:xfrm>
            <a:off x="3203640" y="2205000"/>
            <a:ext cx="2168640" cy="2421000"/>
          </a:xfrm>
          <a:prstGeom prst="rect">
            <a:avLst/>
          </a:prstGeom>
          <a:ln w="9360">
            <a:solidFill>
              <a:srgbClr val="cc3399"/>
            </a:solidFill>
            <a:miter/>
          </a:ln>
        </p:spPr>
      </p:pic>
      <p:pic>
        <p:nvPicPr>
          <p:cNvPr id="120" name="Picture 10" descr="CCI13112011_00000"/>
          <p:cNvPicPr/>
          <p:nvPr/>
        </p:nvPicPr>
        <p:blipFill>
          <a:blip r:embed="rId4"/>
          <a:stretch/>
        </p:blipFill>
        <p:spPr>
          <a:xfrm>
            <a:off x="5580000" y="2205000"/>
            <a:ext cx="2455920" cy="24480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21" name="Содержимое 10" descr="бабочки.bmp"/>
          <p:cNvPicPr/>
          <p:nvPr/>
        </p:nvPicPr>
        <p:blipFill>
          <a:blip r:embed="rId5"/>
          <a:stretch/>
        </p:blipFill>
        <p:spPr>
          <a:xfrm>
            <a:off x="2411280" y="4869000"/>
            <a:ext cx="4680000" cy="126684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3" descr="МДОУ &quot;Головчинский детский сад &quot;Солнышко"/>
          <p:cNvPicPr/>
          <p:nvPr/>
        </p:nvPicPr>
        <p:blipFill>
          <a:blip r:embed="rId1"/>
          <a:stretch/>
        </p:blipFill>
        <p:spPr>
          <a:xfrm>
            <a:off x="0" y="0"/>
            <a:ext cx="9036000" cy="67788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2268360" y="836640"/>
            <a:ext cx="322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Актуальность тем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826920" y="1484280"/>
            <a:ext cx="70581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- нарушения письменной речи (дисграфия), в различных её проявлениях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являются самыми распространенными дефектами у дет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младшего школьного возрас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дети с нарушениями речи испытывают наибольшие труд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в овладении письменной речь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оптические нарушения у детей с нарушением речи являются предпосылк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возникновения оптической дисграфии у школьников, которая связана с        трудностями усвоения ребенком зрительных образов бук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нарушения письма оказывают отрицательное влияние на весь процесс обучения,   на школьную адаптацию детей, на формирование личности и характер всего   психического развития ребён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целесообразнее всего проводить профилактику нарушений письменной речи   (дисграфии) у дошкольников с учетом структуры дефекта, чем исправля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3" descr="МДОУ &quot;Головчинский детский сад &quot;Солнышк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2"/>
          <p:cNvSpPr/>
          <p:nvPr/>
        </p:nvSpPr>
        <p:spPr>
          <a:xfrm>
            <a:off x="826920" y="90792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«Дорисуй половинку»,«Чего не хватает?», «Кто это? Дорисуй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2" descr="iматрешка"/>
          <p:cNvPicPr/>
          <p:nvPr/>
        </p:nvPicPr>
        <p:blipFill>
          <a:blip r:embed="rId2"/>
          <a:stretch/>
        </p:blipFill>
        <p:spPr>
          <a:xfrm>
            <a:off x="1258920" y="2349360"/>
            <a:ext cx="1657440" cy="1258920"/>
          </a:xfrm>
          <a:prstGeom prst="rect">
            <a:avLst/>
          </a:prstGeom>
          <a:ln w="9360">
            <a:solidFill>
              <a:srgbClr val="000000"/>
            </a:solidFill>
            <a:prstDash val="lgDashDot"/>
            <a:miter/>
          </a:ln>
        </p:spPr>
      </p:pic>
      <p:pic>
        <p:nvPicPr>
          <p:cNvPr id="125" name="Содержимое 10" descr="ЧАСТИ.JPG"/>
          <p:cNvPicPr/>
          <p:nvPr/>
        </p:nvPicPr>
        <p:blipFill>
          <a:blip r:embed="rId3"/>
          <a:stretch/>
        </p:blipFill>
        <p:spPr>
          <a:xfrm>
            <a:off x="3708360" y="2276640"/>
            <a:ext cx="2759040" cy="3182760"/>
          </a:xfrm>
          <a:prstGeom prst="rect">
            <a:avLst/>
          </a:prstGeom>
          <a:ln w="9360">
            <a:solidFill>
              <a:srgbClr val="004e6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3" descr="МДОУ &quot;Головчинский детский сад &quot;Солнышк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2"/>
          <p:cNvSpPr/>
          <p:nvPr/>
        </p:nvSpPr>
        <p:spPr>
          <a:xfrm>
            <a:off x="755640" y="83664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Дифференциация правых и левых частей тела, ориентировка в окружающем пространстве относительно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"/>
          <p:cNvSpPr/>
          <p:nvPr/>
        </p:nvSpPr>
        <p:spPr>
          <a:xfrm>
            <a:off x="826920" y="2205000"/>
            <a:ext cx="7129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Показать правую, левую руку, как называются руки (правая, лева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Показать карандаш правой рукой, левой рукой; взять книгу правой рукой, - левой ру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Показать левой рукой правый глаз, правое ухо, левую ногу; правой рукой показать левое ухо, правую ногу; показать правые и левые части тела у  человека, сидящего напроти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Определение пространственного положения предметов, находящихся сбоку от ребенка: «Покажи, какой предмет находится справа от тебя»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Далее представления закрепляются в речи: «Где находится книга (карандаш, ручка)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Определение пространственных соотношений между 2-3 предметами и их изображен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3" descr="МДОУ &quot;Головчинский детский сад &quot;Солнышк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2"/>
          <p:cNvSpPr/>
          <p:nvPr/>
        </p:nvSpPr>
        <p:spPr>
          <a:xfrm>
            <a:off x="684360" y="836640"/>
            <a:ext cx="748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Определение пространственного расположения предметов: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«Какой дом справа, слева?»«Какой транспорт едет направо, а какой налево?», «Кто находится справа, кто слева ото льва?» (можно сделать по темам), «Кто где находится?»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C:\Documents and Settings\коля\Мои документы\Мои рисунки\дома.bmp"/>
          <p:cNvPicPr/>
          <p:nvPr/>
        </p:nvPicPr>
        <p:blipFill>
          <a:blip r:embed="rId2"/>
          <a:stretch/>
        </p:blipFill>
        <p:spPr>
          <a:xfrm>
            <a:off x="826920" y="3213000"/>
            <a:ext cx="3516480" cy="187164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pic>
        <p:nvPicPr>
          <p:cNvPr id="132" name="Содержимое 12" descr="гриб.bmp"/>
          <p:cNvPicPr/>
          <p:nvPr/>
        </p:nvPicPr>
        <p:blipFill>
          <a:blip r:embed="rId3"/>
          <a:stretch/>
        </p:blipFill>
        <p:spPr>
          <a:xfrm>
            <a:off x="4427640" y="3213000"/>
            <a:ext cx="2736720" cy="1733760"/>
          </a:xfrm>
          <a:prstGeom prst="rect">
            <a:avLst/>
          </a:prstGeom>
          <a:ln w="9360">
            <a:solidFill>
              <a:srgbClr val="55a839"/>
            </a:solidFill>
            <a:miter/>
          </a:ln>
        </p:spPr>
      </p:pic>
      <p:pic>
        <p:nvPicPr>
          <p:cNvPr id="133" name="Picture 2" descr="C:\Documents and Settings\коля\Мои документы\Мои рисунки\зоопарк.bmp"/>
          <p:cNvPicPr/>
          <p:nvPr/>
        </p:nvPicPr>
        <p:blipFill>
          <a:blip r:embed="rId4"/>
          <a:stretch/>
        </p:blipFill>
        <p:spPr>
          <a:xfrm>
            <a:off x="2268360" y="5157720"/>
            <a:ext cx="3888000" cy="122400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3" descr="МДОУ &quot;Головчинский детский сад &quot;Солнышк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2"/>
          <p:cNvSpPr/>
          <p:nvPr/>
        </p:nvSpPr>
        <p:spPr>
          <a:xfrm>
            <a:off x="755640" y="76500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Ориентировка на ли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3"/>
          <p:cNvSpPr/>
          <p:nvPr/>
        </p:nvSpPr>
        <p:spPr>
          <a:xfrm>
            <a:off x="826920" y="1413000"/>
            <a:ext cx="4032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Положи круг в правом верхнем углу, слева от него крестик, в нижнем левом углу квадрат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«Графические диктанты» – Нарисуй в центре листа треугольник , справа от него нарисуй круг, слева от треугольника – ромб и т.д. (сверху, сниз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Ориентировка на листе в клеточку: «Нарисуй такую же фигуру», «Графические диктанты в клеточку», «Зеркало» (дорисуй другую половинку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Содержимое 6" descr="утка в клетку.bmp"/>
          <p:cNvPicPr/>
          <p:nvPr/>
        </p:nvPicPr>
        <p:blipFill>
          <a:blip r:embed="rId2"/>
          <a:stretch/>
        </p:blipFill>
        <p:spPr>
          <a:xfrm>
            <a:off x="5292720" y="2276640"/>
            <a:ext cx="1650960" cy="131256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138" name="Picture 6" descr="C:\Documents and Settings\коля\Мои документы\Мои рисунки\в клетку.bmp"/>
          <p:cNvPicPr/>
          <p:nvPr/>
        </p:nvPicPr>
        <p:blipFill>
          <a:blip r:embed="rId3"/>
          <a:stretch/>
        </p:blipFill>
        <p:spPr>
          <a:xfrm>
            <a:off x="5364000" y="3860640"/>
            <a:ext cx="2059200" cy="194184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Рисунок 3" descr="МДОУ &quot;Головчинский детский сад &quot;Солнышк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4"/>
          <p:cNvSpPr/>
          <p:nvPr/>
        </p:nvSpPr>
        <p:spPr>
          <a:xfrm>
            <a:off x="826920" y="981000"/>
            <a:ext cx="727416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70c0"/>
                </a:solidFill>
                <a:uFillTx/>
                <a:latin typeface="Calibri"/>
              </a:rPr>
              <a:t>Развитие буквенного гнозиса: </a:t>
            </a: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развитие восприятия цвета букв; развитие восприятия формы, размера и величины предметов и букв; дифференциация расположения элементов бук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Дидактические игры: </a:t>
            </a: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«Какая буква спряталась», «Допиши букву», «Выбери правильно написанную букву»,  «Разбери кучу малу»,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70c0"/>
                </a:solidFill>
                <a:uFillTx/>
                <a:latin typeface="Calibri"/>
              </a:rPr>
              <a:t>Развитие зрительного анализа и синтеза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- Уточнение и расширение объё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зрительной памяти (зрительного мнезиса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- развитие запоминания формы предме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- развитие запоминания цве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- развитие запоминания последовательности и количества букв и предме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(вначале проводим работу по  развитию зрительной памяти,  рассматривая предметы, потом - геометрические фигуры и лишь затем - букв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3" descr="МДОУ &quot;Головчинский детский сад &quot;Солнышк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2"/>
          <p:cNvSpPr/>
          <p:nvPr/>
        </p:nvSpPr>
        <p:spPr>
          <a:xfrm>
            <a:off x="826920" y="98100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Зашумленные буквы, наложенные друг на друга, буквы спрятанные за предме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9" descr="C:\Documents and Settings\коля\Мои документы\Мои рисунки\ЗАШУМЛ.bmp"/>
          <p:cNvPicPr/>
          <p:nvPr/>
        </p:nvPicPr>
        <p:blipFill>
          <a:blip r:embed="rId2"/>
          <a:stretch/>
        </p:blipFill>
        <p:spPr>
          <a:xfrm>
            <a:off x="1403280" y="1844640"/>
            <a:ext cx="2808360" cy="186048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144" name="Picture 12" descr="буквы жив"/>
          <p:cNvPicPr/>
          <p:nvPr/>
        </p:nvPicPr>
        <p:blipFill>
          <a:blip r:embed="rId3"/>
          <a:stretch/>
        </p:blipFill>
        <p:spPr>
          <a:xfrm>
            <a:off x="5076720" y="1844640"/>
            <a:ext cx="1511280" cy="2278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45" name="Picture 10" descr="БУКВЫ-звери"/>
          <p:cNvPicPr/>
          <p:nvPr/>
        </p:nvPicPr>
        <p:blipFill>
          <a:blip r:embed="rId4"/>
          <a:stretch/>
        </p:blipFill>
        <p:spPr>
          <a:xfrm>
            <a:off x="1835280" y="3860640"/>
            <a:ext cx="1800000" cy="238464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146" name="Picture 8" descr="C:\Documents and Settings\коля\Мои документы\Мои рисунки\БУКВЫ РАЗНЫЕ.bmp"/>
          <p:cNvPicPr/>
          <p:nvPr/>
        </p:nvPicPr>
        <p:blipFill>
          <a:blip r:embed="rId5"/>
          <a:stretch/>
        </p:blipFill>
        <p:spPr>
          <a:xfrm>
            <a:off x="4427640" y="4221000"/>
            <a:ext cx="3024000" cy="208440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3" descr="МДОУ &quot;Головчинский детский сад &quot;Солнышк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Содержимое 8" descr="слова б.bmp"/>
          <p:cNvPicPr/>
          <p:nvPr/>
        </p:nvPicPr>
        <p:blipFill>
          <a:blip r:embed="rId2"/>
          <a:stretch/>
        </p:blipFill>
        <p:spPr>
          <a:xfrm>
            <a:off x="1116000" y="2060640"/>
            <a:ext cx="1727280" cy="208908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149" name="Picture 11" descr="Ж"/>
          <p:cNvPicPr/>
          <p:nvPr/>
        </p:nvPicPr>
        <p:blipFill>
          <a:blip r:embed="rId3"/>
          <a:stretch/>
        </p:blipFill>
        <p:spPr>
          <a:xfrm>
            <a:off x="6084720" y="2060640"/>
            <a:ext cx="2087640" cy="19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0" name="Прямоугольник 4"/>
          <p:cNvSpPr/>
          <p:nvPr/>
        </p:nvSpPr>
        <p:spPr>
          <a:xfrm>
            <a:off x="2987640" y="2133720"/>
            <a:ext cx="302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шина     Ж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к              Жа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т             Лу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ук            Жакет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5"/>
          <p:cNvSpPr/>
          <p:nvPr/>
        </p:nvSpPr>
        <p:spPr>
          <a:xfrm>
            <a:off x="826920" y="90792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«Расшифруй слово», «Пирамид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(разложи по величине и прочти сло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4" descr=""/>
          <p:cNvPicPr/>
          <p:nvPr/>
        </p:nvPicPr>
        <p:blipFill>
          <a:blip r:embed="rId4"/>
          <a:stretch/>
        </p:blipFill>
        <p:spPr>
          <a:xfrm>
            <a:off x="1042920" y="4292640"/>
            <a:ext cx="1441440" cy="1925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5" descr=""/>
          <p:cNvPicPr/>
          <p:nvPr/>
        </p:nvPicPr>
        <p:blipFill>
          <a:blip r:embed="rId5"/>
          <a:stretch/>
        </p:blipFill>
        <p:spPr>
          <a:xfrm>
            <a:off x="2556000" y="4508640"/>
            <a:ext cx="1152360" cy="1531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6"/>
          <a:stretch/>
        </p:blipFill>
        <p:spPr>
          <a:xfrm>
            <a:off x="3851280" y="4653000"/>
            <a:ext cx="936720" cy="12729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7" descr=""/>
          <p:cNvPicPr/>
          <p:nvPr/>
        </p:nvPicPr>
        <p:blipFill>
          <a:blip r:embed="rId7"/>
          <a:stretch/>
        </p:blipFill>
        <p:spPr>
          <a:xfrm>
            <a:off x="5003640" y="4797360"/>
            <a:ext cx="874800" cy="1152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8" descr=""/>
          <p:cNvPicPr/>
          <p:nvPr/>
        </p:nvPicPr>
        <p:blipFill>
          <a:blip r:embed="rId8"/>
          <a:stretch/>
        </p:blipFill>
        <p:spPr>
          <a:xfrm>
            <a:off x="6156360" y="5013360"/>
            <a:ext cx="64764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Рисунок 3" descr="МДОУ &quot;Головчинский детский сад &quot;Солнышк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2"/>
          <p:cNvSpPr/>
          <p:nvPr/>
        </p:nvSpPr>
        <p:spPr>
          <a:xfrm>
            <a:off x="900000" y="1052640"/>
            <a:ext cx="640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«Допиши буквы, получи слово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«Узнай буквы»(разные шрифты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«Элементы букв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«На какую букву похожа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«Трансформация бук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3"/>
          <p:cNvSpPr/>
          <p:nvPr/>
        </p:nvSpPr>
        <p:spPr>
          <a:xfrm>
            <a:off x="971640" y="2637000"/>
            <a:ext cx="74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«Назови букву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«Найди правильно написанную букву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«Какого элемента не хватает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«Какие буквы спрятались в фигуре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Рисунок 3" descr="МДОУ &quot;Головчинский детский сад &quot;Солнышк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2" descr="C:\Users\1\Desktop\Новая папка\P1020850.JPG"/>
          <p:cNvPicPr/>
          <p:nvPr/>
        </p:nvPicPr>
        <p:blipFill>
          <a:blip r:embed="rId2"/>
          <a:stretch/>
        </p:blipFill>
        <p:spPr>
          <a:xfrm>
            <a:off x="1258920" y="2133720"/>
            <a:ext cx="2719440" cy="203832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3" descr="C:\Users\1\Desktop\Новая папка\P1020849.JPG"/>
          <p:cNvPicPr/>
          <p:nvPr/>
        </p:nvPicPr>
        <p:blipFill>
          <a:blip r:embed="rId3"/>
          <a:stretch/>
        </p:blipFill>
        <p:spPr>
          <a:xfrm>
            <a:off x="4788000" y="2133720"/>
            <a:ext cx="2592360" cy="2087280"/>
          </a:xfrm>
          <a:prstGeom prst="rect">
            <a:avLst/>
          </a:prstGeom>
          <a:ln w="0">
            <a:noFill/>
          </a:ln>
        </p:spPr>
      </p:pic>
      <p:sp>
        <p:nvSpPr>
          <p:cNvPr id="163" name="TextBox 4"/>
          <p:cNvSpPr/>
          <p:nvPr/>
        </p:nvSpPr>
        <p:spPr>
          <a:xfrm>
            <a:off x="1692360" y="1268280"/>
            <a:ext cx="55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«Узнай, какую букву написала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Рисунок 3" descr="МДОУ &quot;Головчинский детский сад &quot;Солнышк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2" descr="C:\Users\1\Desktop\Новая папка\P1020846.JPG"/>
          <p:cNvPicPr/>
          <p:nvPr/>
        </p:nvPicPr>
        <p:blipFill>
          <a:blip r:embed="rId2"/>
          <a:srcRect l="17865" t="3818" r="0" b="0"/>
          <a:stretch/>
        </p:blipFill>
        <p:spPr>
          <a:xfrm>
            <a:off x="1258920" y="1557360"/>
            <a:ext cx="2233440" cy="2295360"/>
          </a:xfrm>
          <a:prstGeom prst="rect">
            <a:avLst/>
          </a:prstGeom>
          <a:ln w="0">
            <a:noFill/>
          </a:ln>
        </p:spPr>
      </p:pic>
      <p:sp>
        <p:nvSpPr>
          <p:cNvPr id="166" name="TextBox 3"/>
          <p:cNvSpPr/>
          <p:nvPr/>
        </p:nvSpPr>
        <p:spPr>
          <a:xfrm>
            <a:off x="2987640" y="907920"/>
            <a:ext cx="34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«Что, где находится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Рисунок 4" descr="C:\Users\1\Desktop\Новая папка\P1020859.JPG"/>
          <p:cNvPicPr/>
          <p:nvPr/>
        </p:nvPicPr>
        <p:blipFill>
          <a:blip r:embed="rId3"/>
          <a:srcRect l="21807" t="8132" r="17107" b="11875"/>
          <a:stretch/>
        </p:blipFill>
        <p:spPr>
          <a:xfrm>
            <a:off x="3348000" y="3789360"/>
            <a:ext cx="2232000" cy="244800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5" descr="C:\Users\1\Desktop\Новая папка\P1020860.JPG"/>
          <p:cNvPicPr/>
          <p:nvPr/>
        </p:nvPicPr>
        <p:blipFill>
          <a:blip r:embed="rId4"/>
          <a:srcRect l="17404" t="0" r="12348" b="2075"/>
          <a:stretch/>
        </p:blipFill>
        <p:spPr>
          <a:xfrm>
            <a:off x="5292720" y="1700280"/>
            <a:ext cx="215892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3" descr="МДОУ &quot;Головчинский детский сад &quot;Солнышко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1547640" y="1197000"/>
            <a:ext cx="612000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Ц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Создать условия для дошкольников с нарушениями речи, направленные на предупреждение и устранение предпосылок оптической дисграф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Совершенствование пространственных и временных ориентиров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Развитие конструктивного праксиса и тактильных ощущ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Развитие дифференцированности, аналитичности, конкретности воспри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Формирование речевых средств, отражающих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зрительно-пространственные отношения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5.    Формирование зрительных представлений о графическом образе букв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3" descr="МДОУ &quot;Головчинский детский сад &quot;Солнышк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2"/>
          <p:cNvSpPr/>
          <p:nvPr/>
        </p:nvSpPr>
        <p:spPr>
          <a:xfrm>
            <a:off x="2411280" y="907920"/>
            <a:ext cx="41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«Необычный конструкто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Рисунок 3" descr="C:\Users\1\Desktop\Новая папка\P1020844.JPG"/>
          <p:cNvPicPr/>
          <p:nvPr/>
        </p:nvPicPr>
        <p:blipFill>
          <a:blip r:embed="rId2"/>
          <a:srcRect l="33216" t="3304" r="14138" b="0"/>
          <a:stretch/>
        </p:blipFill>
        <p:spPr>
          <a:xfrm>
            <a:off x="1258920" y="1413000"/>
            <a:ext cx="2160720" cy="23907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4" descr="C:\Users\1\Desktop\Новая папка\P1020854.JPG"/>
          <p:cNvPicPr/>
          <p:nvPr/>
        </p:nvPicPr>
        <p:blipFill>
          <a:blip r:embed="rId3"/>
          <a:srcRect l="32077" t="11332" r="3793" b="0"/>
          <a:stretch/>
        </p:blipFill>
        <p:spPr>
          <a:xfrm>
            <a:off x="3276720" y="3860640"/>
            <a:ext cx="2036520" cy="211464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5" descr="C:\Users\1\Desktop\Новая папка\P1020856.JPG"/>
          <p:cNvPicPr/>
          <p:nvPr/>
        </p:nvPicPr>
        <p:blipFill>
          <a:blip r:embed="rId4"/>
          <a:srcRect l="36076" t="0" r="17106" b="5684"/>
          <a:stretch/>
        </p:blipFill>
        <p:spPr>
          <a:xfrm>
            <a:off x="5076720" y="1341360"/>
            <a:ext cx="19432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Рисунок 3" descr="МДОУ &quot;Головчинский детский сад &quot;Солнышк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3" descr="C:\Users\1\Desktop\Новая папка\P1020839.JPG"/>
          <p:cNvPicPr/>
          <p:nvPr/>
        </p:nvPicPr>
        <p:blipFill>
          <a:blip r:embed="rId2"/>
          <a:srcRect l="21446" t="8130" r="24021" b="0"/>
          <a:stretch/>
        </p:blipFill>
        <p:spPr>
          <a:xfrm>
            <a:off x="1547640" y="2492280"/>
            <a:ext cx="1800360" cy="2305080"/>
          </a:xfrm>
          <a:prstGeom prst="rect">
            <a:avLst/>
          </a:prstGeom>
          <a:ln w="0">
            <a:noFill/>
          </a:ln>
        </p:spPr>
      </p:pic>
      <p:sp>
        <p:nvSpPr>
          <p:cNvPr id="176" name="TextBox 4"/>
          <p:cNvSpPr/>
          <p:nvPr/>
        </p:nvSpPr>
        <p:spPr>
          <a:xfrm>
            <a:off x="2268360" y="14130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«Разноцветное путешеств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Рисунок 5" descr="C:\Users\1\Desktop\Новая папка\P1020842.JPG"/>
          <p:cNvPicPr/>
          <p:nvPr/>
        </p:nvPicPr>
        <p:blipFill>
          <a:blip r:embed="rId3"/>
          <a:srcRect l="25191" t="0" r="22558" b="0"/>
          <a:stretch/>
        </p:blipFill>
        <p:spPr>
          <a:xfrm>
            <a:off x="4788000" y="2492280"/>
            <a:ext cx="18716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Рисунок 3" descr="МДОУ &quot;Головчинский детский сад &quot;Солнышк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"/>
          <p:cNvSpPr/>
          <p:nvPr/>
        </p:nvSpPr>
        <p:spPr>
          <a:xfrm>
            <a:off x="900000" y="859320"/>
            <a:ext cx="698508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10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Times New Roman"/>
              </a:rPr>
              <a:t>Список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0070c0"/>
              </a:buClr>
              <a:buFont typeface="Calibri"/>
              <a:buChar char="•"/>
              <a:tabLst>
                <a:tab algn="l" pos="1810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Корнев А.Н. Нарушения чтения и письма у детей. – СПб, 199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0070c0"/>
              </a:buClr>
              <a:buFont typeface="Calibri"/>
              <a:buChar char="•"/>
              <a:tabLst>
                <a:tab algn="l" pos="1810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Крупенчук О.И. Научите меня говорить правильно! – СПб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0070c0"/>
              </a:buClr>
              <a:buFont typeface="Calibri"/>
              <a:buChar char="•"/>
              <a:tabLst>
                <a:tab algn="l" pos="1810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Кузнецова Е.В., Тихонова И.А. Ступеньки к школе (обучение грамоте детей с нарушениями речи). – М.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0070c0"/>
              </a:buClr>
              <a:buFont typeface="Calibri"/>
              <a:buChar char="•"/>
              <a:tabLst>
                <a:tab algn="l" pos="1810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Лалаева Р.И. Нарушения чтения и пути их коррекции у младших школьников. – СПб, 199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0070c0"/>
              </a:buClr>
              <a:buFont typeface="Calibri"/>
              <a:buChar char="•"/>
              <a:tabLst>
                <a:tab algn="l" pos="1810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Лопухина И.С. Стихи и упражнения для развития ребёнка. – СПб, 2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0070c0"/>
              </a:buClr>
              <a:buFont typeface="Calibri"/>
              <a:buChar char="•"/>
              <a:tabLst>
                <a:tab algn="l" pos="1810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Мазанова Е.В. Коррекция оптической дисграфии. – М., 20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0070c0"/>
              </a:buClr>
              <a:buFont typeface="Calibri"/>
              <a:buChar char="•"/>
              <a:tabLst>
                <a:tab algn="l" pos="1810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Парамонова Л.Г. Дисграфия: диагностика, профилактика, коррекция.- С-Пб.: «Детство пресс», 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0070c0"/>
              </a:buClr>
              <a:buFont typeface="Calibri"/>
              <a:buChar char="•"/>
              <a:tabLst>
                <a:tab algn="l" pos="1810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Парамонова Л.Г. Правописание, шаг за шагом. – СПб, 199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0070c0"/>
              </a:buClr>
              <a:buFont typeface="Calibri"/>
              <a:buChar char="•"/>
              <a:tabLst>
                <a:tab algn="l" pos="1810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Садовникова И.Н. Нарушения письменной речи и их преодоление у младших школьников. – М., 199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900000" y="5112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 algn="just">
              <a:lnSpc>
                <a:spcPct val="100000"/>
              </a:lnSpc>
              <a:buClr>
                <a:srgbClr val="0070c0"/>
              </a:buClr>
              <a:buFont typeface="Calibri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Ткаченко Т.А  Если дошкольник плохо говорит. – С. Пб., 199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70c0"/>
              </a:buClr>
              <a:buFont typeface="Calibri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Ткаченко Т.А  В первый класс без дефектов речи. – С. Пб., 199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70c0"/>
              </a:buClr>
              <a:buFont typeface="Calibri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Филичева Т.Б., Чиркина Г.В. Подготовка к школе детей с общим недоразвитием речи в условиях специального детского сада. – М.,199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3" descr="МДОУ &quot;Головчинский детский сад &quot;Солнышк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2"/>
          <p:cNvSpPr/>
          <p:nvPr/>
        </p:nvSpPr>
        <p:spPr>
          <a:xfrm>
            <a:off x="826920" y="907920"/>
            <a:ext cx="7058160" cy="50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Times New Roman"/>
              </a:rPr>
              <a:t>Средства реализ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Провела теоретический анализ литературы по проблеме исследов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Обобщила и систематизировала методику обследования зрительно – пространственных функций у дошкольников с нарушениями ре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Определила основные направления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Разработала методические рекомендации для воспитателей по профилактической работе с дошкольниками с нарушениями речи по предупреждению оптических нару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Разработала перспективный план работы с дошкольниками с нарушениями речи в старшего и подготовительного возра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Разработала картотеку игр и заданий для профилактики оптических нару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3" descr="МДОУ &quot;Головчинский детский сад &quot;Солнышк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900000" y="112536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Формы работы с детьм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Подгрупп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-индивиду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971640" y="2558880"/>
            <a:ext cx="532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Основные методы и технологии обучения и воспит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игр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- наглядно-демонстрационные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- прак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- словес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3" descr="МДОУ &quot;Головчинский детский сад &quot;Солнышко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2"/>
          <p:cNvSpPr/>
          <p:nvPr/>
        </p:nvSpPr>
        <p:spPr>
          <a:xfrm>
            <a:off x="971640" y="765000"/>
            <a:ext cx="58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В своей работе использовала инновационные технолог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1042920" y="1700280"/>
            <a:ext cx="6842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Профилактика оптической дисграфии с помощью пальчиковой азбу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Цель: последовательность усвоения граф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Развивающая кинезиологическая про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(</a:t>
            </a:r>
            <a:r>
              <a:rPr b="0" lang="be-BY" sz="1800" spc="-1" strike="noStrike">
                <a:solidFill>
                  <a:srgbClr val="0070c0"/>
                </a:solidFill>
                <a:latin typeface="Arial"/>
              </a:rPr>
              <a:t>Сиротюк А.Л.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be-BY" sz="1800" spc="-1" strike="noStrike">
                <a:solidFill>
                  <a:srgbClr val="0070c0"/>
                </a:solidFill>
                <a:latin typeface="Arial"/>
              </a:rPr>
              <a:t>Коррекция развития интеллекта дошкольников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Цель: развитие межполушарного взаимодействия (синхронизация работы полушарий головного мозга, развитие способностей, памяти, внимания, речи, мышлен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3" descr="МДОУ &quot;Головчинский детский сад &quot;Солнышко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900000" y="1052640"/>
            <a:ext cx="7272360" cy="80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  <a:ea typeface="Times New Roman"/>
              </a:rPr>
              <a:t>При оптической дисграфии работа ведется в следующих направления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3" descr="МДОУ &quot;Головчинский детский сад &quot;Солнышк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3"/>
          <p:cNvSpPr/>
          <p:nvPr/>
        </p:nvSpPr>
        <p:spPr>
          <a:xfrm>
            <a:off x="755640" y="907920"/>
            <a:ext cx="720108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Первое направл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70c0"/>
                </a:solidFill>
                <a:latin typeface="Calibri"/>
                <a:ea typeface="Times New Roman"/>
              </a:rPr>
              <a:t>развитие зрительного и слухового восприятия и памяти, зрительного анализа и синтеза и коррекция их недостат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00000" y="2449080"/>
            <a:ext cx="7201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Рассматривание и называние реальных предметов, выделение в них главных и второстепенных деталей, формирование умения различать предметы по цвету с помощью операции сравнения однородных и различных по цвету предм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Запоминание визуально представленного ряда с постепенным увеличением числа включенных в него элементов; восстановление деформированного ряд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развитие зрительного восприятия путем узнавания геометрических фигур и «операций» с н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Подробный анализ объектов и вычленение главных существенных призна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3" descr="МДОУ &quot;Головчинский детский сад &quot;Солнышк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"/>
          <p:cNvSpPr/>
          <p:nvPr/>
        </p:nvSpPr>
        <p:spPr>
          <a:xfrm>
            <a:off x="971640" y="1527120"/>
            <a:ext cx="698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3. Игры и упражнения для рассматривания, сравнивания, анализа и синтеза представленных изображений предметов, фигу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4. Узнавание контурных, силуэтных, точечных изображений предметов, фигур; узнавание и называние стилизованных предме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5. Отслеживание взором наложенных линий, узнавание наложенных линий изображений; определение на картинках недостающих или неадекватных дета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6.  Преобразование фигур, бук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7.  Определение пространственных соотношений элементов бук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8.  Игры и задания на дифференциацию букв, сходных по кинетическим и оптическим признак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(буквы различного шрифта; знакомство с начертанием букв; нахождение сходства и различия; нахождение спрятанной буквы и обведение ее по контуру; выявление образа буквы в зашумленном, заштрихованном варианте, буквы в неправильном положен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6T15:48:12Z</dcterms:created>
  <dc:creator>RePack by SPecialiST</dc:creator>
  <dc:description/>
  <dc:language>en-US</dc:language>
  <cp:lastModifiedBy>RePack by SPecialiST</cp:lastModifiedBy>
  <dcterms:modified xsi:type="dcterms:W3CDTF">2015-05-25T15:40:12Z</dcterms:modified>
  <cp:revision>84</cp:revision>
  <dc:subject/>
  <dc:title>Тема работы: «Формирование оптико-пространственных представлений, зрительного анализа и синтеза у дошкольников с нарушением речи с целью профилактики оптической дисграфии»</dc:title>
</cp:coreProperties>
</file>