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47.jpeg" ContentType="image/jpeg"/>
  <Override PartName="/ppt/media/image27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1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C0D-4BCF-41AE-BB41-98BF1023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C0C-EF80-42ED-8D59-97E1699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6E6-9338-4355-8400-58F6A607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90-2EED-486D-8D9A-40B75D8E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1FD-7907-4E9A-B68A-94D1D1F4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4E2-BABA-491B-8164-55EA682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825-0B6D-4A3B-890B-AA5469C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B10-2C93-44DA-842B-C7C53B91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967-1A90-47FE-BB8D-66882FDF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A7F-3D99-4E4F-A7DF-D8D2361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88D-4A21-4959-B3F3-65D0D7A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156-AB5C-4528-9002-E10D800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ABFF-2BAC-4F54-B12E-C3A0D8A51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26920" y="90792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MS Reference Sans Serif"/>
              </a:rPr>
              <a:t>Тема работ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MS Reference Sans Serif"/>
              </a:rPr>
              <a:t>«Формирование оптико-пространственных представлений, зрительного анализа и синтеза у дошкольников с нарушением речи с целью профилактики оптической дисграф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286000" y="4797360"/>
            <a:ext cx="581508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S Reference Sans Serif"/>
                <a:ea typeface="Times New Roman"/>
              </a:rPr>
              <a:t>Лакеев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MS Reference Sans Serif"/>
              </a:rPr>
              <a:t>Учитель-лого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MS Reference Sans Serif"/>
              </a:rPr>
              <a:t>МБДОУ д/с «Казачок»х. Лоз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MS Reference Sans Serif"/>
              </a:rPr>
              <a:t>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900000" y="776160"/>
            <a:ext cx="6985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торое направление: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пространственной ориентации, оптико-пространственного анализа и синтеза (в том числе развитие сенсомоторной координации) и коррекции их недоста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4360" y="223272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умения ориентировки в схеме тела, умение указывать местоположение предметов в пространстве относительн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Формирование временных представлений и пространственных отношений; преобразование в расположении предметов относительно друг друга; выполнить рисунок по словесной инструкции или наглядно представляющему образцу; формировать речевые средства, отражающие зрительно-пространственные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глаз-рука» и коррекцию ее недостат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ухо – рука» и коррекцию ее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глаз – ухо – рука» и коррекцию ее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добавление недостающего элемента буквы, зрительное узнавание буквы, написание бук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826920" y="1240920"/>
            <a:ext cx="7274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Третье направление:  </a:t>
            </a: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зрительно -  моторной координ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дактический материал представляет собой графические задания, при выполнении которых у ребенка совершаются навыки точных действий руки под контролем зрения и происходит развитие зрительных операций и ум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МДОУ &quot;Головчинский детский сад &quot;Солнышк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826920" y="191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403280" y="98100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ыявление предпосылок оптической дисграфии у детей старшего дошкольного возраста с речевыми наруш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начал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3"/>
          <a:stretch/>
        </p:blipFill>
        <p:spPr>
          <a:xfrm>
            <a:off x="1136520" y="2873520"/>
            <a:ext cx="3270240" cy="2477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187280" y="24339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Исследование зрительного вос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24360" y="2492280"/>
            <a:ext cx="18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Исследование зрительной памя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1" descr=""/>
          <p:cNvPicPr/>
          <p:nvPr/>
        </p:nvPicPr>
        <p:blipFill>
          <a:blip r:embed="rId4"/>
          <a:stretch/>
        </p:blipFill>
        <p:spPr>
          <a:xfrm>
            <a:off x="4665600" y="2946240"/>
            <a:ext cx="34131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900000" y="907920"/>
            <a:ext cx="705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042920" y="1341360"/>
            <a:ext cx="59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Исследование зрительно-моторной координации, пространственной ориентировки, пространственного вос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4" descr=""/>
          <p:cNvPicPr/>
          <p:nvPr/>
        </p:nvPicPr>
        <p:blipFill>
          <a:blip r:embed="rId2"/>
          <a:stretch/>
        </p:blipFill>
        <p:spPr>
          <a:xfrm>
            <a:off x="2433600" y="2370240"/>
            <a:ext cx="34196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3059280" y="162864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конц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2" descr=""/>
          <p:cNvPicPr/>
          <p:nvPr/>
        </p:nvPicPr>
        <p:blipFill>
          <a:blip r:embed="rId2"/>
          <a:stretch/>
        </p:blipFill>
        <p:spPr>
          <a:xfrm>
            <a:off x="992160" y="2657520"/>
            <a:ext cx="3198960" cy="2909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971640" y="2349360"/>
            <a:ext cx="38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Зрительное воспри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651640" y="2349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Зрительная пам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1" descr=""/>
          <p:cNvPicPr/>
          <p:nvPr/>
        </p:nvPicPr>
        <p:blipFill>
          <a:blip r:embed="rId3"/>
          <a:stretch/>
        </p:blipFill>
        <p:spPr>
          <a:xfrm>
            <a:off x="4881600" y="2657520"/>
            <a:ext cx="2989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258920" y="1052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рительно-моторная координация, пространственная ориентировка, пространственное восприя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бъект 7" descr=""/>
          <p:cNvPicPr/>
          <p:nvPr/>
        </p:nvPicPr>
        <p:blipFill>
          <a:blip r:embed="rId2"/>
          <a:stretch/>
        </p:blipFill>
        <p:spPr>
          <a:xfrm>
            <a:off x="2649600" y="2225520"/>
            <a:ext cx="38145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187280" y="2257200"/>
            <a:ext cx="63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дактические игры и 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40575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6920" y="981000"/>
            <a:ext cx="4249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Развитие у детей зрительного восприятия и узнавания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тие зрительного гнози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размера и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йди пару»(геом. Фигуры), «Какой предмет спрятался» (зашумленные картинки), «Отгадай загадку, найди отгадку», «Соедини одинаковые снежинки»,«Найди отличия», «Дорисуй фигуру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коля\Мои документы\Мои рисунки\фигуры.bmp"/>
          <p:cNvPicPr/>
          <p:nvPr/>
        </p:nvPicPr>
        <p:blipFill>
          <a:blip r:embed="rId2"/>
          <a:stretch/>
        </p:blipFill>
        <p:spPr>
          <a:xfrm>
            <a:off x="5219640" y="1989000"/>
            <a:ext cx="3168720" cy="2319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" name="Picture 6" descr="C:\Documents and Settings\коля\Мои документы\Мои рисунки\снежинки.bmp"/>
          <p:cNvPicPr/>
          <p:nvPr/>
        </p:nvPicPr>
        <p:blipFill>
          <a:blip r:embed="rId3"/>
          <a:stretch/>
        </p:blipFill>
        <p:spPr>
          <a:xfrm>
            <a:off x="5219640" y="4508640"/>
            <a:ext cx="2160720" cy="170964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826920" y="105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шумленные картинки по лексическим т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iмедведь"/>
          <p:cNvPicPr/>
          <p:nvPr/>
        </p:nvPicPr>
        <p:blipFill>
          <a:blip r:embed="rId2"/>
          <a:stretch/>
        </p:blipFill>
        <p:spPr>
          <a:xfrm>
            <a:off x="1619280" y="1700280"/>
            <a:ext cx="2736720" cy="238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iлев"/>
          <p:cNvPicPr/>
          <p:nvPr/>
        </p:nvPicPr>
        <p:blipFill>
          <a:blip r:embed="rId3"/>
          <a:stretch/>
        </p:blipFill>
        <p:spPr>
          <a:xfrm>
            <a:off x="4572000" y="1700280"/>
            <a:ext cx="2376360" cy="23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11" descr="iкоза"/>
          <p:cNvPicPr/>
          <p:nvPr/>
        </p:nvPicPr>
        <p:blipFill>
          <a:blip r:embed="rId4"/>
          <a:stretch/>
        </p:blipFill>
        <p:spPr>
          <a:xfrm>
            <a:off x="900000" y="4149720"/>
            <a:ext cx="1722600" cy="21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Picture 12" descr="list3"/>
          <p:cNvPicPr/>
          <p:nvPr/>
        </p:nvPicPr>
        <p:blipFill>
          <a:blip r:embed="rId5"/>
          <a:stretch/>
        </p:blipFill>
        <p:spPr>
          <a:xfrm>
            <a:off x="2916360" y="4149720"/>
            <a:ext cx="2127240" cy="211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5" name="Picture 9" descr="imgpreview8"/>
          <p:cNvPicPr/>
          <p:nvPr/>
        </p:nvPicPr>
        <p:blipFill>
          <a:blip r:embed="rId6"/>
          <a:stretch/>
        </p:blipFill>
        <p:spPr>
          <a:xfrm>
            <a:off x="5148360" y="4149720"/>
            <a:ext cx="223200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900000" y="981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Назови предметы по их контурам», «Расположи предметы по величине», «Найди правильную тень предмета», «Найди одинаковые те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13" descr="лошади6.bmp"/>
          <p:cNvPicPr/>
          <p:nvPr/>
        </p:nvPicPr>
        <p:blipFill>
          <a:blip r:embed="rId2"/>
          <a:stretch/>
        </p:blipFill>
        <p:spPr>
          <a:xfrm>
            <a:off x="900000" y="2276640"/>
            <a:ext cx="2116080" cy="240480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119" name="Содержимое 14" descr="слоны.bmp"/>
          <p:cNvPicPr/>
          <p:nvPr/>
        </p:nvPicPr>
        <p:blipFill>
          <a:blip r:embed="rId3"/>
          <a:stretch/>
        </p:blipFill>
        <p:spPr>
          <a:xfrm>
            <a:off x="3203640" y="2205000"/>
            <a:ext cx="2168640" cy="242100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120" name="Picture 10" descr="CCI13112011_00000"/>
          <p:cNvPicPr/>
          <p:nvPr/>
        </p:nvPicPr>
        <p:blipFill>
          <a:blip r:embed="rId4"/>
          <a:stretch/>
        </p:blipFill>
        <p:spPr>
          <a:xfrm>
            <a:off x="5580000" y="2205000"/>
            <a:ext cx="245592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1" name="Содержимое 10" descr="бабочки.bmp"/>
          <p:cNvPicPr/>
          <p:nvPr/>
        </p:nvPicPr>
        <p:blipFill>
          <a:blip r:embed="rId5"/>
          <a:stretch/>
        </p:blipFill>
        <p:spPr>
          <a:xfrm>
            <a:off x="2411280" y="4869000"/>
            <a:ext cx="4680000" cy="12668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036000" cy="6778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68360" y="836640"/>
            <a:ext cx="32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Актуальность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26920" y="1484280"/>
            <a:ext cx="7058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- нарушения письменной речи (дисграфия), в различных её проявлен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являются самыми распространенными дефектами у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младшего школьного возра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дети с нарушениями речи испытывают наибольшие труд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 овладении письменной реч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оптические нарушения у детей с нарушением речи являются предпосыл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озникновения оптической дисграфии у школьников, которая связана с        трудностями усвоения ребенком зрительных образов бук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арушения письма оказывают отрицательное влияние на весь процесс обучения,   на школьную адаптацию детей, на формирование личности и характер всего   психического развития ребё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целесообразнее всего проводить профилактику нарушений письменной речи   (дисграфии) у дошкольников с учетом структуры дефекта, чем исправл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826920" y="9079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Дорисуй половинку»,«Чего не хватает?», «Кто это? Дорису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iматрешка"/>
          <p:cNvPicPr/>
          <p:nvPr/>
        </p:nvPicPr>
        <p:blipFill>
          <a:blip r:embed="rId2"/>
          <a:stretch/>
        </p:blipFill>
        <p:spPr>
          <a:xfrm>
            <a:off x="1258920" y="2349360"/>
            <a:ext cx="1657440" cy="1258920"/>
          </a:xfrm>
          <a:prstGeom prst="rect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pic>
      <p:pic>
        <p:nvPicPr>
          <p:cNvPr id="125" name="Содержимое 10" descr="ЧАСТИ.JPG"/>
          <p:cNvPicPr/>
          <p:nvPr/>
        </p:nvPicPr>
        <p:blipFill>
          <a:blip r:embed="rId3"/>
          <a:stretch/>
        </p:blipFill>
        <p:spPr>
          <a:xfrm>
            <a:off x="3708360" y="2276640"/>
            <a:ext cx="2759040" cy="3182760"/>
          </a:xfrm>
          <a:prstGeom prst="rect">
            <a:avLst/>
          </a:prstGeom>
          <a:ln w="93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755640" y="83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ифференциация правых и левых частей тела, ориентировка в окружающем пространстве относительн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826920" y="2205000"/>
            <a:ext cx="712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правую, левую руку, как называются руки (правая, ле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карандаш правой рукой, левой рукой; взять книгу правой рукой, - левой р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левой рукой правый глаз, правое ухо, левую ногу; правой рукой показать левое ухо, правую ногу; показать правые и левые части тела у  человека, сидящего напро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пределение пространственного положения предметов, находящихся сбоку от ребенка: «Покажи, какой предмет находится справа от тебя»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лее представления закрепляются в речи: «Где находится книга (карандаш, ручка)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пределение пространственных соотношений между 2-3 предметами и их изображ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684360" y="83664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ределение пространственного расположения предметов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Какой дом справа, слева?»«Какой транспорт едет направо, а какой налево?», «Кто находится справа, кто слева ото льва?» (можно сделать по темам), «Кто где находится?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коля\Мои документы\Мои рисунки\дома.bmp"/>
          <p:cNvPicPr/>
          <p:nvPr/>
        </p:nvPicPr>
        <p:blipFill>
          <a:blip r:embed="rId2"/>
          <a:stretch/>
        </p:blipFill>
        <p:spPr>
          <a:xfrm>
            <a:off x="826920" y="3213000"/>
            <a:ext cx="3516480" cy="1871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32" name="Содержимое 12" descr="гриб.bmp"/>
          <p:cNvPicPr/>
          <p:nvPr/>
        </p:nvPicPr>
        <p:blipFill>
          <a:blip r:embed="rId3"/>
          <a:stretch/>
        </p:blipFill>
        <p:spPr>
          <a:xfrm>
            <a:off x="4427640" y="3213000"/>
            <a:ext cx="2736720" cy="17337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133" name="Picture 2" descr="C:\Documents and Settings\коля\Мои документы\Мои рисунки\зоопарк.bmp"/>
          <p:cNvPicPr/>
          <p:nvPr/>
        </p:nvPicPr>
        <p:blipFill>
          <a:blip r:embed="rId4"/>
          <a:stretch/>
        </p:blipFill>
        <p:spPr>
          <a:xfrm>
            <a:off x="2268360" y="5157720"/>
            <a:ext cx="3888000" cy="1224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755640" y="76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риентировка на л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826920" y="1413000"/>
            <a:ext cx="403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оложи круг в правом верхнем углу, слева от него крестик, в нижнем левом углу квадрат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Графические диктанты» – Нарисуй в центре листа треугольник , справа от него нарисуй круг, слева от треугольника – ромб и т.д. (сверху, сниз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Ориентировка на листе в клеточку: «Нарисуй такую же фигуру», «Графические диктанты в клеточку», «Зеркало» (дорисуй другую половин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6" descr="утка в клетку.bmp"/>
          <p:cNvPicPr/>
          <p:nvPr/>
        </p:nvPicPr>
        <p:blipFill>
          <a:blip r:embed="rId2"/>
          <a:stretch/>
        </p:blipFill>
        <p:spPr>
          <a:xfrm>
            <a:off x="5292720" y="2276640"/>
            <a:ext cx="1650960" cy="1312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38" name="Picture 6" descr="C:\Documents and Settings\коля\Мои документы\Мои рисунки\в клетку.bmp"/>
          <p:cNvPicPr/>
          <p:nvPr/>
        </p:nvPicPr>
        <p:blipFill>
          <a:blip r:embed="rId3"/>
          <a:stretch/>
        </p:blipFill>
        <p:spPr>
          <a:xfrm>
            <a:off x="5364000" y="3860640"/>
            <a:ext cx="2059200" cy="19418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826920" y="981000"/>
            <a:ext cx="7274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буквенного гнозиса: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тие восприятия цвета букв; развитие восприятия формы, размера и величины предметов и букв; дифференциация расположения элементов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Дидактические игры: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ая буква спряталась», «Допиши букву», «Выбери правильно написанную букву»,  «Разбери кучу малу»,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зрительного анализа и синтеза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Уточнение и расширение объё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зрительной памяти (зрительного мнезис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формы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последовательности и количества букв и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(вначале проводим работу по  развитию зрительной памяти,  рассматривая предметы, потом - геометрические фигуры и лишь затем - букв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>
            <a:off x="826920" y="981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Зашумленные буквы, наложенные друг на друга, буквы спрятанные за предм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C:\Documents and Settings\коля\Мои документы\Мои рисунки\ЗАШУМЛ.bmp"/>
          <p:cNvPicPr/>
          <p:nvPr/>
        </p:nvPicPr>
        <p:blipFill>
          <a:blip r:embed="rId2"/>
          <a:stretch/>
        </p:blipFill>
        <p:spPr>
          <a:xfrm>
            <a:off x="1403280" y="1844640"/>
            <a:ext cx="2808360" cy="18604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4" name="Picture 12" descr="буквы жив"/>
          <p:cNvPicPr/>
          <p:nvPr/>
        </p:nvPicPr>
        <p:blipFill>
          <a:blip r:embed="rId3"/>
          <a:stretch/>
        </p:blipFill>
        <p:spPr>
          <a:xfrm>
            <a:off x="5076720" y="1844640"/>
            <a:ext cx="1511280" cy="227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10" descr="БУКВЫ-звери"/>
          <p:cNvPicPr/>
          <p:nvPr/>
        </p:nvPicPr>
        <p:blipFill>
          <a:blip r:embed="rId4"/>
          <a:stretch/>
        </p:blipFill>
        <p:spPr>
          <a:xfrm>
            <a:off x="1835280" y="3860640"/>
            <a:ext cx="1800000" cy="2384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Picture 8" descr="C:\Documents and Settings\коля\Мои документы\Мои рисунки\БУКВЫ РАЗНЫЕ.bmp"/>
          <p:cNvPicPr/>
          <p:nvPr/>
        </p:nvPicPr>
        <p:blipFill>
          <a:blip r:embed="rId5"/>
          <a:stretch/>
        </p:blipFill>
        <p:spPr>
          <a:xfrm>
            <a:off x="4427640" y="4221000"/>
            <a:ext cx="3024000" cy="2084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8" descr="слова б.bmp"/>
          <p:cNvPicPr/>
          <p:nvPr/>
        </p:nvPicPr>
        <p:blipFill>
          <a:blip r:embed="rId2"/>
          <a:stretch/>
        </p:blipFill>
        <p:spPr>
          <a:xfrm>
            <a:off x="1116000" y="2060640"/>
            <a:ext cx="1727280" cy="2089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9" name="Picture 11" descr="Ж"/>
          <p:cNvPicPr/>
          <p:nvPr/>
        </p:nvPicPr>
        <p:blipFill>
          <a:blip r:embed="rId3"/>
          <a:stretch/>
        </p:blipFill>
        <p:spPr>
          <a:xfrm>
            <a:off x="6084720" y="2060640"/>
            <a:ext cx="2087640" cy="19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Прямоугольник 4"/>
          <p:cNvSpPr/>
          <p:nvPr/>
        </p:nvSpPr>
        <p:spPr>
          <a:xfrm>
            <a:off x="2987640" y="213372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    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              Ж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             Лу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к            Жакет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826920" y="90792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Расшифруй слово», «Пирами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(разложи по величине и прочти сло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441440" cy="192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5"/>
          <a:stretch/>
        </p:blipFill>
        <p:spPr>
          <a:xfrm>
            <a:off x="2556000" y="450864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6"/>
          <a:stretch/>
        </p:blipFill>
        <p:spPr>
          <a:xfrm>
            <a:off x="3851280" y="4653000"/>
            <a:ext cx="936720" cy="1272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7"/>
          <a:stretch/>
        </p:blipFill>
        <p:spPr>
          <a:xfrm>
            <a:off x="5003640" y="4797360"/>
            <a:ext cx="87480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8"/>
          <a:stretch/>
        </p:blipFill>
        <p:spPr>
          <a:xfrm>
            <a:off x="6156360" y="5013360"/>
            <a:ext cx="6476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900000" y="105264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Допиши буквы, получи слово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Узнай буквы»(разные шрифт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Элементы букв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 какую букву похож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Трансформация бук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971640" y="263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зови букву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йди правильно написанную букву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ого элемента не хватае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ие буквы спрятались в фигу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C:\Users\1\Desktop\Новая папка\P1020850.JPG"/>
          <p:cNvPicPr/>
          <p:nvPr/>
        </p:nvPicPr>
        <p:blipFill>
          <a:blip r:embed="rId2"/>
          <a:stretch/>
        </p:blipFill>
        <p:spPr>
          <a:xfrm>
            <a:off x="1258920" y="2133720"/>
            <a:ext cx="2719440" cy="20383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C:\Users\1\Desktop\Новая папка\P1020849.JPG"/>
          <p:cNvPicPr/>
          <p:nvPr/>
        </p:nvPicPr>
        <p:blipFill>
          <a:blip r:embed="rId3"/>
          <a:stretch/>
        </p:blipFill>
        <p:spPr>
          <a:xfrm>
            <a:off x="4788000" y="2133720"/>
            <a:ext cx="2592360" cy="20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1692360" y="126828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Узнай, какую букву написал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C:\Users\1\Desktop\Новая папка\P1020846.JPG"/>
          <p:cNvPicPr/>
          <p:nvPr/>
        </p:nvPicPr>
        <p:blipFill>
          <a:blip r:embed="rId2"/>
          <a:srcRect l="17865" t="3818" r="0" b="0"/>
          <a:stretch/>
        </p:blipFill>
        <p:spPr>
          <a:xfrm>
            <a:off x="1258920" y="1557360"/>
            <a:ext cx="2233440" cy="2295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2987640" y="907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Что, где находитс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C:\Users\1\Desktop\Новая папка\P1020859.JPG"/>
          <p:cNvPicPr/>
          <p:nvPr/>
        </p:nvPicPr>
        <p:blipFill>
          <a:blip r:embed="rId3"/>
          <a:srcRect l="21807" t="8132" r="17107" b="11875"/>
          <a:stretch/>
        </p:blipFill>
        <p:spPr>
          <a:xfrm>
            <a:off x="3348000" y="3789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C:\Users\1\Desktop\Новая папка\P1020860.JPG"/>
          <p:cNvPicPr/>
          <p:nvPr/>
        </p:nvPicPr>
        <p:blipFill>
          <a:blip r:embed="rId4"/>
          <a:srcRect l="17404" t="0" r="12348" b="2075"/>
          <a:stretch/>
        </p:blipFill>
        <p:spPr>
          <a:xfrm>
            <a:off x="5292720" y="1700280"/>
            <a:ext cx="2158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547640" y="1197000"/>
            <a:ext cx="6120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здать условия для дошкольников с нарушениями речи, направленные на предупреждение и устранение предпосылок оптической дис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вершенствование пространственных и временных ориентир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конструктивного праксиса и тактильных ощущ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дифференцированности, аналитичности, конкретности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Формирование речевых средств, отражающи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зрительно-пространственные отношени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5.    Формирование зрительных представлений о графическом образе бук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2411280" y="907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Необычный конструк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C:\Users\1\Desktop\Новая папка\P1020844.JPG"/>
          <p:cNvPicPr/>
          <p:nvPr/>
        </p:nvPicPr>
        <p:blipFill>
          <a:blip r:embed="rId2"/>
          <a:srcRect l="33216" t="3304" r="14138" b="0"/>
          <a:stretch/>
        </p:blipFill>
        <p:spPr>
          <a:xfrm>
            <a:off x="1258920" y="1413000"/>
            <a:ext cx="2160720" cy="2390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C:\Users\1\Desktop\Новая папка\P1020854.JPG"/>
          <p:cNvPicPr/>
          <p:nvPr/>
        </p:nvPicPr>
        <p:blipFill>
          <a:blip r:embed="rId3"/>
          <a:srcRect l="32077" t="11332" r="3793" b="0"/>
          <a:stretch/>
        </p:blipFill>
        <p:spPr>
          <a:xfrm>
            <a:off x="3276720" y="3860640"/>
            <a:ext cx="2036520" cy="2114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C:\Users\1\Desktop\Новая папка\P1020856.JPG"/>
          <p:cNvPicPr/>
          <p:nvPr/>
        </p:nvPicPr>
        <p:blipFill>
          <a:blip r:embed="rId4"/>
          <a:srcRect l="36076" t="0" r="17106" b="5684"/>
          <a:stretch/>
        </p:blipFill>
        <p:spPr>
          <a:xfrm>
            <a:off x="5076720" y="1341360"/>
            <a:ext cx="1943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C:\Users\1\Desktop\Новая папка\P1020839.JPG"/>
          <p:cNvPicPr/>
          <p:nvPr/>
        </p:nvPicPr>
        <p:blipFill>
          <a:blip r:embed="rId2"/>
          <a:srcRect l="21446" t="8130" r="24021" b="0"/>
          <a:stretch/>
        </p:blipFill>
        <p:spPr>
          <a:xfrm>
            <a:off x="1547640" y="249228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268360" y="1413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Разноцветное путешеств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5" descr="C:\Users\1\Desktop\Новая папка\P1020842.JPG"/>
          <p:cNvPicPr/>
          <p:nvPr/>
        </p:nvPicPr>
        <p:blipFill>
          <a:blip r:embed="rId3"/>
          <a:srcRect l="25191" t="0" r="22558" b="0"/>
          <a:stretch/>
        </p:blipFill>
        <p:spPr>
          <a:xfrm>
            <a:off x="4788000" y="2492280"/>
            <a:ext cx="1871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900000" y="859320"/>
            <a:ext cx="6985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рнев А.Н. Нарушения чтения и письма у детей. – СПб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рупенчук О.И. Научите меня говорить правильно! – СПб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узнецова Е.В., Тихонова И.А. Ступеньки к школе (обучение грамоте детей с нарушениями речи). – М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Лалаева Р.И. Нарушения чтения и пути их коррекции у младших школьников. – СПб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Лопухина И.С. Стихи и упражнения для развития ребёнка. – СПб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Мазанова Е.В. Коррекция оптической дисграфии. – М.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арамонова Л.Г. Дисграфия: диагностика, профилактика, коррекция.- С-Пб.: «Детство пресс»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арамонова Л.Г. Правописание, шаг за шагом. – СПб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Садовникова И.Н. Нарушения письменной речи и их преодоление у младших школьников. – М.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00000" y="5112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Ткаченко Т.А  Если дошкольник плохо говорит. – С. Пб.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Ткаченко Т.А  В первый класс без дефектов речи. – С. Пб.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Филичева Т.Б., Чиркина Г.В. Подготовка к школе детей с общим недоразвитием речи в условиях специального детского сада. – М.,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826920" y="907920"/>
            <a:ext cx="7058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редства реал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овела теоретический анализ литературы по проблеме исслед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общила и систематизировала методику обследования зрительно – пространственных функций у дошкольников с нарушениями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ределила основные направлени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методические рекомендации для воспитателей по профилактической работе с дошкольниками с нарушениями речи по предупреждению оптически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перспективный план работы с дошкольниками с нарушениями речи в старшего и подготовите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картотеку игр и заданий для профилактики оптически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900000" y="1125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Формы работы с деть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д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71640" y="2558880"/>
            <a:ext cx="53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сновные методы и технологии обучения и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наглядно-демонстрационные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слове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971640" y="76500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своей работе использовала инновационные техн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042920" y="1700280"/>
            <a:ext cx="68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офилактика оптической дисграфии с помощью пальчиковой азб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Цель: последовательность усвоения граф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азвивающая кинезиологическ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0" lang="be-BY" sz="1800" spc="-1" strike="noStrike">
                <a:solidFill>
                  <a:srgbClr val="0070c0"/>
                </a:solidFill>
                <a:latin typeface="Arial"/>
              </a:rPr>
              <a:t>Сиротюк А.Л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be-BY" sz="1800" spc="-1" strike="noStrike">
                <a:solidFill>
                  <a:srgbClr val="0070c0"/>
                </a:solidFill>
                <a:latin typeface="Arial"/>
              </a:rPr>
              <a:t>Коррекция развития интеллекта дошкольник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Цель: развитие межполушарного взаимодействия (синхронизация работы полушарий головного мозга, развитие способностей, памяти, внимания, речи, мыш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1052640"/>
            <a:ext cx="7272360" cy="80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и оптической дисграфии работа ведется в следующих направл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755640" y="907920"/>
            <a:ext cx="7201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ервое направ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зрительного и слухового восприятия и памяти, зрительного анализа и синтеза и коррекция их недостат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00000" y="2449080"/>
            <a:ext cx="72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ссматривание и называние реальных предметов, выделение в них главных и второстепенных деталей, формирование умения различать предметы по цвету с помощью операции сравнения однородных и различных по цвету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Запоминание визуально представленного ряда с постепенным увеличением числа включенных в него элементов; восстановление деформированного ря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зрительного восприятия путем узнавания геометрических фигур и «операций»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дробный анализ объектов и вычленение главных существенных 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971640" y="152712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3. Игры и упражнения для рассматривания, сравнивания, анализа и синтеза представленных изображений предметов,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4. Узнавание контурных, силуэтных, точечных изображений предметов, фигур; узнавание и называние стилизованных предм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5. Отслеживание взором наложенных линий, узнавание наложенных линий изображений; определение на картинках недостающих или неадекватных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6.  Преобразование фигур,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7.  Определение пространственных соотношений элементов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8.  Игры и задания на дифференциацию букв, сходных по кинетическим и оптическим призна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буквы различного шрифта; знакомство с начертанием букв; нахождение сходства и различия; нахождение спрятанной буквы и обведение ее по контуру; выявление образа буквы в зашумленном, заштрихованном варианте, буквы в неправильном полож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5:48:12Z</dcterms:created>
  <dc:creator>RePack by SPecialiST</dc:creator>
  <dc:description/>
  <dc:language>en-US</dc:language>
  <cp:lastModifiedBy>RePack by SPecialiST</cp:lastModifiedBy>
  <dcterms:modified xsi:type="dcterms:W3CDTF">2015-05-25T15:40:12Z</dcterms:modified>
  <cp:revision>84</cp:revision>
  <dc:subject/>
  <dc:title>Тема работы: «Формирование оптико-пространственных представлений, зрительного анализа и синтеза у дошкольников с нарушением речи с целью профилактики оптической дисграфии»</dc:title>
</cp:coreProperties>
</file>