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6EF-1F51-4598-AC98-23B18778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B0C-8D07-48D3-B794-384E160D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B3D-05E6-4661-89EB-ED8A7526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9DF-29A9-4F4B-AA71-C1E1249B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A29-5F2F-471E-9153-310F795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7FE2-A505-4210-9BD1-D50E74C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4577-6BBE-4413-BF70-93AA5D9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782-EC31-4248-9215-5B66291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9FE7-B3A4-4A1E-B131-791C61FB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861D-AD5C-41A7-A654-103158A1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7502-E01A-4783-BA0B-A00C18F7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8C-C05D-4FAC-8DFB-4741B49F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E88-9DA4-4B16-A271-7A68B2F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2C8B-31AC-46AC-AD62-042507F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2EFD-C409-4F91-BBDB-F3FECC30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8B3-4AEE-41E0-821F-3C3D1E5A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CBA-8C9F-4816-BEFD-793695D5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266-BEA7-42A6-870F-FE3288A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55D-E74B-43EB-85FF-FFB5B9E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4E8-9A71-4A23-BE3B-190F964A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E64-27C1-4828-83D0-2BF7EC0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E67-CB30-4864-B854-CCAF4DD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D05-6979-49A1-9A27-7E74DBC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358-657E-4FAC-992D-9372C9B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2775-CA59-446E-85E6-DD9E3AAB1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CD0D-F58D-490D-AC50-9EF7F70F325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4000" y="1196640"/>
            <a:ext cx="702000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5d00"/>
                </a:solidFill>
                <a:latin typeface="Times New Roman"/>
              </a:rPr>
              <a:t>Участие студентов НЧСК в Межрегиональной научной Олимпиаде по русскому языку, литературе и творчеству М.И.Цветае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18920" y="4213080"/>
            <a:ext cx="23050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ябрь 2013 – февраль 2014г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349640" y="260280"/>
            <a:ext cx="72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анский (Приволжский) Федеральный Университет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абужский институт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Picture 6" descr="D:\фото 2013-14\фото елабуга олимпиада\IMG_8107.JPG"/>
          <p:cNvPicPr/>
          <p:nvPr/>
        </p:nvPicPr>
        <p:blipFill>
          <a:blip r:embed="rId1"/>
          <a:stretch/>
        </p:blipFill>
        <p:spPr>
          <a:xfrm>
            <a:off x="4067280" y="321300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55640" y="1341000"/>
            <a:ext cx="5003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еподаватель Корнилова С.С.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жевская Арина, гр.16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ыбак Настя, гр. 1СЭЗ-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итова Лиза, гр. 1СЭЗ-3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нисимова Юля, гр.1СЭЗ-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еподаватель Асхадуллина Г.М.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уляев Игорь, гр.165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адельшина Альфина, гр. 171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а поездка в Елабугу запомнится надолго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Объект 3" descr=""/>
          <p:cNvPicPr/>
          <p:nvPr/>
        </p:nvPicPr>
        <p:blipFill>
          <a:blip r:embed="rId1"/>
          <a:stretch/>
        </p:blipFill>
        <p:spPr>
          <a:xfrm>
            <a:off x="2103480" y="1523880"/>
            <a:ext cx="628632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95200" y="2599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4a16"/>
                </a:solidFill>
                <a:latin typeface="Times New Roman"/>
              </a:rPr>
              <a:t>Этапы научной Олимпиады по русскому язы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ервый этап –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еобходимо было выполнить тестовые задания по русскому языку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иняли участие 25 обучающихся и студентов НЧСК 1-3 курсов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4 лучших работ были отправлены на адрес Елабужского институт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360" y="-3240"/>
            <a:ext cx="74916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4a16"/>
                </a:solidFill>
                <a:latin typeface="Times New Roman"/>
              </a:rPr>
              <a:t>2 этап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31640" y="764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обходимо было написать творческую работу – эссе (небольшое сочинение) на одну из предложенных организаторами тем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Я и моя будущая професс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Об этом (поступке, событии, авторе…) хочется рассказ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b8b00"/>
                </a:solidFill>
                <a:latin typeface="Arial"/>
              </a:rPr>
              <a:t>Рассказ о себ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11280" y="334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3 тур Олимпиа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8560" y="2133360"/>
            <a:ext cx="770580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1 февраля 2014 года, в международный День родного языка, на факультете русской филологии и журналистики Казанского Федерального университета состоялся заключительный 3-й тур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региональной научной Олимпиады по русскому языку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508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астники 3 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6000" y="2171880"/>
            <a:ext cx="76327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89 учащихся и студентов из следующих городов и районов Республики Татарстан: Елабуга, Менделеевск, Альметьевск, Заинск, Актаныш, Набережные Челны, Нижнекамск, Лениногорск, Мамадышский и Тукаевский районы и др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1480" y="620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79240" y="2100240"/>
            <a:ext cx="3668760" cy="29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адикова Джанет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Головушкина Полина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шеничников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катерина, гр. 17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535560" cy="4714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1332000" y="53355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ватель:Асхадуллина Г.М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ГАОУ СПО "Набережночелнинский строительный колледж"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31640" y="1931760"/>
            <a:ext cx="4871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итова Елизавета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нисимова Юлия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икитина Алина, гр. 1СЭЗ-3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Гайнетдинова Айсылу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етрякова Светлана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Шангареев Юрий, гр. 1СЭЗ-2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блукова Ларис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жевская Арин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олпеева Елизавета, гр. 16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сламова Илюза, гр. 3СЭЗ-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Ханнанова Лилия, гр. 3СЭЗ-1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Объект 3" descr=""/>
          <p:cNvPicPr/>
          <p:nvPr/>
        </p:nvPicPr>
        <p:blipFill>
          <a:blip r:embed="rId1"/>
          <a:srcRect l="3776" t="7830" r="4051" b="0"/>
          <a:stretch/>
        </p:blipFill>
        <p:spPr>
          <a:xfrm>
            <a:off x="5724360" y="1739880"/>
            <a:ext cx="3259440" cy="4344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340000" y="62784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ватель:  Корнилова С.С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участники  3 тура Олимпиады были награждены Дипломами Финали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4583160" cy="34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4a16"/>
                </a:solidFill>
                <a:latin typeface="Times New Roman"/>
              </a:rPr>
              <a:t>Олимпиада по литературе и творчеству М.И.Цвета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55640" y="1557000"/>
            <a:ext cx="4319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вый этап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–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ставление ответов на задания по литературе и творчеству Цветаево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– анализ стихотворения Арсения Тарковского (по литературе) и Марины Цветаево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21160" y="152352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07:19:45Z</dcterms:created>
  <dc:creator>Admin</dc:creator>
  <dc:description/>
  <dc:language>en-US</dc:language>
  <cp:lastModifiedBy>sveta</cp:lastModifiedBy>
  <dcterms:modified xsi:type="dcterms:W3CDTF">2015-10-06T10:54:36Z</dcterms:modified>
  <cp:revision>33</cp:revision>
  <dc:subject/>
  <dc:title>Презентация PowerPoint</dc:title>
</cp:coreProperties>
</file>