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C755-79C5-4CEC-9DAF-CBA01C65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802-CA25-4692-B33B-B9FC7001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A73A-EFCA-48F4-97C2-9C21C94B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7C99-6C93-41D5-83A9-DB20DA53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3347-205D-4AAA-A78D-295B2E2C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B813-87C7-4B5B-922A-31741153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4EFC-52A7-42D5-A906-8AFA96B5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73DE-745E-4DA9-8B07-2B05D91F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2E91-F8CF-4F0F-AC06-6A188611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D8CF-EA05-4CE3-A4D5-58CE34CF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2B99-9B3D-47DF-B389-783B6A13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719-2C5C-4DD6-B7B2-CD0ED551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234A-0C45-4CF5-B126-587E82CD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B48A-1C1F-4960-9558-A7EB1808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4C4D-B9E2-43A7-81BB-34454E91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7FEF-3C33-4462-8D8B-5B4AB1BA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1E31-3F0B-41D5-9027-9D2FB17D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CBF4-BC87-4B3E-A539-267A5FD6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30A-6A24-4536-B1FB-DCE98F4D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082-B20F-4FA7-8C48-2687A8D2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2311-06ED-4EA5-B38E-6235CF76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73C0-75C8-425F-9295-C6ED57DA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EC0-2729-4D2B-A7C8-21A193C3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970-2697-4180-A101-388A1709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ABB3-BB79-460C-849D-59E0DADDCB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C823-B75C-49BB-883B-3E90B43B1271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24000" y="1196640"/>
            <a:ext cx="7020000" cy="19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d5d00"/>
                </a:solidFill>
                <a:latin typeface="Times New Roman"/>
              </a:rPr>
              <a:t>Участие студентов НЧСК в Межрегиональной научной Олимпиаде по русскому языку, литературе и творчеству М.И.Цветаев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618920" y="4213080"/>
            <a:ext cx="23050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оябрь 2013 – февраль 2014г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1349640" y="260280"/>
            <a:ext cx="723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занский (Приволжский) Федеральный Университет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лабужский институт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5" name="Picture 6" descr="D:\фото 2013-14\фото елабуга олимпиада\IMG_8107.JPG"/>
          <p:cNvPicPr/>
          <p:nvPr/>
        </p:nvPicPr>
        <p:blipFill>
          <a:blip r:embed="rId1"/>
          <a:stretch/>
        </p:blipFill>
        <p:spPr>
          <a:xfrm>
            <a:off x="4067280" y="3213000"/>
            <a:ext cx="4284720" cy="32133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ГАОУ СПО "Набережночелнинский строительный колледж":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55640" y="1341000"/>
            <a:ext cx="500364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реподаватель Корнилова С.С.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Ржевская Арина, гр.16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Рыбак Настя, гр. 1СЭЗ-4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итова Лиза, гр. 1СЭЗ-3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Анисимова Юля, гр.1СЭЗ-4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реподаватель Асхадуллина Г.М.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Гуляев Игорь, гр.165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Гадельшина Альфина, гр. 171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321160" y="1523520"/>
            <a:ext cx="367056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та поездка в Елабугу запомнится надолго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Объект 3" descr=""/>
          <p:cNvPicPr/>
          <p:nvPr/>
        </p:nvPicPr>
        <p:blipFill>
          <a:blip r:embed="rId1"/>
          <a:stretch/>
        </p:blipFill>
        <p:spPr>
          <a:xfrm>
            <a:off x="2103480" y="1523880"/>
            <a:ext cx="6286320" cy="471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95200" y="259920"/>
            <a:ext cx="7948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4a16"/>
                </a:solidFill>
                <a:latin typeface="Times New Roman"/>
              </a:rPr>
              <a:t>Этапы научной Олимпиады по русскому языку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Первый этап –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еобходимо было выполнить тестовые задания по русскому языку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Приняли участие 25 обучающихся и студентов НЧСК 1-3 курсов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14 лучших работ были отправлены на адрес Елабужского институт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76360" y="-3240"/>
            <a:ext cx="74916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4a16"/>
                </a:solidFill>
                <a:latin typeface="Times New Roman"/>
              </a:rPr>
              <a:t>2 этап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331640" y="76464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еобходимо было написать творческую работу – эссе (небольшое сочинение) на одну из предложенных организаторами тем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b8b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b8b00"/>
                </a:solidFill>
                <a:latin typeface="Arial"/>
              </a:rPr>
              <a:t>Я и моя будущая професси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b8b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b8b00"/>
                </a:solidFill>
                <a:latin typeface="Arial"/>
              </a:rPr>
              <a:t>Об этом (поступке, событии, авторе…) хочется рассказать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b8b00"/>
                </a:solidFill>
                <a:latin typeface="Arial"/>
              </a:rPr>
              <a:t>Рассказ о себе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11280" y="334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3 тур Олимпиад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58560" y="2133360"/>
            <a:ext cx="7705800" cy="80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21 февраля 2014 года, в международный День родного языка, на факультете русской филологии и журналистики Казанского Федерального университета состоялся заключительный 3-й тур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V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ежрегиональной научной Олимпиады по русскому языку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508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частники 3 тур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16000" y="2171880"/>
            <a:ext cx="7632720" cy="471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89 учащихся и студентов из следующих городов и районов Республики Татарстан: Елабуга, Менделеевск, Альметьевск, Заинск, Актаныш, Набережные Челны, Нижнекамск, Лениногорск, Мамадышский и Тукаевский районы и др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21160" y="1523520"/>
            <a:ext cx="367056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01480" y="62028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дставители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ГАОУ СПО "Набережночелнинский строительный колледж"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479240" y="2100240"/>
            <a:ext cx="3668760" cy="29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адикова Джанет, гр. 17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Головушкина Полина, гр. 17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шеничникова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катерина, гр. 17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7" name="Объект 3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535560" cy="47149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"/>
          <p:cNvSpPr/>
          <p:nvPr/>
        </p:nvSpPr>
        <p:spPr>
          <a:xfrm>
            <a:off x="1332000" y="53355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ватель:Асхадуллина Г.М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дставители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ГАОУ СПО "Набережночелнинский строительный колледж"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331640" y="1931760"/>
            <a:ext cx="48718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итова Елизавета, гр. 1СЭЗ-3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Анисимова Юлия, гр. 1СЭЗ-3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икитина Алина, гр. 1СЭЗ-3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Гайнетдинова Айсылу, гр. 1СЭЗ-2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етрякова Светлана, гр. 1СЭЗ-2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Шангареев Юрий, гр. 1СЭЗ-2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Аблукова Лариса, гр. 161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Ржевская Арина, гр. 161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олпеева Елизавета, гр. 161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сламова Илюза, гр. 3СЭЗ-1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Ханнанова Лилия, гр. 3СЭЗ-1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1" name="Объект 3" descr=""/>
          <p:cNvPicPr/>
          <p:nvPr/>
        </p:nvPicPr>
        <p:blipFill>
          <a:blip r:embed="rId1"/>
          <a:srcRect l="3776" t="7830" r="4051" b="0"/>
          <a:stretch/>
        </p:blipFill>
        <p:spPr>
          <a:xfrm>
            <a:off x="5724360" y="1739880"/>
            <a:ext cx="3259440" cy="43448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"/>
          <p:cNvSpPr/>
          <p:nvPr/>
        </p:nvSpPr>
        <p:spPr>
          <a:xfrm>
            <a:off x="2340000" y="62784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ватель:  Корнилова С.С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1640" y="7646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се участники  3 тура Олимпиады были награждены Дипломами Финалис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Объект 4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4583160" cy="343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4a16"/>
                </a:solidFill>
                <a:latin typeface="Times New Roman"/>
              </a:rPr>
              <a:t>Олимпиада по литературе и творчеству М.И.Цветае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555640" y="1557000"/>
            <a:ext cx="43196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рвый этап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–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оставление ответов на задания по литературе и творчеству Цветаевой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торой этап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– анализ стихотворения Арсения Тарковского (по литературе) и Марины Цветаевой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321160" y="1523520"/>
            <a:ext cx="367056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2T07:19:45Z</dcterms:created>
  <dc:creator>Admin</dc:creator>
  <dc:description/>
  <dc:language>en-US</dc:language>
  <cp:lastModifiedBy>sveta</cp:lastModifiedBy>
  <dcterms:modified xsi:type="dcterms:W3CDTF">2015-10-06T10:54:36Z</dcterms:modified>
  <cp:revision>33</cp:revision>
  <dc:subject/>
  <dc:title>Презентация PowerPoint</dc:title>
</cp:coreProperties>
</file>