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8.png" ContentType="image/png"/>
  <Override PartName="/ppt/media/image17.gif" ContentType="image/gif"/>
  <Override PartName="/ppt/media/image2.jpeg" ContentType="image/jpeg"/>
  <Override PartName="/ppt/media/image16.gif" ContentType="image/gif"/>
  <Override PartName="/ppt/media/image14.jpeg" ContentType="image/jpeg"/>
  <Override PartName="/ppt/media/image1.jpeg" ContentType="image/jpeg"/>
  <Override PartName="/ppt/media/image8.jpeg" ContentType="image/jpeg"/>
  <Override PartName="/ppt/media/image5.png" ContentType="image/pn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A080-3839-40A5-AF5E-0149994CF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80C6-FC3B-4F9B-ACA5-09AB4523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9551-692D-4CC5-BE05-FC09D2489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698B-B3F5-4A9A-A50A-6A9FD8545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AE4A-6A00-42DE-B35C-D1168111B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91F8-D810-4E79-84F0-82903300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DBAA-EDE4-45F3-81C6-664D7FBF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7E57-A363-42B7-B20A-7426D411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2EDF-052E-4EBD-AD8C-25470302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D262-37AB-4AB9-ADC5-DF4688DC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B56E-F4A3-4E9F-A05D-8F26A77A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8C36-B8EA-4E42-B0D7-5068EAB4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53F0-89A0-465C-BA98-95D8757C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B991-B942-4708-AFF3-03C9B191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C2536-4D16-4A1D-8726-8D012F56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F2A1-6FBE-4A76-BEC0-00F8B765B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D643-E001-438B-BEA8-B3A432C16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AF67-B54A-4399-872A-7B9D0E63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9815-40EA-4ACF-9314-0BEBFB74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E66E-1377-4740-AFD9-433CE4F8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038E-5EB7-40D7-96DB-555EB76D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3956-3E2C-44A9-AD70-E88A4142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3177-B28D-4D95-8643-5021EF6E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2720-62AF-4B64-92F0-95B40056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441C-BB76-4AE9-A815-6A197CA9D7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FF7D-264A-48F0-A220-F95FDF0B79F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merry01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989840" cy="37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0" name="Picture 4" descr="Christmas Wallpaper"/>
          <p:cNvPicPr/>
          <p:nvPr/>
        </p:nvPicPr>
        <p:blipFill>
          <a:blip r:embed="rId2"/>
          <a:stretch/>
        </p:blipFill>
        <p:spPr>
          <a:xfrm>
            <a:off x="-324000" y="-243000"/>
            <a:ext cx="9792000" cy="7344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2411280" y="3284640"/>
            <a:ext cx="532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 Black"/>
              </a:rPr>
              <a:t>Christmas in Great</a:t>
            </a:r>
            <a:r>
              <a:rPr b="0" lang="en-US" sz="4400" spc="-1" strike="noStrike">
                <a:solidFill>
                  <a:srgbClr val="ffcc66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ffcc66"/>
                </a:solidFill>
                <a:latin typeface="Arial Black"/>
              </a:rPr>
              <a:t>Brita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merry01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hristmas stock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n children go to bed, they put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ir stocking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near their beds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8" descr="images[32]"/>
          <p:cNvPicPr/>
          <p:nvPr/>
        </p:nvPicPr>
        <p:blipFill>
          <a:blip r:embed="rId2"/>
          <a:stretch/>
        </p:blipFill>
        <p:spPr>
          <a:xfrm>
            <a:off x="1187280" y="2205000"/>
            <a:ext cx="2737080" cy="2952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merry01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ather Christm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t nigh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ather Christmas comes. He has got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big bag of present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or children. He puts the present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to the children's stocking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8" descr="Забавный Санта"/>
          <p:cNvPicPr/>
          <p:nvPr/>
        </p:nvPicPr>
        <p:blipFill>
          <a:blip r:embed="rId2"/>
          <a:stretch/>
        </p:blipFill>
        <p:spPr>
          <a:xfrm>
            <a:off x="826920" y="2205000"/>
            <a:ext cx="3456000" cy="3168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merry01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49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hristmas pres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46087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n Christmas Ev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eople put their present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nder the t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6" descr="ny_103"/>
          <p:cNvPicPr/>
          <p:nvPr/>
        </p:nvPicPr>
        <p:blipFill>
          <a:blip r:embed="rId2"/>
          <a:stretch/>
        </p:blipFill>
        <p:spPr>
          <a:xfrm>
            <a:off x="1571760" y="3571920"/>
            <a:ext cx="3527280" cy="2663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tree"/>
          <p:cNvPicPr/>
          <p:nvPr/>
        </p:nvPicPr>
        <p:blipFill>
          <a:blip r:embed="rId3"/>
          <a:stretch/>
        </p:blipFill>
        <p:spPr>
          <a:xfrm>
            <a:off x="5940360" y="2205000"/>
            <a:ext cx="2952720" cy="4248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merry01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Balls on a Christmas tree in Trafalgar Squar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very yea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here is a very big Christmas tre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 the centre of Lond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in Trafalgar Square. This is a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esen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ople of Norwa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th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ople of Great Britai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 They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to Londoners every year and Londoners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cora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h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istmas tr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6" descr="Трафальгар"/>
          <p:cNvPicPr/>
          <p:nvPr/>
        </p:nvPicPr>
        <p:blipFill>
          <a:blip r:embed="rId2"/>
          <a:stretch/>
        </p:blipFill>
        <p:spPr>
          <a:xfrm>
            <a:off x="4643280" y="2133720"/>
            <a:ext cx="3434040" cy="3816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merry01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rafalgar Square at nigh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   the  evenin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before  Christmas  people  like  to  come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Trafalgar Squar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o look at the tree.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n Christmas Ev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he streets in London are decorated, to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6" descr="Трафальгарская площадь ночью"/>
          <p:cNvPicPr/>
          <p:nvPr/>
        </p:nvPicPr>
        <p:blipFill>
          <a:blip r:embed="rId2"/>
          <a:stretch/>
        </p:blipFill>
        <p:spPr>
          <a:xfrm>
            <a:off x="4643280" y="2133720"/>
            <a:ext cx="3434040" cy="3743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merry01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hristmas cand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n Christma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people wish their nearest and dearest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 merry Christma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day afte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istma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oxing Da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 People usually visit their relatives and friends. They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o not work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n that d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6" descr="Рождественские свечи"/>
          <p:cNvPicPr/>
          <p:nvPr/>
        </p:nvPicPr>
        <p:blipFill>
          <a:blip r:embed="rId2"/>
          <a:stretch/>
        </p:blipFill>
        <p:spPr>
          <a:xfrm>
            <a:off x="4859280" y="2133720"/>
            <a:ext cx="3600360" cy="3671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merry01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hristmas foo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24360" y="1916280"/>
            <a:ext cx="453384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r Christmas lunc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eople eat turkey, potatoes and green vegetables. Then they have 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ristmas puddin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At five o'clock it's time for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a and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ristmas ca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6" descr="rozh"/>
          <p:cNvPicPr/>
          <p:nvPr/>
        </p:nvPicPr>
        <p:blipFill>
          <a:blip r:embed="rId2"/>
          <a:stretch/>
        </p:blipFill>
        <p:spPr>
          <a:xfrm>
            <a:off x="250920" y="1989000"/>
            <a:ext cx="3529080" cy="3672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merry012"/>
          <p:cNvPicPr/>
          <p:nvPr/>
        </p:nvPicPr>
        <p:blipFill>
          <a:blip r:embed="rId1"/>
          <a:stretch/>
        </p:blipFill>
        <p:spPr>
          <a:xfrm>
            <a:off x="-324000" y="-316080"/>
            <a:ext cx="9772920" cy="7329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" descr="ELKA1"/>
          <p:cNvPicPr/>
          <p:nvPr/>
        </p:nvPicPr>
        <p:blipFill>
          <a:blip r:embed="rId2"/>
          <a:stretch/>
        </p:blipFill>
        <p:spPr>
          <a:xfrm>
            <a:off x="5867280" y="2825640"/>
            <a:ext cx="2952720" cy="3843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12M6"/>
          <p:cNvPicPr/>
          <p:nvPr/>
        </p:nvPicPr>
        <p:blipFill>
          <a:blip r:embed="rId3"/>
          <a:stretch/>
        </p:blipFill>
        <p:spPr>
          <a:xfrm>
            <a:off x="395280" y="3860640"/>
            <a:ext cx="2664000" cy="2808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4" descr=""/>
          <p:cNvPicPr/>
          <p:nvPr/>
        </p:nvPicPr>
        <p:blipFill>
          <a:blip r:embed="rId4"/>
          <a:stretch/>
        </p:blipFill>
        <p:spPr>
          <a:xfrm>
            <a:off x="3780000" y="2133720"/>
            <a:ext cx="1752480" cy="2219040"/>
          </a:xfrm>
          <a:prstGeom prst="rect">
            <a:avLst/>
          </a:prstGeom>
          <a:ln w="0">
            <a:noFill/>
          </a:ln>
        </p:spPr>
      </p:pic>
      <p:sp>
        <p:nvSpPr>
          <p:cNvPr id="154" name="WordArt 16"/>
          <p:cNvSpPr txBox="1"/>
          <p:nvPr/>
        </p:nvSpPr>
        <p:spPr>
          <a:xfrm>
            <a:off x="468360" y="549360"/>
            <a:ext cx="331164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ff"/>
                </a:solidFill>
                <a:latin typeface="Monotype Corsiva"/>
              </a:rPr>
              <a:t>Merry</a:t>
            </a:r>
            <a:endParaRPr b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ff00ff"/>
              </a:solidFill>
              <a:latin typeface="Monotype Corsiva"/>
              <a:ea typeface="Monotype Corsiva"/>
            </a:endParaRPr>
          </a:p>
        </p:txBody>
      </p:sp>
      <p:sp>
        <p:nvSpPr>
          <p:cNvPr id="155" name="WordArt 18"/>
          <p:cNvSpPr txBox="1"/>
          <p:nvPr/>
        </p:nvSpPr>
        <p:spPr>
          <a:xfrm>
            <a:off x="5076720" y="333360"/>
            <a:ext cx="37450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ff"/>
                </a:solidFill>
                <a:latin typeface="Monotype Corsiva"/>
              </a:rPr>
              <a:t>Christmas !</a:t>
            </a:r>
            <a:endParaRPr b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ff00ff"/>
              </a:solidFill>
              <a:latin typeface="Monotype Corsiva"/>
              <a:ea typeface="Monotype Corsiva"/>
            </a:endParaRPr>
          </a:p>
        </p:txBody>
      </p:sp>
    </p:spTree>
  </p:cSld>
  <p:transition>
    <p:push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merry012"/>
          <p:cNvPicPr/>
          <p:nvPr/>
        </p:nvPicPr>
        <p:blipFill>
          <a:blip r:embed="rId1"/>
          <a:stretch/>
        </p:blipFill>
        <p:spPr>
          <a:xfrm>
            <a:off x="-1908000" y="189000"/>
            <a:ext cx="11052000" cy="73152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35344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Автор идеи и презентации: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400"/>
            </a:br>
            <a:r>
              <a:rPr b="1" i="1" lang="ru-RU" sz="4400" spc="-1" strike="noStrike">
                <a:solidFill>
                  <a:srgbClr val="ffcc66"/>
                </a:solidFill>
                <a:latin typeface="Arial"/>
              </a:rPr>
              <a:t>ученица 7 класса</a:t>
            </a:r>
            <a:br>
              <a:rPr sz="4400"/>
            </a:br>
            <a:r>
              <a:rPr b="1" i="1" lang="ru-RU" sz="4400" spc="-1" strike="noStrike">
                <a:solidFill>
                  <a:srgbClr val="ffcc66"/>
                </a:solidFill>
                <a:latin typeface="Arial"/>
              </a:rPr>
              <a:t>МБОУ «Надеждинская сош»</a:t>
            </a:r>
            <a:br>
              <a:rPr sz="4400"/>
            </a:br>
            <a:r>
              <a:rPr b="1" i="1" lang="ru-RU" sz="4400" spc="-1" strike="noStrike">
                <a:solidFill>
                  <a:srgbClr val="ffcc66"/>
                </a:solidFill>
                <a:latin typeface="Arial"/>
              </a:rPr>
              <a:t>Платонова Валентин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merry01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104-1024"/>
          <p:cNvPicPr/>
          <p:nvPr/>
        </p:nvPicPr>
        <p:blipFill>
          <a:blip r:embed="rId2"/>
          <a:stretch/>
        </p:blipFill>
        <p:spPr>
          <a:xfrm>
            <a:off x="1476360" y="2205000"/>
            <a:ext cx="3311640" cy="36734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ЦЕЛЬ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32000" y="2060640"/>
            <a:ext cx="380988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33"/>
                </a:solidFill>
                <a:latin typeface="Arial"/>
              </a:rPr>
              <a:t>Изучить традиции и обычаи празднования Рождества и Нового года в Англ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merry01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ГИПОТЕЗ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Знание обычаев и традиций страны изучаемого языка, поможет нам в общении с зарубежными сверстниками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6" descr="w6_1024"/>
          <p:cNvPicPr/>
          <p:nvPr/>
        </p:nvPicPr>
        <p:blipFill>
          <a:blip r:embed="rId2"/>
          <a:stretch/>
        </p:blipFill>
        <p:spPr>
          <a:xfrm>
            <a:off x="4932360" y="2205000"/>
            <a:ext cx="3384720" cy="3672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merry01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Над проектом работали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ПОИСК материалов в интернет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Платонова Валенти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merry01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Дизайнер проекта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латонова Валенти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еница 7 клас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merry01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hristmas Da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25th of December is Christmas Da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 It's a happy holiday for many people in different countr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6" descr="cristmas"/>
          <p:cNvPicPr/>
          <p:nvPr/>
        </p:nvPicPr>
        <p:blipFill>
          <a:blip r:embed="rId2"/>
          <a:stretch/>
        </p:blipFill>
        <p:spPr>
          <a:xfrm>
            <a:off x="4648320" y="2060640"/>
            <a:ext cx="3809880" cy="3673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merry01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 Christmas Car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ome week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before Christmas English people ar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us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They se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reeting card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all their relatives and friends. You can buy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hristmas card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r you can make them. Many children make thei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rds at schoo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6" descr="9"/>
          <p:cNvPicPr/>
          <p:nvPr/>
        </p:nvPicPr>
        <p:blipFill>
          <a:blip r:embed="rId2"/>
          <a:stretch/>
        </p:blipFill>
        <p:spPr>
          <a:xfrm>
            <a:off x="5003640" y="2205000"/>
            <a:ext cx="3168720" cy="3672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merry01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 Christmas tre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eople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u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a Christmas tree and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ecorat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t with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oy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loured ball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ittle coloured ligh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8" descr="ELKA"/>
          <p:cNvPicPr/>
          <p:nvPr/>
        </p:nvPicPr>
        <p:blipFill>
          <a:blip r:embed="rId2"/>
          <a:stretch/>
        </p:blipFill>
        <p:spPr>
          <a:xfrm>
            <a:off x="900000" y="1916280"/>
            <a:ext cx="3456000" cy="3960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09:19:29Z</dcterms:created>
  <dc:creator>10</dc:creator>
  <dc:description/>
  <dc:language>en-US</dc:language>
  <cp:lastModifiedBy>елена</cp:lastModifiedBy>
  <dcterms:modified xsi:type="dcterms:W3CDTF">2015-10-06T09:45:15Z</dcterms:modified>
  <cp:revision>24</cp:revision>
  <dc:subject/>
  <dc:title>Christmas in Great Britain</dc:title>
</cp:coreProperties>
</file>