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png" ContentType="image/pn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12E-AFB6-4D4D-8524-B81A68FE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118-7EC2-496D-8866-AE54D338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C93-0690-48ED-81A8-32EE1404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907-1D56-413C-80B2-829C3AFC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316E-256D-4C89-86A0-B0098F3B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48B3-382A-423B-B367-7A014B0B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15CD-F957-49AF-89E9-657840CB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2CA7-65A0-4263-9887-671DF359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DA85-3043-456C-90A8-5B39316D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2C5A-A683-46DF-A9E3-6F3CC95A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7700-5B3F-4F4E-AFC4-44D46DA1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8D9-3F5F-4BA5-8177-C8E8ECF0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8858-C249-4AE6-94FE-0E7DCCAD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30C2-24AD-4476-BE60-BBBF8A06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1EC5-F717-4EDB-AF8F-47A9D00F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2AA9-1B93-42F5-BBF5-7FD55D47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90EC-2D4F-4ADF-8F7C-D1CC5EA0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636-0DCF-45C5-AE91-023D9A35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34C-4126-4D3E-8A8B-F7F03501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BF8-39CF-4087-841E-F77AF92D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BA7-7210-49AD-B329-CB89B18D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D33-9C6F-4EA8-AB66-58F2BDF3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0F1-42DA-4AF0-A936-5EA937C9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736-16A0-4C9C-8A33-8FBD40BA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C60F-F2ED-4E3A-8E5E-88CCAD60E1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621C-CA7F-4C65-8486-7E0C717D60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37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Picture 4" descr="Christmas Wallpaper"/>
          <p:cNvPicPr/>
          <p:nvPr/>
        </p:nvPicPr>
        <p:blipFill>
          <a:blip r:embed="rId2"/>
          <a:stretch/>
        </p:blipFill>
        <p:spPr>
          <a:xfrm>
            <a:off x="-324000" y="-243000"/>
            <a:ext cx="9792000" cy="7344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411280" y="3284640"/>
            <a:ext cx="532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Black"/>
              </a:rPr>
              <a:t>Christmas in Great</a:t>
            </a:r>
            <a:r>
              <a:rPr b="0" lang="en-US" sz="44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 Black"/>
              </a:rPr>
              <a:t>Bri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ristmas stock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children go to bed, they pu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ir stocking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ear their beds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8" descr="images[32]"/>
          <p:cNvPicPr/>
          <p:nvPr/>
        </p:nvPicPr>
        <p:blipFill>
          <a:blip r:embed="rId2"/>
          <a:stretch/>
        </p:blipFill>
        <p:spPr>
          <a:xfrm>
            <a:off x="1187280" y="2205000"/>
            <a:ext cx="2737080" cy="295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ather Christm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 n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ather Christmas comes. He has go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big bag of presen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children. He puts the present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o the children's stocking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Забавный Санта"/>
          <p:cNvPicPr/>
          <p:nvPr/>
        </p:nvPicPr>
        <p:blipFill>
          <a:blip r:embed="rId2"/>
          <a:stretch/>
        </p:blipFill>
        <p:spPr>
          <a:xfrm>
            <a:off x="826920" y="2205000"/>
            <a:ext cx="3456000" cy="316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ristmas pres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 Christmas E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eople put their present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der the t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6" descr="ny_103"/>
          <p:cNvPicPr/>
          <p:nvPr/>
        </p:nvPicPr>
        <p:blipFill>
          <a:blip r:embed="rId2"/>
          <a:stretch/>
        </p:blipFill>
        <p:spPr>
          <a:xfrm>
            <a:off x="1571760" y="3571920"/>
            <a:ext cx="3527280" cy="2663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tree"/>
          <p:cNvPicPr/>
          <p:nvPr/>
        </p:nvPicPr>
        <p:blipFill>
          <a:blip r:embed="rId3"/>
          <a:stretch/>
        </p:blipFill>
        <p:spPr>
          <a:xfrm>
            <a:off x="5940360" y="2205000"/>
            <a:ext cx="2952720" cy="424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alls on a Christmas tree in Trafalgar Squar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ery ye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re is a very big Christmas tre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the centre of Lond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in Trafalgar Square. This is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sen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ople of Norwa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ople of Great Brit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The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to Londoners every year and Londoner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cor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tmas t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6" descr="Трафальгар"/>
          <p:cNvPicPr/>
          <p:nvPr/>
        </p:nvPicPr>
        <p:blipFill>
          <a:blip r:embed="rId2"/>
          <a:stretch/>
        </p:blipFill>
        <p:spPr>
          <a:xfrm>
            <a:off x="4643280" y="2133720"/>
            <a:ext cx="3434040" cy="381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afalgar Square at n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  the  even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before  Christmas  people  like  to  come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rafalgar Squa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look at the tree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 Christmas E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e streets in London are decorated, to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6" descr="Трафальгарская площадь ночью"/>
          <p:cNvPicPr/>
          <p:nvPr/>
        </p:nvPicPr>
        <p:blipFill>
          <a:blip r:embed="rId2"/>
          <a:stretch/>
        </p:blipFill>
        <p:spPr>
          <a:xfrm>
            <a:off x="4643280" y="2133720"/>
            <a:ext cx="3434040" cy="3743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ristmas cand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 Christm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eople wish their nearest and deares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merry Christm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ay aft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m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oxing Da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People usually visit their relatives and friends. The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not wor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n that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Рождественские свечи"/>
          <p:cNvPicPr/>
          <p:nvPr/>
        </p:nvPicPr>
        <p:blipFill>
          <a:blip r:embed="rId2"/>
          <a:stretch/>
        </p:blipFill>
        <p:spPr>
          <a:xfrm>
            <a:off x="4859280" y="2133720"/>
            <a:ext cx="3600360" cy="3671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ristmas fo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45338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Christmas lunc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eople eat turkey, potatoes and green vegetables. Then they have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ristmas pudd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At five o'clock it's time fo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a a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ristmas ca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6" descr="rozh"/>
          <p:cNvPicPr/>
          <p:nvPr/>
        </p:nvPicPr>
        <p:blipFill>
          <a:blip r:embed="rId2"/>
          <a:stretch/>
        </p:blipFill>
        <p:spPr>
          <a:xfrm>
            <a:off x="250920" y="1989000"/>
            <a:ext cx="3529080" cy="36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erry012"/>
          <p:cNvPicPr/>
          <p:nvPr/>
        </p:nvPicPr>
        <p:blipFill>
          <a:blip r:embed="rId1"/>
          <a:stretch/>
        </p:blipFill>
        <p:spPr>
          <a:xfrm>
            <a:off x="-324000" y="-316080"/>
            <a:ext cx="9772920" cy="7329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ELKA1"/>
          <p:cNvPicPr/>
          <p:nvPr/>
        </p:nvPicPr>
        <p:blipFill>
          <a:blip r:embed="rId2"/>
          <a:stretch/>
        </p:blipFill>
        <p:spPr>
          <a:xfrm>
            <a:off x="5867280" y="2825640"/>
            <a:ext cx="2952720" cy="3843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12M6"/>
          <p:cNvPicPr/>
          <p:nvPr/>
        </p:nvPicPr>
        <p:blipFill>
          <a:blip r:embed="rId3"/>
          <a:stretch/>
        </p:blipFill>
        <p:spPr>
          <a:xfrm>
            <a:off x="395280" y="3860640"/>
            <a:ext cx="2664000" cy="280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4"/>
          <a:stretch/>
        </p:blipFill>
        <p:spPr>
          <a:xfrm>
            <a:off x="3780000" y="2133720"/>
            <a:ext cx="1752480" cy="2219040"/>
          </a:xfrm>
          <a:prstGeom prst="rect">
            <a:avLst/>
          </a:prstGeom>
          <a:ln w="0">
            <a:noFill/>
          </a:ln>
        </p:spPr>
      </p:pic>
      <p:sp>
        <p:nvSpPr>
          <p:cNvPr id="154" name="WordArt 16"/>
          <p:cNvSpPr txBox="1"/>
          <p:nvPr/>
        </p:nvSpPr>
        <p:spPr>
          <a:xfrm>
            <a:off x="468360" y="549360"/>
            <a:ext cx="33116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Monotype Corsiva"/>
              </a:rPr>
              <a:t>Merry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Monotype Corsiva"/>
              <a:ea typeface="Monotype Corsiva"/>
            </a:endParaRPr>
          </a:p>
        </p:txBody>
      </p:sp>
      <p:sp>
        <p:nvSpPr>
          <p:cNvPr id="155" name="WordArt 18"/>
          <p:cNvSpPr txBox="1"/>
          <p:nvPr/>
        </p:nvSpPr>
        <p:spPr>
          <a:xfrm>
            <a:off x="5076720" y="333360"/>
            <a:ext cx="3745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Monotype Corsiva"/>
              </a:rPr>
              <a:t>Christmas !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Monotype Corsiva"/>
              <a:ea typeface="Monotype Corsiva"/>
            </a:endParaRPr>
          </a:p>
        </p:txBody>
      </p:sp>
    </p:spTree>
  </p:cSld>
  <p:transition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erry012"/>
          <p:cNvPicPr/>
          <p:nvPr/>
        </p:nvPicPr>
        <p:blipFill>
          <a:blip r:embed="rId1"/>
          <a:stretch/>
        </p:blipFill>
        <p:spPr>
          <a:xfrm>
            <a:off x="-1908000" y="189000"/>
            <a:ext cx="1105200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Автор идеи и презентации: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ученица 7 класса</a:t>
            </a:r>
            <a:br>
              <a:rPr sz="4400"/>
            </a:b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МБОУ «Надеждинская сош»</a:t>
            </a:r>
            <a:br>
              <a:rPr sz="4400"/>
            </a:br>
            <a:r>
              <a:rPr b="1" i="1" lang="ru-RU" sz="4400" spc="-1" strike="noStrike">
                <a:solidFill>
                  <a:srgbClr val="ffcc66"/>
                </a:solidFill>
                <a:latin typeface="Arial"/>
              </a:rPr>
              <a:t>Платонова Валентин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104-1024"/>
          <p:cNvPicPr/>
          <p:nvPr/>
        </p:nvPicPr>
        <p:blipFill>
          <a:blip r:embed="rId2"/>
          <a:stretch/>
        </p:blipFill>
        <p:spPr>
          <a:xfrm>
            <a:off x="1476360" y="2205000"/>
            <a:ext cx="3311640" cy="3673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Arial"/>
              </a:rPr>
              <a:t>Изучить традиции и обычаи празднования Рождества и Нового года в Англ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Знание обычаев и традиций страны изучаемого языка, поможет нам в общении с зарубежными сверстниками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w6_1024"/>
          <p:cNvPicPr/>
          <p:nvPr/>
        </p:nvPicPr>
        <p:blipFill>
          <a:blip r:embed="rId2"/>
          <a:stretch/>
        </p:blipFill>
        <p:spPr>
          <a:xfrm>
            <a:off x="4932360" y="2205000"/>
            <a:ext cx="3384720" cy="36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Над проектом работали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ИСК материалов в интернет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латонова Валент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изайнер проекта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тонова Валент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ница 7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ristmas D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25th of December is Christmas Da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It's a happy holiday for many people in different count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cristmas"/>
          <p:cNvPicPr/>
          <p:nvPr/>
        </p:nvPicPr>
        <p:blipFill>
          <a:blip r:embed="rId2"/>
          <a:stretch/>
        </p:blipFill>
        <p:spPr>
          <a:xfrm>
            <a:off x="4648320" y="2060640"/>
            <a:ext cx="3809880" cy="3673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 Christmas Ca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me week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fore Christmas English people a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us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They se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eeting car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all their relatives and friends. You can bu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ristmas car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r you can make them. Many children make thei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rds at schoo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9"/>
          <p:cNvPicPr/>
          <p:nvPr/>
        </p:nvPicPr>
        <p:blipFill>
          <a:blip r:embed="rId2"/>
          <a:stretch/>
        </p:blipFill>
        <p:spPr>
          <a:xfrm>
            <a:off x="5003640" y="2205000"/>
            <a:ext cx="3168720" cy="36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erry0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 Christmas tre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opl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u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 Christmas tree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cor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t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y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loured ball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ttle coloured l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8" descr="ELKA"/>
          <p:cNvPicPr/>
          <p:nvPr/>
        </p:nvPicPr>
        <p:blipFill>
          <a:blip r:embed="rId2"/>
          <a:stretch/>
        </p:blipFill>
        <p:spPr>
          <a:xfrm>
            <a:off x="900000" y="1916280"/>
            <a:ext cx="3456000" cy="396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9:19:29Z</dcterms:created>
  <dc:creator>10</dc:creator>
  <dc:description/>
  <dc:language>en-US</dc:language>
  <cp:lastModifiedBy>елена</cp:lastModifiedBy>
  <dcterms:modified xsi:type="dcterms:W3CDTF">2015-10-06T09:45:15Z</dcterms:modified>
  <cp:revision>24</cp:revision>
  <dc:subject/>
  <dc:title>Christmas in Great Britain</dc:title>
</cp:coreProperties>
</file>