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9EEA-55DE-4FD5-9125-340243165C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079C-9E34-4A50-932B-0DAC1FBF39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F9E-5DA9-4CC4-A81D-5B4821CF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956-F1F6-4B30-BBC7-2A793BFA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448-48E5-4CB1-A2B7-AC29F26D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884-BAF4-4620-9079-5836A984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8AE-2541-4729-B1C6-C6B7C682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E0C-9CDE-4FBD-AE2A-2B3BD58B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5DC-5EC3-4355-ADDF-BF706E7E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0B7-D49B-4CDE-80B0-2FB8331F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299-D901-4F6E-B4FC-647A571E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CAF-1217-4058-8A74-77A53795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48E-9229-42FA-B670-D34B06FE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123-D93A-4AA6-8872-2D2E1D11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3BAD-1CA2-4094-A145-BAECE3AADD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http://artnow.ru/img/940000/940414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5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СЕРГИЙ РАДОНЕЖСКИЙ. Картина Н.К. Рериха.jpg"/>
          <p:cNvPicPr/>
          <p:nvPr/>
        </p:nvPicPr>
        <p:blipFill>
          <a:blip r:embed="rId1"/>
          <a:stretch/>
        </p:blipFill>
        <p:spPr>
          <a:xfrm>
            <a:off x="385920" y="928800"/>
            <a:ext cx="8345160" cy="52149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0" y="657216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Сергий Радонежский. Н.К. Рер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Ефошкин Сергей. Старец и послушник.jpg"/>
          <p:cNvPicPr/>
          <p:nvPr/>
        </p:nvPicPr>
        <p:blipFill>
          <a:blip r:embed="rId1"/>
          <a:stretch/>
        </p:blipFill>
        <p:spPr>
          <a:xfrm>
            <a:off x="4572000" y="865080"/>
            <a:ext cx="4237200" cy="57708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500040" y="1214280"/>
            <a:ext cx="3786120" cy="302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вот один за другим стали приходить к преподобному Сергию люди сначала ради душевной беседы и совета, а потом нашлись желающие и жить близ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Рисунок7.png"/>
          <p:cNvPicPr/>
          <p:nvPr/>
        </p:nvPicPr>
        <p:blipFill>
          <a:blip r:embed="rId2"/>
          <a:stretch/>
        </p:blipFill>
        <p:spPr>
          <a:xfrm>
            <a:off x="208080" y="133200"/>
            <a:ext cx="8727840" cy="6588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865160" y="142920"/>
            <a:ext cx="551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Основание Троицкой об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1928880" y="528624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фошкин Серг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арец и послуш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2" descr="Сергей Ефошкин. Преподобный Сергий. Строительство обители (масло).jpg"/>
          <p:cNvPicPr/>
          <p:nvPr/>
        </p:nvPicPr>
        <p:blipFill>
          <a:blip r:embed="rId1"/>
          <a:stretch/>
        </p:blipFill>
        <p:spPr>
          <a:xfrm>
            <a:off x="628560" y="357120"/>
            <a:ext cx="7925040" cy="52070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428760" y="5357880"/>
            <a:ext cx="8501040" cy="109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гда собралось 12 человек, тогда построили они келии и обитель обнесли оградой. Так начался Сергиев монастырь, которому суждено было стать знаменитой Троице-Сергиевой лавр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6550200"/>
            <a:ext cx="52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Сергей Ефошкин. Преподобный Сергий. Строительство об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Сергей Ефошкин. Преподобный Сергий. Труды в пекарне.jpg"/>
          <p:cNvPicPr/>
          <p:nvPr/>
        </p:nvPicPr>
        <p:blipFill>
          <a:blip r:embed="rId1"/>
          <a:stretch/>
        </p:blipFill>
        <p:spPr>
          <a:xfrm>
            <a:off x="4438800" y="158760"/>
            <a:ext cx="4505040" cy="64692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/>
          <p:cNvSpPr/>
          <p:nvPr/>
        </p:nvSpPr>
        <p:spPr>
          <a:xfrm>
            <a:off x="500040" y="428760"/>
            <a:ext cx="3857760" cy="26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едуя евангельскому учению, преподобный Сергий был среди братии первый в том, что всем был слугой. Он строил кельи, рубил дрова, носил воду издал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071800" y="571500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Сергей Ефо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Преподобный Сер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Труды в пекар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СЕРГИЙ РАДОНЕЖСКИЙ. Картина Н.К. Рериха.jpg"/>
          <p:cNvPicPr/>
          <p:nvPr/>
        </p:nvPicPr>
        <p:blipFill>
          <a:blip r:embed="rId1"/>
          <a:stretch/>
        </p:blipFill>
        <p:spPr>
          <a:xfrm>
            <a:off x="1714680" y="357120"/>
            <a:ext cx="6858000" cy="60008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357120" y="5286240"/>
            <a:ext cx="150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Сергей Ефошкин. Преподобный Сергий. Уединенная моли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://ic.pics.livejournal.com/anna_moscowriuo/25241995/741021/original.jpg"/>
          <p:cNvPicPr/>
          <p:nvPr/>
        </p:nvPicPr>
        <p:blipFill>
          <a:blip r:embed="rId1"/>
          <a:stretch/>
        </p:blipFill>
        <p:spPr>
          <a:xfrm>
            <a:off x="2143080" y="428760"/>
            <a:ext cx="4143600" cy="599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etatar.ru/wp-content/uploads/2010/10/63aa4d78b713b0d9f71ff18a6c21d19c.jpg"/>
          <p:cNvPicPr/>
          <p:nvPr/>
        </p:nvPicPr>
        <p:blipFill>
          <a:blip r:embed="rId1"/>
          <a:stretch/>
        </p:blipFill>
        <p:spPr>
          <a:xfrm>
            <a:off x="642960" y="714240"/>
            <a:ext cx="7823160" cy="535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900igr.net/datas/istorija/Polkovodtsy-Rossii/0009-009-Dmitrij-Donskoj-1350-Moskva-1389-Gody-pravlenija-1368-1389-By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99.beon.ru/artnow.ru/img/816000/816957.jpg"/>
          <p:cNvPicPr/>
          <p:nvPr/>
        </p:nvPicPr>
        <p:blipFill>
          <a:blip r:embed="rId1"/>
          <a:stretch/>
        </p:blipFill>
        <p:spPr>
          <a:xfrm>
            <a:off x="571680" y="428760"/>
            <a:ext cx="8001000" cy="597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malykla.cerkov.ru/files/2014/07/image012.jpg"/>
          <p:cNvPicPr/>
          <p:nvPr/>
        </p:nvPicPr>
        <p:blipFill>
          <a:blip r:embed="rId1"/>
          <a:stretch/>
        </p:blipFill>
        <p:spPr>
          <a:xfrm>
            <a:off x="2571840" y="428760"/>
            <a:ext cx="4071960" cy="60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5" descr="ТСЛ 2.jpg"/>
          <p:cNvPicPr/>
          <p:nvPr/>
        </p:nvPicPr>
        <p:blipFill>
          <a:blip r:embed="rId1"/>
          <a:stretch/>
        </p:blipFill>
        <p:spPr>
          <a:xfrm>
            <a:off x="338040" y="214200"/>
            <a:ext cx="8521920" cy="6389640"/>
          </a:xfrm>
          <a:prstGeom prst="rect">
            <a:avLst/>
          </a:prstGeom>
          <a:ln w="0">
            <a:noFill/>
          </a:ln>
        </p:spPr>
      </p:pic>
      <p:pic>
        <p:nvPicPr>
          <p:cNvPr id="51" name="7. Колокольные звоны Петропавловского собора (Петербургский, Красный и Георгиевский).mp3" descr=""/>
          <p:cNvPicPr/>
          <p:nvPr/>
        </p:nvPicPr>
        <p:blipFill>
          <a:blip r:embed="rId2"/>
          <a:stretch/>
        </p:blipFill>
        <p:spPr>
          <a:xfrm>
            <a:off x="842976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938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upyourpic.org/images/201312/x1skc5j2fd.jpg"/>
          <p:cNvPicPr/>
          <p:nvPr/>
        </p:nvPicPr>
        <p:blipFill>
          <a:blip r:embed="rId1"/>
          <a:stretch/>
        </p:blipFill>
        <p:spPr>
          <a:xfrm>
            <a:off x="2357280" y="428760"/>
            <a:ext cx="4143600" cy="59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www.zk44.ru/img/sergiev_posad/1.jpg"/>
          <p:cNvPicPr/>
          <p:nvPr/>
        </p:nvPicPr>
        <p:blipFill>
          <a:blip r:embed="rId1"/>
          <a:stretch/>
        </p:blipFill>
        <p:spPr>
          <a:xfrm>
            <a:off x="500040" y="857160"/>
            <a:ext cx="8143920" cy="497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51560" cy="62150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3924360" y="47628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Заголовок 5" descr=""/>
          <p:cNvPicPr/>
          <p:nvPr/>
        </p:nvPicPr>
        <p:blipFill>
          <a:blip r:embed="rId2"/>
          <a:stretch/>
        </p:blipFill>
        <p:spPr>
          <a:xfrm>
            <a:off x="603360" y="357120"/>
            <a:ext cx="830268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97164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ка с мощ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livekuban.ru/files/paper/14_44.jpg"/>
          <p:cNvPicPr/>
          <p:nvPr/>
        </p:nvPicPr>
        <p:blipFill>
          <a:blip r:embed="rId1"/>
          <a:stretch/>
        </p:blipFill>
        <p:spPr>
          <a:xfrm>
            <a:off x="428760" y="428760"/>
            <a:ext cx="8315280" cy="59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3059280" y="2708280"/>
            <a:ext cx="3097080" cy="129708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Monotype Corsiva"/>
              </a:rPr>
              <a:t>Черты свят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Monotype Corsiva"/>
              </a:rPr>
              <a:t>Сер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500040" y="1197000"/>
            <a:ext cx="2571840" cy="79200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Monotype Corsiva"/>
              </a:rPr>
              <a:t>Великодуш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3059280" y="500040"/>
            <a:ext cx="2808000" cy="69696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Monotype Corsiva"/>
              </a:rPr>
              <a:t>Бескорыс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6227640" y="1197000"/>
            <a:ext cx="2416320" cy="72072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Monotype Corsiva"/>
              </a:rPr>
              <a:t>Трудолюб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500040" y="4437000"/>
            <a:ext cx="2214720" cy="86364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Monotype Corsiva"/>
              </a:rPr>
              <a:t>Милосерд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564000" y="5516640"/>
            <a:ext cx="2303280" cy="77004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Monotype Corsiva"/>
              </a:rPr>
              <a:t>Сми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6000840" y="4508640"/>
            <a:ext cx="2571840" cy="79200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Monotype Corsiva"/>
              </a:rPr>
              <a:t>Патриот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"/>
          <p:cNvSpPr/>
          <p:nvPr/>
        </p:nvSpPr>
        <p:spPr>
          <a:xfrm flipH="1" flipV="1">
            <a:off x="2700000" y="2133720"/>
            <a:ext cx="358920" cy="35856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4500720" y="4149720"/>
            <a:ext cx="0" cy="1224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 flipH="1">
            <a:off x="2626920" y="4076640"/>
            <a:ext cx="358920" cy="287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 flipV="1">
            <a:off x="4572000" y="1341360"/>
            <a:ext cx="0" cy="1224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2"/>
          <p:cNvSpPr/>
          <p:nvPr/>
        </p:nvSpPr>
        <p:spPr>
          <a:xfrm flipV="1">
            <a:off x="6227640" y="2204640"/>
            <a:ext cx="216000" cy="35892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3"/>
          <p:cNvSpPr/>
          <p:nvPr/>
        </p:nvSpPr>
        <p:spPr>
          <a:xfrm>
            <a:off x="6156360" y="4076640"/>
            <a:ext cx="144360" cy="287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ак звали родителей Сергия Радонежского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ак звали отрока, будущего святого Сергия Радонежского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колько лет Сергий жил в одиночестве в лесу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акой зверь постоянно навещал монаха Сергия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каком году Сергий Радонежский благословил князя Дмитрия Донского на битву с ханом Мамаем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ак называется обитель, основанная Сергием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http://rushkolnik.ru/tw_files2/urls_3/895/d-894574/img8.jpg"/>
          <p:cNvPicPr/>
          <p:nvPr/>
        </p:nvPicPr>
        <p:blipFill>
          <a:blip r:embed="rId1"/>
          <a:stretch/>
        </p:blipFill>
        <p:spPr>
          <a:xfrm>
            <a:off x="571680" y="500040"/>
            <a:ext cx="7858080" cy="58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http://ru.static.z-dn.net/files/d25/bad20d86b985853fa512d1f4520e5bc2.gif"/>
          <p:cNvPicPr/>
          <p:nvPr/>
        </p:nvPicPr>
        <p:blipFill>
          <a:blip r:embed="rId1"/>
          <a:stretch/>
        </p:blipFill>
        <p:spPr>
          <a:xfrm>
            <a:off x="3929040" y="428760"/>
            <a:ext cx="4830840" cy="59626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571680" y="1571760"/>
            <a:ext cx="328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еподобный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ергий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донеж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удот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5286240" y="1268280"/>
            <a:ext cx="3286440" cy="26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дился преподобный Сергий в окрестностях Ростова Великого около 1314 года. При крещении мальчик был назван Варфоломе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Рисунок7.png"/>
          <p:cNvPicPr/>
          <p:nvPr/>
        </p:nvPicPr>
        <p:blipFill>
          <a:blip r:embed="rId1"/>
          <a:stretch/>
        </p:blipFill>
        <p:spPr>
          <a:xfrm>
            <a:off x="208080" y="133200"/>
            <a:ext cx="8727840" cy="65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http://www.kremonk.org.ua/wp-content/uploads/2011/01/Kirill_Maria1.jpg"/>
          <p:cNvPicPr/>
          <p:nvPr/>
        </p:nvPicPr>
        <p:blipFill>
          <a:blip r:embed="rId2"/>
          <a:stretch/>
        </p:blipFill>
        <p:spPr>
          <a:xfrm>
            <a:off x="714240" y="857160"/>
            <a:ext cx="4238640" cy="5470560"/>
          </a:xfrm>
          <a:prstGeom prst="rect">
            <a:avLst/>
          </a:prstGeom>
          <a:ln w="0">
            <a:noFill/>
          </a:ln>
        </p:spPr>
      </p:pic>
    </p:spTree>
  </p:cSld>
  <p:transition advTm="15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s://encrypted-tbn2.gstatic.com/images?q=tbn:ANd9GcQ6VO7Dr5Gt314IPge0sl5xgsX7P3CRxjBo4T4vbeZTDJRws5G3"/>
          <p:cNvPicPr/>
          <p:nvPr/>
        </p:nvPicPr>
        <p:blipFill>
          <a:blip r:embed="rId1"/>
          <a:stretch/>
        </p:blipFill>
        <p:spPr>
          <a:xfrm>
            <a:off x="642960" y="571680"/>
            <a:ext cx="4103640" cy="55004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5000760" y="8571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. Нестеров. Отрок Варфоло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642960" y="5286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Юность преподобного Сергия Радонеж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теров М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gallery_1_1_78226.jpg"/>
          <p:cNvPicPr/>
          <p:nvPr/>
        </p:nvPicPr>
        <p:blipFill>
          <a:blip r:embed="rId1"/>
          <a:stretch/>
        </p:blipFill>
        <p:spPr>
          <a:xfrm>
            <a:off x="3286080" y="428760"/>
            <a:ext cx="5469120" cy="600048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785880" y="5143680"/>
            <a:ext cx="77868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месте с братом Стефаном они углубились в глухой лес и построили там маленькую деревянную церковь во имя Пресвятой Тро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KV_E18.jpg"/>
          <p:cNvPicPr/>
          <p:nvPr/>
        </p:nvPicPr>
        <p:blipFill>
          <a:blip r:embed="rId1"/>
          <a:stretch/>
        </p:blipFill>
        <p:spPr>
          <a:xfrm>
            <a:off x="214200" y="236520"/>
            <a:ext cx="3481560" cy="4815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KV_E16.jpg"/>
          <p:cNvPicPr/>
          <p:nvPr/>
        </p:nvPicPr>
        <p:blipFill>
          <a:blip r:embed="rId2"/>
          <a:stretch/>
        </p:blipFill>
        <p:spPr>
          <a:xfrm>
            <a:off x="4006800" y="216000"/>
            <a:ext cx="4962600" cy="4859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10800" y="6488280"/>
            <a:ext cx="28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Росписи в Троице-Сергиевой Лав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548sterov_PrepSergRadonGRM1.jpg"/>
          <p:cNvPicPr/>
          <p:nvPr/>
        </p:nvPicPr>
        <p:blipFill>
          <a:blip r:embed="rId1"/>
          <a:stretch/>
        </p:blipFill>
        <p:spPr>
          <a:xfrm>
            <a:off x="3357720" y="357120"/>
            <a:ext cx="5357520" cy="5097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571680" y="5500800"/>
            <a:ext cx="792936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фоломей же был пострижен в монахи с именем Сергий и остался жить в лесу в полном одиноч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642960" y="714240"/>
            <a:ext cx="185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Святой Сергий Радонеж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Нестеров М.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500040" y="1714680"/>
            <a:ext cx="2714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с был настоящей пустыней, то есть пустым и безлюдным местом. Стефан не выдержал суровой жизни и, покинув брата, вскоре ушел в москов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СЕРГИЙ РАДОНЕЖСКИЙ. Картина Н.К. Рериха.jpg"/>
          <p:cNvPicPr/>
          <p:nvPr/>
        </p:nvPicPr>
        <p:blipFill>
          <a:blip r:embed="rId1"/>
          <a:stretch/>
        </p:blipFill>
        <p:spPr>
          <a:xfrm>
            <a:off x="357120" y="189000"/>
            <a:ext cx="4187880" cy="6345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Сергей Ефошкин. Преподобный Сергий. За хворостом.jpg"/>
          <p:cNvPicPr/>
          <p:nvPr/>
        </p:nvPicPr>
        <p:blipFill>
          <a:blip r:embed="rId2"/>
          <a:stretch/>
        </p:blipFill>
        <p:spPr>
          <a:xfrm>
            <a:off x="4572000" y="187200"/>
            <a:ext cx="4384800" cy="63439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357120" y="5715000"/>
            <a:ext cx="850104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лее двух лет он жил совсем один, борясь со страхами и искушениями, с голодом и морозом, с усталостью и то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0" y="6550200"/>
            <a:ext cx="55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Calibri"/>
              </a:rPr>
              <a:t>Сергей Ефошкин. Преподобный Сергий. За водой. За хворос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15:17:21Z</dcterms:created>
  <dc:creator>Admin</dc:creator>
  <dc:description/>
  <dc:language>en-US</dc:language>
  <cp:lastModifiedBy>user</cp:lastModifiedBy>
  <dcterms:modified xsi:type="dcterms:W3CDTF">2015-10-06T15:44:49Z</dcterms:modified>
  <cp:revision>72</cp:revision>
  <dc:subject/>
  <dc:title>Слайд 1</dc:title>
</cp:coreProperties>
</file>