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C615F-A69B-4CAB-8993-145DB5C51A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C21F1-5600-4F55-B1F0-D4CF53EDAE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7E867-CAF1-4ADB-898D-02BB4CC57F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572CB-3612-4248-9D9D-0E52D46747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34B8E-CCC3-4AD4-B017-6653DCADD7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4D495-0DBC-4A42-8168-FF49E6ACA9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285BC-4429-4244-9E43-1D7C205D1F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E950D-F064-4340-83C5-611302080D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48A84-A732-4829-B948-F0D45653DE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35484-353A-434D-827B-8D7DEFAC1F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3BFCD-25F4-4DAC-B967-7772255850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C93F4-9962-4102-AC12-E08E2E3A05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4B395-275A-4B89-9B81-2145AD9A77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8DBBB-8F76-45D0-8630-09F87254CF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C0D32-C543-4AC3-B26E-2438EA8979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D133E-3EDA-4BDB-A67F-10E78C8CC0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2AB-8162-4B9E-A596-1F112552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584600"/>
            <a:ext cx="84582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588-3718-4608-835B-4CAA2405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4127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400" y="4584600"/>
            <a:ext cx="4127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D89-9BAF-4BFE-BD08-9F91EC9E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584600"/>
            <a:ext cx="2723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0200" y="4584600"/>
            <a:ext cx="2723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0400" y="4584600"/>
            <a:ext cx="2723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14D2-AC34-4608-A0C4-DF1B0410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43CD-074C-4CCB-B69B-FFDB1A21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1E8B-FEB6-4396-A3B0-B431B3E8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B59-E1C3-488F-AFA3-56186F10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0938-322D-41D0-85FA-7541D016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0D74-5989-4EBE-9014-BA13278E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4127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431-BAF5-445F-8E19-23ADDA30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400" y="4584600"/>
            <a:ext cx="4127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3212-9800-4FCC-B31B-C751F643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84582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20CD-E362-4A14-A780-207F3CC5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4582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6080" y="630072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9280" y="6318360"/>
            <a:ext cx="3220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1720" y="63183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26BA13-1EAA-441E-8765-6C447EC4AA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Агеевская СОШ №3» п. Центральный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20720" y="2266560"/>
            <a:ext cx="44640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ок химии,8класс,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К О.С.Габриелян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втор: Васина М. А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химии и биологии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pic>
        <p:nvPicPr>
          <p:cNvPr id="50" name="Picture 5" descr="http://predstavitelskaya.3niti.ru/upload/images/fotooboi/oboi/mediz/36f17f33a1c121ba6ab1815027bca0ef.jpg"/>
          <p:cNvPicPr/>
          <p:nvPr/>
        </p:nvPicPr>
        <p:blipFill>
          <a:blip r:embed="rId1"/>
          <a:stretch/>
        </p:blipFill>
        <p:spPr>
          <a:xfrm>
            <a:off x="5214960" y="3348000"/>
            <a:ext cx="4129200" cy="309564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5" descr=""/>
          <p:cNvPicPr/>
          <p:nvPr/>
        </p:nvPicPr>
        <p:blipFill>
          <a:blip r:embed="rId2"/>
          <a:stretch/>
        </p:blipFill>
        <p:spPr>
          <a:xfrm>
            <a:off x="2444760" y="1066680"/>
            <a:ext cx="512604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Правила техники безопасности при работе с кислотами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840040" y="1979640"/>
            <a:ext cx="3639960" cy="450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Times New Roman"/>
              </a:rPr>
              <a:t>Правила техники безопасности при работе с кислотами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459640" cy="5805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7b8b8"/>
                </a:solidFill>
                <a:latin typeface="Times New Roman"/>
              </a:rPr>
              <a:t>С  растворами  кислот надо обращаться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7b8b8"/>
                </a:solidFill>
                <a:latin typeface="Times New Roman"/>
              </a:rPr>
              <a:t>осторожно,</a:t>
            </a:r>
            <a:r>
              <a:rPr b="1" lang="ru-RU" sz="2800" spc="-1" strike="noStrike">
                <a:solidFill>
                  <a:srgbClr val="47b8b8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6b6b"/>
                </a:solidFill>
                <a:latin typeface="Times New Roman"/>
              </a:rPr>
              <a:t> при   попадании   на   кожу   или  одежду данных  веществ - промыть большим количеством воды!!!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60360" y="1979640"/>
            <a:ext cx="7382160" cy="1260360"/>
          </a:xfrm>
          <a:prstGeom prst="rect">
            <a:avLst/>
          </a:prstGeom>
          <a:noFill/>
          <a:ln w="9360">
            <a:solidFill>
              <a:srgbClr val="b8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и   растворении   концентрированной серной кислоты нужно вливать ее тонкой   струей  в   воду   и перемешивать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0720" y="571320"/>
            <a:ext cx="864072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Распределите формулы веществ по классам,назовите вещества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4c4c4c"/>
                </a:solidFill>
                <a:latin typeface="Times New Roman"/>
              </a:rPr>
              <a:t>кислоты    основания   оксиды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459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HCl,     HNO</a:t>
            </a:r>
            <a:r>
              <a:rPr b="0" lang="ru-RU" sz="4400" spc="-1" strike="noStrike" baseline="-25000">
                <a:solidFill>
                  <a:srgbClr val="4c4c4c"/>
                </a:solidFill>
                <a:latin typeface="Times New Roman"/>
                <a:ea typeface="Times New Roman"/>
              </a:rPr>
              <a:t>3</a:t>
            </a:r>
            <a:r>
              <a:rPr b="0" lang="ru-RU" sz="4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,     H</a:t>
            </a:r>
            <a:r>
              <a:rPr b="0" lang="ru-RU" sz="4400" spc="-1" strike="noStrike" baseline="-25000">
                <a:solidFill>
                  <a:srgbClr val="4c4c4c"/>
                </a:solidFill>
                <a:latin typeface="Times New Roman"/>
                <a:ea typeface="Times New Roman"/>
              </a:rPr>
              <a:t>2</a:t>
            </a:r>
            <a:r>
              <a:rPr b="0" lang="ru-RU" sz="4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SO</a:t>
            </a:r>
            <a:r>
              <a:rPr b="0" lang="ru-RU" sz="4400" spc="-1" strike="noStrike" baseline="-25000">
                <a:solidFill>
                  <a:srgbClr val="4c4c4c"/>
                </a:solidFill>
                <a:latin typeface="Times New Roman"/>
                <a:ea typeface="Times New Roman"/>
              </a:rPr>
              <a:t>4</a:t>
            </a:r>
            <a:r>
              <a:rPr b="0" lang="ru-RU" sz="4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,  Ca(OH)</a:t>
            </a:r>
            <a:r>
              <a:rPr b="0" lang="ru-RU" sz="4400" spc="-1" strike="noStrike" baseline="-25000">
                <a:solidFill>
                  <a:srgbClr val="4c4c4c"/>
                </a:solidFill>
                <a:latin typeface="Times New Roman"/>
                <a:ea typeface="Times New Roman"/>
              </a:rPr>
              <a:t>2</a:t>
            </a:r>
            <a:r>
              <a:rPr b="0" lang="ru-RU" sz="4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,     K</a:t>
            </a:r>
            <a:r>
              <a:rPr b="0" lang="ru-RU" sz="4400" spc="-1" strike="noStrike" baseline="-25000">
                <a:solidFill>
                  <a:srgbClr val="4c4c4c"/>
                </a:solidFill>
                <a:latin typeface="Times New Roman"/>
                <a:ea typeface="Times New Roman"/>
              </a:rPr>
              <a:t>2</a:t>
            </a:r>
            <a:r>
              <a:rPr b="0" lang="ru-RU" sz="4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O,     Na</a:t>
            </a:r>
            <a:r>
              <a:rPr b="0" lang="ru-RU" sz="4400" spc="-1" strike="noStrike" baseline="-25000">
                <a:solidFill>
                  <a:srgbClr val="4c4c4c"/>
                </a:solidFill>
                <a:latin typeface="Times New Roman"/>
                <a:ea typeface="Times New Roman"/>
              </a:rPr>
              <a:t>2</a:t>
            </a:r>
            <a:r>
              <a:rPr b="0" lang="ru-RU" sz="4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O,   Al</a:t>
            </a:r>
            <a:r>
              <a:rPr b="0" lang="ru-RU" sz="4400" spc="-1" strike="noStrike" baseline="-25000">
                <a:solidFill>
                  <a:srgbClr val="4c4c4c"/>
                </a:solidFill>
                <a:latin typeface="Times New Roman"/>
                <a:ea typeface="Times New Roman"/>
              </a:rPr>
              <a:t>2</a:t>
            </a:r>
            <a:r>
              <a:rPr b="0" lang="ru-RU" sz="4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O</a:t>
            </a:r>
            <a:r>
              <a:rPr b="0" lang="ru-RU" sz="4400" spc="-1" strike="noStrike" baseline="-25000">
                <a:solidFill>
                  <a:srgbClr val="4c4c4c"/>
                </a:solidFill>
                <a:latin typeface="Times New Roman"/>
                <a:ea typeface="Times New Roman"/>
              </a:rPr>
              <a:t>3</a:t>
            </a:r>
            <a:r>
              <a:rPr b="0" lang="ru-RU" sz="4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,     Zn(OH)</a:t>
            </a:r>
            <a:r>
              <a:rPr b="0" lang="ru-RU" sz="4400" spc="-1" strike="noStrike" baseline="-25000">
                <a:solidFill>
                  <a:srgbClr val="4c4c4c"/>
                </a:solidFill>
                <a:latin typeface="Times New Roman"/>
                <a:ea typeface="Times New Roman"/>
              </a:rPr>
              <a:t>2</a:t>
            </a:r>
            <a:r>
              <a:rPr b="0" lang="ru-RU" sz="4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,     Fe(OH)</a:t>
            </a:r>
            <a:r>
              <a:rPr b="0" lang="ru-RU" sz="4400" spc="-1" strike="noStrike" baseline="-25000">
                <a:solidFill>
                  <a:srgbClr val="4c4c4c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0720" y="433080"/>
            <a:ext cx="864072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Напишите формулы кислот, соответствущих оксидам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9640" y="1619280"/>
            <a:ext cx="8460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 </a:t>
            </a:r>
            <a:endParaRPr b="0" lang="en-US" sz="18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iO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8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20360" y="1309680"/>
            <a:ext cx="8459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бязательная часть: параграф 20 страницы 102-107,упражнение 4;</a:t>
            </a:r>
            <a:endParaRPr b="0" lang="en-US" sz="40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обязательная часть:придумайте кроссворд по теме «Кислоты» (не менее 15 слов)</a:t>
            </a:r>
            <a:endParaRPr b="0" lang="en-US" sz="40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407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С.Габриелян Учебник «Химия 8класс» Дрофа:М;2008г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С.Габриелян,Н.П.Воскобойникова,А.В.Яшукова «Химия 8класс».Настольная книга учителя.Дрофа:М;2008г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ресурсы:</a:t>
            </a:r>
            <a:br>
              <a:rPr sz="2800"/>
            </a:b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20360" y="1395000"/>
            <a:ext cx="8459640" cy="58057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uroki-shkola.ru/prezentaciya-po-ximii-na-temu-kisloty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</a:rPr>
              <a:t>http://pedsovet.org/component/option,com_mtree/task,viewlink/link_id,87140/Itemid,118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6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http://www.alhimikov.net/elektronbuch/Page-20.htmlhttp://rudocs.exdat.com/docs/index-479375.html</a:t>
            </a:r>
            <a:endParaRPr b="0" lang="en-US" sz="26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00000" y="1456920"/>
            <a:ext cx="846000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Сформировать понятия о кислотах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мотреть состав, названия, классификацию кислот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накомить учащихся с важнейшими неорганическими кислотами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Обратить внимание учащихся на технику безопасности при работе с кислотами,воспитывать бережное отношение к своему здоровью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Совершенствовать умения слушать,анализировать,обобщать,делать выводы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опросы для повторения: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20360" y="1619280"/>
            <a:ext cx="8459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Какие классы неорганических веществ вы уже знаете?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2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Что вы знаете о кислотах?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2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Где в своей жизни вы встречались с этим словом?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2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Как вы думаете,кислоты-ядовитые вещества?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Нахождение кислот в природе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26760" y="759960"/>
            <a:ext cx="845964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c4c4c"/>
                </a:solidFill>
                <a:latin typeface="Times New Roman"/>
              </a:rPr>
              <a:t>Лимонная  кислота содержится  в  лимонах,  яблочная  кислота -  в  яблоках, щавелевая  кислота  - в  листьях  щавеля.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c4c4c"/>
                </a:solidFill>
                <a:latin typeface="Times New Roman"/>
              </a:rPr>
              <a:t>При скисании виноградного сока  и  молока, при квашении капусты образуется молочная кислота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c4c4c"/>
                </a:solidFill>
                <a:latin typeface="Times New Roman"/>
              </a:rPr>
              <a:t>В пчелином яде, в волосках крапивы, в иголках сосны и ели содержится муравьиная  кислота. Муравьи, защищаясь от врагов, разбрызгивают  капельки  муравьиной  кислоты.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c4c4c"/>
                </a:solidFill>
                <a:latin typeface="Times New Roman"/>
              </a:rPr>
              <a:t>В желудке человека содержится соляная кислота,в атмосфере-угольная.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215720"/>
            <a:ext cx="864072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ислоты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ложные вещества, содержащие атомы водорода и кислотные остатки</a:t>
            </a:r>
            <a:endParaRPr b="0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459640" cy="5805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пример:</a:t>
            </a: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H</a:t>
            </a: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l,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H</a:t>
            </a:r>
            <a:r>
              <a:rPr b="1" lang="ru-RU" sz="4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O</a:t>
            </a:r>
            <a:r>
              <a:rPr b="1" lang="ru-RU" sz="4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4,</a:t>
            </a: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H</a:t>
            </a:r>
            <a:r>
              <a:rPr b="1" lang="ru-RU" sz="4000" spc="-1" strike="noStrike" baseline="-24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</a:t>
            </a:r>
            <a:r>
              <a:rPr b="1" lang="ru-RU" sz="4000" spc="-1" strike="noStrike" baseline="-24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0720" y="433080"/>
            <a:ext cx="864072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Формулы и названия основных неорганических кислот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20360" y="1213920"/>
            <a:ext cx="8459640" cy="5805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HCl 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хлороводородная, или соляная кислота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HF 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фтороводородная, или плавиковая кислота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HI 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иодоводородная кислота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HBr 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бромоводородная кислота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HNO</a:t>
            </a:r>
            <a:r>
              <a:rPr b="0" lang="ru-RU" sz="2000" spc="-1" strike="noStrike">
                <a:solidFill>
                  <a:srgbClr val="4c4c4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азотистая кислота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HNO</a:t>
            </a:r>
            <a:r>
              <a:rPr b="0" lang="ru-RU" sz="2200" spc="-1" strike="noStrike">
                <a:solidFill>
                  <a:srgbClr val="4c4c4c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азотная кислота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H</a:t>
            </a:r>
            <a:r>
              <a:rPr b="0" lang="ru-RU" sz="2200" spc="-1" strike="noStrike">
                <a:solidFill>
                  <a:srgbClr val="4c4c4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S 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сероводородная кислота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H</a:t>
            </a:r>
            <a:r>
              <a:rPr b="0" lang="ru-RU" sz="2200" spc="-1" strike="noStrike">
                <a:solidFill>
                  <a:srgbClr val="4c4c4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SO</a:t>
            </a:r>
            <a:r>
              <a:rPr b="0" lang="ru-RU" sz="2200" spc="-1" strike="noStrike">
                <a:solidFill>
                  <a:srgbClr val="4c4c4c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сернистая кислота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H</a:t>
            </a:r>
            <a:r>
              <a:rPr b="0" lang="ru-RU" sz="2200" spc="-1" strike="noStrike">
                <a:solidFill>
                  <a:srgbClr val="4c4c4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SO</a:t>
            </a:r>
            <a:r>
              <a:rPr b="0" lang="ru-RU" sz="2200" spc="-1" strike="noStrike">
                <a:solidFill>
                  <a:srgbClr val="4c4c4c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серная кислота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H</a:t>
            </a:r>
            <a:r>
              <a:rPr b="0" lang="ru-RU" sz="2200" spc="-1" strike="noStrike">
                <a:solidFill>
                  <a:srgbClr val="4c4c4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CO</a:t>
            </a:r>
            <a:r>
              <a:rPr b="0" lang="ru-RU" sz="2200" spc="-1" strike="noStrike">
                <a:solidFill>
                  <a:srgbClr val="4c4c4c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угольная кислота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H</a:t>
            </a:r>
            <a:r>
              <a:rPr b="0" lang="ru-RU" sz="2000" spc="-1" strike="noStrike">
                <a:solidFill>
                  <a:srgbClr val="4c4c4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SiO</a:t>
            </a:r>
            <a:r>
              <a:rPr b="0" lang="ru-RU" sz="2400" spc="-1" strike="noStrike">
                <a:solidFill>
                  <a:srgbClr val="4c4c4c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кремниевая кислота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H</a:t>
            </a:r>
            <a:r>
              <a:rPr b="0" lang="ru-RU" sz="2000" spc="-1" strike="noStrike">
                <a:solidFill>
                  <a:srgbClr val="4c4c4c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PO</a:t>
            </a:r>
            <a:r>
              <a:rPr b="0" lang="ru-RU" sz="2000" spc="-1" strike="noStrike">
                <a:solidFill>
                  <a:srgbClr val="4c4c4c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c4c4c"/>
                </a:solidFill>
                <a:latin typeface="Times New Roman"/>
              </a:rPr>
              <a:t>фосфорная кислота 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0720" y="433080"/>
            <a:ext cx="864072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Какая из формул является общей формулой кислот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459640" cy="58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1143000" y="1785960"/>
            <a:ext cx="2816280" cy="1633680"/>
          </a:xfrm>
          <a:prstGeom prst="roundRect">
            <a:avLst>
              <a:gd name="adj" fmla="val 10000"/>
            </a:avLst>
          </a:prstGeom>
          <a:solidFill>
            <a:srgbClr val="83caff"/>
          </a:solidFill>
          <a:ln w="38160">
            <a:solidFill>
              <a:srgbClr val="ffffff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Н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5400720" y="1808280"/>
            <a:ext cx="3060720" cy="1792080"/>
          </a:xfrm>
          <a:prstGeom prst="roundRect">
            <a:avLst>
              <a:gd name="adj" fmla="val 10000"/>
            </a:avLst>
          </a:prstGeom>
          <a:solidFill>
            <a:srgbClr val="83caff"/>
          </a:solidFill>
          <a:ln w="38160">
            <a:solidFill>
              <a:srgbClr val="ffffff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Ме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143000" y="4357800"/>
            <a:ext cx="2816280" cy="1761840"/>
          </a:xfrm>
          <a:prstGeom prst="roundRect">
            <a:avLst>
              <a:gd name="adj" fmla="val 10000"/>
            </a:avLst>
          </a:prstGeom>
          <a:solidFill>
            <a:srgbClr val="83caff"/>
          </a:solidFill>
          <a:ln w="38160">
            <a:solidFill>
              <a:srgbClr val="ffffff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Э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О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5000760" y="4357800"/>
            <a:ext cx="3998880" cy="2122200"/>
          </a:xfrm>
          <a:prstGeom prst="roundRect">
            <a:avLst>
              <a:gd name="adj" fmla="val 10000"/>
            </a:avLst>
          </a:prstGeom>
          <a:solidFill>
            <a:srgbClr val="83caff"/>
          </a:solidFill>
          <a:ln w="38160">
            <a:solidFill>
              <a:srgbClr val="ffffff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Ме(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ОН)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17892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Классификация кислот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AutoShape 2"/>
          <p:cNvSpPr/>
          <p:nvPr/>
        </p:nvSpPr>
        <p:spPr>
          <a:xfrm>
            <a:off x="720720" y="5759280"/>
            <a:ext cx="3143160" cy="1079640"/>
          </a:xfrm>
          <a:prstGeom prst="roundRect">
            <a:avLst>
              <a:gd name="adj" fmla="val 10000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о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HI, HNO</a:t>
            </a:r>
            <a:r>
              <a:rPr b="0" lang="ru-RU" sz="2800" spc="-1" strike="noStrike" baseline="-35000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/>
          <p:cNvSpPr/>
          <p:nvPr/>
        </p:nvSpPr>
        <p:spPr>
          <a:xfrm>
            <a:off x="5856120" y="1089000"/>
            <a:ext cx="3143520" cy="1071720"/>
          </a:xfrm>
          <a:prstGeom prst="roundRect">
            <a:avLst>
              <a:gd name="adj" fmla="val 10000"/>
            </a:avLst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ислородсодержащие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lang="ru-RU" sz="2800" spc="-1" strike="noStrike" baseline="-53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CO</a:t>
            </a:r>
            <a:r>
              <a:rPr b="1" lang="ru-RU" sz="2800" spc="-1" strike="noStrike" baseline="-53000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720720" y="1079640"/>
            <a:ext cx="3143160" cy="1079280"/>
          </a:xfrm>
          <a:prstGeom prst="roundRect">
            <a:avLst>
              <a:gd name="adj" fmla="val 10000"/>
            </a:avLst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зкислоро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H</a:t>
            </a:r>
            <a:r>
              <a:rPr b="1" lang="ru-RU" sz="2800" spc="-1" strike="noStrike" baseline="-34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,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НС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3336840" y="4148280"/>
            <a:ext cx="3143160" cy="1071360"/>
          </a:xfrm>
          <a:prstGeom prst="roundRect">
            <a:avLst>
              <a:gd name="adj" fmla="val 10000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вух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H</a:t>
            </a:r>
            <a:r>
              <a:rPr b="1" lang="ru-RU" sz="2800" spc="-1" strike="noStrike" baseline="-34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,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lang="ru-RU" sz="2800" spc="-1" strike="noStrike" baseline="-3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SO</a:t>
            </a:r>
            <a:r>
              <a:rPr b="1" lang="ru-RU" sz="2800" spc="-1" strike="noStrike" baseline="-35000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6119640" y="5759280"/>
            <a:ext cx="3143520" cy="1071720"/>
          </a:xfrm>
          <a:prstGeom prst="roundRect">
            <a:avLst>
              <a:gd name="adj" fmla="val 10000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ёх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lang="ru-RU" sz="2800" spc="-1" strike="noStrike" baseline="-53000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PO</a:t>
            </a:r>
            <a:r>
              <a:rPr b="1" lang="ru-RU" sz="2800" spc="-1" strike="noStrike" baseline="-53000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3240000" y="2519280"/>
            <a:ext cx="3143160" cy="1071720"/>
          </a:xfrm>
          <a:prstGeom prst="roundRect">
            <a:avLst>
              <a:gd name="adj" fmla="val 10000"/>
            </a:avLst>
          </a:prstGeom>
          <a:solidFill>
            <a:srgbClr val="808080"/>
          </a:solidFill>
          <a:ln w="38160">
            <a:solidFill>
              <a:srgbClr val="ffffff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 flipH="1">
            <a:off x="1798200" y="3600360"/>
            <a:ext cx="162252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4680000" y="3600360"/>
            <a:ext cx="144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6300720" y="3600360"/>
            <a:ext cx="161928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H="1" flipV="1">
            <a:off x="3238560" y="2157480"/>
            <a:ext cx="54288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 flipV="1">
            <a:off x="5219640" y="2157480"/>
            <a:ext cx="72072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Физические свойства неорганических кислот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459640" cy="58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720720" y="900000"/>
            <a:ext cx="8459640" cy="1470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Cl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-с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ляная кислота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                                         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 baseline="-24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O</a:t>
            </a:r>
            <a:r>
              <a:rPr b="1" lang="ru-RU" sz="2400" spc="-1" strike="noStrike" baseline="-24000">
                <a:solidFill>
                  <a:srgbClr val="000099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рная кислота –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ид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кости</a:t>
            </a:r>
            <a:r>
              <a:rPr b="0" i="1" lang="ru-R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O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зотная кислота</a:t>
            </a:r>
            <a:r>
              <a:rPr b="0" lang="ru-RU" sz="2800" spc="-1" strike="noStrike">
                <a:solidFill>
                  <a:srgbClr val="b7e7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720720" y="2700360"/>
            <a:ext cx="8485200" cy="1023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30000">
                <a:solidFill>
                  <a:srgbClr val="000099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O</a:t>
            </a:r>
            <a:r>
              <a:rPr b="1" lang="en-US" sz="2800" spc="-1" strike="noStrike" baseline="-30000">
                <a:solidFill>
                  <a:srgbClr val="000099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- о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тофосфорная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кислота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 baseline="-30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O</a:t>
            </a:r>
            <a:r>
              <a:rPr b="1" lang="ru-RU" sz="2400" spc="-1" strike="noStrike" baseline="-30000">
                <a:solidFill>
                  <a:srgbClr val="000099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- кремниевая кислота    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вердые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20720" y="4367160"/>
            <a:ext cx="8459640" cy="1953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</a:t>
            </a:r>
            <a:r>
              <a:rPr b="1" lang="ru-RU" sz="2800" spc="-1" strike="noStrike" baseline="-30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</a:t>
            </a:r>
            <a:r>
              <a:rPr b="1" lang="ru-RU" sz="2800" spc="-1" strike="noStrike" baseline="-30000">
                <a:solidFill>
                  <a:srgbClr val="000099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угольная кислота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</a:t>
            </a:r>
            <a:r>
              <a:rPr b="1" lang="ru-RU" sz="2800" spc="-1" strike="noStrike" baseline="-30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O</a:t>
            </a:r>
            <a:r>
              <a:rPr b="1" lang="ru-RU" sz="2800" spc="-1" strike="noStrike" baseline="-30000">
                <a:solidFill>
                  <a:srgbClr val="000099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–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ернистая кислота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 свободном виде не существуют, распадаются на газ и вод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H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+CO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3419640" y="5938920"/>
            <a:ext cx="1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05:06:11Z</dcterms:created>
  <dc:creator/>
  <dc:description/>
  <dc:language>en-US</dc:language>
  <cp:lastModifiedBy>Влад Васин</cp:lastModifiedBy>
  <dcterms:modified xsi:type="dcterms:W3CDTF">2015-10-05T13:58:20Z</dcterms:modified>
  <cp:revision>8</cp:revision>
  <dc:subject/>
  <dc:title>МБОУ «Агеевская СОШ №3» п. Центральный      Кислоты</dc:title>
</cp:coreProperties>
</file>