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C40D3-64DD-4DD8-ACE4-3BF48D4D5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513B2-4AAC-4C7E-A181-4731CB8BA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FCE90-B14C-4623-B70F-678675EB04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EB6B1-0002-463C-9A5A-8E8BB056B6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3828A-E01E-49AB-9EBA-FB1ECF852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2866-ABB2-4E09-ACF0-37A1AD220E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67875-3B88-4D6B-9F90-03970EBF86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B3765-5100-4D7B-9E95-C618CAD8B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A6F09-EF3E-4BD5-BD68-7F3C75627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4283B-58BA-4169-B70D-E9D9C768A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DFDAA-F8B1-4799-84CE-A8C84A42B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DEF24-3E28-4A0B-909E-5CA31BB648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65517-F68F-46FE-BA95-DF721EDDE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4F766-7486-47C9-B20A-FCB152A7F8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284CB-46D8-4039-BB80-CADA7A6263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5ECDD-C033-4D91-9C9B-B9C7452427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D27-786B-4E23-A4A8-305F11F3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937-19D4-4396-85BD-BEA2D6FC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D46-A30F-4A99-8769-8694FC40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F74-E984-44FF-9642-F3B3238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20E-6A22-4BE2-869B-397BF93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62A-DE94-4422-9A84-22C01BBE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B98-3C67-4B5C-B3F0-A018FAE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723-BD1A-45DE-BC45-3A0F001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1B0-E489-4846-85FD-E5C2985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F5E-1478-48AD-A78C-8AC261E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128-3D92-40C6-BDCE-BBBE95D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B20-2A4C-440A-AE96-C859AB6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894FD7-988B-470C-BB7E-C4B8B22CA8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Агеевская СОШ №3» п. Центральны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0720" y="2266560"/>
            <a:ext cx="44640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химии,8класс,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К О.С.Габриелян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: Васина М. А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химии и биологии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0" name="Picture 5" descr="http://predstavitelskaya.3niti.ru/upload/images/fotooboi/oboi/mediz/36f17f33a1c121ba6ab1815027bca0ef.jpg"/>
          <p:cNvPicPr/>
          <p:nvPr/>
        </p:nvPicPr>
        <p:blipFill>
          <a:blip r:embed="rId1"/>
          <a:stretch/>
        </p:blipFill>
        <p:spPr>
          <a:xfrm>
            <a:off x="5214960" y="334800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2444760" y="1066680"/>
            <a:ext cx="51260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Правила техники безопасности при работе с кислотам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40040" y="1979640"/>
            <a:ext cx="363996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</a:rPr>
              <a:t>Правила техники безопасности при работе с кислотам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7b8b8"/>
                </a:solidFill>
                <a:latin typeface="Times New Roman"/>
              </a:rPr>
              <a:t>С  растворами  кислот надо обращаться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7b8b8"/>
                </a:solidFill>
                <a:latin typeface="Times New Roman"/>
              </a:rPr>
              <a:t>осторожно,</a:t>
            </a:r>
            <a:r>
              <a:rPr b="1" lang="ru-RU" sz="2800" spc="-1" strike="noStrike">
                <a:solidFill>
                  <a:srgbClr val="47b8b8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 при   попадании   на   кожу   или  одежду данных  веществ - промыть большим количеством воды!!!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60360" y="1979640"/>
            <a:ext cx="7382160" cy="1260360"/>
          </a:xfrm>
          <a:prstGeom prst="rect">
            <a:avLst/>
          </a:prstGeom>
          <a:noFill/>
          <a:ln w="9360">
            <a:solidFill>
              <a:srgbClr val="b8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   растворении   концентрированной серной кислоты нужно вливать ее тонкой   струей  в   воду   и перемешиват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71320"/>
            <a:ext cx="864072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спределите формулы веществ по классам,назовите веществ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c4c4c"/>
                </a:solidFill>
                <a:latin typeface="Times New Roman"/>
              </a:rPr>
              <a:t>кислоты    основания   оксиды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HCl,     HN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H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S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Ca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K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,     Na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,   Al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Zn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Fe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Напишите формулы кислот, соответствущих оксидам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640" y="1619280"/>
            <a:ext cx="8460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30968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язательная часть: параграф 20 страницы 102-107,упражнение 4;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язательная часть:придумайте кроссворд по теме «Кислоты» (не менее 15 слов)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407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 Учебник «Химия 8класс» Дрофа:М;2008г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,Н.П.Воскобойникова,А.В.Яшукова «Химия 8класс».Настольная книга учителя.Дрофа:М;2008г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20360" y="1395000"/>
            <a:ext cx="8459640" cy="5805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uroki-shkola.ru/prezentaciya-po-ximii-na-temu-kisloty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http://pedsovet.org/component/option,com_mtree/task,viewlink/link_id,87140/Itemid,11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://www.alhimikov.net/elektronbuch/Page-20.htmlhttp://rudocs.exdat.com/docs/index-479375.html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0000" y="1456920"/>
            <a:ext cx="846000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Сформировать понятия о кислотах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состав, названия, классификацию кислот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учащихся с важнейшими неорганическими кислотами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Обратить внимание учащихся на технику безопасности при работе с кислотами,воспитывать бережное отношение к своему здоровью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Совершенствовать умения слушать,анализировать,обобщать,делать выводы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просы для повторения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20360" y="161928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Какие классы неорганических веществ вы уже знаете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Что вы знаете о кислотах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Где в своей жизни вы встречались с этим словом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Как вы думаете,кислоты-ядовитые вещества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хождение кислот в природе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6760" y="759960"/>
            <a:ext cx="8459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Лимонная  кислота содержится  в  лимонах,  яблочная  кислота -  в  яблоках, щавелевая  кислота  - в  листьях  щавеля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При скисании виноградного сока  и  молока, при квашении капусты образуется молоч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В пчелином яде, в волосках крапивы, в иголках сосны и ели содержится муравьиная  кислота. Муравьи, защищаясь от врагов, разбрызгивают  капельки  муравьиной  кислоты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В желудке человека содержится соляная кислота,в атмосфере-угольная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15720"/>
            <a:ext cx="864072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исл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ложные вещества, содержащие атомы водорода и кислотные остатки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ример: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l,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O</a:t>
            </a:r>
            <a:r>
              <a:rPr b="1" lang="ru-RU" sz="4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,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2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1" lang="ru-RU" sz="4000" spc="-1" strike="noStrike" baseline="-24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Формулы и названия основных неорганических кислот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20360" y="1213920"/>
            <a:ext cx="8459640" cy="5805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Cl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хлороводородная, или соля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F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фтороводородная, или плавиков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I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иод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Br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бром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NO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азотист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N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азот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нист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C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уголь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iO</a:t>
            </a:r>
            <a:r>
              <a:rPr b="0" lang="ru-RU" sz="24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кремниев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PO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фосфорная кислота 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Какая из формул является общей формулой кислот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143000" y="1785960"/>
            <a:ext cx="2816280" cy="163368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Н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00720" y="1808280"/>
            <a:ext cx="3060720" cy="179208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е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4357800"/>
            <a:ext cx="2816280" cy="176184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000760" y="4357800"/>
            <a:ext cx="3998880" cy="212220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е(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Н)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Классификация кислот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720720" y="5759280"/>
            <a:ext cx="3143160" cy="107964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HI, HNO</a:t>
            </a:r>
            <a:r>
              <a:rPr b="0" lang="ru-RU" sz="2800" spc="-1" strike="noStrike" baseline="-35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5856120" y="1089000"/>
            <a:ext cx="3143520" cy="1071720"/>
          </a:xfrm>
          <a:prstGeom prst="roundRect">
            <a:avLst>
              <a:gd name="adj" fmla="val 10000"/>
            </a:avLst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слородсодержащие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20720" y="1079640"/>
            <a:ext cx="3143160" cy="1079280"/>
          </a:xfrm>
          <a:prstGeom prst="roundRect">
            <a:avLst>
              <a:gd name="adj" fmla="val 10000"/>
            </a:avLst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кисл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,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Н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3336840" y="4148280"/>
            <a:ext cx="3143160" cy="107136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,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3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800" spc="-1" strike="noStrike" baseline="-35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119640" y="5759280"/>
            <a:ext cx="3143520" cy="107172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ё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PO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240000" y="2519280"/>
            <a:ext cx="3143160" cy="1071720"/>
          </a:xfrm>
          <a:prstGeom prst="roundRect">
            <a:avLst>
              <a:gd name="adj" fmla="val 10000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1798200" y="3600360"/>
            <a:ext cx="162252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4680000" y="360036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300720" y="3600360"/>
            <a:ext cx="16192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 flipV="1">
            <a:off x="3238560" y="2157480"/>
            <a:ext cx="54288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5219640" y="2157480"/>
            <a:ext cx="72072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изические свойства неорганических кислот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20720" y="900000"/>
            <a:ext cx="8459640" cy="147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Cl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4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24000">
                <a:solidFill>
                  <a:srgbClr val="000099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ная кислота –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д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сти</a:t>
            </a:r>
            <a:r>
              <a:rPr b="0" i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2800" spc="-1" strike="noStrike">
                <a:solidFill>
                  <a:srgbClr val="b7e7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20720" y="2700360"/>
            <a:ext cx="8485200" cy="1023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O</a:t>
            </a:r>
            <a:r>
              <a:rPr b="1" lang="en-US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- о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тофосфорная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O</a:t>
            </a:r>
            <a:r>
              <a:rPr b="1" lang="ru-RU" sz="24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кремниевая кислота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ерд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20720" y="4367160"/>
            <a:ext cx="8459640" cy="195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гольн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–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ернист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свободном виде не существуют, распадаются на газ и в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H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+CO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3419640" y="5938920"/>
            <a:ext cx="1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5:06:11Z</dcterms:created>
  <dc:creator/>
  <dc:description/>
  <dc:language>en-US</dc:language>
  <cp:lastModifiedBy>Влад Васин</cp:lastModifiedBy>
  <dcterms:modified xsi:type="dcterms:W3CDTF">2015-10-05T13:58:20Z</dcterms:modified>
  <cp:revision>8</cp:revision>
  <dc:subject/>
  <dc:title>МБОУ «Агеевская СОШ №3» п. Центральный      Кислоты</dc:title>
</cp:coreProperties>
</file>