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D6F-3870-4D5E-963F-B11E99E0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4D0-98ED-48C6-B72B-D658925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0C24D-D8F8-4BB2-A018-AB6820A9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351F-EBCD-40BE-82A7-F43335B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28C54-0CAF-4DF6-A557-CEB1F37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FFC1-131A-463D-879B-277E4F6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62520-5736-42D3-9E62-CF0BD33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6B84F-FB9A-4CBA-B38C-050AE1F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9519B-4F65-4CD8-BC4C-24B0C98F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DFAB5-D5E8-490C-88AF-99B1F12E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60ED-ADAF-495D-95FF-99B512ED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DBFAA-7BE3-471E-9C1C-B95099A5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FB4-2F8F-4850-81A2-69AD9134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6CEF-BF12-43B3-AE09-C23B415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14D7B-3CA7-4273-86C2-DE1234C2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D868E-3FD3-4104-A5F2-4E910AD0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E16A3-50B3-485F-A58E-3818BC2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CDAD1-5B6C-4260-BFBD-02BCBED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69C6C-498C-4F7E-B295-B56A0F3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67072-A4BF-4A36-A25D-F6525C5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77F88-2EEC-4E2F-94B1-606F463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AE0E-7E54-4EA1-9F5A-FAFADF2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13D80-6379-4587-B466-A91D4868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CE5-ED3C-479F-A35A-7DE4C994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6E5DE-3B93-409A-BC10-96CEE3F4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61428-21E1-4346-B1F7-5CD7827F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55A1-56E7-4FCB-B70E-A4A2483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0335-8638-4A37-AB15-EA2844A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C0CB7-BBC9-46C6-A908-0A358EC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3821-2E9E-4C12-BBEA-FD65F2C9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7813D-FDBA-4901-8C2A-DEC10F3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85DD-872D-446C-91A6-06ED82E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63064-0B86-4A94-99B6-FE28DD0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C53C0-3BD4-4C37-A9F0-4ED7C07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959-25A4-4AD1-9390-D7D8F5BD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9A7D1-5441-43ED-9F1E-F06E0755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64EEE-EDA3-4B2B-8C99-4668921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43B20-137B-4430-B142-678BD0BB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CEE4-A62C-45FC-AEDD-56DAA291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9B99C-D52D-4BFE-A895-4761672C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95806-51E2-4F7C-AC66-7094433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BB509-9964-4F00-91ED-72BBDFDB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5BED1-2FDC-42FD-A842-4199183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B5F1B-D495-4D43-8131-3213302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E5838-893A-4122-B485-2B950AB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1CA-B287-4301-8974-F8C958D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A92D5-5946-4BF4-A14C-A582569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82657-B4A9-43B4-8F63-1CBE903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99FDF-DEC6-4D05-BEE7-6CD4A288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116C0-F121-416F-8341-47387BDB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C4DF0-5AEE-4146-8CE7-3B56E83F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19524-AEC9-4F3B-9F70-BF4AA4E7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0AA57-3341-4020-997B-74279438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7EC68-1BC8-4F01-A5BD-C65FEEE9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C3DE5-5DB4-413E-9950-8A3130C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C1BB0-D933-423E-B849-0CB51B1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EFAF-1ECB-4387-94EB-AA0F11C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C235E-E085-4E29-ADCD-1E93224E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5FF4-27C9-42F0-946E-6F7E82FB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714E-67B6-4DB2-9D33-FD193B3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4C6BD-422C-42E2-865A-08B8ADB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A1990-6E85-4A54-84E8-C6B9B01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F050A-2981-48F3-8A61-DE91A5DE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E0C43-0D4A-48D8-AEB9-E30840F7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5AC59-0A58-42D1-80B1-C2683D2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2EB92-1F85-48AF-8756-10FFF98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5AD92-EBED-444A-8811-DEFC7C84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362-665F-4DCE-BB58-4CF463B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103F9-9D8B-4233-97D1-3DCAA90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37F8E-CD6A-45AC-BDFB-9A11B3DE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69EDB-0286-4F40-94E2-FCE0F74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E1654-E019-49BF-BFA4-BA3C4E8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6884F-C935-460C-971D-36AF780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75DDC-93E7-462A-872F-A559B71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E961D-1EC9-4C70-A25B-8F564BF2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051CF-1CA3-4D69-82DC-5626F72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1F830-1947-4F72-A70B-6C1EB385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46FF3C-53C6-4050-951A-81CCCB4A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8EA7-2339-432E-B3E0-6A98205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E745AD-4255-415A-A554-25BE177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1B9E58-34EB-4A14-970E-7067890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BE08D7-2115-425C-9CC9-FF4384E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453475-109D-4998-ABA6-421EDC03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F78DD-6FB8-4435-832A-E6B6387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56C74F-1596-4255-B9B7-FA8FDD5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EE1129-EF67-4B69-9690-F71B3EE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927263-D91A-4A7A-994D-6FEE3FA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1331E-61CF-4EC9-A428-A437A58B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F095A5-59AF-4CF6-B01B-4CCEF77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62D-C5DB-40BC-A07B-FF38492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976FBA-11AB-44FA-A15F-F1D6CAF9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5905D-6AC3-4995-BE22-F814A8B2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EF4DA-3E23-4082-8710-8776A0F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7AD55-1F29-49E4-B5D7-A7282EB3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4279D-9DD0-4CA7-950E-79483B57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FC2C3-A592-466F-B344-8CC2B02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6BA10-67E0-483A-B621-12FE90C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E5B4F-77ED-4A29-A526-B2BC65F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18080-11BE-4D40-9AA7-B956F85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02EB2-CE7F-4D59-9430-588B82C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3120-E448-4C1F-A035-131075B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9983F-8434-4185-B3FC-D217BDD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375C9-14DA-494E-915E-918748D5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51F90-221A-4AC7-B04F-DECD16E2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05608-8B9F-421A-BB45-C88BA1CE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5DCD8-5058-48BA-844F-7AF7D6B7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A1829-B9A5-4F92-962E-79817DC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7A0FE-0AC1-48B5-A042-91FDF8D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4CEDC-5ACD-4DAF-A0A0-34F324C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D00D9-A940-48BD-81C9-97EBA3A6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FD7FD-EA5D-4077-AC7E-D461A9D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16-CC9B-4701-ADFE-B976821A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5001-0798-48C7-B37D-0EB5310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FA525-088B-457B-BBAA-87AA8AB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312C4-610A-4C6E-91B4-DA3AAF5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2D5D6-2737-477F-815D-FF4D2B6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30479-EE1B-4754-AC5E-777565E8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4120F-B796-4977-94D9-495E41F3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ACD3-6B91-4388-B92F-CF9DB39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4A2F4-6E90-4FF6-ACB8-BAD14FB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7D991-B8B5-499B-BDA1-65D77C90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21B79-0DA5-4CC5-AE73-DBB20391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1F2FA-51BA-4BB7-93D9-0B4D9862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4C37-1805-41B9-A7A6-827A327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1FCB9-4204-4CEC-A226-8FBF5B6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C259C-2F9B-493C-96A1-0593CB6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E086E-7099-4FFF-8598-15FE5DB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55E3B-0E54-4D96-86B7-F26A456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DC79B-5810-4EA6-B63B-E047EDF6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D7D46-A3B7-443B-B5B7-A2237D0D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462DA-67E7-4DAA-B270-5382301C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C4CF80-C8BF-4733-97D6-8EA73905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C9E337-1115-40B5-857C-9EA690E6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586D56-FAC1-40A5-AD3D-7E54E04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0CF-82FC-4F84-862A-30499AB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BA5C08-7AD2-4BF8-AFE4-6FCE06A6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A03EDE-B7EF-439E-8910-30279BC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2374C9-9BC2-4A80-8BD7-648D4BB0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51BA92-0828-4A79-ACEF-32FB008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AEC753-7A19-426B-85DF-85C2856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0909BB-7AE3-4CBD-9014-978F06F4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8564D5-23F3-490D-AAAE-3AA5ADF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C28BDB-5910-4918-AF27-8BCE7F50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DABF23-0CFE-40E3-BC9A-7831B604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A29F4-9F65-40B1-ADA2-38D9910A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E04-548E-4DCB-A805-2827B197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E583B-3A59-4204-BF81-90C53B1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30F1F-8F0A-4FCE-A1A0-8380CDE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4A145-2010-49A5-8357-B1D283E6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AD1FB-4767-4B80-9535-F575A02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D65B4-28F4-41DB-AAB6-01065DAD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D1ADA-73F3-49C0-839E-31D8D7A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9CB2A-FDB3-4411-94EB-79146DF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88D98-9C3C-4C3B-9990-2CE065A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F34AE-6C52-489D-9B6E-E530F872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99506-13BF-459C-9DA4-E0BCFADD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124-4F06-4F6D-BD95-00AD6A7C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EDD61-0681-4E50-BD65-08638A30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147FEA-850A-409C-8204-0236681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836EC4-6D74-472F-A8D3-B795DFC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765E2E-4E46-4349-99F3-BD87C65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CEC4AC-97E0-4CF9-8B9C-E42058FA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BCF1C6-1605-490A-BEC3-2CC561AB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B7E950-7735-49A2-9390-B4757CD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83C65E-ABF9-493D-8568-51C66AE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DC7ABE-F147-493A-B3A6-E784DC2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8E2055-908E-448E-969F-D4FF857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A1AA-EAFD-4ABD-BC68-C9F7B2EA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62EDEB-8CB4-40E5-A6BD-86BDE8B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28157D-C5F7-4D26-B425-E3F93F6E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952A62-5D9C-44A2-810E-CE16DE7F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C9536A-C99C-4CDD-AEA5-F3EAC9EB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4BCE6A-2C47-4D74-89EA-6BE66C07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2AAF44-C19B-4F96-A276-6DE590F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A300640-4743-48BE-B172-B6F936FA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7257A4-7F3F-4B2A-AFE7-259A4D4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4F4B7C-C4A2-4034-B1C4-65D89E89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01D56F-1664-4950-90C5-C270209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8FF4-E88D-4E4A-A8D3-509FD61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D0074EC-2416-4E0C-8055-B880734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8224B6-81D1-410B-8A59-0FD5FAD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1E4216-BBD9-40F9-91C7-9BEEAA31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96C25F-8885-4919-89A0-544669E9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2D36E6-1CE7-424D-AA93-579474D9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C5BF7-EEBA-408D-8D6F-E13E35A4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B51FA5-3D06-4F54-A5AA-3245D34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E5173-5F5F-4B82-A99E-5E5AA84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A4EA1F-221F-42A2-BC81-D16DB158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63AE1-A71D-47A5-8CA1-DA63F65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29E2-9AEC-4010-A02A-63A9BF5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DE1D97-D8C6-45ED-90E3-9E2E9AA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B9C106-889B-42CE-A44A-1D7FA82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5520E-52D8-48BD-B281-0317DE6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E7CDE-0032-42A7-8968-36C510E0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51B612-3DE6-446F-A044-D598C50D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22544-C6C1-4843-971E-008973F8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DCE98-8F30-47C2-9FB4-28296CDB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3FBC8E-CB66-4B3A-95E0-16CFA56D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0B2F58-4547-4332-9A34-DF0729B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77D9B3-01BC-4CC6-8611-A0DDD3F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AE77-8785-4D24-87E4-8981284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1F2A2-D7FC-44A0-AA7C-0B8900A6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F5949B-4988-4A49-960D-C304D562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007D1-D67C-4D7F-8451-1EA754A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F19F6-AB5B-47AA-A2ED-42769E2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593603-881F-4617-A25A-3B249A3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3C7CEE-99B4-494E-B5DD-BCEB886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CEEFB0-0F6E-45A3-9561-C59720B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1AB62F-07A7-4AC4-BC2B-FDEF57D3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5E9EFD-71B3-4CA8-9453-101AF72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98D1-4B4F-4B30-8F27-38C0FED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26B-1EA4-42EC-9575-60AC214C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B978-B193-4DD5-A35A-1FECFAA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0622-94B2-41B8-B135-2A4D2A9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FE51-7B7E-4FE7-B90B-87325BA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7EB7-58F0-4CCA-BB57-CADD101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9B67-6F1A-4AAE-B581-6506256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F307-5417-4ED6-9B75-585BF0C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AB31-0A1C-4485-BF2E-2D3FC428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DD17-FC4A-48C5-A7AB-47C7DBAD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51AA-8C78-4024-BCB6-EC2EC3B8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3833-F566-4310-B22E-CF38186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C52-5A52-4162-8419-39CC19D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9059-C44E-41AA-B357-CE86568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2AEF-0B7C-4576-9581-7E10AC4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C89D-B141-4113-8A17-5472BFE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FC16-7254-408E-B03F-1BC0CD9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A52A-5294-423E-AF81-1D063D8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02E9-428F-45D7-99D7-A5D6DE1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9E23-9FF6-4766-B778-831701F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40ED-9BB3-4265-B9ED-B3D07F14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B239-ECED-4851-9B4D-B9F62F97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072C-D1CD-4F61-9698-FAD51F26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12B-8C64-4BF2-9A6D-D0AEFA2C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F717-9685-42FC-894B-875A870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AC99-188D-482E-A021-581D57D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BDA4-3BA3-49BB-A1FA-D452D62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090D-2630-4C82-AC8D-845EDEF6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ED62-1190-4B0B-ADAC-142D2EF4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6DE9-3CDF-4101-AAE4-64514D9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3EE1-2E35-4D5A-9C92-E4FCF8A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237E-2416-464E-8BAF-4D35FE9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BDAE-79F4-4D18-A428-6FC16BC3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CED1-EBC8-4BE5-A995-CB3549B8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BE7-C195-4B12-A46E-02EAA86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A522-F39A-45AF-A646-F10D530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1BCF-12B5-4704-A790-418652B2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8FCE-D88C-49E4-9AAB-81B8CBD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A218-7157-4253-9FCD-AA497A59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B191-655E-4F5B-BC9D-A887417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675F-6ABA-4D28-A737-FFCB8F2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9199-49B5-4B0A-B296-85B7DADF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9CDC-5CC9-4EE7-AA0C-9DE88F0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9C5E-AF5C-45CE-8063-2D20EF1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3AE00-57F3-4A81-AE83-0FEACD91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438-5C37-4753-A75E-7699B6D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B539-5BA6-4D25-8222-66CAA51D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7770-17DF-43BB-A4B0-009AB48E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0818-97F5-4F4A-A99F-20C67E1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C616A-A11D-48AD-98CB-664E0634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2B35-1BE0-45BB-9F0D-86D6D88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0392-40AB-422F-B722-B12B998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CF28-088C-415E-826A-9CB6E9B5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A1AE4-A94C-433D-9AA3-AFCC16DB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B73F-6E5F-4393-9286-2967CD3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20AF-A580-417B-96A3-F10A68B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72A-DB76-480E-9D42-09203C1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D13E-DABF-4E3F-97F1-B11D445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E6159-D213-49B4-AE1A-285D13C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4E0F7-43BD-4A3C-91D5-0350AA05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43B9-C347-4A67-A988-3FDA1161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2DEF-49A6-47E6-8AC0-F31454FC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5430-2F48-463C-A5C2-62A6280E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6B2E-235F-497E-9DAE-D8A9BBA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36F8-0A54-400A-9DD1-243C3F71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4F75-C3DC-4952-B6D1-120ACE2C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CEAA-3C9F-4706-9F0B-A814FD8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CD3-8D6A-484F-933D-88EB58E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0D26-47AE-4B6C-83CE-3C1939E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FAFC-3EBE-415F-BEBD-4175C44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F728F-7DB7-460C-8A7D-A0115AB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43F9-5F40-413B-9AE2-5B5B35A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E37A-B38D-496B-979C-212AC1E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A301-9ED8-4865-9A73-B514B5E0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11AC-3143-4BCB-AF1D-DEA4FFB3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9768E-B09B-4E1D-9322-23F68C2D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832E8-63BE-47E3-96BD-AD8767E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B23F2-62DC-4D2A-9995-949E2C7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2D6A-4D54-4937-9939-143C4CA9EFAC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681E-F063-4B6A-BA13-7C7F56092BD1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F5A-8ABF-428B-AB45-FB37ECD98039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24B-35D7-4DC7-80C7-5F9658D73408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ADC-AD6F-4B59-9BFE-B25403A03A7A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4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5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6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7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8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9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0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6506-525B-41D3-8B15-AA7BFE5CBA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D8D1-D601-4B52-8F83-581FB66214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4115-F468-4953-B6A2-AB191BA0BB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A8A-0A6B-40E6-B50E-D2EE2A38E5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0B60-1456-4A66-8C9B-143B00E300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EE09-EAA1-48BF-80BF-996DCFD371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2D3-4AD2-4730-9A31-5F2B372A29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8A1-875B-4DA3-9807-6892803112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A82B-8BB7-4051-B1F8-8FA097B35B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1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2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3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4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5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6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sldNum" idx="6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958-DE0B-43CD-846B-85B8B312EE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ftr" idx="6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F502-65C1-49A8-B0E6-B6CB069A4C2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4968-69F0-4C44-A9DE-B82E4631F4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CCA-E8FB-4028-87E3-0B93D8EB6D8B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974-9454-4F3A-8A0D-BC3DDC372B2B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770-FB3A-4FB8-8602-ECD998262484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DBF-ED09-4501-8E00-FF3ADC3988CE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C5D3-1C25-4031-837D-C00EB3498305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7A86-8CE5-43DC-8B90-3880F150ED48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4FE-2A5F-4527-899D-2D442C91ADA5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57960" cy="331452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Методическая разработк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ДЕТСКИЙ ФОЛЬКЛОР КАК СРЕДСТВО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ВОСПИТАНИЯ НРАВСТВЕННЫХ КАЧЕСТВ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МЛАДШИХ ДОШКОЛЬНИКОВ</a:t>
            </a:r>
            <a:br>
              <a:rPr sz="2400"/>
            </a:b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2087640" y="3789000"/>
            <a:ext cx="4968720" cy="2235240"/>
          </a:xfrm>
          <a:prstGeom prst="rect">
            <a:avLst/>
          </a:prstGeom>
          <a:solidFill>
            <a:srgbClr val="d3ecb9"/>
          </a:solidFill>
          <a:ln w="38160">
            <a:solidFill>
              <a:srgbClr val="25127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Голубковой Наталии Владимировны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оспитателя МДОУ №11 «Колокольчик»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г. Тутаев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аучный руководитель: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аумова Наталия Николаевн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еподаватель ГОАУ СПО ЯО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ыбинского педколледж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4040280" cy="187344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езультаты начальной диагностики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зучения эмоционального отношения детей младшей групп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к нравственным норма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ентябрь 2012г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042080" cy="184320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Результаты начальной диагностики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Приобщение детей младшей группы к элементарным общепринятым нормам и правилам взаимоотношения со сверстниками и взрослыми (в том числе моральными)»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ентябрь 2012г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pic>
        <p:nvPicPr>
          <p:cNvPr id="1131" name="Диаграмма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40280" cy="36133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  <p:pic>
        <p:nvPicPr>
          <p:cNvPr id="1132" name="Диаграмма 4" descr=""/>
          <p:cNvPicPr/>
          <p:nvPr/>
        </p:nvPicPr>
        <p:blipFill>
          <a:blip r:embed="rId2"/>
          <a:stretch/>
        </p:blipFill>
        <p:spPr>
          <a:xfrm>
            <a:off x="4645080" y="2370240"/>
            <a:ext cx="4041720" cy="359100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</p:spTree>
  </p:cSld>
  <p:transition spd="slow" advTm="4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3ecb9"/>
          </a:solidFill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Результаты начальной диагностики 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«Формирование интереса и потребности в чтении 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 у детей младшей группы»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5" name="Скругленный прямоугольник 3"/>
          <p:cNvSpPr/>
          <p:nvPr/>
        </p:nvSpPr>
        <p:spPr>
          <a:xfrm>
            <a:off x="611280" y="1773360"/>
            <a:ext cx="8137440" cy="475128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graphicFrame>
        <p:nvGraphicFramePr>
          <p:cNvPr id="1137" name="Диаграмма 6"/>
          <p:cNvGraphicFramePr/>
          <p:nvPr/>
        </p:nvGraphicFramePr>
        <p:xfrm>
          <a:off x="2484360" y="2060640"/>
          <a:ext cx="4446720" cy="407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8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060640"/>
                    <a:ext cx="44467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Rectangle 5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Скругленный прямоугольник 3"/>
          <p:cNvSpPr/>
          <p:nvPr/>
        </p:nvSpPr>
        <p:spPr>
          <a:xfrm>
            <a:off x="755640" y="981000"/>
            <a:ext cx="7704000" cy="446400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41" name="Rectangle 1"/>
          <p:cNvSpPr/>
          <p:nvPr/>
        </p:nvSpPr>
        <p:spPr>
          <a:xfrm>
            <a:off x="1258920" y="1188360"/>
            <a:ext cx="6905520" cy="381240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278"/>
                </a:solidFill>
                <a:latin typeface="Times New Roman"/>
                <a:ea typeface="Calibri"/>
              </a:rPr>
              <a:t>Перспективное планирование работы по воспитанию нравственных качеств </a:t>
            </a:r>
            <a:endParaRPr b="0" lang="en-US" sz="3600" spc="-1" strike="noStrike">
              <a:solidFill>
                <a:srgbClr val="9900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278"/>
                </a:solidFill>
                <a:latin typeface="Times New Roman"/>
                <a:ea typeface="Calibri"/>
              </a:rPr>
              <a:t>у младших дошкольников посредством детского фольклора</a:t>
            </a:r>
            <a:endParaRPr b="0" lang="en-US" sz="3600" spc="-1" strike="noStrike">
              <a:solidFill>
                <a:srgbClr val="9900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278"/>
                </a:solidFill>
                <a:latin typeface="Times New Roman"/>
                <a:ea typeface="Calibri"/>
              </a:rPr>
              <a:t>(Приложение 11)</a:t>
            </a:r>
            <a:endParaRPr b="0" lang="en-US" sz="2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040280" cy="15112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 fontScale="68000"/>
          </a:bodyPr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4c"/>
                </a:solidFill>
                <a:latin typeface="Calibri"/>
              </a:rPr>
              <a:t>Результаты промежуточной диагностики  эмоционального отношения детей младшей группы к нравственным нормам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4c"/>
                </a:solidFill>
                <a:latin typeface="Calibri"/>
              </a:rPr>
              <a:t>(февраль 2013 года)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716000" y="404280"/>
            <a:ext cx="4041720" cy="135900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 fontScale="95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4c"/>
                </a:solidFill>
                <a:latin typeface="Calibri"/>
              </a:rPr>
              <a:t>Результаты промежуточной диагностики (февраль 2013г.) </a:t>
            </a:r>
            <a:endParaRPr b="0" lang="en-US" sz="14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4c"/>
                </a:solidFill>
                <a:latin typeface="Calibri"/>
              </a:rPr>
              <a:t>«Приобщение детей младшей группы к элементарным общепринятым нормам и правилам взаимоотношения со сверстниками и взрослыми (в том числе моральными)»</a:t>
            </a:r>
            <a:endParaRPr b="0" lang="en-US" sz="1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45" name="Picture 1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951360" cy="35287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  <p:sp>
        <p:nvSpPr>
          <p:cNvPr id="1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32360" cy="35287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</p:spTree>
  </p:cSld>
  <p:transition spd="slow" advTm="4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8" name="Object 1"/>
          <p:cNvGraphicFramePr/>
          <p:nvPr/>
        </p:nvGraphicFramePr>
        <p:xfrm>
          <a:off x="611280" y="2276640"/>
          <a:ext cx="3816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6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040280" cy="16984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4c"/>
                </a:solidFill>
                <a:latin typeface="Calibri"/>
              </a:rPr>
              <a:t>Сравнительные результаты изучения эмоционального отношения детей младшей группы к нравственным нормам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644720" y="476280"/>
            <a:ext cx="4041720" cy="16984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4c"/>
                </a:solidFill>
                <a:latin typeface="Calibri"/>
              </a:rPr>
              <a:t>Сравнительные результаты   «Приобщение детей младшей группы к элементарным общепринятым нормам и правилам взаимоотношения со сверстниками и взрослыми (в том числе моральными)»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graphicFrame>
        <p:nvGraphicFramePr>
          <p:cNvPr id="1155" name="Object 4"/>
          <p:cNvGraphicFramePr/>
          <p:nvPr/>
        </p:nvGraphicFramePr>
        <p:xfrm>
          <a:off x="4643280" y="2276640"/>
          <a:ext cx="4092840" cy="410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76640"/>
                    <a:ext cx="40928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Rectangle 6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2" descr="P1180893"/>
          <p:cNvPicPr/>
          <p:nvPr/>
        </p:nvPicPr>
        <p:blipFill>
          <a:blip r:embed="rId1"/>
          <a:stretch/>
        </p:blipFill>
        <p:spPr>
          <a:xfrm>
            <a:off x="826920" y="333360"/>
            <a:ext cx="3654720" cy="3240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59" name="Picture 3" descr="P1180688"/>
          <p:cNvPicPr/>
          <p:nvPr/>
        </p:nvPicPr>
        <p:blipFill>
          <a:blip r:embed="rId2"/>
          <a:stretch/>
        </p:blipFill>
        <p:spPr>
          <a:xfrm>
            <a:off x="4932360" y="333360"/>
            <a:ext cx="3743280" cy="3166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60" name="Picture 4" descr="P1180906"/>
          <p:cNvPicPr/>
          <p:nvPr/>
        </p:nvPicPr>
        <p:blipFill>
          <a:blip r:embed="rId3"/>
          <a:stretch/>
        </p:blipFill>
        <p:spPr>
          <a:xfrm>
            <a:off x="826920" y="3860640"/>
            <a:ext cx="3745080" cy="273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61" name="Picture 5" descr="P1180651"/>
          <p:cNvPicPr/>
          <p:nvPr/>
        </p:nvPicPr>
        <p:blipFill>
          <a:blip r:embed="rId4"/>
          <a:stretch/>
        </p:blipFill>
        <p:spPr>
          <a:xfrm>
            <a:off x="5076720" y="3860640"/>
            <a:ext cx="3598920" cy="2702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slow" advTm="4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Picture 2" descr="P1120365"/>
          <p:cNvPicPr/>
          <p:nvPr/>
        </p:nvPicPr>
        <p:blipFill>
          <a:blip r:embed="rId1"/>
          <a:stretch/>
        </p:blipFill>
        <p:spPr>
          <a:xfrm>
            <a:off x="826920" y="907920"/>
            <a:ext cx="3619800" cy="271620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  <p:pic>
        <p:nvPicPr>
          <p:cNvPr id="1163" name="Picture 3" descr="DSCN0509"/>
          <p:cNvPicPr/>
          <p:nvPr/>
        </p:nvPicPr>
        <p:blipFill>
          <a:blip r:embed="rId2"/>
          <a:stretch/>
        </p:blipFill>
        <p:spPr>
          <a:xfrm>
            <a:off x="4716360" y="333360"/>
            <a:ext cx="3783240" cy="283212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  <p:pic>
        <p:nvPicPr>
          <p:cNvPr id="1164" name="Picture 4" descr="P1180528"/>
          <p:cNvPicPr/>
          <p:nvPr/>
        </p:nvPicPr>
        <p:blipFill>
          <a:blip r:embed="rId3"/>
          <a:stretch/>
        </p:blipFill>
        <p:spPr>
          <a:xfrm>
            <a:off x="3132000" y="3860640"/>
            <a:ext cx="3383280" cy="253692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</p:spTree>
  </p:cSld>
  <p:transition spd="slow" advTm="4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2" descr="P1180627"/>
          <p:cNvPicPr/>
          <p:nvPr/>
        </p:nvPicPr>
        <p:blipFill>
          <a:blip r:embed="rId1"/>
          <a:stretch/>
        </p:blipFill>
        <p:spPr>
          <a:xfrm>
            <a:off x="611280" y="333360"/>
            <a:ext cx="5113080" cy="3835440"/>
          </a:xfrm>
          <a:prstGeom prst="rect">
            <a:avLst/>
          </a:prstGeom>
          <a:ln w="57240">
            <a:solidFill>
              <a:srgbClr val="99004c"/>
            </a:solidFill>
            <a:miter/>
          </a:ln>
        </p:spPr>
      </p:pic>
      <p:pic>
        <p:nvPicPr>
          <p:cNvPr id="1166" name="Picture 3" descr="P1180642"/>
          <p:cNvPicPr/>
          <p:nvPr/>
        </p:nvPicPr>
        <p:blipFill>
          <a:blip r:embed="rId2"/>
          <a:stretch/>
        </p:blipFill>
        <p:spPr>
          <a:xfrm>
            <a:off x="4427640" y="3138480"/>
            <a:ext cx="4527360" cy="3386160"/>
          </a:xfrm>
          <a:prstGeom prst="rect">
            <a:avLst/>
          </a:prstGeom>
          <a:ln w="57240">
            <a:solidFill>
              <a:srgbClr val="e5e500"/>
            </a:solidFill>
            <a:miter/>
          </a:ln>
        </p:spPr>
      </p:pic>
    </p:spTree>
  </p:cSld>
  <p:transition spd="slow" advTm="4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Скругленный прямоугольник 1"/>
          <p:cNvSpPr/>
          <p:nvPr/>
        </p:nvSpPr>
        <p:spPr>
          <a:xfrm>
            <a:off x="611280" y="549360"/>
            <a:ext cx="7993080" cy="590400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4c"/>
                </a:solidFill>
                <a:latin typeface="Arial"/>
              </a:rPr>
              <a:t>В детском фольклоре отражена сущность детства: видеть мир таким, каким он предстаёт перед миром ребёнка – без лукавства и фальши. В них заложена мудрость, проявляющаяся в умении несложными средствами решать сложные задачи. </a:t>
            </a:r>
            <a:endParaRPr b="0" lang="en-US" sz="32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69" name="Блок-схема: перфолента 8"/>
          <p:cNvSpPr/>
          <p:nvPr/>
        </p:nvSpPr>
        <p:spPr>
          <a:xfrm>
            <a:off x="1547640" y="1197000"/>
            <a:ext cx="6553440" cy="4535640"/>
          </a:xfrm>
          <a:prstGeom prst="flowChartPunchedTape">
            <a:avLst/>
          </a:prstGeom>
          <a:gradFill rotWithShape="0">
            <a:gsLst>
              <a:gs pos="0">
                <a:srgbClr val="eda3b5"/>
              </a:gs>
              <a:gs pos="100000">
                <a:srgbClr val="fae6eb"/>
              </a:gs>
            </a:gsLst>
            <a:lin ang="16200000"/>
          </a:gradFill>
          <a:ln w="9360">
            <a:solidFill>
              <a:srgbClr val="99004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70" name="Прямоугольник 9" descr=""/>
          <p:cNvPicPr/>
          <p:nvPr/>
        </p:nvPicPr>
        <p:blipFill>
          <a:blip r:embed="rId2"/>
          <a:stretch/>
        </p:blipFill>
        <p:spPr>
          <a:xfrm>
            <a:off x="1676520" y="2365200"/>
            <a:ext cx="646740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 txBox="1"/>
          <p:nvPr/>
        </p:nvSpPr>
        <p:spPr>
          <a:xfrm>
            <a:off x="428760" y="1285920"/>
            <a:ext cx="8400960" cy="452592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Фольклор – основное средство народной педагогики. 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1278"/>
                </a:solidFill>
                <a:latin typeface="Calibri"/>
              </a:rPr>
              <a:t>«Есть одна только общая для всех прирожденная наклонность, на которую всегда может рассчитывать воспитание: это то, что мы называем народностью. Воспитание, созданное самим народом и основанное на народных началах, имеет ту воспитательную силу, которой нет в самых лучших системах, основанных на абстрактных идеях или заимствованных у другого народа»,— писал Ушинский. 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Как влияет детский фольклор на воспитание нравственных качеств младших дошкольников?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81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Подобрать и апробировать методы использования детского фольклора для воспитания нравственных качеств у младших дошкольников.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81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Объект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Процесс нравственного воспитания младших дошколь</a:t>
            </a:r>
            <a:r>
              <a:rPr b="1" lang="ru-RU" sz="4000" spc="-1" strike="noStrike">
                <a:solidFill>
                  <a:srgbClr val="381bb4"/>
                </a:solidFill>
                <a:latin typeface="Calibri"/>
              </a:rPr>
              <a:t>ников.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Предмет исследования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Детский фольклор как средство воспитания  нравственных качеств у младших дошкольников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99004c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учить научную литературу по проблеме нравственного воспитания посредством детского фольклора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крыть механизм и методы нравственного воспитания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мотреть особенности нравственного воспитания детей младшего дошкольного возраста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обрать и опытно-практическим путем апробировать методы работы с детским фольклором для воспитания нравственных качеств у младших дошкольников.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анализ научной литературы, литературоведческий анализ произведений детского фольклора;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пир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блюдение, беседа, диагностические методики («Диагностический журнал комплексной оценки результатов освоения программы «От рождения до школы» под ред. Н.Е.Вераксы, Т.С.Комаровой, М.А.Васильевой);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т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 анализ эмпирических данных. 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76360" y="1312920"/>
            <a:ext cx="6192720" cy="4883040"/>
          </a:xfrm>
          <a:prstGeom prst="rect">
            <a:avLst/>
          </a:prstGeom>
          <a:solidFill>
            <a:srgbClr val="d3ecb9"/>
          </a:solidFill>
          <a:ln w="57240">
            <a:solidFill>
              <a:srgbClr val="c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004c"/>
              </a:solidFill>
              <a:latin typeface="Calibri"/>
            </a:endParaRPr>
          </a:p>
        </p:txBody>
      </p:sp>
      <p:pic>
        <p:nvPicPr>
          <p:cNvPr id="1127" name="Picture 8" descr="SDC11905"/>
          <p:cNvPicPr/>
          <p:nvPr/>
        </p:nvPicPr>
        <p:blipFill>
          <a:blip r:embed="rId2"/>
          <a:stretch/>
        </p:blipFill>
        <p:spPr>
          <a:xfrm>
            <a:off x="1835280" y="1844640"/>
            <a:ext cx="5472000" cy="38368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tIns="-45360" bIns="-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4c"/>
                </a:solidFill>
                <a:latin typeface="Calibri"/>
              </a:rPr>
              <a:t>Глава </a:t>
            </a: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ll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06T20:19:08Z</dcterms:modified>
  <cp:revision>22</cp:revision>
  <dc:subject/>
  <dc:title>Слайд 1</dc:title>
</cp:coreProperties>
</file>