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0.png" ContentType="image/png"/>
  <Override PartName="/ppt/media/image19.jpeg" ContentType="image/jpeg"/>
  <Override PartName="/ppt/media/image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0.wmf" ContentType="image/x-wmf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115B-1768-46A0-9539-090B0178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F65A-2430-46A0-B25D-487AFF69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AA33B-2D63-48F3-8DA4-0A9C3B9F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12C53-0840-4C52-AB64-7E1EF844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B4735-F167-4EC5-9A26-16EE2DCF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73F79-73AD-42F6-989B-314231E5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6F839-C5F8-4FF8-8E62-9B5A26A3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4339D-0210-405F-A014-A181E59F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DD850-D1F3-40B3-B8E4-57593B60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BB8C6-4006-47E9-A467-48A8146D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3CE32-3B33-4AA0-B07D-634CBA9E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61219-E3AE-4E9F-9F1C-E3E7C655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9A13-AE98-4D5A-A826-1EA1D8D8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2B891-461B-4276-91FD-93D7F746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7D04D-0FE5-415E-8FF0-0F858337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8EA61-1DDD-4E35-A672-FED29819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601DB-9101-4E2C-96D3-F6BDFB4D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350B0-0423-4340-94EF-D571C889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2494E-BBF1-42E5-8BE2-9CEA1F76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09E23-98B7-45CD-BF99-21112205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63B7E-48FA-45A0-B207-4E56B849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09A4A-1B60-4CA7-BBDF-6B4EC18E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9BABA-FD94-4E88-A960-DDA66E2C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578E-6145-4272-AA67-F390ECFD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32146D-8FCE-428A-BB6C-3227B09C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DBA06-322A-40FE-81B7-C5BD427F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A704F-DDFA-49C0-99DD-24A26F9F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84031-3767-4F59-B9E3-07FF226E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736B7-8493-4BC0-91CE-4A474B84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89E88-3A5D-466E-87FB-87B3CC46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F7071-028C-4195-8632-9C9F4F4D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E6FFB-031B-4633-8B83-FE9C8CE6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72B89-EA28-45EA-91A3-A622820F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17D9D-67EB-4437-B843-CC1E0430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62C7-0347-4DA0-89A9-85DD601D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8D565-3E6D-4F83-B323-463F8537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004A1-88A5-4CBC-BFB8-904EB19F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2CD8E-9628-4EEA-912C-71FFD7F3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3058F-DBB8-438D-8344-8869AFE0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2EEA3-C898-49C6-94A6-F0B879DD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97D09-E954-4AF4-89FE-D1A6AE79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7C8C9-2D94-4CDE-9E44-F4A55FA2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A8FD0-09EF-4252-9E9F-40C71F3E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0C1DB-9E9A-4F54-8282-BF559FAE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01AF0-0C12-48D8-9B76-F146A124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C138-3D9E-4B76-BEED-45CD0F76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C2DCA-BB17-4454-A74C-E44C8DF7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2C8E8-260E-43EE-96F2-9CB98502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2F317-1CD9-489F-8587-798EA3B1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2C91C-BA54-4B63-8840-4B58F917B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5B5D3-1ED3-4E18-9842-CA1188D1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CE056E-5799-4D31-869C-CCA53DB8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6C3075-858A-4898-B35E-E9ED72AA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B99017-C355-4504-A4D0-C90E9ED6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32583B-E579-43C0-BCFC-F4C53E83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6E3EE4-0E33-4E19-A164-ECAF523B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555F-4BC1-4921-A038-60EEAFE7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F781B1-5ADC-47BA-A6D3-515165EA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F73477-233D-4071-8640-CAFF08B1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BB7715-8871-491B-AEFC-F1AE3935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9E0CA7-30EC-4D90-8FF5-02F554C3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233B55-7C40-453C-BA25-6E7605BE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5C5D2-7677-4FB5-A3EA-CE734992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DF2236-1636-43C4-9FEA-CE9D2385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BF57AC-28A2-4712-9A14-88D470FD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13589C-00E7-4FF5-B039-5753CEC0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2DF9C3-0722-41CE-B03D-75D46909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738F-50C2-4D87-8E5C-4FBA69DA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95740C-19C0-4AA6-883C-7A1E4248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F64DF4-FB6A-447A-99B0-0D88A79C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080DF3-A462-4FDF-85FD-C95FA523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612585-2D88-4EBA-BB69-20E30C12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DF9E12-FAB5-4F81-ADA0-10E391F2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787183-6DA7-4C7C-9BE6-0BFBDD34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9C443E-0F2F-4A75-9D9D-9C2F8BB9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3292B6-0F29-4AC9-894A-90E27814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FCB5DA-8024-45C7-82F9-CE4F4BCD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3F09A9A-C226-4E09-9045-CC45AF6A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A789-A36C-402B-B487-EF8C7A08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637CCD7-2E0B-4E98-8F33-B5CEF8C3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4FFE45-09D0-456F-BE64-AE19101C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525FD8-48A2-4B1F-A143-0DAB2E4D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415BC52-8879-4277-83AE-46E8DC9B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50FF235-B68E-4DB7-8FAB-70EA8F2C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7FFC69C-4D1F-47FB-A0E2-0DF3AD93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43EF3F0-CD23-43D2-A031-E4EB4164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6957A8A-7ABC-4D4F-A199-09809E1D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2FE74F6-C0AF-41F0-96CA-63DDD10C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C1C0A2D-3BF9-4776-BFAD-F6E91A43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A170-9E28-434F-930E-6ECD3FF6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11355D-FE44-4F55-812B-248BE5EC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99CBCE-9C6C-4341-A32D-DBF1549D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46F26E-EB3C-4767-AFD6-666F8EB6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BED6C0-D8A7-499B-9B59-EC3103B3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DE1916-CE5B-4599-AA07-CB3FEA8A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62FC48-6045-42E7-9A43-6208F345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D9F513-75FA-43DD-B9DB-C31101F6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F1E099-3194-4688-A4C7-66E120A7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665ED2-9EAC-4272-8B19-50CE0D21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0C2DE8-4314-4689-8161-BEBC8CC1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0C27-59E9-4CB2-8E63-4AB445CB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B159E9-C91C-4220-9396-0C7EA410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E0FB6C-FC3C-4147-8146-3632BB69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F5E811-78B5-4375-8437-8F62FCB5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8FC214-AEAE-4813-A059-8744D95B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6F0396-8657-4CD3-ABA7-92FC81B6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0CB01B-8819-4853-B299-B4749776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029215-D0B1-4EF8-929C-BF3D3C70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7CA19D-285E-4C14-BA02-1C431DC0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9FEABF-0261-4166-9ADC-99B2299A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64121F-3D1E-405B-B1B7-5EDCCA09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B438-B421-48B7-8941-5317DF24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0FBE-E3D5-400B-AB4A-BF25095D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262B36-5C70-41B8-8DA0-865DF73B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9E6988-2AB7-4C76-AABC-0B461842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9DDEB0-5E7E-4F0A-A721-43C43DF0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901C55-B9FA-4398-A940-508FB36E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2474B2-8428-4F2B-8AFD-04B6CD7A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B9BBF3-CD4C-4B76-BF24-0E121168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2CBC7D-B32D-4ECB-A03D-9DA97D76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8AD057-9047-4217-B848-000F27DE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24C231-4BD8-4308-AF7C-882A4414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678AB8-3EEB-487F-AD89-53976DC5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96D1-3B7A-4342-993F-18F9BD20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16D877-0329-4BC2-9D92-EC1D513E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30CF45-09D2-4FD8-8841-B7601704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2EAA1A-3FA7-4B0A-BD9D-CB655E79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097F60-8EDF-4AFB-B187-75EDC860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850F87-7364-403C-9D9E-852B06E2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940542-EE21-4F71-A881-C84DA280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36249E-E335-4A1A-BCFD-F8631E03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6BF4564-C296-458C-BCAA-7D72FBAC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974658B-CBA8-4BED-98DE-998A713B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9AE2845-1633-4D67-8DCD-6FC61326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0A96-CE73-4227-ADEF-2F46D1DD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7961DF6-D6BC-45F0-8131-FC4E7A8D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210E4C8-5908-43D7-BB6E-9A956542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B191866-6B82-4327-9CD9-D09F1A57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6163371-31D8-4217-BA48-EC13157E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FC40B92-4163-4852-9204-24105C6C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B148ED3-7CA1-441D-BBBB-9EFD80A8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588F7A8-E25D-4018-AC47-0BDE8B29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7FB175B-2430-42B7-A82A-449E0216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0D22A12-1903-4888-BB54-F8378CC2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AFE2A3-CD62-4D3D-8F3F-6A9547C3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514B-14A9-4FB7-A257-9EEB780D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137B9F-AD9B-4A38-91B8-C1AC97A7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BCC38F-A1E8-4572-B9AE-DD8AB824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90B326-FAAA-4DAD-AA53-49D38826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6B8AC8-ED33-4F34-B662-EFC5B5D0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ADC0A0-C52F-4DBE-844C-FFDD47F3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A7E9CB-ED6F-414D-A7F4-97A7764C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6D131C-4042-45F6-B194-DC217309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A6191F-0513-45F4-A30A-4644EC6E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C2F821-C44D-4FFD-AF86-A634C592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06639D-56E5-4359-8551-C00BF19F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D527-0D96-4811-A786-900A1EB7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2A3488-1D6D-48D5-913A-C5B258EB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2BD53C0-DEBE-4390-B700-AC3A1EDB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D34CDCE-B16A-4EDF-A068-5E9A8C14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A9AA89D-C2C6-4CB0-871D-73EF0C75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498C0DE-F3A0-448E-8744-88B6ACB9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9333D29-0B88-4388-875F-01F4282D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DA79D4D-97D1-450C-AEEB-00119199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E70B72C-8B3F-45C6-BF70-DB3FE5E2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69995B9-B611-4D6B-8D39-F87AF06F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99FBEFA-4086-48EF-AEA2-5D4B7E46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73A51-FBF6-42A1-BAEF-A8B037C3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BA3CA5F-332E-46B0-BBB1-FA8910F6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2BB8F69-D3AC-4BEC-9012-D63C132D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519938F-247D-40EE-960D-00DD114B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59F5FA8-F170-4E1C-8984-C691F5F8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8D6846D-A644-49C7-B709-33F80C22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E9216C2-E8CE-45F4-9CEB-B2A564B5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B00FCBE-782A-422F-A214-47664FDB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FAC2F9A-1BEA-45BC-BF42-A74D96BD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D909E84-53BA-487E-B38A-AABA6F45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D0C26B3-413F-45BF-A522-9269B7FE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265E6-D63A-4838-8A8E-9A3FE597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82E344B-6E2A-4530-9CB7-493BE532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382C577-B339-4EB3-83BA-E966769A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5E885ED-A204-487C-9477-CDE7C54C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2767E92-5976-4074-95ED-404F3084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B85B5A7-3EB4-43AF-919D-257C9E55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60AD33-0AD9-4C8D-B588-0B7ECCA9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C7D35C-A9E3-4900-AD64-9D01C577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7F2505-76FB-4BF5-ACD6-114F900F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51D196-CBD3-437B-A50E-DF76CF65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ABAA4D-FE39-4FE5-B1F7-A4F6702A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1D95C-2A1C-4A49-969E-EEAEEC44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5A9168-18D3-4B4B-BB20-8A21662E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77352D-9D6F-44AF-A61F-4B2581F9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441F2D-86FD-4F60-8A4A-2E8585DB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3CF07F-C21B-4127-B06C-F1346CB6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0FF931-F7FE-4FAE-9E87-72A31868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847667-5ADD-4854-9667-20A28D32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160618-2FF4-4E6D-BAA4-CFF0B927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59BFA5-FAAF-457B-A30C-0F88F428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E01183-3977-4AC0-9BF9-47CF13E3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43361A-B69F-4BB9-868A-124D06CD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D80ED-F9D3-497A-8C97-393859E5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5BE181-E8B1-446C-8B3E-65902A10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B52D4F-2EBD-4BDC-AFB5-C0721DD7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CC6FB1-82B8-40B8-BBDB-CC35715A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76CF79-683E-43E3-B38B-D280F261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F24609-633B-44A3-B052-52564076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AE0551-150F-43F5-9584-69C15900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1E54F0-5644-4583-8378-ABED58B2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CCFEF5-70EE-49FD-9B33-FD35337F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AD11BF-5CB8-48D1-B9AF-AE32B68C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975B2-E338-4F25-8315-36BA6F21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EC0B-4E5A-4BF5-A61A-6853FCA5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50198-0999-4027-BA12-481BACFA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2CCA1-1B61-4599-B377-FB5A84A8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B7D4F-D8A8-41F3-9618-AAACF9D8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204CB-610F-4F66-8FF5-43FDF409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63342-5F95-42AF-B8FA-7440E1B1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CD2C5-E682-46F5-8398-EBF232D1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80F14-28AA-4FD8-A353-DB4E3F1A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00661-E93E-41A9-9AD0-04CA6006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6F1CD-9F0E-4D71-BADB-C181B183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29D55-0E39-476F-B05D-5603DD73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52B8-98AA-41F4-957F-D8F73505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CA747-07DF-446F-A115-D1A92A5E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CC6F9-3C14-4740-89B1-FCD1F4D5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B1299-269D-4290-9330-E2ECF7D7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49AA9-85E7-4700-BDC3-36C781D6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957AC-9B18-4AA1-A636-B4046059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6221B-3EF1-49F5-AE2E-7F3FF0BA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2138E-2D94-4B2A-9E7F-129B38AF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7B1D9-153F-44F4-A206-B97C6595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DBCD6-4EF9-4CBE-B76D-60EF78DF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8AEF1-AE37-48BE-99B4-3C16FE35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B400-3093-40F0-BF56-36AE6EF2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91088-94D9-4114-A318-AF0B8BA3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D157A-25D0-404D-9766-248BF564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5CD44-0993-4026-9F10-53D1EA8D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D551F-8ADF-4B72-934A-37463073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F10CD-AB93-4338-976F-B688165C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D754A-C29A-428C-A6C1-AB5C0B64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07606-6909-4DB1-9883-1BB9FE1C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639D1-96E9-4716-9E06-212C2F4B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6DE8D-F9C6-4F0D-943A-0434D21A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E4490-35E7-4C72-8A30-4C7BE45D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5938-A2BB-4C0C-8982-A98DF22A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37325-8B65-4B22-A817-840C3B05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FDF34-B507-4516-9BAA-79806CFC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C3C83-F716-4BFA-B6BD-70862818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D2517-9DCB-4B0A-B588-21793E4D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87C67-C052-4BA5-83C8-0B29FF1C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7F7CC-F168-4B56-A0C3-60AEDB69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37056-7396-4483-B042-61D988AF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3D051-780D-420D-8A7B-0245F616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8CE59-931D-4D47-B6F3-38BA44B6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EED5B-C689-406D-91EB-B00B336C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030D-2BA5-40E2-BC7A-0EAB5BC6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38EE0-460D-4926-81C6-11F4B055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5DC06-9D32-4396-BACF-0A9792DF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B0DB5-5A73-4966-8C12-7D9A6F33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39632-DB7E-41A3-8B3A-5DBB728F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2666E-770C-42A3-AF9E-EB46A28B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D96C3-C28B-4A0D-8CC5-8D82F200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EDBD1-5B69-44F9-8B82-070A38EE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80A7F-4A95-41B2-9187-45F5F5FA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5B917-D4D8-465F-A6BE-1283C50C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E485F-2D04-4412-AC66-854E9359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A3A8-E920-4BF1-A126-E6525D41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2BA54-C62D-410D-AAEC-7B7F9A31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D9F5E-9726-4381-9366-A776E967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013D1-69E5-4103-91F9-5B3BE588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7A723-C86B-41A8-9DA7-913884BC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60582-4261-4783-A83D-BEB136B5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30752-7B93-4745-B1E4-E4FB1EB5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997CD-A51A-461D-ADA3-9832C874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5D33D-E34A-48AD-927C-FFA69889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2FDA8-8E3B-42EB-B322-A57AD254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E6C44-AAE0-4BFD-ABBD-2CC682C3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1BC0-B13A-4683-AC27-530C58E3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543E8-E04F-4380-BADC-E3B4BEDA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41D27-8E11-435D-A181-73487D0D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9CC82-A1A4-4A2F-89CD-3AE7A8AC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83AC8-68C1-4754-AC4F-4FD0E26F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D7B25-001C-442B-A3D2-BB74827E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547CA-3D25-43B8-B7B3-B870CF48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F7362-6261-4A5D-A967-C0E1191D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018FD-DDEE-4210-B589-B5643B6D3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1EA0A-74D4-4616-99A1-D92870D3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2E9F9-5E1F-489D-9FF6-EC6A4864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4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8996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9FFC-AC1C-4E36-BB9E-B7BC61236BB3}" type="slidenum">
              <a:rPr b="0" lang="ru-RU" sz="1200" spc="-1" strike="noStrike">
                <a:solidFill>
                  <a:srgbClr val="ba89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4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8996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4BFC-6CB9-4C76-BBC2-CFB2261F13BF}" type="slidenum">
              <a:rPr b="0" lang="ru-RU" sz="1200" spc="-1" strike="noStrike">
                <a:solidFill>
                  <a:srgbClr val="ba89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4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8996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2409-3221-4C98-98E9-D5A977192C38}" type="slidenum">
              <a:rPr b="0" lang="ru-RU" sz="1200" spc="-1" strike="noStrike">
                <a:solidFill>
                  <a:srgbClr val="ba89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4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8996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E623-A362-4FBF-8388-0B2F6CB20A9B}" type="slidenum">
              <a:rPr b="0" lang="ru-RU" sz="1200" spc="-1" strike="noStrike">
                <a:solidFill>
                  <a:srgbClr val="ba89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4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8996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A350-1F94-4BA3-9D3D-C517A7A77338}" type="slidenum">
              <a:rPr b="0" lang="ru-RU" sz="1200" spc="-1" strike="noStrike">
                <a:solidFill>
                  <a:srgbClr val="ba89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40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41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42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43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44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45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46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47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48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49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50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51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52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53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54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55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56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57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58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59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60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40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41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42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2AFF-AE5A-4F46-9701-9B044E07BEF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03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0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0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0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0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sldNum" idx="4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77F1-EBF0-4923-8E8F-6806FEC4A1B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ftr" idx="4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50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51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52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53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54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55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56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57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58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59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60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61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62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63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64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65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66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67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68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69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70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6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7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8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C923-442F-40EA-9958-D031652497B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713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71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71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71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71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4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5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5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3E92-3C41-4366-9EEF-EA2B1878193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760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761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762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763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764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5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5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5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EEC7-EEBF-4391-AF18-5DA22F42ABE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807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808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809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810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811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dt" idx="5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sldNum" idx="5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E6AF-A668-4590-8B62-2CBD3C088C9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 type="ftr" idx="5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4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4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4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4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BE01-1450-4633-B000-A719095292A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854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855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856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857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858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5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5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6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3097-D100-44AD-AE0B-BC7B00F6F15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0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0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0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0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0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06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07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08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09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10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11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12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6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sldNum" idx="6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F2C4-D539-4805-8B1F-A8C29F8FAB5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ftr" idx="6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5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5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5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5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5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60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61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62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63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64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65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66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 type="dt" idx="6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 type="sldNum" idx="6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88A5-545D-4238-831D-32752F68F77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 type="ftr" idx="6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0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0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0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0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0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6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6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 type="sldNum" idx="6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44D9-D384-4A44-AFB0-007D36D225A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05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05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05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05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06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 type="dt" idx="7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 type="ftr" idx="7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 type="sldNum" idx="7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44D7-0AF0-4E39-91F7-67C5344ADF1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4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8996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D99B-8BA2-46A9-B4CE-4094779B5FEB}" type="slidenum">
              <a:rPr b="0" lang="ru-RU" sz="1200" spc="-1" strike="noStrike">
                <a:solidFill>
                  <a:srgbClr val="ba89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4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8996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3E03-2B39-4810-90A2-9E0910ED4782}" type="slidenum">
              <a:rPr b="0" lang="ru-RU" sz="1200" spc="-1" strike="noStrike">
                <a:solidFill>
                  <a:srgbClr val="ba89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4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8996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3743-DB22-4D73-A214-C68A81F71ACD}" type="slidenum">
              <a:rPr b="0" lang="ru-RU" sz="1200" spc="-1" strike="noStrike">
                <a:solidFill>
                  <a:srgbClr val="ba89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4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8996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A2BD-36CB-4532-8D1C-E99DDC9C8C46}" type="slidenum">
              <a:rPr b="0" lang="ru-RU" sz="1200" spc="-1" strike="noStrike">
                <a:solidFill>
                  <a:srgbClr val="ba89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4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8996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0B6B-0DFD-4E70-BC22-C8AE1DCF3A33}" type="slidenum">
              <a:rPr b="0" lang="ru-RU" sz="1200" spc="-1" strike="noStrike">
                <a:solidFill>
                  <a:srgbClr val="ba89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4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8996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2392-D4B9-49E2-80BA-52188B973608}" type="slidenum">
              <a:rPr b="0" lang="ru-RU" sz="1200" spc="-1" strike="noStrike">
                <a:solidFill>
                  <a:srgbClr val="ba89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4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4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8996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9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877B-1B6E-48A3-ACF6-B585D96AB7AF}" type="slidenum">
              <a:rPr b="0" lang="ru-RU" sz="1200" spc="-1" strike="noStrike">
                <a:solidFill>
                  <a:srgbClr val="ba89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285560" y="285480"/>
            <a:ext cx="6357960" cy="3314520"/>
          </a:xfrm>
          <a:prstGeom prst="rect">
            <a:avLst/>
          </a:prstGeom>
          <a:gradFill rotWithShape="0">
            <a:gsLst>
              <a:gs pos="0">
                <a:srgbClr val="cbff9b"/>
              </a:gs>
              <a:gs pos="100000">
                <a:srgbClr val="f0ffe3"/>
              </a:gs>
            </a:gsLst>
            <a:lin ang="16200000"/>
          </a:gradFill>
          <a:ln w="381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4c"/>
                </a:solidFill>
                <a:latin typeface="Times New Roman"/>
                <a:ea typeface="Times New Roman"/>
              </a:rPr>
              <a:t>Методическая разработка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9004c"/>
                </a:solidFill>
                <a:latin typeface="Times New Roman"/>
                <a:ea typeface="Times New Roman"/>
              </a:rPr>
              <a:t>ДЕТСКИЙ ФОЛЬКЛОР КАК СРЕДСТВО</a:t>
            </a:r>
            <a:br>
              <a:rPr sz="2400"/>
            </a:br>
            <a:r>
              <a:rPr b="1" lang="ru-RU" sz="2400" spc="-1" strike="noStrike">
                <a:solidFill>
                  <a:srgbClr val="99004c"/>
                </a:solidFill>
                <a:latin typeface="Times New Roman"/>
                <a:ea typeface="Times New Roman"/>
              </a:rPr>
              <a:t>ВОСПИТАНИЯ НРАВСТВЕННЫХ КАЧЕСТВ</a:t>
            </a:r>
            <a:br>
              <a:rPr sz="2400"/>
            </a:br>
            <a:r>
              <a:rPr b="1" lang="ru-RU" sz="2400" spc="-1" strike="noStrike">
                <a:solidFill>
                  <a:srgbClr val="99004c"/>
                </a:solidFill>
                <a:latin typeface="Times New Roman"/>
                <a:ea typeface="Times New Roman"/>
              </a:rPr>
              <a:t>МЛАДШИХ ДОШКОЛЬНИКОВ</a:t>
            </a:r>
            <a:br>
              <a:rPr sz="2400"/>
            </a:br>
            <a:endParaRPr b="0" lang="en-US" sz="2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2087640" y="3789000"/>
            <a:ext cx="4968720" cy="2235240"/>
          </a:xfrm>
          <a:prstGeom prst="rect">
            <a:avLst/>
          </a:prstGeom>
          <a:solidFill>
            <a:srgbClr val="d3ecb9"/>
          </a:solidFill>
          <a:ln w="38160">
            <a:solidFill>
              <a:srgbClr val="25127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Голубковой Наталии Владимировны</a:t>
            </a:r>
            <a:endParaRPr b="0" lang="en-US" sz="16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воспитателя МДОУ №11 «Колокольчик»</a:t>
            </a:r>
            <a:endParaRPr b="0" lang="en-US" sz="16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г. Тутаева</a:t>
            </a:r>
            <a:endParaRPr b="0" lang="en-US" sz="16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Научный руководитель:</a:t>
            </a:r>
            <a:endParaRPr b="0" lang="en-US" sz="16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         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Наумова Наталия Николаевна</a:t>
            </a:r>
            <a:endParaRPr b="0" lang="en-US" sz="16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        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реподаватель ГОАУ СПО ЯО</a:t>
            </a:r>
            <a:endParaRPr b="0" lang="en-US" sz="16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Рыбинского педколледжа</a:t>
            </a:r>
            <a:endParaRPr b="0" lang="en-US" sz="16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4c"/>
              </a:solidFill>
              <a:latin typeface="Calibri"/>
            </a:endParaRPr>
          </a:p>
        </p:txBody>
      </p:sp>
    </p:spTree>
  </p:cSld>
  <p:transition spd="slow" advTm="4000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4040280" cy="1873440"/>
          </a:xfrm>
          <a:prstGeom prst="rect">
            <a:avLst/>
          </a:prstGeom>
          <a:solidFill>
            <a:srgbClr val="d3ecb9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езультаты начальной диагностики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зучения эмоционального отношения детей младшей группы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 к нравственным нормам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ентябрь 2012г</a:t>
            </a:r>
            <a:endParaRPr b="0" lang="en-US" sz="18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643280" y="260280"/>
            <a:ext cx="4042080" cy="1843200"/>
          </a:xfrm>
          <a:prstGeom prst="rect">
            <a:avLst/>
          </a:prstGeom>
          <a:solidFill>
            <a:srgbClr val="d3ecb9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Результаты начальной диагностики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«Приобщение детей младшей группы к элементарным общепринятым нормам и правилам взаимоотношения со сверстниками и взрослыми (в том числе моральными)» 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ентябрь 2012г</a:t>
            </a:r>
            <a:endParaRPr b="0" lang="en-US" sz="1600" spc="-1" strike="noStrike">
              <a:solidFill>
                <a:srgbClr val="99004c"/>
              </a:solidFill>
              <a:latin typeface="Calibri"/>
            </a:endParaRPr>
          </a:p>
        </p:txBody>
      </p:sp>
      <p:pic>
        <p:nvPicPr>
          <p:cNvPr id="1131" name="Диаграмма 3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4040280" cy="3613320"/>
          </a:xfrm>
          <a:prstGeom prst="rect">
            <a:avLst/>
          </a:prstGeom>
          <a:ln w="9360">
            <a:solidFill>
              <a:srgbClr val="251278"/>
            </a:solidFill>
            <a:miter/>
          </a:ln>
        </p:spPr>
      </p:pic>
      <p:pic>
        <p:nvPicPr>
          <p:cNvPr id="1132" name="Диаграмма 4" descr=""/>
          <p:cNvPicPr/>
          <p:nvPr/>
        </p:nvPicPr>
        <p:blipFill>
          <a:blip r:embed="rId2"/>
          <a:stretch/>
        </p:blipFill>
        <p:spPr>
          <a:xfrm>
            <a:off x="4645080" y="2370240"/>
            <a:ext cx="4041720" cy="3591000"/>
          </a:xfrm>
          <a:prstGeom prst="rect">
            <a:avLst/>
          </a:prstGeom>
          <a:ln w="9360">
            <a:solidFill>
              <a:srgbClr val="251278"/>
            </a:solidFill>
            <a:miter/>
          </a:ln>
        </p:spPr>
      </p:pic>
    </p:spTree>
  </p:cSld>
  <p:transition spd="slow" advTm="4000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solidFill>
            <a:srgbClr val="d3ecb9"/>
          </a:solidFill>
          <a:ln w="381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400" spc="-1" strike="noStrike">
                <a:solidFill>
                  <a:srgbClr val="99004c"/>
                </a:solidFill>
                <a:latin typeface="Calibri"/>
              </a:rPr>
              <a:t>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9004c"/>
                </a:solidFill>
                <a:latin typeface="Calibri"/>
              </a:rPr>
              <a:t>Результаты начальной диагностики </a:t>
            </a:r>
            <a:br>
              <a:rPr sz="2400"/>
            </a:br>
            <a:r>
              <a:rPr b="1" lang="ru-RU" sz="2400" spc="-1" strike="noStrike">
                <a:solidFill>
                  <a:srgbClr val="99004c"/>
                </a:solidFill>
                <a:latin typeface="Calibri"/>
              </a:rPr>
              <a:t>«Формирование интереса и потребности в чтении </a:t>
            </a:r>
            <a:br>
              <a:rPr sz="2400"/>
            </a:br>
            <a:r>
              <a:rPr b="1" lang="ru-RU" sz="2400" spc="-1" strike="noStrike">
                <a:solidFill>
                  <a:srgbClr val="99004c"/>
                </a:solidFill>
                <a:latin typeface="Calibri"/>
              </a:rPr>
              <a:t> у детей младшей группы»</a:t>
            </a:r>
            <a:br>
              <a:rPr sz="1600"/>
            </a:br>
            <a:br>
              <a:rPr sz="1600"/>
            </a:br>
            <a:endParaRPr b="0" lang="en-US" sz="2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35" name="Скругленный прямоугольник 3"/>
          <p:cNvSpPr/>
          <p:nvPr/>
        </p:nvSpPr>
        <p:spPr>
          <a:xfrm>
            <a:off x="611280" y="1773360"/>
            <a:ext cx="8137440" cy="4751280"/>
          </a:xfrm>
          <a:prstGeom prst="roundRect">
            <a:avLst>
              <a:gd name="adj" fmla="val 16667"/>
            </a:avLst>
          </a:prstGeom>
          <a:solidFill>
            <a:srgbClr val="d3ecb9"/>
          </a:solidFill>
          <a:ln w="381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1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graphicFrame>
        <p:nvGraphicFramePr>
          <p:cNvPr id="1137" name="Диаграмма 6"/>
          <p:cNvGraphicFramePr/>
          <p:nvPr/>
        </p:nvGraphicFramePr>
        <p:xfrm>
          <a:off x="2484360" y="2060640"/>
          <a:ext cx="4446720" cy="4076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8" name="Диаграмма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2060640"/>
                    <a:ext cx="444672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9" name="Rectangle 5"/>
          <p:cNvSpPr/>
          <p:nvPr/>
        </p:nvSpPr>
        <p:spPr>
          <a:xfrm>
            <a:off x="0" y="524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</p:spTree>
  </p:cSld>
  <p:transition spd="slow" advTm="4000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Скругленный прямоугольник 3"/>
          <p:cNvSpPr/>
          <p:nvPr/>
        </p:nvSpPr>
        <p:spPr>
          <a:xfrm>
            <a:off x="755640" y="981000"/>
            <a:ext cx="7704000" cy="4464000"/>
          </a:xfrm>
          <a:prstGeom prst="roundRect">
            <a:avLst>
              <a:gd name="adj" fmla="val 16667"/>
            </a:avLst>
          </a:prstGeom>
          <a:solidFill>
            <a:srgbClr val="d3ecb9"/>
          </a:solidFill>
          <a:ln w="255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141" name="Rectangle 1"/>
          <p:cNvSpPr/>
          <p:nvPr/>
        </p:nvSpPr>
        <p:spPr>
          <a:xfrm>
            <a:off x="1258920" y="1188360"/>
            <a:ext cx="6905520" cy="3812400"/>
          </a:xfrm>
          <a:prstGeom prst="rect">
            <a:avLst/>
          </a:prstGeom>
          <a:solidFill>
            <a:srgbClr val="d3e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1278"/>
                </a:solidFill>
                <a:latin typeface="Times New Roman"/>
                <a:ea typeface="Calibri"/>
              </a:rPr>
              <a:t>Перспективное планирование работы по воспитанию нравственных качеств </a:t>
            </a:r>
            <a:endParaRPr b="0" lang="en-US" sz="3600" spc="-1" strike="noStrike">
              <a:solidFill>
                <a:srgbClr val="9900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1278"/>
                </a:solidFill>
                <a:latin typeface="Times New Roman"/>
                <a:ea typeface="Calibri"/>
              </a:rPr>
              <a:t>у младших дошкольников посредством детского фольклора</a:t>
            </a:r>
            <a:endParaRPr b="0" lang="en-US" sz="3600" spc="-1" strike="noStrike">
              <a:solidFill>
                <a:srgbClr val="9900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1278"/>
                </a:solidFill>
                <a:latin typeface="Times New Roman"/>
                <a:ea typeface="Calibri"/>
              </a:rPr>
              <a:t>(Приложение 11)</a:t>
            </a:r>
            <a:endParaRPr b="0" lang="en-US" sz="2800" spc="-1" strike="noStrike">
              <a:solidFill>
                <a:srgbClr val="99004c"/>
              </a:solidFill>
              <a:latin typeface="Arial"/>
            </a:endParaRPr>
          </a:p>
        </p:txBody>
      </p:sp>
    </p:spTree>
  </p:cSld>
  <p:transition spd="slow" advTm="4000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4040280" cy="1511280"/>
          </a:xfrm>
          <a:prstGeom prst="rect">
            <a:avLst/>
          </a:prstGeom>
          <a:solidFill>
            <a:srgbClr val="d3ecb9"/>
          </a:solidFill>
          <a:ln w="9360">
            <a:solidFill>
              <a:srgbClr val="251278"/>
            </a:solidFill>
            <a:miter/>
          </a:ln>
        </p:spPr>
        <p:txBody>
          <a:bodyPr anchor="b">
            <a:normAutofit fontScale="68000"/>
          </a:bodyPr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4c"/>
                </a:solidFill>
                <a:latin typeface="Calibri"/>
              </a:rPr>
              <a:t>Результаты промежуточной диагностики  эмоционального отношения детей младшей группы к нравственным нормам</a:t>
            </a:r>
            <a:endParaRPr b="0" lang="en-US" sz="18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4c"/>
                </a:solidFill>
                <a:latin typeface="Calibri"/>
              </a:rPr>
              <a:t>(февраль 2013 года)</a:t>
            </a:r>
            <a:endParaRPr b="0" lang="en-US" sz="1800" spc="-1" strike="noStrike">
              <a:solidFill>
                <a:srgbClr val="99004c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716000" y="404280"/>
            <a:ext cx="4041720" cy="1359000"/>
          </a:xfrm>
          <a:prstGeom prst="rect">
            <a:avLst/>
          </a:prstGeom>
          <a:solidFill>
            <a:srgbClr val="d3ecb9"/>
          </a:solidFill>
          <a:ln w="9360">
            <a:solidFill>
              <a:srgbClr val="251278"/>
            </a:solidFill>
            <a:miter/>
          </a:ln>
        </p:spPr>
        <p:txBody>
          <a:bodyPr anchor="b">
            <a:normAutofit fontScale="95000"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4c"/>
                </a:solidFill>
                <a:latin typeface="Calibri"/>
              </a:rPr>
              <a:t>Результаты промежуточной диагностики (февраль 2013г.) </a:t>
            </a:r>
            <a:endParaRPr b="0" lang="en-US" sz="1400" spc="-1" strike="noStrike">
              <a:solidFill>
                <a:srgbClr val="99004c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4c"/>
                </a:solidFill>
                <a:latin typeface="Calibri"/>
              </a:rPr>
              <a:t>«Приобщение детей младшей группы к элементарным общепринятым нормам и правилам взаимоотношения со сверстниками и взрослыми (в том числе моральными)»</a:t>
            </a:r>
            <a:endParaRPr b="0" lang="en-US" sz="1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pic>
        <p:nvPicPr>
          <p:cNvPr id="1145" name="Picture 1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3951360" cy="3528720"/>
          </a:xfrm>
          <a:prstGeom prst="rect">
            <a:avLst/>
          </a:prstGeom>
          <a:ln w="9360">
            <a:solidFill>
              <a:srgbClr val="251278"/>
            </a:solidFill>
            <a:miter/>
          </a:ln>
        </p:spPr>
      </p:pic>
      <p:sp>
        <p:nvSpPr>
          <p:cNvPr id="11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pic>
        <p:nvPicPr>
          <p:cNvPr id="1147" name="Picture 3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4032360" cy="3528720"/>
          </a:xfrm>
          <a:prstGeom prst="rect">
            <a:avLst/>
          </a:prstGeom>
          <a:ln w="9360">
            <a:solidFill>
              <a:srgbClr val="251278"/>
            </a:solidFill>
            <a:miter/>
          </a:ln>
        </p:spPr>
      </p:pic>
    </p:spTree>
  </p:cSld>
  <p:transition spd="slow" advTm="4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8" name="Object 1"/>
          <p:cNvGraphicFramePr/>
          <p:nvPr/>
        </p:nvGraphicFramePr>
        <p:xfrm>
          <a:off x="611280" y="2276640"/>
          <a:ext cx="3816360" cy="41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76640"/>
                    <a:ext cx="381636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0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4040280" cy="1698480"/>
          </a:xfrm>
          <a:prstGeom prst="rect">
            <a:avLst/>
          </a:prstGeom>
          <a:solidFill>
            <a:srgbClr val="d3ecb9"/>
          </a:solidFill>
          <a:ln w="9360">
            <a:solidFill>
              <a:srgbClr val="251278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4c"/>
                </a:solidFill>
                <a:latin typeface="Calibri"/>
              </a:rPr>
              <a:t>Сравнительные результаты изучения эмоционального отношения детей младшей группы к нравственным нормам</a:t>
            </a:r>
            <a:endParaRPr b="0" lang="en-US" sz="1600" spc="-1" strike="noStrike">
              <a:solidFill>
                <a:srgbClr val="99004c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644720" y="476280"/>
            <a:ext cx="4041720" cy="1698480"/>
          </a:xfrm>
          <a:prstGeom prst="rect">
            <a:avLst/>
          </a:prstGeom>
          <a:solidFill>
            <a:srgbClr val="d3ecb9"/>
          </a:solidFill>
          <a:ln w="9360">
            <a:solidFill>
              <a:srgbClr val="251278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4c"/>
                </a:solidFill>
                <a:latin typeface="Calibri"/>
              </a:rPr>
              <a:t>Сравнительные результаты   «Приобщение детей младшей группы к элементарным общепринятым нормам и правилам взаимоотношения со сверстниками и взрослыми (в том числе моральными)»</a:t>
            </a:r>
            <a:endParaRPr b="0" lang="en-US" sz="1600" spc="-1" strike="noStrike">
              <a:solidFill>
                <a:srgbClr val="99004c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153" name="Rectangle 3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sp>
        <p:nvSpPr>
          <p:cNvPr id="115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graphicFrame>
        <p:nvGraphicFramePr>
          <p:cNvPr id="1155" name="Object 4"/>
          <p:cNvGraphicFramePr/>
          <p:nvPr/>
        </p:nvGraphicFramePr>
        <p:xfrm>
          <a:off x="4643280" y="2276640"/>
          <a:ext cx="4092840" cy="4105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2276640"/>
                    <a:ext cx="409284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7" name="Rectangle 6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</p:spTree>
  </p:cSld>
  <p:transition spd="slow" advTm="4000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8" name="Picture 2" descr="P1180893"/>
          <p:cNvPicPr/>
          <p:nvPr/>
        </p:nvPicPr>
        <p:blipFill>
          <a:blip r:embed="rId1"/>
          <a:stretch/>
        </p:blipFill>
        <p:spPr>
          <a:xfrm>
            <a:off x="826920" y="333360"/>
            <a:ext cx="3654720" cy="32400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1159" name="Picture 3" descr="P1180688"/>
          <p:cNvPicPr/>
          <p:nvPr/>
        </p:nvPicPr>
        <p:blipFill>
          <a:blip r:embed="rId2"/>
          <a:stretch/>
        </p:blipFill>
        <p:spPr>
          <a:xfrm>
            <a:off x="4932360" y="333360"/>
            <a:ext cx="3743280" cy="31669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1160" name="Picture 4" descr="P1180906"/>
          <p:cNvPicPr/>
          <p:nvPr/>
        </p:nvPicPr>
        <p:blipFill>
          <a:blip r:embed="rId3"/>
          <a:stretch/>
        </p:blipFill>
        <p:spPr>
          <a:xfrm>
            <a:off x="826920" y="3860640"/>
            <a:ext cx="3745080" cy="27370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1161" name="Picture 5" descr="P1180651"/>
          <p:cNvPicPr/>
          <p:nvPr/>
        </p:nvPicPr>
        <p:blipFill>
          <a:blip r:embed="rId4"/>
          <a:stretch/>
        </p:blipFill>
        <p:spPr>
          <a:xfrm>
            <a:off x="5076720" y="3860640"/>
            <a:ext cx="3598920" cy="27021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p:transition spd="slow" advTm="4000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2" name="Picture 2" descr="P1120365"/>
          <p:cNvPicPr/>
          <p:nvPr/>
        </p:nvPicPr>
        <p:blipFill>
          <a:blip r:embed="rId1"/>
          <a:stretch/>
        </p:blipFill>
        <p:spPr>
          <a:xfrm>
            <a:off x="826920" y="907920"/>
            <a:ext cx="3619800" cy="2716200"/>
          </a:xfrm>
          <a:prstGeom prst="rect">
            <a:avLst/>
          </a:prstGeom>
          <a:ln w="57240">
            <a:solidFill>
              <a:srgbClr val="005878"/>
            </a:solidFill>
            <a:miter/>
          </a:ln>
        </p:spPr>
      </p:pic>
      <p:pic>
        <p:nvPicPr>
          <p:cNvPr id="1163" name="Picture 3" descr="DSCN0509"/>
          <p:cNvPicPr/>
          <p:nvPr/>
        </p:nvPicPr>
        <p:blipFill>
          <a:blip r:embed="rId2"/>
          <a:stretch/>
        </p:blipFill>
        <p:spPr>
          <a:xfrm>
            <a:off x="4716360" y="333360"/>
            <a:ext cx="3783240" cy="2832120"/>
          </a:xfrm>
          <a:prstGeom prst="rect">
            <a:avLst/>
          </a:prstGeom>
          <a:ln w="57240">
            <a:solidFill>
              <a:srgbClr val="005878"/>
            </a:solidFill>
            <a:miter/>
          </a:ln>
        </p:spPr>
      </p:pic>
      <p:pic>
        <p:nvPicPr>
          <p:cNvPr id="1164" name="Picture 4" descr="P1180528"/>
          <p:cNvPicPr/>
          <p:nvPr/>
        </p:nvPicPr>
        <p:blipFill>
          <a:blip r:embed="rId3"/>
          <a:stretch/>
        </p:blipFill>
        <p:spPr>
          <a:xfrm>
            <a:off x="3132000" y="3860640"/>
            <a:ext cx="3383280" cy="2536920"/>
          </a:xfrm>
          <a:prstGeom prst="rect">
            <a:avLst/>
          </a:prstGeom>
          <a:ln w="57240">
            <a:solidFill>
              <a:srgbClr val="005878"/>
            </a:solidFill>
            <a:miter/>
          </a:ln>
        </p:spPr>
      </p:pic>
    </p:spTree>
  </p:cSld>
  <p:transition spd="slow" advTm="4000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5" name="Picture 2" descr="P1180627"/>
          <p:cNvPicPr/>
          <p:nvPr/>
        </p:nvPicPr>
        <p:blipFill>
          <a:blip r:embed="rId1"/>
          <a:stretch/>
        </p:blipFill>
        <p:spPr>
          <a:xfrm>
            <a:off x="611280" y="333360"/>
            <a:ext cx="5113080" cy="3835440"/>
          </a:xfrm>
          <a:prstGeom prst="rect">
            <a:avLst/>
          </a:prstGeom>
          <a:ln w="57240">
            <a:solidFill>
              <a:srgbClr val="99004c"/>
            </a:solidFill>
            <a:miter/>
          </a:ln>
        </p:spPr>
      </p:pic>
      <p:pic>
        <p:nvPicPr>
          <p:cNvPr id="1166" name="Picture 3" descr="P1180642"/>
          <p:cNvPicPr/>
          <p:nvPr/>
        </p:nvPicPr>
        <p:blipFill>
          <a:blip r:embed="rId2"/>
          <a:stretch/>
        </p:blipFill>
        <p:spPr>
          <a:xfrm>
            <a:off x="4427640" y="3138480"/>
            <a:ext cx="4527360" cy="3386160"/>
          </a:xfrm>
          <a:prstGeom prst="rect">
            <a:avLst/>
          </a:prstGeom>
          <a:ln w="57240">
            <a:solidFill>
              <a:srgbClr val="e5e500"/>
            </a:solidFill>
            <a:miter/>
          </a:ln>
        </p:spPr>
      </p:pic>
    </p:spTree>
  </p:cSld>
  <p:transition spd="slow" advTm="4000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Скругленный прямоугольник 1"/>
          <p:cNvSpPr/>
          <p:nvPr/>
        </p:nvSpPr>
        <p:spPr>
          <a:xfrm>
            <a:off x="611280" y="549360"/>
            <a:ext cx="7993080" cy="5904000"/>
          </a:xfrm>
          <a:prstGeom prst="roundRect">
            <a:avLst>
              <a:gd name="adj" fmla="val 16667"/>
            </a:avLst>
          </a:prstGeom>
          <a:solidFill>
            <a:srgbClr val="d3ecb9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4c"/>
                </a:solidFill>
                <a:latin typeface="Arial"/>
              </a:rPr>
              <a:t>В детском фольклоре отражена сущность детства: видеть мир таким, каким он предстаёт перед миром ребёнка – без лукавства и фальши. В них заложена мудрость, проявляющаяся в умении несложными средствами решать сложные задачи. </a:t>
            </a:r>
            <a:endParaRPr b="0" lang="en-US" sz="3200" spc="-1" strike="noStrike">
              <a:solidFill>
                <a:srgbClr val="99004c"/>
              </a:solidFill>
              <a:latin typeface="Arial"/>
            </a:endParaRPr>
          </a:p>
        </p:txBody>
      </p:sp>
    </p:spTree>
  </p:cSld>
  <p:transition spd="slow" advTm="4000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Picture 3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69" name="Блок-схема: перфолента 8"/>
          <p:cNvSpPr/>
          <p:nvPr/>
        </p:nvSpPr>
        <p:spPr>
          <a:xfrm>
            <a:off x="1547640" y="1197000"/>
            <a:ext cx="6553440" cy="4535640"/>
          </a:xfrm>
          <a:prstGeom prst="flowChartPunchedTape">
            <a:avLst/>
          </a:prstGeom>
          <a:gradFill rotWithShape="0">
            <a:gsLst>
              <a:gs pos="0">
                <a:srgbClr val="eda3b5"/>
              </a:gs>
              <a:gs pos="100000">
                <a:srgbClr val="fae6eb"/>
              </a:gs>
            </a:gsLst>
            <a:lin ang="16200000"/>
          </a:gradFill>
          <a:ln w="9360">
            <a:solidFill>
              <a:srgbClr val="99004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4c"/>
              </a:solidFill>
              <a:latin typeface="Arial"/>
            </a:endParaRPr>
          </a:p>
        </p:txBody>
      </p:sp>
      <p:pic>
        <p:nvPicPr>
          <p:cNvPr id="1170" name="Прямоугольник 9" descr=""/>
          <p:cNvPicPr/>
          <p:nvPr/>
        </p:nvPicPr>
        <p:blipFill>
          <a:blip r:embed="rId2"/>
          <a:stretch/>
        </p:blipFill>
        <p:spPr>
          <a:xfrm>
            <a:off x="1676520" y="2365200"/>
            <a:ext cx="6467400" cy="1974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Picture 3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06" name=""/>
          <p:cNvSpPr txBox="1"/>
          <p:nvPr/>
        </p:nvSpPr>
        <p:spPr>
          <a:xfrm>
            <a:off x="428760" y="1285920"/>
            <a:ext cx="8400960" cy="4525920"/>
          </a:xfrm>
          <a:prstGeom prst="rect">
            <a:avLst/>
          </a:prstGeom>
          <a:gradFill rotWithShape="0">
            <a:gsLst>
              <a:gs pos="0">
                <a:srgbClr val="cbff9b"/>
              </a:gs>
              <a:gs pos="100000">
                <a:srgbClr val="f0ffe3"/>
              </a:gs>
            </a:gsLst>
            <a:lin ang="16200000"/>
          </a:gradFill>
          <a:ln w="38160">
            <a:solidFill>
              <a:srgbClr val="8fce4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4c"/>
                </a:solidFill>
                <a:latin typeface="Calibri"/>
              </a:rPr>
              <a:t>Фольклор – основное средство народной педагогики. </a:t>
            </a:r>
            <a:endParaRPr b="0" lang="en-US" sz="2400" spc="-1" strike="noStrike">
              <a:solidFill>
                <a:srgbClr val="99004c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4c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1278"/>
                </a:solidFill>
                <a:latin typeface="Calibri"/>
              </a:rPr>
              <a:t>«Есть одна только общая для всех прирожденная наклонность, на которую всегда может рассчитывать воспитание: это то, что мы называем народностью. Воспитание, созданное самим народом и основанное на народных началах, имеет ту воспитательную силу, которой нет в самых лучших системах, основанных на абстрактных идеях или заимствованных у другого народа»,— писал Ушинский. </a:t>
            </a:r>
            <a:endParaRPr b="0" lang="en-US" sz="2400" spc="-1" strike="noStrike">
              <a:solidFill>
                <a:srgbClr val="99004c"/>
              </a:solidFill>
              <a:latin typeface="Calibri"/>
            </a:endParaRPr>
          </a:p>
        </p:txBody>
      </p:sp>
    </p:spTree>
  </p:cSld>
  <p:transition spd="slow" advTm="4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Picture 3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bff9b"/>
              </a:gs>
              <a:gs pos="100000">
                <a:srgbClr val="f0ffe3"/>
              </a:gs>
            </a:gsLst>
            <a:lin ang="16200000"/>
          </a:gradFill>
          <a:ln w="38160">
            <a:solidFill>
              <a:srgbClr val="99004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4c"/>
                </a:solidFill>
                <a:latin typeface="Calibri"/>
              </a:rPr>
              <a:t>Проблема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solidFill>
            <a:srgbClr val="ffffcc"/>
          </a:solidFill>
          <a:ln w="38160">
            <a:solidFill>
              <a:srgbClr val="5433e1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81bb4"/>
                </a:solidFill>
                <a:latin typeface="Times New Roman"/>
                <a:ea typeface="Times New Roman"/>
              </a:rPr>
              <a:t>Как влияет детский фольклор на воспитание нравственных качеств младших дошкольников?</a:t>
            </a:r>
            <a:endParaRPr b="0" lang="en-US" sz="4000" spc="-1" strike="noStrike">
              <a:solidFill>
                <a:srgbClr val="99004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81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4c"/>
              </a:solidFill>
              <a:latin typeface="Calibri"/>
            </a:endParaRPr>
          </a:p>
        </p:txBody>
      </p:sp>
    </p:spTree>
  </p:cSld>
  <p:transition spd="slow" advTm="4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Picture 3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gradFill rotWithShape="0">
            <a:gsLst>
              <a:gs pos="0">
                <a:srgbClr val="cbff9b"/>
              </a:gs>
              <a:gs pos="100000">
                <a:srgbClr val="f0ffe3"/>
              </a:gs>
            </a:gsLst>
            <a:lin ang="16200000"/>
          </a:gradFill>
          <a:ln w="38160">
            <a:solidFill>
              <a:srgbClr val="99004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4c"/>
                </a:solidFill>
                <a:latin typeface="Calibri"/>
              </a:rPr>
              <a:t>Цель исследования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solidFill>
            <a:srgbClr val="ffffcc"/>
          </a:solidFill>
          <a:ln w="38160">
            <a:solidFill>
              <a:srgbClr val="5433e1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81bb4"/>
                </a:solidFill>
                <a:latin typeface="Times New Roman"/>
                <a:ea typeface="Times New Roman"/>
              </a:rPr>
              <a:t>Подобрать и апробировать методы использования детского фольклора для воспитания нравственных качеств у младших дошкольников.</a:t>
            </a:r>
            <a:endParaRPr b="0" lang="en-US" sz="4000" spc="-1" strike="noStrike">
              <a:solidFill>
                <a:srgbClr val="99004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81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4c"/>
              </a:solidFill>
              <a:latin typeface="Calibri"/>
            </a:endParaRPr>
          </a:p>
        </p:txBody>
      </p:sp>
    </p:spTree>
  </p:cSld>
  <p:transition spd="slow" advTm="4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Picture 3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bff9b"/>
              </a:gs>
              <a:gs pos="100000">
                <a:srgbClr val="f0ffe3"/>
              </a:gs>
            </a:gsLst>
            <a:lin ang="16200000"/>
          </a:gradFill>
          <a:ln w="38160">
            <a:solidFill>
              <a:srgbClr val="99004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4c"/>
                </a:solidFill>
                <a:latin typeface="Calibri"/>
              </a:rPr>
              <a:t>Объект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solidFill>
            <a:srgbClr val="ffffcc"/>
          </a:solidFill>
          <a:ln w="38160">
            <a:solidFill>
              <a:srgbClr val="5433e1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81bb4"/>
                </a:solidFill>
                <a:latin typeface="Times New Roman"/>
                <a:ea typeface="Times New Roman"/>
              </a:rPr>
              <a:t>Процесс нравственного воспитания младших дошколь</a:t>
            </a:r>
            <a:r>
              <a:rPr b="1" lang="ru-RU" sz="4000" spc="-1" strike="noStrike">
                <a:solidFill>
                  <a:srgbClr val="381bb4"/>
                </a:solidFill>
                <a:latin typeface="Calibri"/>
              </a:rPr>
              <a:t>ников.</a:t>
            </a:r>
            <a:endParaRPr b="0" lang="en-US" sz="4000" spc="-1" strike="noStrike">
              <a:solidFill>
                <a:srgbClr val="99004c"/>
              </a:solidFill>
              <a:latin typeface="Calibri"/>
            </a:endParaRPr>
          </a:p>
        </p:txBody>
      </p:sp>
    </p:spTree>
  </p:cSld>
  <p:transition spd="slow" advTm="4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Picture 3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bff9b"/>
              </a:gs>
              <a:gs pos="100000">
                <a:srgbClr val="f0ffe3"/>
              </a:gs>
            </a:gsLst>
            <a:lin ang="16200000"/>
          </a:gradFill>
          <a:ln w="38160">
            <a:solidFill>
              <a:srgbClr val="99004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4c"/>
                </a:solidFill>
                <a:latin typeface="Calibri"/>
              </a:rPr>
              <a:t>Предмет исследования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solidFill>
            <a:srgbClr val="ffffcc"/>
          </a:solidFill>
          <a:ln w="38160">
            <a:solidFill>
              <a:srgbClr val="5433e1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81bb4"/>
                </a:solidFill>
                <a:latin typeface="Times New Roman"/>
                <a:ea typeface="Times New Roman"/>
              </a:rPr>
              <a:t>Детский фольклор как средство воспитания  нравственных качеств у младших дошкольников</a:t>
            </a:r>
            <a:endParaRPr b="0" lang="en-US" sz="4000" spc="-1" strike="noStrike">
              <a:solidFill>
                <a:srgbClr val="99004c"/>
              </a:solidFill>
              <a:latin typeface="Calibri"/>
            </a:endParaRPr>
          </a:p>
        </p:txBody>
      </p:sp>
    </p:spTree>
  </p:cSld>
  <p:transition spd="slow" advTm="4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Picture 3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bff9b"/>
              </a:gs>
              <a:gs pos="100000">
                <a:srgbClr val="f0ffe3"/>
              </a:gs>
            </a:gsLst>
            <a:lin ang="16200000"/>
          </a:gradFill>
          <a:ln w="38160">
            <a:solidFill>
              <a:srgbClr val="99004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4c"/>
                </a:solidFill>
                <a:latin typeface="Calibri"/>
              </a:rPr>
              <a:t>Задачи</a:t>
            </a:r>
            <a:r>
              <a:rPr b="0" lang="ru-RU" sz="4400" spc="-1" strike="noStrike">
                <a:solidFill>
                  <a:srgbClr val="99004c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457200" y="1599840"/>
            <a:ext cx="8229600" cy="4257720"/>
          </a:xfrm>
          <a:prstGeom prst="rect">
            <a:avLst/>
          </a:prstGeom>
          <a:solidFill>
            <a:srgbClr val="ffffcc"/>
          </a:solidFill>
          <a:ln w="38160">
            <a:solidFill>
              <a:srgbClr val="5433e1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учить научную литературу по проблеме нравственного воспитания посредством детского фольклора;</a:t>
            </a:r>
            <a:endParaRPr b="0" lang="en-US" sz="2400" spc="-1" strike="noStrike">
              <a:solidFill>
                <a:srgbClr val="99004c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аскрыть механизм и методы нравственного воспитания;</a:t>
            </a:r>
            <a:endParaRPr b="0" lang="en-US" sz="2400" spc="-1" strike="noStrike">
              <a:solidFill>
                <a:srgbClr val="99004c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ассмотреть особенности нравственного воспитания детей младшего дошкольного возраста;</a:t>
            </a:r>
            <a:endParaRPr b="0" lang="en-US" sz="2400" spc="-1" strike="noStrike">
              <a:solidFill>
                <a:srgbClr val="99004c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одобрать и опытно-практическим путем апробировать методы работы с детским фольклором для воспитания нравственных качеств у младших дошкольников.</a:t>
            </a:r>
            <a:endParaRPr b="0" lang="en-US" sz="2400" spc="-1" strike="noStrike">
              <a:solidFill>
                <a:srgbClr val="99004c"/>
              </a:solidFill>
              <a:latin typeface="Calibri"/>
            </a:endParaRPr>
          </a:p>
        </p:txBody>
      </p:sp>
    </p:spTree>
  </p:cSld>
  <p:transition spd="slow" advTm="4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Picture 3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bff9b"/>
              </a:gs>
              <a:gs pos="100000">
                <a:srgbClr val="f0ffe3"/>
              </a:gs>
            </a:gsLst>
            <a:lin ang="16200000"/>
          </a:gradFill>
          <a:ln w="38160">
            <a:solidFill>
              <a:srgbClr val="99004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4c"/>
                </a:solidFill>
                <a:latin typeface="Calibri"/>
              </a:rPr>
              <a:t>Методы исследования: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solidFill>
            <a:srgbClr val="ffffcc"/>
          </a:solidFill>
          <a:ln w="38160">
            <a:solidFill>
              <a:srgbClr val="5433e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оретические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анализ научной литературы, литературоведческий анализ произведений детского фольклора;</a:t>
            </a:r>
            <a:endParaRPr b="0" lang="en-US" sz="2800" spc="-1" strike="noStrike">
              <a:solidFill>
                <a:srgbClr val="99004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мпирические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наблюдение, беседа, диагностические методики («Диагностический журнал комплексной оценки результатов освоения программы «От рождения до школы» под ред. Н.Е.Вераксы, Т.С.Комаровой, М.А.Васильевой);</a:t>
            </a:r>
            <a:endParaRPr b="0" lang="en-US" sz="2800" spc="-1" strike="noStrike">
              <a:solidFill>
                <a:srgbClr val="99004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тические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 анализ эмпирических данных. </a:t>
            </a:r>
            <a:endParaRPr b="0" lang="en-US" sz="2800" spc="-1" strike="noStrike">
              <a:solidFill>
                <a:srgbClr val="99004c"/>
              </a:solidFill>
              <a:latin typeface="Calibri"/>
            </a:endParaRPr>
          </a:p>
        </p:txBody>
      </p:sp>
    </p:spTree>
  </p:cSld>
  <p:transition spd="slow" advTm="4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476360" y="1312920"/>
            <a:ext cx="6192720" cy="4883040"/>
          </a:xfrm>
          <a:prstGeom prst="rect">
            <a:avLst/>
          </a:prstGeom>
          <a:solidFill>
            <a:srgbClr val="d3ecb9"/>
          </a:solidFill>
          <a:ln w="57240">
            <a:solidFill>
              <a:srgbClr val="c00000"/>
            </a:solidFill>
            <a:miter/>
          </a:ln>
        </p:spPr>
        <p:txBody>
          <a:bodyPr lIns="118440" rIns="11844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004c"/>
              </a:solidFill>
              <a:latin typeface="Calibri"/>
            </a:endParaRPr>
          </a:p>
        </p:txBody>
      </p:sp>
      <p:pic>
        <p:nvPicPr>
          <p:cNvPr id="1127" name="Picture 8" descr="SDC11905"/>
          <p:cNvPicPr/>
          <p:nvPr/>
        </p:nvPicPr>
        <p:blipFill>
          <a:blip r:embed="rId2"/>
          <a:stretch/>
        </p:blipFill>
        <p:spPr>
          <a:xfrm>
            <a:off x="1835280" y="1844640"/>
            <a:ext cx="5472000" cy="3836880"/>
          </a:xfrm>
          <a:prstGeom prst="rect">
            <a:avLst/>
          </a:prstGeom>
          <a:ln w="0">
            <a:noFill/>
          </a:ln>
        </p:spPr>
      </p:pic>
      <p:sp>
        <p:nvSpPr>
          <p:cNvPr id="1128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gradFill rotWithShape="0">
            <a:gsLst>
              <a:gs pos="0">
                <a:srgbClr val="cbff9b"/>
              </a:gs>
              <a:gs pos="100000">
                <a:srgbClr val="f0ffe3"/>
              </a:gs>
            </a:gsLst>
            <a:lin ang="16200000"/>
          </a:gradFill>
          <a:ln w="38160">
            <a:solidFill>
              <a:srgbClr val="99004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tIns="-45360" bIns="-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4c"/>
                </a:solidFill>
                <a:latin typeface="Calibri"/>
              </a:rPr>
              <a:t>Глава </a:t>
            </a:r>
            <a:r>
              <a:rPr b="0" lang="en-US" sz="4400" spc="-1" strike="noStrike">
                <a:solidFill>
                  <a:srgbClr val="99004c"/>
                </a:solidFill>
                <a:latin typeface="Calibri"/>
              </a:rPr>
              <a:t>ll</a:t>
            </a:r>
            <a:endParaRPr b="0" lang="en-US" sz="4400" spc="-1" strike="noStrike">
              <a:solidFill>
                <a:srgbClr val="99004c"/>
              </a:solidFill>
              <a:latin typeface="Calibri"/>
            </a:endParaRPr>
          </a:p>
        </p:txBody>
      </p:sp>
    </p:spTree>
  </p:cSld>
  <p:transition spd="slow" advTm="4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10-06T20:19:08Z</dcterms:modified>
  <cp:revision>22</cp:revision>
  <dc:subject/>
  <dc:title>Слайд 1</dc:title>
</cp:coreProperties>
</file>