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8AFB-D18F-40D0-872F-25E191E55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FF4A-FF36-4C31-823E-E9F4174033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 рациона школьника должна быть следу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10 лет-2400кк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-17 лет-2600-3000кк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9F0B-B0D7-40A0-A4A6-F8B96AA578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FD2-9538-4479-A190-478040D1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13F-7989-4A39-B51C-B3AB8A8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322-CA3A-4761-A560-BC97CB4B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3B7-E758-412A-84E6-014AA181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030-7921-451D-B4B1-973C595C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C63-57CE-4252-BA0E-DAA5542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05F-4B49-4182-944C-F9490D9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38D-F183-4B12-9F58-58AAE70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BDE-4259-410E-BE7B-C7197037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152-A361-423E-A7D7-F2A5040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CEA-B247-45E9-82F7-E5DD949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30C-145B-4301-8738-331A82D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91E-D3AF-4552-B269-3D78FE0BE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040"/>
            <a:ext cx="7772400" cy="32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истема учебно-воспитательного процесса в МБОУ СОШ №15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.о. Колом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2680" y="406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3" descr="http://nsa-shkola37.narod.ru/s1.JPG"/>
          <p:cNvPicPr/>
          <p:nvPr/>
        </p:nvPicPr>
        <p:blipFill>
          <a:blip r:embed="rId1"/>
          <a:stretch/>
        </p:blipFill>
        <p:spPr>
          <a:xfrm>
            <a:off x="1332000" y="3357720"/>
            <a:ext cx="630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3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е питание-залог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http://im2-tub-ru.yandex.net/i?id=624611041-02-72&amp;n=21"/>
          <p:cNvPicPr/>
          <p:nvPr/>
        </p:nvPicPr>
        <p:blipFill>
          <a:blip r:embed="rId1"/>
          <a:stretch/>
        </p:blipFill>
        <p:spPr>
          <a:xfrm>
            <a:off x="5796000" y="1693800"/>
            <a:ext cx="2801880" cy="2076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http://im7-tub-ru.yandex.net/i?id=248890645-66-72&amp;n=21"/>
          <p:cNvPicPr/>
          <p:nvPr/>
        </p:nvPicPr>
        <p:blipFill>
          <a:blip r:embed="rId2"/>
          <a:stretch/>
        </p:blipFill>
        <p:spPr>
          <a:xfrm>
            <a:off x="6084720" y="4292640"/>
            <a:ext cx="2708280" cy="2293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2"/>
          <p:cNvSpPr/>
          <p:nvPr/>
        </p:nvSpPr>
        <p:spPr>
          <a:xfrm>
            <a:off x="1128600" y="153180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орийность рациона школьника должна быть следующ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-10 лет-2400кк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-17 лет-2600-3000к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http://im6-tub-ru.yandex.net/i?id=67303392-51-72&amp;n=21"/>
          <p:cNvPicPr/>
          <p:nvPr/>
        </p:nvPicPr>
        <p:blipFill>
          <a:blip r:embed="rId3"/>
          <a:stretch/>
        </p:blipFill>
        <p:spPr>
          <a:xfrm>
            <a:off x="179280" y="264960"/>
            <a:ext cx="155268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http://im5-tub-ru.yandex.net/i?id=272144594-44-72&amp;n=21"/>
          <p:cNvPicPr/>
          <p:nvPr/>
        </p:nvPicPr>
        <p:blipFill>
          <a:blip r:embed="rId4"/>
          <a:stretch/>
        </p:blipFill>
        <p:spPr>
          <a:xfrm>
            <a:off x="1544760" y="1268280"/>
            <a:ext cx="3382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598840" y="39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ческие паузы, часы активного отды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http://im0-tub-ru.yandex.net/i?id=192908390-60-72&amp;n=21"/>
          <p:cNvPicPr/>
          <p:nvPr/>
        </p:nvPicPr>
        <p:blipFill>
          <a:blip r:embed="rId1"/>
          <a:stretch/>
        </p:blipFill>
        <p:spPr>
          <a:xfrm>
            <a:off x="3851280" y="1743120"/>
            <a:ext cx="2449440" cy="2838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http://im6-tub-ru.yandex.net/i?id=610212641-06-72&amp;n=21"/>
          <p:cNvPicPr/>
          <p:nvPr/>
        </p:nvPicPr>
        <p:blipFill>
          <a:blip r:embed="rId2"/>
          <a:stretch/>
        </p:blipFill>
        <p:spPr>
          <a:xfrm>
            <a:off x="611280" y="1484280"/>
            <a:ext cx="2921040" cy="2046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im2-tub-ru.yandex.net/i?id=460023566-04-72&amp;n=21"/>
          <p:cNvPicPr/>
          <p:nvPr/>
        </p:nvPicPr>
        <p:blipFill>
          <a:blip r:embed="rId3"/>
          <a:stretch/>
        </p:blipFill>
        <p:spPr>
          <a:xfrm>
            <a:off x="6588000" y="1344600"/>
            <a:ext cx="2232000" cy="1827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http://im5-tub-ru.yandex.net/i?id=681656166-44-72&amp;n=21"/>
          <p:cNvPicPr/>
          <p:nvPr/>
        </p:nvPicPr>
        <p:blipFill>
          <a:blip r:embed="rId4"/>
          <a:stretch/>
        </p:blipFill>
        <p:spPr>
          <a:xfrm>
            <a:off x="6300720" y="4581360"/>
            <a:ext cx="278928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http://im7-tub-ru.yandex.net/i?id=305340305-01-72&amp;n=21"/>
          <p:cNvPicPr/>
          <p:nvPr/>
        </p:nvPicPr>
        <p:blipFill>
          <a:blip r:embed="rId5"/>
          <a:stretch/>
        </p:blipFill>
        <p:spPr>
          <a:xfrm>
            <a:off x="108000" y="4581360"/>
            <a:ext cx="3424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900000" y="189000"/>
            <a:ext cx="76406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казен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истеме дополнительного педагогическ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овышение квалифик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оговый практико-значим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Формирование мотивации здорового образа жизни школьников в воспитательной работе О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шатель Клокова Галина Евген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биологии МБОУ СОШ №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о. Колом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ческие осмо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2" descr="http://kharkovsc119.ucoz.ru/_si/0/18471637.jpg"/>
          <p:cNvPicPr/>
          <p:nvPr/>
        </p:nvPicPr>
        <p:blipFill>
          <a:blip r:embed="rId1"/>
          <a:stretch/>
        </p:blipFill>
        <p:spPr>
          <a:xfrm>
            <a:off x="5032440" y="4581360"/>
            <a:ext cx="363060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http://pda.rg.ru/img/content/78/18/25/narkotiki3.jpg"/>
          <p:cNvPicPr/>
          <p:nvPr/>
        </p:nvPicPr>
        <p:blipFill>
          <a:blip r:embed="rId2"/>
          <a:stretch/>
        </p:blipFill>
        <p:spPr>
          <a:xfrm>
            <a:off x="5292720" y="1628640"/>
            <a:ext cx="359712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http://img1.liveinternet.ru/images/attach/c/2/74/504/74504171_031__1_.png"/>
          <p:cNvPicPr/>
          <p:nvPr/>
        </p:nvPicPr>
        <p:blipFill>
          <a:blip r:embed="rId3"/>
          <a:stretch/>
        </p:blipFill>
        <p:spPr>
          <a:xfrm>
            <a:off x="179280" y="1341360"/>
            <a:ext cx="4578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771640" y="1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оздоровительных мероприятий в организацию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им из основных направлений деятельности школы является сохранение и укрепление здоровья обучающихся. Классные руководители 1 – 11 классов активно работают в рамках реализации городской программы «Формирование здорового образа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D:\фотографии с фотоаппарата\104_PANA\P1040607.JPG"/>
          <p:cNvPicPr/>
          <p:nvPr/>
        </p:nvPicPr>
        <p:blipFill>
          <a:blip r:embed="rId1"/>
          <a:stretch/>
        </p:blipFill>
        <p:spPr>
          <a:xfrm>
            <a:off x="324000" y="3017880"/>
            <a:ext cx="3816360" cy="384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D:\фотографии с фотоаппарата\104_PANA\P1040603.JPG"/>
          <p:cNvPicPr/>
          <p:nvPr/>
        </p:nvPicPr>
        <p:blipFill>
          <a:blip r:embed="rId2"/>
          <a:stretch/>
        </p:blipFill>
        <p:spPr>
          <a:xfrm>
            <a:off x="4643280" y="3645000"/>
            <a:ext cx="5077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исследования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ыявить пути   эффективного формирования деятельности, направленной на сохранение и улучшение здоровья всех участников образовательного процес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286000" y="-1984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68360" y="47628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действовать формированию здоровье-сберегающих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лучшение качества образовательного процесса и формирование устойчивого интереса к потребности в приобретении навыков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ализация программ по формированию здоровой личности в условиях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инятие  решений по регулированию и коррекции факторов, влияющих на самочувствие и здоровье уча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24000" y="404640"/>
            <a:ext cx="8640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потеза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если в школе соблюдаются санитарно-гигиенические нормы, проводится системная физкультурно-оздоровительная работа, работа с родителями по соблюдению единства требований к здоровому образу жизни, регулярный профилактический осмотр, ведется пропаганда здорового образа жизни, организуются регулярное питание, положительная мотивационная обстановка на уроках, то это все будет способствовать улучшению самочувствия и здоровь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G:\Мы выбираем спорт\P1040994.JPG"/>
          <p:cNvPicPr/>
          <p:nvPr/>
        </p:nvPicPr>
        <p:blipFill>
          <a:blip r:embed="rId1"/>
          <a:stretch/>
        </p:blipFill>
        <p:spPr>
          <a:xfrm>
            <a:off x="2214720" y="2428920"/>
            <a:ext cx="53179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11280" y="404640"/>
            <a:ext cx="777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еоретический анализ  психолого-педагогической, методической литературы, изучение педагогического опыта с помощью  опроса, анкетирования, тестирования, бесед, апробация учебно-методических материалов; педагогический эксперимент (поисковый; констатирующий; формирующий); анализ результатов исследования, методы математической и статистической обработки 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073240" y="189000"/>
            <a:ext cx="4572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чная и практическая значимость исследования (проект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а  система внедрения обучающих программ (уроков здоровья, лекций, круглых стол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G:\24.04.2013-МАСТЕР КЛАСС\IMG_3871.JPG"/>
          <p:cNvPicPr/>
          <p:nvPr/>
        </p:nvPicPr>
        <p:blipFill>
          <a:blip r:embed="rId1"/>
          <a:stretch/>
        </p:blipFill>
        <p:spPr>
          <a:xfrm>
            <a:off x="428760" y="2000160"/>
            <a:ext cx="2787480" cy="1433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G:\24.04.2013-МАСТЕР КЛАСС\IMG_3723.JPG"/>
          <p:cNvPicPr/>
          <p:nvPr/>
        </p:nvPicPr>
        <p:blipFill>
          <a:blip r:embed="rId2"/>
          <a:stretch/>
        </p:blipFill>
        <p:spPr>
          <a:xfrm>
            <a:off x="4929120" y="1643040"/>
            <a:ext cx="3571920" cy="1668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1285920" y="2214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G:\Здоровый образ жизни фото)\IMG_0181.JPG"/>
          <p:cNvPicPr/>
          <p:nvPr/>
        </p:nvPicPr>
        <p:blipFill>
          <a:blip r:embed="rId3"/>
          <a:stretch/>
        </p:blipFill>
        <p:spPr>
          <a:xfrm>
            <a:off x="500040" y="4000680"/>
            <a:ext cx="2859120" cy="1723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G:\Мы выбираем спорт\P1040983.JPG"/>
          <p:cNvPicPr/>
          <p:nvPr/>
        </p:nvPicPr>
        <p:blipFill>
          <a:blip r:embed="rId4"/>
          <a:stretch/>
        </p:blipFill>
        <p:spPr>
          <a:xfrm>
            <a:off x="4714920" y="3857760"/>
            <a:ext cx="30718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771640" y="1890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детьми во внеурочное врем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ни здоровья, спортивные секции, оздоровительные лагер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D:\фотографии с фотоаппарата\104_PANA\P1040610.JPG"/>
          <p:cNvPicPr/>
          <p:nvPr/>
        </p:nvPicPr>
        <p:blipFill>
          <a:blip r:embed="rId1"/>
          <a:stretch/>
        </p:blipFill>
        <p:spPr>
          <a:xfrm>
            <a:off x="395280" y="1177920"/>
            <a:ext cx="3456000" cy="2322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school15.edu-kolomna.ru/pic.php?iid=16123"/>
          <p:cNvPicPr/>
          <p:nvPr/>
        </p:nvPicPr>
        <p:blipFill>
          <a:blip r:embed="rId2"/>
          <a:stretch/>
        </p:blipFill>
        <p:spPr>
          <a:xfrm>
            <a:off x="5715000" y="1285920"/>
            <a:ext cx="2768760" cy="1644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://school15.edu-kolomna.ru/pic.php?iid=16038"/>
          <p:cNvPicPr/>
          <p:nvPr/>
        </p:nvPicPr>
        <p:blipFill>
          <a:blip r:embed="rId3"/>
          <a:stretch/>
        </p:blipFill>
        <p:spPr>
          <a:xfrm>
            <a:off x="500040" y="3714840"/>
            <a:ext cx="2730600" cy="2268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http://school15.edu-kolomna.ru/pic.php?iid=16003"/>
          <p:cNvPicPr/>
          <p:nvPr/>
        </p:nvPicPr>
        <p:blipFill>
          <a:blip r:embed="rId4"/>
          <a:stretch/>
        </p:blipFill>
        <p:spPr>
          <a:xfrm>
            <a:off x="4857840" y="3571920"/>
            <a:ext cx="3071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771640" y="333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я и обеспечение физкультурно-оздоровительной работы, повышение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http://school15.edu-kolomna.ru/pic.php?iid=18750"/>
          <p:cNvPicPr/>
          <p:nvPr/>
        </p:nvPicPr>
        <p:blipFill>
          <a:blip r:embed="rId1"/>
          <a:stretch/>
        </p:blipFill>
        <p:spPr>
          <a:xfrm>
            <a:off x="395280" y="1306440"/>
            <a:ext cx="4105440" cy="4498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school15.edu-kolomna.ru/pic.php?iid=18742"/>
          <p:cNvPicPr/>
          <p:nvPr/>
        </p:nvPicPr>
        <p:blipFill>
          <a:blip r:embed="rId2"/>
          <a:stretch/>
        </p:blipFill>
        <p:spPr>
          <a:xfrm>
            <a:off x="4716360" y="1332000"/>
            <a:ext cx="41227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11280" y="620640"/>
            <a:ext cx="828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ротяжении последних лет школа находится в числе лидеров по результатам участия в спортивных соревнованиях. По итогам 2011-2012 учебного года школа занял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по итогам спортивно-массовой работы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в Спартакиаде. По итогам 2012-2013 учебного года -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по итогам спортивно-массовой работы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в Спартакиаде школьник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D:\Фото\УЧЕБНЫЙ ГОД 2012-2013\9. МАЙ\20.05.2013г. Соревнования по стритболу\DSC_1158.JPG"/>
          <p:cNvPicPr/>
          <p:nvPr/>
        </p:nvPicPr>
        <p:blipFill>
          <a:blip r:embed="rId1"/>
          <a:stretch/>
        </p:blipFill>
        <p:spPr>
          <a:xfrm>
            <a:off x="826920" y="2755800"/>
            <a:ext cx="1916280" cy="1285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286000" y="3105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бедители городских              соревнований по стритб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еры Московской области на приз г          Губерн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L:\сайт\15.03.2014г. Веселые старты\IMG_9117.JPG"/>
          <p:cNvPicPr/>
          <p:nvPr/>
        </p:nvPicPr>
        <p:blipFill>
          <a:blip r:embed="rId2"/>
          <a:stretch/>
        </p:blipFill>
        <p:spPr>
          <a:xfrm>
            <a:off x="826920" y="4724280"/>
            <a:ext cx="1933920" cy="1289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D:\Фото\УЧЕБНЫЙ ГОД 2011-2012\7. МАРТ\11.03.2012г. Учительская лыжня\IMG_8310.JPG"/>
          <p:cNvPicPr/>
          <p:nvPr/>
        </p:nvPicPr>
        <p:blipFill>
          <a:blip r:embed="rId3"/>
          <a:stretch/>
        </p:blipFill>
        <p:spPr>
          <a:xfrm>
            <a:off x="6858000" y="2768760"/>
            <a:ext cx="1981080" cy="13204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4:28:40Z</dcterms:created>
  <dc:creator>User</dc:creator>
  <dc:description/>
  <dc:language>en-US</dc:language>
  <cp:lastModifiedBy>НАТАЛИЯ</cp:lastModifiedBy>
  <dcterms:modified xsi:type="dcterms:W3CDTF">2015-10-06T09:21:18Z</dcterms:modified>
  <cp:revision>25</cp:revision>
  <dc:subject/>
  <dc:title>Объект исследования: система учебно-воспитательного процесса в школе</dc:title>
</cp:coreProperties>
</file>