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9821-071F-422A-B15D-3908C0F9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E996-61DB-4CA6-B4C0-4D4E35F5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7983-5940-4A74-86DB-2AAC21F2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3E7E-2A33-4F4D-824F-F584A87E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8CF2-DDE8-4218-8C6B-2FCA2C60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838E-24B8-40C8-8FFE-838D8759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4B1E-BAAD-4F57-A001-B48CA615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31C3-1B63-461D-982C-B6C937BE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4986-A7AA-4E2B-A184-AF908D43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2DCA-BBFF-404D-8ACF-B565E93A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FB4C-40AC-4D06-BF52-734C0547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707B-2EC2-41A4-8D0E-8C2124DA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3B0C-15F7-4514-9F2A-3A29E56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1C89-07D7-41D3-B0AE-336C128D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E21D-0AB2-4D2C-9878-7009E979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CF90-0522-4E75-AA09-4C71D734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3215-50A1-4D44-BDD2-DA202F79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6CDA-D1F2-4A87-9494-C8405F09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58B9-8B60-4ACB-9FF4-3A3A79D6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DB8E-138A-43F0-A1A4-80442D3A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68A6-C63F-489B-9504-FE66A0B2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0E9B-ADB0-44DB-9F71-6E90F295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5BA2-D71D-4505-AF5F-25F13462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D5A2-F29E-4FA0-B18E-DAA79A49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5B89-896D-4FF2-A028-E0D7A83E6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03EF-78A3-4B5A-B947-A7FA2E5C1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Doc1.doc" TargetMode="External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рограммирование на ЯВ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3200" y="475920"/>
            <a:ext cx="9010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ловочный файл подключается с помощью директивы препроцессора #include или #define для задания символических имен констант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процесс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ограмма предварительной обработки текста непосредственно перед трансляц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38360"/>
            <a:ext cx="88930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#include &lt;stdio.h&gt;  - описание стандартных функций                       ввода/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#define PI 3.14159265 - задает символическое имя PI для константы 3.141592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програм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219640" cy="4824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032360" y="1137600"/>
            <a:ext cx="5219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трока main(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держит название функции, с которой всегда начинается программа. Пустые скобки обозначают, что эта функции, но она без парамет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сле символов //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оят комментарии (для одной строки), (комментариями также называются символы, стоящие между /* и */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Фигурные скобки {}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тмечают начало и конец тела программы или функции. Они также применяются для объединения нескольких операторов программы в блок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6067440"/>
            <a:ext cx="8569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stdio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в файле содержатся сведения о функциях ввода-выво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conio.h - содержатся сведения о функциях для консольного ок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4628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фавит язы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3200" y="907920"/>
            <a:ext cx="8686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алфавита и символ подчеркивани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цифры 0, 1, 2, 3, 4, 5, 6, 7, 8, 9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пециальные знаки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{ }  ,  |  [ ]  ( )   +  -  /  %  \  ; ‘  :    &lt;  ==  &gt;  _  !  &amp;   #   ~    .   *   ^  ?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з символов алфавита формируются лексемы язык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дентификатор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лючевые (служебные, иначе зарезервированные ) слов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онстант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наки операци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делители (знаки пунктуации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е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(идентификатор ) состоит из последов-ти букв и циф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символ должен быть бук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 подчерка _ считается бук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честве имени не могут использоваться ключевые слова С+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тифика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o   this_is_a_most_unusually_long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   foO   bAr      u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0   var1    CLAS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идентификат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2      $sys      class        3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.due      foo~bar     .name    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зличные и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012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еменные и констан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ание переменной включает спецификацию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типа, имя переменной, ряд необязательных модификато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задающих или особенности внутреннего представления переменно, или класс её хранения. При описании возможно задание начального значения переменной (инициализация переменной). Тип константы распознаётся компилятором по её записи в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нная в языке с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это именованная область памяти, в которой содержится определенное значение. При записи в ячейку нового значения старое стир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мен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618920" y="1052640"/>
            <a:ext cx="1368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1125360"/>
            <a:ext cx="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1052640"/>
            <a:ext cx="1079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234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фикация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2349360"/>
            <a:ext cx="136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2349360"/>
            <a:ext cx="287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бязательные мо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переменных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очислен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4920" y="1773360"/>
          <a:ext cx="9108720" cy="3878280"/>
        </p:xfrm>
        <a:graphic>
          <a:graphicData uri="http://schemas.openxmlformats.org/drawingml/2006/table">
            <a:tbl>
              <a:tblPr/>
              <a:tblGrid>
                <a:gridCol w="1064160"/>
                <a:gridCol w="2308680"/>
                <a:gridCol w="997200"/>
                <a:gridCol w="4738680"/>
              </a:tblGrid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 – 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768 - 327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 - 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- 1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147 483 648 - 2 147 483 64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переменных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 переменные могут быть использованы с ключевым словом unsigned (беззнаковый). Это означает, что значения данных будут начинаться не с отрицательного значения, а с 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ественные (с плавающей точ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63640" y="3260880"/>
          <a:ext cx="6193080" cy="3433680"/>
        </p:xfrm>
        <a:graphic>
          <a:graphicData uri="http://schemas.openxmlformats.org/drawingml/2006/table">
            <a:tbl>
              <a:tblPr/>
              <a:tblGrid>
                <a:gridCol w="1513080"/>
                <a:gridCol w="468000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*10^(-38) по 3.4*10^(+3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*10^(-308) по 1.7*10^(+30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dou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мног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a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выделить память под целую переменную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b, c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две вещественных переменных b и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Tu104, Il86=23, Yak42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три целых переменных, в Il86 сразу записывается число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x=4.56, y, z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три вещественных переменных, в x сразу записывается число 4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har c, c2='A', m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три символьных переменных, в c2 сразу записывается символ 'A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893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ые обычно объявляются в начале программы. Для объявления надо написать название типа переменных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loa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а затем через запятую имена всех объявляемых переменных. При желании можно сразу записать в новую ячейку нуж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ена переменны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6979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перемен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ы начинаться обязательно с буквы или символа подчеркивания "_". При чем в языке С/С++ имеется разница обычная или прописная бук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 идентифика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dlina, _DLINA; //два абсолютно разных имен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ko14_w, len, aw_rw, Set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в 1972 году 31-летним специалистом по системному программированию из фирмы Bell Labs Деннис Рит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ути своей Си является языком функций. Программирование на Си, осуществляется путем написания функций и обращения к библиотечным функциям. Большинство функций возвращают некоторые значения, которые могут использоваться в других операто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68316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инарные операции (участвуют два операт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65520" y="1844640"/>
          <a:ext cx="4614840" cy="4183200"/>
        </p:xfrm>
        <a:graphic>
          <a:graphicData uri="http://schemas.openxmlformats.org/drawingml/2006/table">
            <a:tbl>
              <a:tblPr/>
              <a:tblGrid>
                <a:gridCol w="2308320"/>
                <a:gridCol w="230652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/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н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*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хождение оста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%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0" y="3873600"/>
            <a:ext cx="45720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* Стандартные фун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bs(i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дуль целого числ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abs(x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дель вещественного числ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sqrt(x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вадратный корень из вещественного числ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pow(x,y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числяет x в степени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i, 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= 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= i / 4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x=1, делится целое на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= i / 4.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x=1.75, делится целое на дроб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 =(float) i / 4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x=1.75, делится дробное на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 = 7. / 4.;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// n=1, результат записывается в целую переме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нарные опера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Инкрементация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величение числа на единиц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i ++;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фиксная форма  - сначала выполнит действия, а после увеличит зна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++ i;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фиксная форма сначала увеличивает, а потом уже выполняет следующее действ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nt i = 6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++; </a:t>
            </a:r>
            <a:r>
              <a:rPr b="0" lang="ru-RU" sz="3000" spc="-1" strike="noStrike">
                <a:solidFill>
                  <a:srgbClr val="3333ff"/>
                </a:solidFill>
                <a:latin typeface="Arial"/>
              </a:rPr>
              <a:t>// инкремент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 = i + 1; </a:t>
            </a:r>
            <a:r>
              <a:rPr b="0" lang="ru-RU" sz="3000" spc="-1" strike="noStrike">
                <a:solidFill>
                  <a:srgbClr val="3333ff"/>
                </a:solidFill>
                <a:latin typeface="Arial"/>
              </a:rPr>
              <a:t>// эквивалентна инкремент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криментац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ьшение числа на един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— —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фиксная форма - сначала выполнит действия, а после уменьшает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—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фиксная форма сначала уменьшает, а потом уже выполняет следующее 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nt i = 6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--;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// декрементац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 = i - 1;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// эквивалентна декре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 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5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"%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,+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; // Выведет 6 - ПРЕФИКСНАЯ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"%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++); // Выведет 5 - ПОСТФИКС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оритет арифметических опер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ерации в скобках, зате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зовы функций, зате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ножение, деление и остаток от деления, слева направо, зате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жение и вычитание, слева на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Сокращенная запись арифметических выражени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08472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Функции стандартного ввода и вывод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отипы всех функций содержатся в файле stdi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conio.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необходимо подключить директиву: 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lt; stdi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ункции ввода/выв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, cout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f, cin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  main()  {      cout &lt;&lt; "Hello, world\n";    printf (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т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 = 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12.5;             Что он показ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 ("%d\n", 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 ("%f\n", b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Спецификаторы формата функции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ВЫВОДА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60" y="1628280"/>
            <a:ext cx="64198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ывод целых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2133720"/>
          <a:ext cx="9144000" cy="4583160"/>
        </p:xfrm>
        <a:graphic>
          <a:graphicData uri="http://schemas.openxmlformats.org/drawingml/2006/table">
            <a:tbl>
              <a:tblPr/>
              <a:tblGrid>
                <a:gridCol w="2843280"/>
                <a:gridCol w="630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к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целых чисел в десятичной фор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целых чисел в десятичной форме без зна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целых чисел без знака в восьмеричной фор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целых чисел без знака в шестнадцатеричном форма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стоинства языка 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универсальность (используется почти на всех существующих ЭВМ);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омпактность и универсальность кода;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быстрота выполнения программ;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гибкость языка;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высокую структурированнос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 = 16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 ("%d %o %x",a,a,a)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вод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экран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6 10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нцип этой функции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кавычках пишите нужные спецификаторы формата (ровно столько, сколько нужно вывести переменных); далее после кавычек ставите запятую и перечисляете, так же через запятую, все переменные для вывода в том порядке, в каком вы выставили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пецификаторы формат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Вывод вещественных чисе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341360"/>
          <a:ext cx="9144000" cy="2255760"/>
        </p:xfrm>
        <a:graphic>
          <a:graphicData uri="http://schemas.openxmlformats.org/drawingml/2006/table">
            <a:tbl>
              <a:tblPr/>
              <a:tblGrid>
                <a:gridCol w="3144960"/>
                <a:gridCol w="59990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като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ег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f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вещественных чисел в обычной форм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ывода вещественных чисел в экспоненциальной форм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a = 16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 ("%f %e",a,a);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//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ывод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экран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: 16.000000 1.600000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+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много поясню вывод значения в экспоненциальной форме. Число 1.600000е+01 означает всего лишь 1.6 * 10^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с вещественными числами не все так просто. Вы заметили, что когда мы выводили на экран число 16, то почему-то добавилось 6 нулей. Так вот этот процесс можно контролир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ouble a = 16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rintf ("%.3f %.1e",a,a); // Вывод на экран: 16.000 1.6е+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яющие последова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n'      перевод на новую строк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t'      табуляц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a'      сигна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r'      курсор в начало строки возвращает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'      вывод одиночной кавыч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      вывод двойной кавыч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'\\'      вывод косой черт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319248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4280760"/>
            <a:ext cx="9144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Через запятую после формата вывода надо поставить список чисел или переменных, значения которых надо вывести, при этом можно сразу проводить вычислен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ецификаторы формата функции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ВВОД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 есть в двойных кавычках спецификатор формата, но разница как раз находится во второй части функции. Обратите внимание на появление знака (&amp;). Этот знак означает взятие адр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ецифика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%d - прочитать целое число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 ("%d", &amp;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%o - прочитать восьмеричное чис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 ("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, &amp;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%e(%f) - прочитать вещественное число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 ("%f", &amp;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%с - прочитать симво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ch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 ("%c", &amp;c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%s - прочитать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*st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 ("%s", st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canf ( "%d%d", &amp;a );  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//куда записывать второе введенное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canf ( "%d%d", &amp;a, &amp;b, &amp;c ); 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//не задан формат для переменной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canf ( "%f%f", &amp;a, &amp;b );  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//нельзя вводить целые переменные по вещественному форм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dio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int a, b, c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 объявление перем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printf ( "Введите два целых числа \n" )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 подсказка для вв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scanf ( "%d%d", &amp;a, &amp;b )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 ввод данных (целых чисе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c = a + b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 вычисления (оператор присваиван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printf ( "Результат: %d + %d = %d \n", a, b, c )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 вывод результата, переход на новую стро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getch();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//задерж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ции с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95280" y="1484280"/>
          <a:ext cx="8229600" cy="3886200"/>
        </p:xfrm>
        <a:graphic>
          <a:graphicData uri="http://schemas.openxmlformats.org/drawingml/2006/table">
            <a:tbl>
              <a:tblPr/>
              <a:tblGrid>
                <a:gridCol w="1882800"/>
                <a:gridCol w="3603600"/>
                <a:gridCol w="27432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=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енств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=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 или 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=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 или ра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=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025000" y="5725800"/>
            <a:ext cx="4714560" cy="4899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tf("%d %d\n", a &gt; b, a &gt; c 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АЯ ПРОГРАММА НА 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Функции верхнего уровн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* #include означает 'включение' файла в наш файл 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#include &lt;conio.h&gt;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/*содержит функции для работы с экраном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#include &lt;stdio.h&gt;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* файл содержит функции ввода/вывода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int main()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* Функция, с которой начинается выполнение программы */</a:t>
            </a:r>
            <a:br>
              <a:rPr sz="24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char 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scanf ("%c", &amp;s);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//функция ввода символа и стро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printf (" Символ: %c\t Строка: %d\n",s,s);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//функция выво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getch();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/*функция ввода символа с клавиатуры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Используется для задержки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return 0;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/* Функция main() имеет возвращаемое значени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типа int. Вот функцией return мы и возвращаем нужное значение /*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грированная среда разработ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аб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include &lt;conio.h&gt;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 main(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тавлять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ю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*/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   getch()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urn 0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Функции для консольного т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std::cou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&lt; "..."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водит текст в консоль. Этот синтаксис нужно просто запомнить. А в кавычках можно писать что вам угод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d::cin &gt;&gt; x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и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в кон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#include &lt;iostream&gt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директива предпроцесс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имер: найти сумму двух целых чисе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oid main (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int x,y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объявляем переменный целого типа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int sum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Переменная для вычисления суммы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td::cout&lt;&lt;"X = "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На экран выводится 'X = '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td::cin&gt;&gt;x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вводим с клавиатуры число, например: 5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td::cout&lt;&lt;"Y = "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На экран выводится 'Y = '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td::cin&gt;&gt;y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вводим с клавиатуры число, например: 8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um = x + y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td::cout&lt;&lt;"x+y = "&lt;&lt;sum&lt;&lt;std::endl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; //std::endl - это оператор конца строк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На экран монитора выводится сообщение 'x + y = 13'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_getch(); 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//Экран не закрывается, пока не нажата любая клавиша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Результат работы программы"/>
          <p:cNvPicPr/>
          <p:nvPr/>
        </p:nvPicPr>
        <p:blipFill>
          <a:blip r:embed="rId1"/>
          <a:stretch/>
        </p:blipFill>
        <p:spPr>
          <a:xfrm>
            <a:off x="2700360" y="5465880"/>
            <a:ext cx="6300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М. ПРИМЕР: найти сумму дробны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x,y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объявляе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переменный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дробного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тип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sum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Переменна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дробного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тип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дл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числени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уммы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::cout&lt;&lt;"X = "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экран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водитс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'X = '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::cin&gt;&gt;x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води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клавиатуры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число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: 2.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::cout&lt;&lt;"Y = "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экран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водитс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'Y = '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::cin&gt;&gt;y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води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клавиатуры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число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: 4.8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= x + y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числение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умм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::cout&lt;&lt;"x+y = "&lt;&lt;sum&lt;&lt;std::endl; 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экран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онитор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водится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ообщение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'x + y = 7.14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getch();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/Экран не закрывается, пока не нажата любая клавиш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Результат работы программы2"/>
          <p:cNvPicPr/>
          <p:nvPr/>
        </p:nvPicPr>
        <p:blipFill>
          <a:blip r:embed="rId1"/>
          <a:stretch/>
        </p:blipFill>
        <p:spPr>
          <a:xfrm>
            <a:off x="2050920" y="5472000"/>
            <a:ext cx="70930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Управляющие струк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оры вет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 if — else для выбора из двух вариа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 множественного выбора switch для выбора из нескольких вариа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ный оператор if —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if (условие) { }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else { }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е. в скобках пишется условие, и если оно истинно (TRUE), то выполняется те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ного операт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Так же в противовес if используют необязательную конструкцию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ор els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й вступает, когда условие в if является ложны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полного опер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f ( условие )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// заголовок с услов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// блок «если» — операторы, которые выполняются, // если условие в заголовке 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// блок «иначе» — операторы, которые выполняются, // если условие в скобках 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локи «если» и «иначе» могут входить любые другие операторы, в том числе и другие вложенные условные операторы; при этом оператор else относится к ближайшему предыдущему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f ( A &gt; 10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f ( A &gt; 100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rintf ( "У вас очень много денег."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rintf ( "У вас достаточно денег."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rintf ( "У вас маловато денег."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if ( условие 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ru-RU" sz="3400" spc="-1" strike="noStrike">
                <a:solidFill>
                  <a:srgbClr val="3333ff"/>
                </a:solidFill>
                <a:latin typeface="Arial"/>
              </a:rPr>
              <a:t>// что делать, если условие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истинн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0" y="45684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неполного опер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ИМЕР 1: Ввести с клавиатуры два вещественных числа и определить наибольшее из 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5400" y="2649600"/>
            <a:ext cx="9048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условию задачи нам надо вывести один из двух вариантов ответа: если первое число больше второго, то вывести на экран его, если нет — то второе числ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МЕР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0672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d = 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d &gt; 5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d++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if (d == 0)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 printf ("d = %d",d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els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 printf ("d != 0"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d--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60280"/>
            <a:ext cx="52196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проверяется условие (d &gt; 5). Т.к. оно ложно, то происходит выполнение те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тора 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ле else опять проверяется условие вложенного оператора if : (d == 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является истинным, следовательно, выполняется тело этого оператора, т.е. выполняем функцию prin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условный оператор if дал результат TRUE, то блок else мы просто пропуска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и в конце, выполняем декрементацию числа d, т.е. отнимаем едини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3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Си-програм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" y="112536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ая достаточно большая программа на Си (программисты используют терми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состоит из файлов. Файлы транслируются Си-компилятором независимо друг от друга и затем объединяются программой-построителем задач, в результате чего создается файл с программой, готовой к выполнению. Файлы, содержащие тексты Си-программы, называютс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ходны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трансляция – перевод текста программы в машинные к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компоновка – сборка частей программы и подключение стандартных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тейшие условия состоят из одного отношения (больше, меньше и т.д.). Иногда надо написать условие, в котором объединяются два или более простейши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ое условие состоит из двух или нескольких простых отношений, которые объединяются с помощью знак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огических операц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уется одновременное выполнение двух усл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е_1 &amp;&amp; условие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требуется выполнение хотя бы одного из двух условий (или обоих сраз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е_1 || условие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ожных условиях иногда используется операц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отрицание условия (или обратное усло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ь квадратное уравнение стандартного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601200"/>
            <a:ext cx="9144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ператор множественного выбора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witc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249200"/>
            <a:ext cx="91440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ить программу, которая вводит с клавиатуры русскую букву и выводит на экран название животного на эту бук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ь значение функц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87280" y="1844640"/>
                <a:ext cx="165600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звестны год и номер месяца рождения человека. Определить возраст человека на март(3 месяц) 2008 г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main(int argc, char* argv[]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int year = 1967, month = 8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if (month &lt; 3 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    cout &lt;&lt; 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" &lt;&lt; (2008 - year - 1) &lt;&lt; '\n'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    cout &lt;&lt; 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" &lt;&lt; (2008 - year) &lt;&lt; '\n'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getch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41200" y="907920"/>
            <a:ext cx="8902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кл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125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2113200"/>
            <a:ext cx="48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for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whil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кл F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команд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(инициализация; проверка условия; изменение) оператор;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 более общем виде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(выражение1; выражение2; выражение3) оператор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ици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ется для присвоения начального значения параметру цик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ловия обычно содержит условное выражение. Оно позволяет определить момент завершения цик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или при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гумента обычно используется для изменения параметра цик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ные составляющие команды цикла отделяются друг от друга точкой с запято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 выполняется, если условие (условное выражение) истинно. Как только условие принимет значение "ложь" реализуется выход из цикла и начинает выполняться оператор, следующий за оператором цик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простейший оператор цикла имеет вид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or(i=0; i&lt;10; i++) printf("%d\n", i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полнении этого оператора будут распечатаны в столбик цифры: от 0 до 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напечатать цифры в обратном порядке, нужно использовать другой оператор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or(i=9; i&gt;=0; i--) printf("%d\n", i)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ер_с3: вывести на экран монитора буквы латинского алфавита от "A" до "Z"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Р_с1: Напишем программу, которая вводит с клавиатуры натуральное число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выводит на экран квадраты всех целых чисел от 1 до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м ви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вадрат числа 1 равен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вадрат числа 2 равен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Си-програм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ходный файл программы на языке Си имеет расшир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с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cpp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расшир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cpp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ворит о том, что в программе могут быть использованы возможности языка Си++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Транслятор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водит исходный файл (вернее, записанную в нем программы) в машинные коды и строит так называемый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бъектный файл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тем же именем и расширением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o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тя в нем уже записан машинный код, объектный файл еще нельзя запускать на компьютере, потому что в нем не хватает стандартных функций (например, для ввода и вывода данных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мпоновщи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ключает стандартные функции, хранящиеся в библиотеках (они имеют расшир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В результате получается один файл с расширением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*.exe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торый и представляет собой готовую програм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с условием (whi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часто заранее невозможно сказать, сколько раз надо выполнить какую-то операцию, но можно определить условие, при котором она должна заканчиваться. Такое задание на русском языке может выглядеть так: делай эту работу до тех пор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не будет законч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hile (условие) операто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 будет выполняться до тех пор, пока условие цикла принимает значение "истинно". В том же случае, когда условие нарушается (то есть оно просто не выполняется), управление передается следующему за командой цикла while операто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м цик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цикл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цикл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начала проверяется выполнение условия. Точно так же работает и цик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То есть, как первый, так и второй циклы относятся к циклам 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услов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ператорах for и while, цикл может ни разу не выполняться. Это будет в том случае, если условие выполнения цикла при первом же обращении к циклу не выполняется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с постусловием (do — whi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 выполнения цикла проверяется в конце оператора ци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 {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оператор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} while (условие)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с постусловием (do — whi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также случаи, когда надо выполнить цикл хотя бы один раз, затем на каждом шагу делать проверку некоторого условия и закончить цикл, когда это условие станет лож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o—whil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тогда, когда количество повторений цикла заранее неизвестно и не может быть вычисл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остоит из заголов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а цикла и завершающего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записывается в круглых скобках после сло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цикл продолжает выполняться, пока условие верно; когда условие становится неверно, цикл заканчи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проверяется только в конце очередного шага цикла (это цик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постуслов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 всегда выполняется хотя бы один р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_с4 цикла "do-while"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Задач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пьютер загадывает случайное число между 1 и 100. Вы должны угадать это число. Вам даются неолбходимые ходы и поясняющий текст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Если предложенное Вами число превышает задуманное компьютером, Вам выдается сообщение "Больше". В противном случае, если наоборот, не превышает, Выдается сообщение: "Меньше". При попадании на задуманное число компьютер сообщает об этом. Одновременно подсчитывается затраченное Вами число шагов на отгадывание задуманного компьютером числ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вести натуральное число и найти сумму его цифр. Организовать ввод числа так, чтобы нельзя было ввести отрицательное число или ну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о при каждом делении определять остаток (последняя цифра числа равна остатку от деления его на 10) и суммировать все остатки в специальной переме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, sum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// sum -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умм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цифр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um = 0;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/ сначала сумму обнуля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o {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/ нача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rintf ( "\nВведите натуральное число:"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canf ( "%d", &amp;N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ile ( N &lt;= 0 );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// условие цикла «пока N &lt;= 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 N &gt; 0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+= N %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/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rintf ( "Сумма цифр этого числа равна %d\n", sum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etch();   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ив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группа ячеек памяти одинакового типа, расположенных рядом и имеющих общее имя. Каждая ячейка в группе имеет уникальный но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Объявление массива – выделение места в памя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ив объявляют так же, как и обычные переменные, но после имени массива в квадратных скобках записывается его раз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nt A[10], B[20]; // 2 массива на 10 и 20 цел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loat C[12]; // массив из 12 веществен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объявлении массива можно сразу заполнить его начальными значениями, перечисляя их внутри фигурных скоб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t A[4] = { 2, 3, 12, 76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списке в фигурных скобках записано меньше чисел, чем элементов в массиве, то оставшиеся элементы заполняются нулями. Если чисел больше, чем надо, транслятор сообщает об ошибке. 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t A[4] = { 2 }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/ последние три элементы равны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Си-програм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зыке Си исходные файлы бывают двух тип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ловочные, или h-файл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йлы реализации, или Cи-фай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вышения универсальности программы размер массива лучше определять через констан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onst int N = 20; // конс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nt A[N]; // размер массива задан через констан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 правильного и неправильного объявления масс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1914480"/>
          <a:ext cx="9144000" cy="3962520"/>
        </p:xfrm>
        <a:graphic>
          <a:graphicData uri="http://schemas.openxmlformats.org/drawingml/2006/table">
            <a:tbl>
              <a:tblPr/>
              <a:tblGrid>
                <a:gridCol w="2340000"/>
                <a:gridCol w="2233440"/>
                <a:gridCol w="2286000"/>
                <a:gridCol w="2284560"/>
              </a:tblGrid>
              <a:tr h="78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авильн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[20]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массива указан я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[]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массива неизве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 int N =20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[N]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массива –постоянная вел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N = 20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[N]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массива не может быть перемен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Обращение к элементу массив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ждый элемент массива имеет свой порядковый номер. Чтобы обратиться к элементу массива, надо написать имя массива и затем в квадратных скобках номер нужного эле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Правило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Элементы массивов в языке Си нумеруются с ну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Р: если в массиве 10 элементов, он содержит элемент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[0], A[1], A[2], ..., A[9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мер элемента массива также называется ег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ндекс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римеры обращения к массиву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x = (A[3] + 5)*A[1]; // прочитать значения A[3] и A[1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[0] = x + 6; // записать новое значение в A[0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В языке Си не контролируется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выход за границы массива,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то есть формально вы можете записать что-то в элемент с несуществующим индексом, например в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[345]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или в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[-12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 Однако при этом вы стираете какую-то ячейку в памяти, не относящуюся к массиву, поэтому последствия такого шага непредсказуемы и во многих случаях программа «зависает»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вод с клавиатуры и вывод на эк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массива вводятся с клавиатуры вручну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ив заполняется случайными числами (например, для моделирования случайных процесс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массива читаются из фай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массива поступают через порт с внешнего устройства (например, сканера, модема и т.п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ив заполняется в процессе вычисл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Ввод с клавиатуры применяется в простейших программах, когда объем вводимой информации невелик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ввода массива будем использовать цикл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 Напомним, что массив надо предварительно 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объявить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то есть выделить под него памят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водить можно столько элементов массива, сколько ячеек памяти выделено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вести массив в память, надо каждый его элемент обработать отд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вести с клавиатуры массив из 10 элементов, умножить все элементы на 2 и вывести полученный массив на эк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251928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множения элементов массива на 2 надо снова использовать цикл, в котором за один раз обрабатывается 1 элемент масс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 массива на экран выполняется также в цикл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Элементы выводятся по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iv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вести с клавиатуры массив из 10 элементов, умножить все элементы на 2 и вывести полученный массив на эк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тот прием используется для моделирования случайных процесс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пособы вычисления случайного чис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1197000"/>
          <a:ext cx="9144000" cy="57373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целых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вещественны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лагается, что в начале программы есть строч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 int N = 10;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функции-датчика случайных чисел находится в заголовочном файле stdlib.h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но также добавить в свою программу функцию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торая выдает случайные числа с равномерным распределением в интервале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0,N-1]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random (int N) { return rand() % N; }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получения случайных чисел с равномерны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ением в интервале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,b]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 использовать формулу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= random ( b – a + 1 ) + a;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rand()*(b - a)/RAND_MAX + a;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та RAND_MAX – это максимальное случайное число,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ое выдает стандарт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rand.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яется случайным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ми в интервал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-5,10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масси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лучайным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щественн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ми в том же интерв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 int N 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i, A[N], a = -5, b 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X[N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 i = 0; i &lt; N; i ++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[i] = random(b-a+1) +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 i = 0; i &lt; N; i ++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[i] = (float)rand()*(b-a)/RAND_MAX +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/ здесь что-то делаем с масси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565360"/>
            <a:ext cx="36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умножении результата функ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an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b-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ет получиться очень большое число, которое не поместится в переменную тип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69236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головочные файл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держат только описания. Прежде всего, это прототипы функций. В общем, h-файлы содержат лишь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нтерфейс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т.е. информацию, необходимую для использования программ, уже написанных другими программистам. Заголовочные файлы лишь сообщают информацию о других программах. При трансляции заголовочных файлов, как правило, никакие объекты не создают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головочные файлы служат для передачи информации между модул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гда массив заполняется случайными числами, обязательно вывести на экран исходный масс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2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полнить массив случайными целыми числами в интервале [-10,15], умножить все элементы на 2 и вывести на экран исходный массив и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 int N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, A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( i = 0; i &lt; N; i ++ )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// заполнение массива сл.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[i] = random(26) –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intf("n Исходный массив:\n";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// вывод исходного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0; i &lt; N; i ++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"%d ", A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( i = 0; i &lt; N; i ++ )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// умножить все элементы н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i] = A[i] *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"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0; i &lt; N; i ++ )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вывод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intf("%d ", A[i]);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920" y="1628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троку (массив), состоящую не более чем из 80 символов. Воспользоваться двумя способами ввода и вывода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SSERT.H - Содержит макросы для сообщений об ошибках при выполнении условия, задаваемого программи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TYPE.H - Функции для проверки и преобразования данных типа ch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LOAT.H - Макросы для операций над числами с плавающей точ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IMITS.H - Макросы, задающие диапазоны представления цел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OCALE.H - Представление даты, времени, денежных еди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ATH.H - Пакет стандартных математических фу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ETJUMP.H - Имена типов и функции для реализации операторов перехода, используется ред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IGNAL.H - Макросы для сигнализации об ошибках согласно стандарта AN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TDARG.H - Макросы для вызова функций с переменным числом арг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TDDEF.H - Определение общих типов для указателей, типов size_t и N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TDIO.H - Стандартные функции ввода-выв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TDLIB.H - Определение общих типов, переменных и фу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TRING.H - Функции для операций над строковыми да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IME.H - Структуры и функции для операций с датами и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++ добавлены операции с комплексными числами и десятичными данны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CD.H - Данные, представленные в десятичной системе с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MPLEX.H - Функции и операции над комплексными числами.</a:t>
            </a:r>
            <a:fld id="{62A28178-B08C-4B46-9757-B3814CB21B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5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йте одномерный массив, состоящий из 5 элементов. Далее, заполните его элементы значениями, введенными с клавиатуры и выведете заполненный массив на эк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7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двумерный массив размером 2х4. Т.е. 2 строчки по 4 элемента кажд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6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 = "Rabota ne volk v les ne ybeshit"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составить двумерный массив символов размером 4*4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 реализа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640" y="1195200"/>
            <a:ext cx="90104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т тексты функций и определения глобальных переменных. Говоря упрощенно, Си-файлы содержат сами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йлы реализации - это отдельные модули, которые разрабатываются и транслируются независимо друг от друга и объединяются при создании выполняемой програ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7:15:55Z</dcterms:created>
  <dc:creator>GEG</dc:creator>
  <dc:description/>
  <dc:language>en-US</dc:language>
  <cp:lastModifiedBy>Юлия</cp:lastModifiedBy>
  <dcterms:modified xsi:type="dcterms:W3CDTF">2011-10-20T09:44:12Z</dcterms:modified>
  <cp:revision>114</cp:revision>
  <dc:subject/>
  <dc:title>Программирование на ЯВУ</dc:title>
</cp:coreProperties>
</file>