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A507D-7B22-4C57-867B-D38C54823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48A289-641E-475B-B3E0-930E4BE055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CDE70B-2D57-4A56-89A9-7F595B05F1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7FF4-4710-4D9D-BC73-395CF57F8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9260-5DAF-438F-A066-E5D8DA7FA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FAB2-7D78-40AE-9716-5CA47176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907B-989D-4199-9576-14361E2CF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569E-68AC-4D99-BD62-39FEC0FDA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668B-A615-4330-9C96-F9B8F12DF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847D-B429-43AA-AE66-36D7C4146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8BDD-4A1E-4DDE-90D0-2B25C12EA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AC9-C5E5-4EAA-BA1D-809FEFE60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D0BC-E8D7-4FDF-AF96-E5134E8CF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D227-DE23-493D-B21C-0251E47BB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CA17-8A29-4A21-ABE8-82E23485E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7FBE79-96C5-49F5-9832-104B6B88E58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4360" y="-144720"/>
            <a:ext cx="2979720" cy="2842920"/>
            <a:chOff x="6894360" y="-144720"/>
            <a:chExt cx="2979720" cy="28429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4360" y="-144720"/>
              <a:ext cx="2979720" cy="2842920"/>
              <a:chOff x="6894360" y="-144720"/>
              <a:chExt cx="2979720" cy="28429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4360" y="-144720"/>
                <a:ext cx="2979720" cy="2842920"/>
                <a:chOff x="6894360" y="-144720"/>
                <a:chExt cx="2979720" cy="28429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7440" y="-24120"/>
                  <a:ext cx="348480" cy="225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02360" y="643680"/>
                  <a:ext cx="613080" cy="7909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1680" y="407880"/>
                  <a:ext cx="1154160" cy="16210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18600" y="63000"/>
                  <a:ext cx="1730880" cy="24267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5400" y="1857960"/>
                  <a:ext cx="385200" cy="2199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90080" y="1654920"/>
                  <a:ext cx="412560" cy="2599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4800" y="299880"/>
                  <a:ext cx="412560" cy="2653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41440" y="137160"/>
                  <a:ext cx="407880" cy="2487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24000" y="476280"/>
            <a:ext cx="8388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БПОУ «1-МОК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труктурное подразделение «Детский Сад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овместное творчество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етей и родителе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одно из условий обогащения социокультурной среды</a:t>
            </a:r>
            <a:br>
              <a:rPr sz="4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Воспитатель ГБПОУ «1-МОК» СПДС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(Заревый проезд, дом 8, корпус 2)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Родионова Татьяна Анатолье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61928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373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086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ие родителей в детских праздни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3995640" y="4292640"/>
            <a:ext cx="2962440" cy="2222640"/>
          </a:xfrm>
          <a:prstGeom prst="rect">
            <a:avLst/>
          </a:prstGeom>
          <a:ln w="0">
            <a:noFill/>
          </a:ln>
        </p:spPr>
      </p:pic>
      <p:pic>
        <p:nvPicPr>
          <p:cNvPr id="128" name="Объект 3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963880" cy="222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29624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6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Привет, Чиполлино!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3276720" y="2808360"/>
            <a:ext cx="1871640" cy="249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415960" cy="322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5796000" y="424980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5545080" y="1844640"/>
            <a:ext cx="29494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342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Наша озорная Чукок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911320" cy="21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403280" y="4186080"/>
            <a:ext cx="2984400" cy="22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5003640" y="1789200"/>
            <a:ext cx="2913120" cy="218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5003640" y="4186080"/>
            <a:ext cx="29847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686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 Наш любимый Пушки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29360" y="1700280"/>
            <a:ext cx="2135160" cy="291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06320" y="1484280"/>
            <a:ext cx="326556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2340000" y="40719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Волшебная пуговиц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Объект 1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788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91920"/>
            <a:ext cx="76946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отрудничество с родителями — это важнейшее условие повышения эффективности воспитательно-образовательного процесс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1087560" y="404640"/>
            <a:ext cx="6757920" cy="3311640"/>
            <a:chOff x="1087560" y="404640"/>
            <a:chExt cx="6757920" cy="331164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1087560" y="404640"/>
              <a:ext cx="675792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"/>
            <p:cNvSpPr/>
            <p:nvPr/>
          </p:nvSpPr>
          <p:spPr>
            <a:xfrm>
              <a:off x="1087560" y="404640"/>
              <a:ext cx="675792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0" name="Text Box 4"/>
          <p:cNvSpPr/>
          <p:nvPr/>
        </p:nvSpPr>
        <p:spPr>
          <a:xfrm>
            <a:off x="1625760" y="885960"/>
            <a:ext cx="59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3346560" y="3357720"/>
            <a:ext cx="2533680" cy="26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00000" y="620640"/>
            <a:ext cx="7694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циокультурная среда образовательного учреждения понимается как целостное единств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происходящих в ней социокультурных событий, значимых для детей, педагогов, родител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существующих в ней принципов, правил, норм взаимодействия и стиля отношений между детьми, педагогами, родителя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предметно-пространственной среды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69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Значение совместного творчества детей и родителей в развитии личности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же давно психологи и педагоги единогласно утверждают, что совместное творчество детей и родителей формирует хорошие доверительные отношения между ними, оказывает положительное влияние на развитие ребенка и приучает его сотруднич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907560"/>
            <a:ext cx="7694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ворческий процесс стимулирует всестороннее развитие ребенка: совершенствуются моторные навыки, формируется воображение, раскрывается творческий потенциа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роме того, совместная творческая деятельность – интересное времяпровожд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686916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Летние просторы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Объект 1" descr=""/>
          <p:cNvPicPr/>
          <p:nvPr/>
        </p:nvPicPr>
        <p:blipFill>
          <a:blip r:embed="rId1"/>
          <a:stretch/>
        </p:blipFill>
        <p:spPr>
          <a:xfrm>
            <a:off x="2050920" y="4122720"/>
            <a:ext cx="3479760" cy="233208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1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473560" cy="35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826920" y="143676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6916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Осенняя сказ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72360" y="2292480"/>
            <a:ext cx="2457360" cy="284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2994120" y="1600200"/>
            <a:ext cx="3130560" cy="20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09680" y="2220840"/>
            <a:ext cx="2346120" cy="32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073320" y="41497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3720" y="189000"/>
            <a:ext cx="6869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Новогодний геро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23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3" descr=""/>
          <p:cNvPicPr/>
          <p:nvPr/>
        </p:nvPicPr>
        <p:blipFill>
          <a:blip r:embed="rId2"/>
          <a:stretch/>
        </p:blipFill>
        <p:spPr>
          <a:xfrm>
            <a:off x="5294160" y="1125360"/>
            <a:ext cx="2953080" cy="221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2827440" y="2728800"/>
            <a:ext cx="2295360" cy="35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324000" y="1320840"/>
            <a:ext cx="23414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22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курс « День Побед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3" descr=""/>
          <p:cNvPicPr/>
          <p:nvPr/>
        </p:nvPicPr>
        <p:blipFill>
          <a:blip r:embed="rId2"/>
          <a:stretch/>
        </p:blipFill>
        <p:spPr>
          <a:xfrm>
            <a:off x="5867280" y="1755720"/>
            <a:ext cx="2592360" cy="327816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3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6869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курс «Космо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6099120" y="1844640"/>
            <a:ext cx="2163960" cy="337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6636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48000" y="3213000"/>
            <a:ext cx="236232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Мои документы</cp:lastModifiedBy>
  <dcterms:modified xsi:type="dcterms:W3CDTF">2015-10-06T09:01:59Z</dcterms:modified>
  <cp:revision>112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