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F406FD-81FF-4CC6-9867-CBFAE64A1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5E3D40-738A-4DF2-B9A4-AD758B70F88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E36E1A-C6D7-4D8D-B9CC-8AE52051072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83F6-E3C4-4A94-BC07-21AF6FA78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87B0-02B0-4CDF-B137-707B53912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D13E-2292-418B-8712-9B6FAE59F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EA3E-AB04-42B0-8648-B0F81C0AE8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A9A7-9A45-45CD-8A81-5D6825D093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FCB1-B8AB-4239-978E-816879D27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F80C-913B-4A28-BB84-99EA98EC4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8102-CCD8-49BC-B4D1-D6A970A50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923E-BDE2-483B-9913-51E032A70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6CD0-43F0-450D-9E96-572E3DF45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0065-2CCE-40F6-AF61-BBE475B02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16B5-A767-4523-87B2-73CB9CB10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3716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556080" y="624852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DC806B-FF81-42C9-9586-A3C86D1AF77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9" name="Freeform 10"/>
            <p:cNvSpPr/>
            <p:nvPr/>
          </p:nvSpPr>
          <p:spPr>
            <a:xfrm>
              <a:off x="38160" y="5563800"/>
              <a:ext cx="1728720" cy="10285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20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0400"/>
              <a:ext cx="1257480" cy="6498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4040"/>
              <a:ext cx="833400" cy="5925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664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708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5800"/>
              <a:ext cx="306360" cy="6069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8800"/>
              <a:ext cx="577800" cy="27540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188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3760"/>
                  <a:ext cx="248760" cy="1371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2280" y="5654160"/>
                  <a:ext cx="68040" cy="18504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3800"/>
                <a:ext cx="944640" cy="396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788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1360"/>
                <a:ext cx="169920" cy="37692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6600"/>
                  <a:ext cx="1335240" cy="69624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7760" y="5983200"/>
                  <a:ext cx="126720" cy="26388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080" y="5540400"/>
                  <a:ext cx="510480" cy="9396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6560" y="5793120"/>
                  <a:ext cx="151920" cy="3988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19840" y="5761440"/>
                  <a:ext cx="309240" cy="21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36" name="Freeform 37"/>
            <p:cNvSpPr/>
            <p:nvPr/>
          </p:nvSpPr>
          <p:spPr>
            <a:xfrm flipH="1">
              <a:off x="8680320" y="4158360"/>
              <a:ext cx="324000" cy="22644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0440" y="2116080"/>
              <a:ext cx="324000" cy="25912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4360" y="-144720"/>
            <a:ext cx="2979720" cy="2842920"/>
            <a:chOff x="6894360" y="-144720"/>
            <a:chExt cx="2979720" cy="284292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4360" y="-144720"/>
              <a:ext cx="2979720" cy="2842920"/>
              <a:chOff x="6894360" y="-144720"/>
              <a:chExt cx="2979720" cy="284292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8400" y="172512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4360" y="-144720"/>
                <a:ext cx="2979720" cy="2842920"/>
                <a:chOff x="6894360" y="-144720"/>
                <a:chExt cx="2979720" cy="284292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777440" y="-24120"/>
                  <a:ext cx="348480" cy="225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902360" y="643680"/>
                  <a:ext cx="613080" cy="7909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501680" y="407880"/>
                  <a:ext cx="1154160" cy="162108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518600" y="63000"/>
                  <a:ext cx="1730880" cy="24267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75400" y="1857960"/>
                  <a:ext cx="385200" cy="21996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90080" y="1654920"/>
                  <a:ext cx="412560" cy="25992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804800" y="299880"/>
                  <a:ext cx="412560" cy="2653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741440" y="137160"/>
                  <a:ext cx="407880" cy="2487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11280" y="476280"/>
            <a:ext cx="7056360" cy="475308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24000" y="476280"/>
            <a:ext cx="83883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ГБПОУ «1-МОК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Структурное подразделение «Детский Сад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овместное творчество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етей и родителей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ак одно из условий обогащения социокультурной среды</a:t>
            </a:r>
            <a:br>
              <a:rPr sz="4000"/>
            </a:br>
            <a:r>
              <a:rPr b="1" lang="ru-RU" sz="2000" spc="-1" strike="noStrike">
                <a:solidFill>
                  <a:srgbClr val="0d0d0d"/>
                </a:solidFill>
                <a:latin typeface="Comic Sans MS"/>
              </a:rPr>
              <a:t>           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d0d0d"/>
                </a:solidFill>
                <a:latin typeface="Comic Sans MS"/>
              </a:rPr>
              <a:t>Воспитатель ГБПОУ «1-МОК» СПДС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omic Sans MS"/>
              </a:rPr>
              <a:t>(Заревый проезд, дом 8, корпус 2)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omic Sans MS"/>
              </a:rPr>
              <a:t>Родионова Татьяна Анатольев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1619280" y="3573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5796000" y="1268280"/>
            <a:ext cx="23731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0866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астие родителей в детских праздник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tretch/>
        </p:blipFill>
        <p:spPr>
          <a:xfrm>
            <a:off x="3995640" y="4292640"/>
            <a:ext cx="2962440" cy="2222640"/>
          </a:xfrm>
          <a:prstGeom prst="rect">
            <a:avLst/>
          </a:prstGeom>
          <a:ln w="0">
            <a:noFill/>
          </a:ln>
        </p:spPr>
      </p:pic>
      <p:pic>
        <p:nvPicPr>
          <p:cNvPr id="128" name="Объект 3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2963880" cy="2222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5076720" y="1916280"/>
            <a:ext cx="29624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691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ект «Привет, Чиполлино!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Объект 3" descr=""/>
          <p:cNvPicPr/>
          <p:nvPr/>
        </p:nvPicPr>
        <p:blipFill>
          <a:blip r:embed="rId1"/>
          <a:stretch/>
        </p:blipFill>
        <p:spPr>
          <a:xfrm>
            <a:off x="3276720" y="2808360"/>
            <a:ext cx="1871640" cy="2498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2415960" cy="3220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5796000" y="4249800"/>
            <a:ext cx="1800360" cy="240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4"/>
          <a:stretch/>
        </p:blipFill>
        <p:spPr>
          <a:xfrm>
            <a:off x="5545080" y="1844640"/>
            <a:ext cx="29494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3422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ект «Наша озорная Чукоккол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2911320" cy="2184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1403280" y="4186080"/>
            <a:ext cx="2984400" cy="2240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5003640" y="1789200"/>
            <a:ext cx="2913120" cy="2184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5003640" y="4186080"/>
            <a:ext cx="2984760" cy="22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68691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ект « Наш любимый Пушкин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129360" y="1700280"/>
            <a:ext cx="2135160" cy="2914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706320" y="1484280"/>
            <a:ext cx="326556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2340000" y="407196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ект «Волшебная пуговиц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Объект 1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7788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91920"/>
            <a:ext cx="769464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отрудничество с родителями — это важнейшее условие повышения эффективности воспитательно-образовательного процесса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"/>
          <p:cNvGrpSpPr/>
          <p:nvPr/>
        </p:nvGrpSpPr>
        <p:grpSpPr>
          <a:xfrm>
            <a:off x="1087560" y="404640"/>
            <a:ext cx="6757920" cy="3311640"/>
            <a:chOff x="1087560" y="404640"/>
            <a:chExt cx="6757920" cy="3311640"/>
          </a:xfrm>
        </p:grpSpPr>
        <p:pic>
          <p:nvPicPr>
            <p:cNvPr id="148" name="Picture 2" descr=""/>
            <p:cNvPicPr/>
            <p:nvPr/>
          </p:nvPicPr>
          <p:blipFill>
            <a:blip r:embed="rId1"/>
            <a:stretch/>
          </p:blipFill>
          <p:spPr>
            <a:xfrm>
              <a:off x="1087560" y="404640"/>
              <a:ext cx="6757920" cy="33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3"/>
            <p:cNvSpPr/>
            <p:nvPr/>
          </p:nvSpPr>
          <p:spPr>
            <a:xfrm>
              <a:off x="1087560" y="404640"/>
              <a:ext cx="675792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0" name="Text Box 4"/>
          <p:cNvSpPr/>
          <p:nvPr/>
        </p:nvSpPr>
        <p:spPr>
          <a:xfrm>
            <a:off x="1625760" y="885960"/>
            <a:ext cx="597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Comic Sans MS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3346560" y="3357720"/>
            <a:ext cx="2533680" cy="260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00000" y="620640"/>
            <a:ext cx="7694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оциокультурная среда образовательного учреждения понимается как целостное единство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- происходящих в ней социокультурных событий, значимых для детей, педагогов, родител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- существующих в ней принципов, правил, норм взаимодействия и стиля отношений между детьми, педагогами, родителя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- предметно-пространственной среды образовательного учрежд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691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Значение совместного творчества детей и родителей в развитии личности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Уже давно психологи и педагоги единогласно утверждают, что совместное творчество детей и родителей формирует хорошие доверительные отношения между ними, оказывает положительное влияние на развитие ребенка и приучает его сотруднич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11280" y="907560"/>
            <a:ext cx="76946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ворческий процесс стимулирует всестороннее развитие ребенка: совершенствуются моторные навыки, формируется воображение, раскрывается творческий потенциа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Кроме того, совместная творческая деятельность – интересное времяпровожд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686916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ыставка «Летние просторы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Объект 1" descr=""/>
          <p:cNvPicPr/>
          <p:nvPr/>
        </p:nvPicPr>
        <p:blipFill>
          <a:blip r:embed="rId1"/>
          <a:stretch/>
        </p:blipFill>
        <p:spPr>
          <a:xfrm>
            <a:off x="2050920" y="4122720"/>
            <a:ext cx="3479760" cy="2332080"/>
          </a:xfrm>
          <a:prstGeom prst="rect">
            <a:avLst/>
          </a:prstGeom>
          <a:ln w="0">
            <a:noFill/>
          </a:ln>
        </p:spPr>
      </p:pic>
      <p:pic>
        <p:nvPicPr>
          <p:cNvPr id="103" name="Объект 1" descr=""/>
          <p:cNvPicPr/>
          <p:nvPr/>
        </p:nvPicPr>
        <p:blipFill>
          <a:blip r:embed="rId2"/>
          <a:stretch/>
        </p:blipFill>
        <p:spPr>
          <a:xfrm>
            <a:off x="5940360" y="1844640"/>
            <a:ext cx="2473560" cy="355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826920" y="1436760"/>
            <a:ext cx="35290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686916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ыставка «Осенняя сказка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372360" y="2292480"/>
            <a:ext cx="2457360" cy="2847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2994120" y="1600200"/>
            <a:ext cx="3130560" cy="2085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409680" y="2220840"/>
            <a:ext cx="2346120" cy="3247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3073320" y="41497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3720" y="189000"/>
            <a:ext cx="6869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ыставка «Новогодний герой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5580000" y="3500280"/>
            <a:ext cx="23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Объект 3" descr=""/>
          <p:cNvPicPr/>
          <p:nvPr/>
        </p:nvPicPr>
        <p:blipFill>
          <a:blip r:embed="rId2"/>
          <a:stretch/>
        </p:blipFill>
        <p:spPr>
          <a:xfrm>
            <a:off x="5294160" y="1125360"/>
            <a:ext cx="2953080" cy="221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2827440" y="2728800"/>
            <a:ext cx="2295360" cy="351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324000" y="1320840"/>
            <a:ext cx="23414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2291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нкурс « День Победы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Объект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673440" cy="24480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3" descr=""/>
          <p:cNvPicPr/>
          <p:nvPr/>
        </p:nvPicPr>
        <p:blipFill>
          <a:blip r:embed="rId2"/>
          <a:stretch/>
        </p:blipFill>
        <p:spPr>
          <a:xfrm>
            <a:off x="5867280" y="1755720"/>
            <a:ext cx="2592360" cy="3278160"/>
          </a:xfrm>
          <a:prstGeom prst="rect">
            <a:avLst/>
          </a:prstGeom>
          <a:ln w="0">
            <a:noFill/>
          </a:ln>
        </p:spPr>
      </p:pic>
      <p:pic>
        <p:nvPicPr>
          <p:cNvPr id="118" name="Объект 3" descr=""/>
          <p:cNvPicPr/>
          <p:nvPr/>
        </p:nvPicPr>
        <p:blipFill>
          <a:blip r:embed="rId3"/>
          <a:stretch/>
        </p:blipFill>
        <p:spPr>
          <a:xfrm>
            <a:off x="1979640" y="414972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6869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нкурс «Космос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Объект 3" descr=""/>
          <p:cNvPicPr/>
          <p:nvPr/>
        </p:nvPicPr>
        <p:blipFill>
          <a:blip r:embed="rId1"/>
          <a:stretch/>
        </p:blipFill>
        <p:spPr>
          <a:xfrm>
            <a:off x="6099120" y="1844640"/>
            <a:ext cx="2163960" cy="337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663640" cy="355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48000" y="3213000"/>
            <a:ext cx="236232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1:40:59Z</dcterms:created>
  <dc:creator>User</dc:creator>
  <dc:description/>
  <dc:language>en-US</dc:language>
  <cp:lastModifiedBy>Мои документы</cp:lastModifiedBy>
  <dcterms:modified xsi:type="dcterms:W3CDTF">2015-10-06T09:01:59Z</dcterms:modified>
  <cp:revision>112</cp:revision>
  <dc:subject/>
  <dc:title>Дошкольный возраст – период интенсивного интереса к сопоставлению различных позиций по отношению к предмету деятельности. </dc:title>
</cp:coreProperties>
</file>