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FF6-339C-4843-8974-506419A4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E91-D238-443E-8313-275AF891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E78-0BA9-4654-8390-84F698CC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E90-DB51-4302-8298-0DACDF79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FCBB-4F94-4303-BF11-CEB27F65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798B-0CE1-4890-BF01-C8D2665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3E30-0E5D-4E6D-9749-D9E2AD1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68E1-4DF2-4B02-BE78-E82F69C3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3A18-558D-4AF6-AF71-46824661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0122-0DF9-4DBA-90F8-A13BD830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EB56-5F9B-4AE6-B9DA-0EAACA4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42C-6938-475C-88B4-4D3EEB68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DD0E-58FC-4F17-B800-FF7C240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665-11F0-41C6-AD35-8C4A323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99E-E280-4325-B4BD-2603AB5A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34DB-C666-458D-9436-28A8087A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2AF3-004C-47EE-BF65-44549CBF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787-95E7-4FE7-88C3-1692CECA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D74-28FF-49F8-865D-6BA79145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8F7-4B1D-4840-A07C-F60BBFA1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128-875D-40FE-B32E-DEB259E2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9E7-376F-47BC-9577-54DF039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537-CE12-4C98-8CF4-8D859B7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3BD-DAE4-4C24-BA6C-68C1960A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818-D106-4ADE-8F97-A3C1ADA01F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5B6-2277-48D1-A73D-19B7148613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549360"/>
            <a:ext cx="777240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ксез-чиксез сине</a:t>
            </a:r>
            <a:r>
              <a:rPr b="0" lang="tt-RU" sz="3600" spc="-1" strike="noStrike">
                <a:solidFill>
                  <a:srgbClr val="330033"/>
                </a:solidFill>
                <a:latin typeface="Times New Roman"/>
              </a:rPr>
              <a:t>ң байлыгың..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7469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ыйфатларны кабатлау дәре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Табл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аны тикшер</a:t>
            </a: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ү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1484280"/>
          <a:ext cx="8007480" cy="4537080"/>
        </p:xfrm>
        <a:graphic>
          <a:graphicData uri="http://schemas.openxmlformats.org/drawingml/2006/table">
            <a:tbl>
              <a:tblPr/>
              <a:tblGrid>
                <a:gridCol w="2001960"/>
                <a:gridCol w="2001600"/>
                <a:gridCol w="2001960"/>
                <a:gridCol w="2001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алл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үз ясалыш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йфат дәрәҗә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Җөмлә кисәг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мы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әбә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ыкл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ал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мл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ергы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Тел – күңел көзгесе.</a:t>
            </a:r>
            <a:br>
              <a:rPr sz="4200"/>
            </a:br>
            <a:r>
              <a:rPr b="0" lang="tt-RU" sz="1900" spc="-1" strike="noStrike">
                <a:solidFill>
                  <a:srgbClr val="330033"/>
                </a:solidFill>
                <a:latin typeface="Times New Roman"/>
              </a:rPr>
              <a:t>(йомгаклау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, минем җандай кадер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 җылы, тере 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айгылар теле түгел с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Шатлыклар теле бүг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ик синең ярдәмең белә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ик синең сүзләр белә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Уйларын йөрәккәемне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Дө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га әйтә белә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Хәсән Туф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 дәрәҗәләр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Г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Чагыш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ртыкл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им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330033"/>
                </a:solidFill>
                <a:latin typeface="Times New Roman"/>
              </a:rPr>
              <a:t>Туган авылым минем.</a:t>
            </a:r>
            <a:br>
              <a:rPr sz="3400"/>
            </a:br>
            <a:r>
              <a:rPr b="0" lang="tt-RU" sz="2100" spc="-1" strike="noStrike">
                <a:solidFill>
                  <a:srgbClr val="330033"/>
                </a:solidFill>
                <a:latin typeface="Times New Roman"/>
              </a:rPr>
              <a:t>( телдән хикәя төзү )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уган җирем, аяк басу белән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 яшәргә синнән көч алам.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индә туып канат чыгардым мин-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еңнәр арасыннан бер бала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анатларым җәеп очып китте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алды болын,кырлар ,тугай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лләр гизеп сагынып кайтам сиң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индәй гүзәл җирләр кайда бар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(Фәүзия Солт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ң ма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у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Балык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Гүзә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ыр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иноним һәм антоним</a:t>
            </a:r>
            <a:br>
              <a:rPr sz="4200"/>
            </a:b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йфатларның синонимнарын 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кечкенә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о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алкы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л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баты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гүзә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яхш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йфатларн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антонимнарын 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чист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акыл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нада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мату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э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әч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кар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ның исемләшү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 чәчәкләрнең акларын җыярга я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ызылы – безнең яраткан чәчәгеб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Никтер, сарыларына бал кортлары ешрак килеп к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нмыш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вгуст ахырларында җәйге шат урман көзге моңсулык белән очраша. Куәтле имәннәр,аларның кече туганы өрәңгеләр, бик калын киемле юкәләр әле җәйдәгечә 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-яшелләр,шат һәм көр күңеллеләр.Ә менә бөдрә каеннар,нечкәбил усаклар,зифа миләшләр көз якынлашуын әллә кайдан сизеп алганн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Тест чишү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1. а) мод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) мөстәкы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в) бәйләге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2. а) төрлән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) төрлән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3. а)  предмет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) эшне ,хәрәкәт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в)  предметның билг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4. а) сыйфатланмыш белән килгәнд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б) сыйфатланмыштан башка килгәнд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5. а) г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б) чагышты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в) артыкл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г)  кимл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6. а) тамы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б) ясал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в) саф куш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г) пар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600" spc="-1" strike="noStrike">
                <a:solidFill>
                  <a:srgbClr val="000000"/>
                </a:solidFill>
                <a:latin typeface="Arial"/>
              </a:rPr>
              <a:t>д) тезм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330033"/>
                </a:solidFill>
                <a:latin typeface="Times New Roman"/>
              </a:rPr>
              <a:t>Сыйфатларның ясалыш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амыр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салм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аф кушм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Парл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езмә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0:41:42Z</dcterms:created>
  <dc:creator>Фарит</dc:creator>
  <dc:description/>
  <dc:language>en-US</dc:language>
  <cp:lastModifiedBy>Фарит</cp:lastModifiedBy>
  <dcterms:modified xsi:type="dcterms:W3CDTF">2008-02-05T12:36:00Z</dcterms:modified>
  <cp:revision>6</cp:revision>
  <dc:subject/>
  <dc:title>Иксез-чиксез синең байлыгың...</dc:title>
</cp:coreProperties>
</file>