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9DE-EEDF-4766-B95A-006238B0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602-AC76-4DFD-A529-A3AD496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39C-7DC9-4B13-B484-E56DEBA6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252-53B4-4C73-A683-E20377D2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7F86-3EBC-4126-8A50-D1907A6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E5D8-F72F-4F42-AB7E-AAEB6D4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76E2-9395-43BF-BAF2-FEF26265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F654-16AB-4DAE-B56E-76F49BD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D7CC-D026-42D2-A7E1-B6E3EE3C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4FC-4836-44EB-9A83-6AB3787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3E62-9054-413B-81F3-DAF6B8B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F22-3C09-4AF2-99D6-D2AEF5F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945-9D11-4E9B-8A92-09ECFA9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41B-3F20-4B70-BACF-05E42E21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7AF4-E815-4BC0-8C8C-2769CF7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4CEC-0BA3-46D2-AF9D-02234736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3773-24D1-45C9-9927-2D19ED7A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EE8-D90A-4C24-9690-974035F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72B-CE7D-4B5E-9D2E-FAD6DF9C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857-7B2C-43F9-AF5E-3D132BF7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815-2966-4228-B654-2C65F71E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E2D-B4F7-47F5-B811-06CA740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99E-30C5-44D3-92A3-1E51045C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454-58C4-4709-A02D-94CC2EF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BCC0-F889-418C-BB1F-82EA27E7F6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515-F829-4F43-9BCF-FEA519BB94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549360"/>
            <a:ext cx="777240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ксез-чиксез сине</a:t>
            </a:r>
            <a:r>
              <a:rPr b="0" lang="tt-RU" sz="3600" spc="-1" strike="noStrike">
                <a:solidFill>
                  <a:srgbClr val="330033"/>
                </a:solidFill>
                <a:latin typeface="Times New Roman"/>
              </a:rPr>
              <a:t>ң байлыгың..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7469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ыйфатларны кабатлау дәре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Табл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аны тикшер</a:t>
            </a: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ү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1484280"/>
          <a:ext cx="8007480" cy="4537080"/>
        </p:xfrm>
        <a:graphic>
          <a:graphicData uri="http://schemas.openxmlformats.org/drawingml/2006/table">
            <a:tbl>
              <a:tblPr/>
              <a:tblGrid>
                <a:gridCol w="2001960"/>
                <a:gridCol w="2001600"/>
                <a:gridCol w="2001960"/>
                <a:gridCol w="2001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алл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үз ясалыш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йфат дәрәҗә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Җөмлә кисәг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мы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әбә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ыкл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ал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мл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ергы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Тел – күңел көзгесе.</a:t>
            </a:r>
            <a:br>
              <a:rPr sz="4200"/>
            </a:br>
            <a:r>
              <a:rPr b="0" lang="tt-RU" sz="1900" spc="-1" strike="noStrike">
                <a:solidFill>
                  <a:srgbClr val="330033"/>
                </a:solidFill>
                <a:latin typeface="Times New Roman"/>
              </a:rPr>
              <a:t>(йомгаклау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, минем җандай кадер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 җылы, тере 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айгылар теле түгел с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Шатлыклар теле бүг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ик синең ярдәмең белә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ик синең сүзләр белә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Уйларын йөрәккәемне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Дө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га әйтә белә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әсән Туф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 дәрәҗәләр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Чагыш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ртыкл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им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330033"/>
                </a:solidFill>
                <a:latin typeface="Times New Roman"/>
              </a:rPr>
              <a:t>Туган авылым минем.</a:t>
            </a:r>
            <a:br>
              <a:rPr sz="3400"/>
            </a:br>
            <a:r>
              <a:rPr b="0" lang="tt-RU" sz="2100" spc="-1" strike="noStrike">
                <a:solidFill>
                  <a:srgbClr val="330033"/>
                </a:solidFill>
                <a:latin typeface="Times New Roman"/>
              </a:rPr>
              <a:t>( телдән хикәя төзү )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уган җирем, аяк басу белән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яшәргә синнән көч алам.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дә туып канат чыгардым мин-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еңнәр арасыннан бер бала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анатларым җәеп очып китте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алды болын,кырлар ,тугай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лләр гизеп сагынып кайтам сиң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дәй гүзәл җирләр кайда бар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(Фәүзия Солт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ң ма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у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Балык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үзә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ыр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иноним һәм антоним</a:t>
            </a:r>
            <a:br>
              <a:rPr sz="4200"/>
            </a:b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йфатларның синонимнарын 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кечкенә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о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алкы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л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аты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гүзә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яхш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йфатларн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антонимнарын 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чис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акыл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нада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мату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э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әч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кар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ның исемләшү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чәчәкләрнең акларын җыярга я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ызылы – безнең яраткан чәчәгеб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Никтер, сарыларына бал кортлары ешрак килеп к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нмыш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вгуст ахырларында җәйге шат урман көзге моңсулык белән очраша. Куәтле имәннәр,аларның кече туганы өрәңгеләр, бик калын киемле юкәләр әле җәйдәгечә 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-яшелләр,шат һәм көр күңеллеләр.Ә менә бөдрә каеннар,нечкәбил усаклар,зифа миләшләр көз якынлашуын әллә кайдан сизеп алганн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Тест чишү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1. а) мод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) мөстәкы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в) бәйләге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2. а) төрлән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) төрлән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3. а)  предмет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) эшне ,хәрәкәт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в)  предметның билг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4. а) сыйфатланмыш белән килгәнд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б) сыйфатланмыштан башка килгәнд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5. а) г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б) чагышты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в) артыкл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г)  кимл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6. а) тамы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б) ясал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в) саф куш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г) пар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д) тезм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ның ясалыш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амы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салм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аф кушм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Парл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езмә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0:41:42Z</dcterms:created>
  <dc:creator>Фарит</dc:creator>
  <dc:description/>
  <dc:language>en-US</dc:language>
  <cp:lastModifiedBy>Фарит</cp:lastModifiedBy>
  <dcterms:modified xsi:type="dcterms:W3CDTF">2008-02-05T12:36:00Z</dcterms:modified>
  <cp:revision>6</cp:revision>
  <dc:subject/>
  <dc:title>Иксез-чиксез синең байлыгың...</dc:title>
</cp:coreProperties>
</file>