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0728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3772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60360" y="1079640"/>
            <a:ext cx="8244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i="1" lang="ru-RU" sz="6600" spc="-1" strike="noStrike">
                <a:solidFill>
                  <a:srgbClr val="00dcff"/>
                </a:solidFill>
                <a:latin typeface="Arial"/>
              </a:rPr>
              <a:t>Рабочая программа учебного предме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9520" y="1806480"/>
            <a:ext cx="42008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Вечные вопросы, на которые каждый отвечает са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9640" y="180648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. Багов «Победитель», Н. Фаттах «Наш дедушка», Нартский эпос, Дж. Чуяко «Две дудки», Н. Куек «Ким и дожд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9160" y="19796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«Россия, родина мо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00360" y="1260000"/>
            <a:ext cx="540036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 Машбаш «Не спорю», А. Гадагатль «Адыгея моя», И. Машбаш «Адыги», Дж.чуяко «Добрый обычай», М. Паранук  «Родной  язык», Р. Нехай «Мой адыгейский язык», Х. Беретарь «Имя твое», К. Жане «Адыг в Москве», Дж. Чуяко «Степной простор», К Жане «Дружб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906480"/>
            <a:ext cx="86090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33cc66"/>
                </a:solidFill>
                <a:latin typeface="Times New Roman"/>
                <a:ea typeface="ＭＳ Ｐ明朝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54000" y="719280"/>
            <a:ext cx="99536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Рабочая программа учебного предмета- это индивидуальный инструмент педагога, предусматривающий наиболее оптимальные и эффективные для определенного класса, содержания, формы, методы и приемы организации образовательного процесса, с целью получения результата, соответствующего требованиям станда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35320" y="639720"/>
            <a:ext cx="70135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азделы рабочей програм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60360" y="1260360"/>
            <a:ext cx="70009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яснительная запис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81360" y="3749760"/>
            <a:ext cx="747864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цели и задачи кур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бщая характеристика учебного предм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сновные  содержательные ли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бщеучебные умения, навыки и способы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0000" y="585720"/>
            <a:ext cx="76993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нностные ориентиры содержания учебного предм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16080" y="3619440"/>
            <a:ext cx="60166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сто учебного предмета в учебном пл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12760"/>
            <a:ext cx="56228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ы изучения учебного пред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0960" y="2025720"/>
            <a:ext cx="98679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личнос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метапредме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предме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технология обучения (системно-деятельностный подход и дидактическая система развивающего обучения Л,В, Занко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1000" y="212760"/>
            <a:ext cx="7748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одержание начального общего образования по предм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5600" y="2384280"/>
            <a:ext cx="79344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беспечение преемственности в образовании( 1-2 ступен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5040360"/>
            <a:ext cx="6437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ематическое планирование учебного предм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60720" y="0"/>
            <a:ext cx="70135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Ресур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1079640"/>
            <a:ext cx="780084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Материально-техническое обеспечение учебного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1. библиотечный фонд(книгопечатная продукция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2. Печатные пособ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3. Технические средства обуч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4. Игры и игруш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5. Оборудование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342720"/>
            <a:ext cx="86090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ционально-региональный компонент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Литературное чтение 4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30080" y="2100240"/>
          <a:ext cx="860904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86090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319640" y="2700360"/>
          <a:ext cx="5040360" cy="414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9640" y="2700360"/>
                    <a:ext cx="50403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00000" y="54007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3600360"/>
            <a:ext cx="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5580000"/>
            <a:ext cx="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648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60840" y="2160720"/>
            <a:ext cx="42008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В школе жиз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7280" y="2340000"/>
            <a:ext cx="538164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Добрая девушка» (сказка), «Самоуправляющая страна нарта Тлепша», М. Кесебежев «Нашей матери.» К. Жане «Цветы как люди», К. Жане «Это было в бою...», Р. Нехай «Нарты», Р. Нехай «Друг», Дж. Чуяко «Чужая бол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60840" y="539280"/>
            <a:ext cx="42008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Мы в отве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Сто фантаз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9520" y="366840"/>
            <a:ext cx="42004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Х. Панеш «Птичка и арбузное семечко», Х. Хурумов «Принимая вызов», «День начинается с доб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Х. Панеш «Беч учится плавать», Х. Панеш «Что за дверь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14:41Z</dcterms:created>
  <dc:creator/>
  <dc:description/>
  <dc:language>en-US</dc:language>
  <cp:lastModifiedBy>PC-Comp</cp:lastModifiedBy>
  <dcterms:modified xsi:type="dcterms:W3CDTF">2015-10-06T11:25:50Z</dcterms:modified>
  <cp:revision>6</cp:revision>
  <dc:subject/>
  <dc:title>Слайд 1</dc:title>
</cp:coreProperties>
</file>