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6.jpeg" ContentType="image/jpeg"/>
  <Override PartName="/ppt/media/image10.png" ContentType="image/png"/>
  <Override PartName="/ppt/media/image4.gif" ContentType="image/gif"/>
  <Override PartName="/ppt/media/image7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975-8805-4D19-8ADB-F127569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051-3EC8-47AB-B6A5-6450B39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46D-109F-4B36-8C82-79EB03D4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D4-327E-4CDE-901A-964E65DA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126-0799-4FD3-8FCC-41FAC55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F4ED-4F18-4FC1-B0BE-624FABD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D93-7BC6-4D50-824D-513DCF2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E424-896D-4523-9B33-DFD7E96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D0CC-1E6C-4FF9-AA96-43675A97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F68-BC46-4F54-A6B6-0861B4E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8987-B186-443F-B64E-8E420D0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F45-3AD7-4B04-9E01-1B99B238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712B-E495-4D28-9020-E00C795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C1C-BEEE-4012-8DC3-175DB65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FCA1-0F8B-4A77-A215-8D9BEBB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538-5664-47CC-BFA6-82FC1461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6F67-B193-462A-855F-8B381201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176-AF0D-4CDD-AB6D-6F858D07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BAC-2294-44D0-9C05-FFDDCF5B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778-7470-4B66-BB75-45910DC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3A2-B043-45A7-A3A9-84F39F66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B8E-A34F-4BAD-8245-B3B300B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901-5BD3-4253-A084-3429876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105-C261-4BDF-919F-8BC1FDA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499E-F49A-48AA-B02F-72E71A3C3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8F8-7949-4FF8-B954-547BF23F0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806292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be going to do something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07640" y="5877000"/>
            <a:ext cx="6409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 Rounded MT Bold"/>
              </a:rPr>
              <a:t>Put the words into correct order to make the senten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.To, going, am, a, organize, party, 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 am going to organize a par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. An,write,letter,going,he,invitation,is,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 is going to write an invitation le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partyy"/>
          <p:cNvPicPr/>
          <p:nvPr/>
        </p:nvPicPr>
        <p:blipFill>
          <a:blip r:embed="rId1"/>
          <a:stretch/>
        </p:blipFill>
        <p:spPr>
          <a:xfrm>
            <a:off x="6659640" y="2205000"/>
            <a:ext cx="2160360" cy="181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envelope_8sept"/>
          <p:cNvPicPr/>
          <p:nvPr/>
        </p:nvPicPr>
        <p:blipFill>
          <a:blip r:embed="rId2"/>
          <a:stretch/>
        </p:blipFill>
        <p:spPr>
          <a:xfrm>
            <a:off x="468360" y="5157720"/>
            <a:ext cx="2448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6425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. Great Britain,they,visit,to,going,a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e they going to visit Great Britai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.Going,the,responsible,to,social,for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gramme,are,we,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 are going to be responsible for the social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3175150-london-poster-with-double-decker-red-bus"/>
          <p:cNvPicPr/>
          <p:nvPr/>
        </p:nvPicPr>
        <p:blipFill>
          <a:blip r:embed="rId1"/>
          <a:stretch/>
        </p:blipFill>
        <p:spPr>
          <a:xfrm>
            <a:off x="6939000" y="260280"/>
            <a:ext cx="198756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zd_1"/>
          <p:cNvPicPr/>
          <p:nvPr/>
        </p:nvPicPr>
        <p:blipFill>
          <a:blip r:embed="rId2"/>
          <a:stretch/>
        </p:blipFill>
        <p:spPr>
          <a:xfrm>
            <a:off x="2843280" y="4221000"/>
            <a:ext cx="324144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5.You,to,what,going,do,are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What are you going to 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6.Students,miss,are,the,not,lessons,the,t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go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e students are not go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o miss the les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11372"/>
          <p:cNvPicPr/>
          <p:nvPr/>
        </p:nvPicPr>
        <p:blipFill>
          <a:blip r:embed="rId1"/>
          <a:stretch/>
        </p:blipFill>
        <p:spPr>
          <a:xfrm>
            <a:off x="611280" y="115920"/>
            <a:ext cx="2357280" cy="324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prodelkin_v_shkole_4"/>
          <p:cNvPicPr/>
          <p:nvPr/>
        </p:nvPicPr>
        <p:blipFill>
          <a:blip r:embed="rId2"/>
          <a:stretch/>
        </p:blipFill>
        <p:spPr>
          <a:xfrm>
            <a:off x="5796000" y="4292640"/>
            <a:ext cx="3097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4292280"/>
            <a:ext cx="8001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Say about your plans for the next week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9" descr="november-2013-calendar-walk-in-the-rain-l"/>
          <p:cNvPicPr/>
          <p:nvPr/>
        </p:nvPicPr>
        <p:blipFill>
          <a:blip r:embed="rId1"/>
          <a:stretch/>
        </p:blipFill>
        <p:spPr>
          <a:xfrm>
            <a:off x="611280" y="81000"/>
            <a:ext cx="8064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orkut-scraps-5"/>
          <p:cNvPicPr/>
          <p:nvPr/>
        </p:nvPicPr>
        <p:blipFill>
          <a:blip r:embed="rId1"/>
          <a:stretch/>
        </p:blipFill>
        <p:spPr>
          <a:xfrm>
            <a:off x="0" y="185760"/>
            <a:ext cx="9036000" cy="6556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photo128"/>
          <p:cNvPicPr/>
          <p:nvPr/>
        </p:nvPicPr>
        <p:blipFill>
          <a:blip r:embed="rId2"/>
          <a:stretch/>
        </p:blipFill>
        <p:spPr>
          <a:xfrm rot="490800">
            <a:off x="3563640" y="4653000"/>
            <a:ext cx="30970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32464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r>
              <a:rPr b="1" lang="en-US" sz="5800" spc="-1" strike="noStrike">
                <a:solidFill>
                  <a:srgbClr val="cc3300"/>
                </a:solidFill>
                <a:latin typeface="Arial Rounded MT Bold"/>
              </a:rPr>
              <a:t>to be + going to …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ff"/>
                </a:solidFill>
                <a:latin typeface="Verdana"/>
              </a:rPr>
              <a:t>собираться что-то делать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Verdana"/>
              </a:rPr>
              <a:t>expresses future plans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 Rounded MT Bold"/>
              </a:rPr>
              <a:t>Who remembers the forms of the verb “to be”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e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is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       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am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is </a:t>
            </a:r>
            <a:r>
              <a:rPr b="0" lang="en-US" sz="4400" spc="-1" strike="noStrike">
                <a:solidFill>
                  <a:srgbClr val="fa0a10"/>
                </a:solidFill>
                <a:latin typeface="Arial Rounded MT Bold"/>
              </a:rPr>
              <a:t>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</a:t>
            </a:r>
            <a:r>
              <a:rPr b="1" lang="en-US" sz="4400" spc="-1" strike="noStrike">
                <a:solidFill>
                  <a:srgbClr val="fa0a1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                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52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fa0a10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shkola14"/>
          <p:cNvPicPr/>
          <p:nvPr/>
        </p:nvPicPr>
        <p:blipFill>
          <a:blip r:embed="rId1"/>
          <a:stretch/>
        </p:blipFill>
        <p:spPr>
          <a:xfrm>
            <a:off x="4508640" y="1700280"/>
            <a:ext cx="4273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6569 L -0.56372 -0.11266 E">
                                      <p:cBhvr>
                                        <p:cTn id="2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55 L -0.46684 -0.23341 E">
                                      <p:cBhvr>
                                        <p:cTn id="3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786 L -0.46042 -0.02406 E">
                                      <p:cBhvr>
                                        <p:cTn id="35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2567 L -0.31857 0.28614 E">
                                      <p:cBhvr>
                                        <p:cTn id="3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463 L -0.56406 -0.0465 E">
                                      <p:cBhvr>
                                        <p:cTn id="43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1.0502E-006 L -0.31702 -0.05251 E">
                                      <p:cBhvr>
                                        <p:cTn id="47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 Rounded MT Bold"/>
              </a:rPr>
              <a:t>Statemen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2843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You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H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Sh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I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W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Rounded MT Bold"/>
              </a:rPr>
              <a:t>The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38240" y="1557360"/>
            <a:ext cx="522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m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is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         </a:t>
            </a:r>
            <a:r>
              <a:rPr b="0" lang="ru-RU" sz="3500" spc="-1" strike="noStrike">
                <a:solidFill>
                  <a:srgbClr val="9b0307"/>
                </a:solidFill>
                <a:latin typeface="Arial Rounded MT Bold"/>
              </a:rPr>
              <a:t> </a:t>
            </a:r>
            <a:r>
              <a:rPr b="0" lang="en-US" sz="3500" spc="-1" strike="noStrike">
                <a:solidFill>
                  <a:srgbClr val="9b0307"/>
                </a:solidFill>
                <a:latin typeface="Arial Rounded MT Bold"/>
              </a:rPr>
              <a:t>are going to wal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7" descr="2821363-a890a60200761a75"/>
          <p:cNvPicPr/>
          <p:nvPr/>
        </p:nvPicPr>
        <p:blipFill>
          <a:blip r:embed="rId1"/>
          <a:stretch/>
        </p:blipFill>
        <p:spPr>
          <a:xfrm>
            <a:off x="4932360" y="1628640"/>
            <a:ext cx="385128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2zxxxi0zhd"/>
          <p:cNvPicPr/>
          <p:nvPr/>
        </p:nvPicPr>
        <p:blipFill>
          <a:blip r:embed="rId2"/>
          <a:stretch/>
        </p:blipFill>
        <p:spPr>
          <a:xfrm>
            <a:off x="5364000" y="3645000"/>
            <a:ext cx="2916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95 0.01064 L -0.50295 0.01064 E">
                                      <p:cBhvr>
                                        <p:cTn id="5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6 0.00925 L -0.4276 0.00925 E">
                                      <p:cBhvr>
                                        <p:cTn id="5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74 0.00786 L -0.4474 0.00786 E">
                                      <p:cBhvr>
                                        <p:cTn id="6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06 0.00647 L -0.41406 0.00647 E">
                                      <p:cBhvr>
                                        <p:cTn id="6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39 0.0155 L -0.45539 0.0155 E">
                                      <p:cBhvr>
                                        <p:cTn id="6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948 0.01411 L -0.44948 0.01411 E">
                                      <p:cBhvr>
                                        <p:cTn id="7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18 0.01272 L -0.39618 0.01272 E">
                                      <p:cBhvr>
                                        <p:cTn id="77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Rounded MT Bold"/>
              </a:rPr>
              <a:t>Negativ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m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You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H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Sh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It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Rounded MT Bold"/>
              </a:rPr>
              <a:t>They </a:t>
            </a:r>
            <a:r>
              <a:rPr b="0" lang="en-US" sz="3900" spc="-1" strike="noStrike">
                <a:solidFill>
                  <a:srgbClr val="9966ff"/>
                </a:solidFill>
                <a:latin typeface="Arial Rounded MT Bold"/>
              </a:rPr>
              <a:t>ar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2340000" y="3068640"/>
            <a:ext cx="158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1908000" y="3068640"/>
            <a:ext cx="201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2627280" y="2997360"/>
            <a:ext cx="1297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268360" y="3068640"/>
            <a:ext cx="165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050920" y="1989000"/>
            <a:ext cx="1873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2771640" y="2708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 flipV="1">
            <a:off x="3059280" y="3068280"/>
            <a:ext cx="8632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WordArt 18"/>
          <p:cNvSpPr txBox="1"/>
          <p:nvPr/>
        </p:nvSpPr>
        <p:spPr>
          <a:xfrm>
            <a:off x="4067280" y="2637000"/>
            <a:ext cx="460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ot going to wa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20" descr="0013-009-Konservnaja-promyshlennost-Molochnaja-promyshlennost-Mjasnaja"/>
          <p:cNvPicPr/>
          <p:nvPr/>
        </p:nvPicPr>
        <p:blipFill>
          <a:blip r:embed="rId1"/>
          <a:stretch/>
        </p:blipFill>
        <p:spPr>
          <a:xfrm>
            <a:off x="4932360" y="3860640"/>
            <a:ext cx="230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10520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 Rounded MT Bold"/>
              </a:rPr>
              <a:t>        </a:t>
            </a:r>
            <a:r>
              <a:rPr b="0" lang="en-US" sz="6000" spc="-1" strike="noStrike">
                <a:solidFill>
                  <a:srgbClr val="cc0000"/>
                </a:solidFill>
                <a:latin typeface="Arial Rounded MT Bold"/>
              </a:rPr>
              <a:t>Question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361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you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h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sh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w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Rounded MT Bold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he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iStock_Question-Man-2"/>
          <p:cNvPicPr/>
          <p:nvPr/>
        </p:nvPicPr>
        <p:blipFill>
          <a:blip r:embed="rId1"/>
          <a:stretch/>
        </p:blipFill>
        <p:spPr>
          <a:xfrm>
            <a:off x="6084720" y="115920"/>
            <a:ext cx="1430640" cy="17287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2268360" y="2708280"/>
            <a:ext cx="53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ing to w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20" descr="77864371_7159fae7396b"/>
          <p:cNvPicPr/>
          <p:nvPr/>
        </p:nvPicPr>
        <p:blipFill>
          <a:blip r:embed="rId2"/>
          <a:stretch/>
        </p:blipFill>
        <p:spPr>
          <a:xfrm>
            <a:off x="395280" y="115920"/>
            <a:ext cx="1432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7 0.06316 L 0.17378 0.35693 E">
                                      <p:cBhvr>
                                        <p:cTn id="9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ke up sentences,use  </a:t>
            </a:r>
            <a:r>
              <a:rPr b="1" lang="en-US" sz="3200" spc="-1" strike="noStrike">
                <a:solidFill>
                  <a:srgbClr val="cc3300"/>
                </a:solidFill>
                <a:latin typeface="Arial Rounded MT Bold"/>
              </a:rPr>
              <a:t>to be going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and translate them into Russ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719000"/>
            <a:ext cx="8928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 / arrange a party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/ stay at hom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 / visit  London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he / see the dentist.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/ speak to the teacher.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y / write a tes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 Rounded MT Bold"/>
              </a:rPr>
              <a:t>Stephen Wooding’s Pla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y what Stephen Wooding is going to 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untitled9"/>
          <p:cNvPicPr/>
          <p:nvPr/>
        </p:nvPicPr>
        <p:blipFill>
          <a:blip r:embed="rId1"/>
          <a:stretch/>
        </p:blipFill>
        <p:spPr>
          <a:xfrm>
            <a:off x="324000" y="1125360"/>
            <a:ext cx="8208720" cy="4896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8"/>
          <p:cNvSpPr txBox="1"/>
          <p:nvPr/>
        </p:nvSpPr>
        <p:spPr>
          <a:xfrm rot="988200">
            <a:off x="1771200" y="608040"/>
            <a:ext cx="5529240" cy="568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.to invite Russian students to 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eat Britai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.to arrange a date and time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.to meet a group of Russia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3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udents in London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3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8508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Are you going to do any of these things after the lesson.Ask and answer</a:t>
            </a:r>
            <a:r>
              <a:rPr b="0" lang="ru-RU" sz="3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the questions with a partn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316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rrange chairs in the class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et some fri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ss the next les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o your home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uss a problem with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our fri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peak to the teac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a_649d0419"/>
          <p:cNvPicPr/>
          <p:nvPr/>
        </p:nvPicPr>
        <p:blipFill>
          <a:blip r:embed="rId1"/>
          <a:stretch/>
        </p:blipFill>
        <p:spPr>
          <a:xfrm>
            <a:off x="5611680" y="2637000"/>
            <a:ext cx="3043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4:55:28Z</dcterms:created>
  <dc:creator>Admin</dc:creator>
  <dc:description/>
  <dc:language>en-US</dc:language>
  <cp:lastModifiedBy>Виталий</cp:lastModifiedBy>
  <dcterms:modified xsi:type="dcterms:W3CDTF">2015-10-06T14:35:04Z</dcterms:modified>
  <cp:revision>46</cp:revision>
  <dc:subject/>
  <dc:title>Слайд 1</dc:title>
</cp:coreProperties>
</file>