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8A9-7464-43A6-B94C-701D9893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F87-DC49-4D98-8CE9-5BEA931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733-0BC0-420E-9E14-ACD1FA8A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887-F099-46F5-ABBA-1E5D8772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85A-FB15-4C74-869B-6650F36A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F4E-2D4D-4C50-AB7F-580DF18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CDC-2024-437C-B4B2-5DFE892A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C6F-C367-45BC-9A9F-3AC9992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812-EB2B-47C2-AC7A-D185C61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AED-C575-4A4E-BA92-49A4239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0CD-5BFB-430F-AF3D-4AF8E68E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4D2-9914-4230-A5D1-F095E2F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8F8-E206-409C-B701-BF821BE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3868-2F97-4E18-8983-B481E74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DAB-6022-479A-BC61-F40472E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E065-6D82-4EEC-916D-66D73CB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053-E65B-4603-909A-CE3FA5A7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B41-2A93-47F5-A5EB-7361C32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226-7341-4223-9A4E-91CF502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DDE-666D-45CF-913D-64B4CA55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31-A9EE-410B-A449-DC08724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7D2-C4D1-4626-A0E3-1107DC4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DD6-89EE-4A71-AE66-AD52433F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BC0-022D-4CE4-9A23-D6F473B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820C-80B9-4208-A9D3-1D872DF125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F21-0AAE-46D6-880A-DC8EA191FB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Блюда тувинской национальной кухни из мя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зырыкчы Эльд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с. Сайлыг, 201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330033"/>
                </a:solidFill>
                <a:latin typeface="Times New Roman"/>
              </a:rPr>
              <a:t>Ритуальное блюдо “ужа” </a:t>
            </a:r>
            <a:br>
              <a:rPr sz="1900"/>
            </a:b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Ужа – самое почетное блюдо у тувинцев, которое преподносится при сватании невесты, когда ее «забирают», свадебного пира, рождении ребенка, обряда освещения или больших праздников – самому уважаемому человеку. Ужа готовится из нижней части туши курдючного барана.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ясо- источник бел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Значение  белк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лки - незаменим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ительный матери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дной из важнейших функций белковых молекул является пластическая. Белки составляют около 20% массы различных тканей (жиры и углеводы — 3%) и являются основным строительным материалом клетки и межклеточного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ка роль белк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ранспорте веществ в организм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я различные функциональные группы и сложное строение макромолекулы, белки связывают и переносят с током крови многие соединения. Это прежде всего гемоглобин, переносящий кислород из легких к клет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игатель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т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орную функц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полняют белки-гормоны. Гормоны - биологически активные вещества, которые оказывают влияние на обмен веществ. Многие гормоны являются белками, полипептидами или отдельными аминокислотами. Одним из наиболее известных белков-гормонов является инсулин. Этот простой белок состоит только из аминокислот. Функциональная роль инсулина многопланова. Он снижает содержание сахара в кров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Недостаток белков в рационе приводит к серьезным нарушениям: замедление роста и развития детей, изменения в печени взрослых, деятельности желез внутренней секреции, состава крови, ослабление умственной деятельности, снижение работоспособности и сопротивляемости к инфекционным заболеваниям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 то же время избыток белка в питании приводит к повышению возбудимости центральной нервной системы и желез внутренней секреции, перегрузке пищеварительного тракта, отложению жира в печени, увеличению синтеза мочевины. У растущих организмов в этом случае наблюдается отставание в росте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птимальная белковая норма для обеспечения нормальной жизнедеятельности и потребностей роста для взрослого человека, выполняющего легкую работу- 120 г белка в сутки.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br>
              <a:rPr sz="21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Для лиц тяжелого физического труда этот показатель составляет 160 г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ки играют важнейшую роль в жизнедеятельности всех организмов. Белки непременно должны поступать в организм вместе с пищей, но в пределах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увинских национальных блюдах  используют только свежее мясо, без всяких химикатов и концентратов, что благотворно влияет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ценности мясных тувинских блюд для здоровь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15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3657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бы ни был ты богат,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Не бросай голову барана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Как бы ни был ты беден,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Не ешь с голени мездру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Лопаточное мясо один не еш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7" descr="В Туве планируется создание совместного тувинско-монгольского предприятия - Sfera.fm"/>
          <p:cNvPicPr/>
          <p:nvPr/>
        </p:nvPicPr>
        <p:blipFill>
          <a:blip r:embed="rId1"/>
          <a:stretch/>
        </p:blipFill>
        <p:spPr>
          <a:xfrm>
            <a:off x="1371600" y="15228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42670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яная колбаса « изиг-ха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8" descr="Тува. Территория надежд - Новости Красноярска и Красноярского края"/>
          <p:cNvPicPr/>
          <p:nvPr/>
        </p:nvPicPr>
        <p:blipFill>
          <a:blip r:embed="rId1"/>
          <a:stretch/>
        </p:blipFill>
        <p:spPr>
          <a:xfrm>
            <a:off x="609480" y="6858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487944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овяная колбаса в двенадцатиперстной кишк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7" descr="Как сварить тувинский чай - Электронные учебники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4422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п из бараньих субпродуктов “кара мун“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Тува-Онлайн: О блюдах тувинской национальной кухни"/>
          <p:cNvPicPr/>
          <p:nvPr/>
        </p:nvPicPr>
        <p:blipFill>
          <a:blip r:embed="rId1"/>
          <a:stretch/>
        </p:blipFill>
        <p:spPr>
          <a:xfrm>
            <a:off x="152280" y="380880"/>
            <a:ext cx="8271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0033"/>
                </a:solidFill>
                <a:latin typeface="Times New Roman"/>
              </a:rPr>
              <a:t>Ритуальное блюдо “ужа” </a:t>
            </a:r>
            <a:br>
              <a:rPr sz="1900"/>
            </a:br>
            <a:r>
              <a:rPr b="0" lang="ru-RU" sz="1900" spc="-1" strike="noStrike">
                <a:solidFill>
                  <a:srgbClr val="330033"/>
                </a:solidFill>
                <a:latin typeface="Times New Roman"/>
              </a:rPr>
              <a:t>Ужа – самое почетное блюдо у тувинцев, которое преподносится при сватании невесты, когда ее «забирают», свадебного пира, рождении ребенка, обряда освещения или больших праздников – самому уважаемому человеку. Ужа готовится из нижней части туши курдючного барана.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Рисунок 4" descr="IMG_6053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IMG_6058.JPG"/>
          <p:cNvPicPr/>
          <p:nvPr/>
        </p:nvPicPr>
        <p:blipFill>
          <a:blip r:embed="rId1"/>
          <a:stretch/>
        </p:blipFill>
        <p:spPr>
          <a:xfrm>
            <a:off x="685800" y="685800"/>
            <a:ext cx="7823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EENA</cp:lastModifiedBy>
  <dcterms:modified xsi:type="dcterms:W3CDTF">2015-02-11T07:57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