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61C-BCFD-4AE8-9882-C00287C8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F96-0B1D-4C8D-B5A6-CC6AA3EB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265-329C-4ED2-BBD7-667A0483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701-FDBE-409A-86E4-A590C6DE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165-94CA-4FC3-9CB3-CA8B26E5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1318-95E8-4B72-8D88-0640F40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A6D-4299-4CC8-A65F-6E29F2B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8F1B-2F80-45DC-A889-55ECA0F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3BA-FE91-4803-8A95-6B8C669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8C72-3D93-4221-8797-54918F7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B33C-D58C-41FC-A6A4-8EC4E04C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A37-BE84-4489-B223-4BE3B2B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F8C6-9732-4910-AC49-2B28154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183-E703-4BCA-B6AF-074B76D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898D-DBCC-4A39-A9FB-33499C6D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3066-1667-45AD-B8BD-E54B33D6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7851-C5E0-4F35-9FD3-45511B7C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E9B-B6AD-4EAD-8647-93DCF58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EBC-3AE4-4543-8FFB-9FB300A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6D0-7F64-4373-9210-BF59123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7E3-2BEA-416E-A4DB-E3AE071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6EB-77F5-441B-8CF4-28F2B9E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324-F3BC-476E-8880-AFEAFEA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D7D-595A-49E6-B2EC-AA5F080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CFA-7144-4B5E-91E5-783ADFE6F6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B666-1423-446E-AF4C-DD7152E005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Блюда тувинской национальной кухни из мя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зырыкчы Эльд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с. Сайлыг, 201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330033"/>
                </a:solidFill>
                <a:latin typeface="Times New Roman"/>
              </a:rPr>
              <a:t>Ритуальное блюдо “ужа” </a:t>
            </a:r>
            <a:br>
              <a:rPr sz="1900"/>
            </a:b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Ужа – самое почетное блюдо у тувинцев, которое преподносится при сватании невесты, когда ее «забирают», свадебного пира, рождении ребенка, обряда освещения или больших праздников – самому уважаемому человеку. Ужа готовится из нижней части туши курдючного барана.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ясо- источник бел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Значение  белк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лки - незаменим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ительный матери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дной из важнейших функций белковых молекул является пластическая. Белки составляют около 20% массы различных тканей (жиры и углеводы — 3%) и являются основным строительным материалом клетки и межклеточного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ка роль белк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ранспорте веществ в организм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я различные функциональные группы и сложное строение макромолекулы, белки связывают и переносят с током крови многие соединения. Это прежде всего гемоглобин, переносящий кислород из легких к клет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игатель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т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орную функц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полняют белки-гормоны. Гормоны - биологически активные вещества, которые оказывают влияние на обмен веществ. Многие гормоны являются белками, полипептидами или отдельными аминокислотами. Одним из наиболее известных белков-гормонов является инсулин. Этот простой белок состоит только из аминокислот. Функциональная роль инсулина многопланова. Он снижает содержание сахара в кров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Недостаток белков в рационе приводит к серьезным нарушениям: замедление роста и развития детей, изменения в печени взрослых, деятельности желез внутренней секреции, состава крови, ослабление умственной деятельности, снижение работоспособности и сопротивляемости к инфекционным заболеваниям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 то же время избыток белка в питании приводит к повышению возбудимости центральной нервной системы и желез внутренней секреции, перегрузке пищеварительного тракта, отложению жира в печени, увеличению синтеза мочевины. У растущих организмов в этом случае наблюдается отставание в росте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птимальная белковая норма для обеспечения нормальной жизнедеятельности и потребностей роста для взрослого человека, выполняющего легкую работу- 120 г белка в сутки.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Для лиц тяжелого физического труда этот показатель составляет 160 г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ки играют важнейшую роль в жизнедеятельности всех организмов. Белки непременно должны поступать в организм вместе с пищей, но в пределах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увинских национальных блюдах  используют только свежее мясо, без всяких химикатов и концентратов, что благотворно влияет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ценности мясных тувинских блюд для здоровь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15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3657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бы ни был ты богат,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Не бросай голову барана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Как бы ни был ты беден,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Не ешь с голени мездру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Лопаточное мясо один не еш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7" descr="В Туве планируется создание совместного тувинско-монгольского предприятия - Sfera.fm"/>
          <p:cNvPicPr/>
          <p:nvPr/>
        </p:nvPicPr>
        <p:blipFill>
          <a:blip r:embed="rId1"/>
          <a:stretch/>
        </p:blipFill>
        <p:spPr>
          <a:xfrm>
            <a:off x="1371600" y="15228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42670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яная колбаса « изиг-ха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8" descr="Тува. Территория надежд - Новости Красноярска и Красноярского края"/>
          <p:cNvPicPr/>
          <p:nvPr/>
        </p:nvPicPr>
        <p:blipFill>
          <a:blip r:embed="rId1"/>
          <a:stretch/>
        </p:blipFill>
        <p:spPr>
          <a:xfrm>
            <a:off x="609480" y="6858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487944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овяная колбаса в двенадцатиперстной кишк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7" descr="Как сварить тувинский чай - Электронные учебники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4422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п из бараньих субпродуктов “кара мун“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Тува-Онлайн: О блюдах тувинской национальной кухни"/>
          <p:cNvPicPr/>
          <p:nvPr/>
        </p:nvPicPr>
        <p:blipFill>
          <a:blip r:embed="rId1"/>
          <a:stretch/>
        </p:blipFill>
        <p:spPr>
          <a:xfrm>
            <a:off x="152280" y="380880"/>
            <a:ext cx="8271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0033"/>
                </a:solidFill>
                <a:latin typeface="Times New Roman"/>
              </a:rPr>
              <a:t>Ритуальное блюдо “ужа” </a:t>
            </a:r>
            <a:br>
              <a:rPr sz="1900"/>
            </a:b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Ужа – самое почетное блюдо у тувинцев, которое преподносится при сватании невесты, когда ее «забирают», свадебного пира, рождении ребенка, обряда освещения или больших праздников – самому уважаемому человеку. Ужа готовится из нижней части туши курдючного барана.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Рисунок 4" descr="IMG_6053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IMG_6058.JPG"/>
          <p:cNvPicPr/>
          <p:nvPr/>
        </p:nvPicPr>
        <p:blipFill>
          <a:blip r:embed="rId1"/>
          <a:stretch/>
        </p:blipFill>
        <p:spPr>
          <a:xfrm>
            <a:off x="685800" y="685800"/>
            <a:ext cx="7823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EENA</cp:lastModifiedBy>
  <dcterms:modified xsi:type="dcterms:W3CDTF">2015-02-11T07:57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