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9C3A-B72D-4627-9C36-2370718AD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9515-DE64-48D3-BA4D-1FFDD143A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B03F-D8D0-4738-B92A-82A697536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AD08-A4E8-42DE-94C1-27FF63A0B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6C08A-520F-45D5-8F4C-ADB38FE37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579E2-AB24-4AC2-8A0D-DD10DF55E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3FE58-3532-4F6F-8250-EC974F7C3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19EDC-332D-4E40-BFD8-AF4F0B32C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386B0-0054-42A9-83CA-6941C3F26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F0392-DF54-478C-8B5B-1E39234DD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00830-0EE0-4C51-92F0-8CF2E1B42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803C-9A8C-4665-BC47-40C4FA210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16D75-D938-4C71-ACE6-46B3B8C94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FA4BA-6CD4-455B-847A-831FED615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B5AAD-0F82-4EB0-B55F-B94272514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55BA0-146B-4313-BB05-57BCFB9A8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FBE81-ADC6-4FF0-A75C-30742AB31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4E0C-BF8B-419E-AC9B-5B92FEDF9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BB4B-3D48-4B2F-861E-CBBA1E2B0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EB63-DC05-4459-B6D8-496358CAA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B675-04EE-41C1-8362-67A96E7A4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52C5-BE00-4C36-BD5C-0A78643EC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A5E7-143E-4F3A-BC8A-3204B0A14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12AC-0619-4AA9-B894-561AB4289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A0CCF-1EEA-4EED-AF06-92B02A0A094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E1BB4-66EE-4467-89E1-18E69AD4A28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160" y="1828800"/>
            <a:ext cx="8001000" cy="23083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Презентация урока по предмету</a:t>
            </a:r>
            <a:r>
              <a:rPr b="1" lang="ru-RU" sz="4800" spc="-1" strike="noStrike">
                <a:solidFill>
                  <a:srgbClr val="b9efee"/>
                </a:solidFill>
                <a:latin typeface="Garamond"/>
              </a:rPr>
              <a:t> </a:t>
            </a:r>
            <a:br>
              <a:rPr sz="4800"/>
            </a:br>
            <a:r>
              <a:rPr b="1" lang="ru-RU" sz="4800" spc="-1" strike="noStrike">
                <a:solidFill>
                  <a:srgbClr val="b9efee"/>
                </a:solidFill>
                <a:latin typeface="Garamond"/>
              </a:rPr>
              <a:t>«Основы деловой культуры»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TextBox 1"/>
          <p:cNvSpPr/>
          <p:nvPr/>
        </p:nvSpPr>
        <p:spPr>
          <a:xfrm>
            <a:off x="2327400" y="6211800"/>
            <a:ext cx="67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Подготовила преподаватель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Киселева Н.В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9efee"/>
                </a:solidFill>
                <a:latin typeface="Garamond"/>
              </a:rPr>
              <a:t>Сотрудничество</a:t>
            </a: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—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это поиск решения, удовлетворяющего интересы двух сторон. Такая стратегия ведет к успеху в делах и личной жизни, так как в процессе разрешения конфликта есть стремление к удовлетворению нужд всех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Доказано, что при выигрыше двух сторон они более склонны исполнять принятые решения. Сотрудничество предполагает умение (желание) сдерживать свои эмоции, объяснять свои решения и выслушивать другую сторону. При сотрудничестве происходит приобретение совместного опыта работы и вырабатываются навыки слушания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34" name="Picture 7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9efee"/>
                </a:solidFill>
                <a:latin typeface="Garamond"/>
              </a:rPr>
              <a:t>Компромисс</a:t>
            </a: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—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это урегулирование разногласий через взаимные уступки. Такая стратегия эффективна тогда, когда обе стороны желают одного и того же, но точно знают, что одновременно их желания невыполнимы (например: желание занять одну и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ту же должность)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4" descr=""/>
          <p:cNvPicPr/>
          <p:nvPr/>
        </p:nvPicPr>
        <p:blipFill>
          <a:blip r:embed="rId1"/>
          <a:stretch/>
        </p:blipFill>
        <p:spPr>
          <a:xfrm>
            <a:off x="2666880" y="1219320"/>
            <a:ext cx="3587760" cy="48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 </a:t>
            </a:r>
            <a:r>
              <a:rPr b="0" lang="ru-RU" sz="4400" spc="-1" strike="noStrike">
                <a:solidFill>
                  <a:srgbClr val="b9efee"/>
                </a:solidFill>
                <a:latin typeface="Garamond"/>
              </a:rPr>
              <a:t>Избегание</a:t>
            </a: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—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это стремление выйти из конфликта, не решая его, не настаивая на своем, но и не уступая своего. Данную стратегию рекомендуется использовать в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лучаях, когда одна из сторон чувствует, что не права, или считает, что нет серьезных оснований для продолжения контактов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4" descr=""/>
          <p:cNvPicPr/>
          <p:nvPr/>
        </p:nvPicPr>
        <p:blipFill>
          <a:blip r:embed="rId1"/>
          <a:stretch/>
        </p:blipFill>
        <p:spPr>
          <a:xfrm>
            <a:off x="1752480" y="1143000"/>
            <a:ext cx="5473800" cy="40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9efee"/>
                </a:solidFill>
                <a:latin typeface="Garamond"/>
              </a:rPr>
              <a:t>Приспособление</a:t>
            </a: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редставляет собой тенденцию к сглаживанию противоречий, поступаясь своими интересами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4" descr=""/>
          <p:cNvPicPr/>
          <p:nvPr/>
        </p:nvPicPr>
        <p:blipFill>
          <a:blip r:embed="rId1"/>
          <a:stretch/>
        </p:blipFill>
        <p:spPr>
          <a:xfrm>
            <a:off x="1676520" y="1219320"/>
            <a:ext cx="6172200" cy="40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Стратегия приспособления может применяться, если: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• 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ас не особо волнует случившееся, а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редмет разногласия для вас не важен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• 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ы осознаете, что правда на вашей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стороне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• 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ы чувствуете, что ваши шансы на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обеду минимальны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•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ы считаете, что лучше сохранить добрые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отношения с партнером, чем отстаивать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собственную позицию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9efee"/>
                </a:solidFill>
                <a:latin typeface="Times New Roman"/>
              </a:rPr>
              <a:t>Тест: «Стратегия поведения в конфликте»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Инструкция: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ам предлагается 15 утверждений. Каждый пункт тестовой методики оцените следующим образом: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«совсем не согласен» — 1 балл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«не согласен» — 2 балла;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«скорее согласен» — 3 балла;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«согласен» — 4 балла;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«полностью согласен» — 5 баллов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381880" cy="4449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«</a:t>
            </a:r>
            <a:r>
              <a:rPr b="0" lang="ru-RU" sz="4400" spc="-1" strike="noStrike">
                <a:solidFill>
                  <a:srgbClr val="b9efee"/>
                </a:solidFill>
                <a:latin typeface="Garamond"/>
              </a:rPr>
              <a:t>КОНФЛИКТЫ В ДЕЛОВОМ ОБЩЕНИИ</a:t>
            </a: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»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609480" y="3045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. Я человек принципиальный и никогда не меняю своей позици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. Мне сложно отстаивать свою позицию, даже если я точно знаю, что прав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3. Трачу много времени на поиски общих точек соприкосновения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4. Для меня важнее сохранить хорошие отношения, даже если приходится жертвовать своими интересам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5. Я отзываюсь на предложение других, но сам не склонен проявлять инициативу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6.  Из любого конфликта я выхожу победителем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7. Я избегаю напряженных ситуаций, хотя дело от этого может пострадать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8.  Пересматриваю свою точку зрения, почувствовав в ходе обсуждения свою неправоту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9.  Много времени я уделяю проблемам других и часто забываю о себе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0. Я легко соглашаюсь уступить, если и другой поступает так же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1.  Продолжаю спор до тех пор, пока собеседник не вынужден будет принять мою точку зрения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2.  Я добиваюсь эффективных результатов, когда работаю под руководством более опытного партнер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3.  С удовольствием проявляю инициативу в примирении сторон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4.  Если это сделает другого счастливым, даю ему возможность настоять на своем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5.  Часто я соглашаюсь на первое же условие, которое ведет к урегулированию проблемы в отношениях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b9efee"/>
                </a:solidFill>
                <a:latin typeface="Garamond"/>
              </a:rPr>
              <a:t>Обработка результатов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Рядом с цифрами, обозначающими номер утверждения, поставьте соответствующий балл и подсчитайте их сумму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2" name=""/>
          <p:cNvGraphicFramePr/>
          <p:nvPr/>
        </p:nvGraphicFramePr>
        <p:xfrm>
          <a:off x="380880" y="609480"/>
          <a:ext cx="8229600" cy="47149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тратегия поведения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№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утверждений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умма балов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оперничество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, 6, 11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Избегание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, 7, 12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отрудничество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, 8, 13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испособление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, 9, 14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омпромисс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, 10, 15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b9efee"/>
                </a:solidFill>
                <a:latin typeface="Garamond"/>
              </a:rPr>
              <a:t>Какая стратегия характерна для вас?</a:t>
            </a: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тратегия поведения в конфликтной ситуации считается выраженной, если сумма баллов превышает 10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381880" cy="4145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Тема урока: «Стратегия поведения в конфликтной ситуации»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По способу разрешения конфликты подразделяются на: 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родуктивные (конструктивные)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епродуктивные (деструктивные)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9efee"/>
                </a:solidFill>
                <a:latin typeface="Garamond"/>
              </a:rPr>
              <a:t>Деструктивные конфликты </a:t>
            </a: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—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это конфликты, при которых разрушаются межличностные связи, резко снижается эффективность работы, а решение проблемы становится невозможным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3048120" y="3809880"/>
            <a:ext cx="2936880" cy="26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9efee"/>
                </a:solidFill>
                <a:latin typeface="Garamond"/>
              </a:rPr>
              <a:t>Конструктивные конфликты</a:t>
            </a: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е выходят за рамки деловых отношений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5" name="Picture 5" descr=""/>
          <p:cNvPicPr/>
          <p:nvPr/>
        </p:nvPicPr>
        <p:blipFill>
          <a:blip r:embed="rId1"/>
          <a:stretch/>
        </p:blipFill>
        <p:spPr>
          <a:xfrm>
            <a:off x="2666880" y="2286000"/>
            <a:ext cx="4132440" cy="40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9efee"/>
                </a:solidFill>
                <a:latin typeface="Garamond"/>
              </a:rPr>
              <a:t>Стратегии поведения в конфликтных ситуациях: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оперничество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отрудничество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компромисс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риспособление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збегание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 </a:t>
            </a:r>
            <a:r>
              <a:rPr b="0" lang="ru-RU" sz="4400" spc="-1" strike="noStrike">
                <a:solidFill>
                  <a:srgbClr val="b9efee"/>
                </a:solidFill>
                <a:latin typeface="Garamond"/>
              </a:rPr>
              <a:t>Соперничество</a:t>
            </a: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—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это открытая «борьба» за свои интересы. Данная стратегия используется тогда, когда человек обладает сильной волей, властью и достаточным авторитетом. Однако соперничество редко приносит долгосрочные результаты; тот,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кто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егодня проиграл, в последствии может отказаться от сотрудничества. Поэтому эта стратегия не может быть использована в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личных, близких отношениях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6" descr="14"/>
          <p:cNvPicPr/>
          <p:nvPr/>
        </p:nvPicPr>
        <p:blipFill>
          <a:blip r:embed="rId1"/>
          <a:stretch/>
        </p:blipFill>
        <p:spPr>
          <a:xfrm>
            <a:off x="380880" y="685800"/>
            <a:ext cx="8382240" cy="553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</dc:creator>
  <dc:description/>
  <dc:language>en-US</dc:language>
  <cp:lastModifiedBy>admin</cp:lastModifiedBy>
  <dcterms:modified xsi:type="dcterms:W3CDTF">2015-10-06T15:17:46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