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3A8-C268-4474-B4E1-02187325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9F5-DCD5-4A5D-8493-5BAE1081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A1A-30AF-4684-BB34-7A5AD531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08F-9B7D-4AA5-A69C-58C9CA9D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7497-8351-4F3E-AC89-922AA2E1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AD89-3627-4BFD-B60A-53785CA9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22A4-7150-4253-A328-1287AE8B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C476-5723-47A8-9636-1748A58B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02FA-EA23-450E-844A-D81EA35F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539A-10CD-4502-B3D6-E278CE29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851A-28A1-4A2F-BF9D-CEC5CB92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FE1-E215-4DFD-8244-B86CE4CC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CB66-5B65-4CF9-B2EB-EA2036C1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7998-1710-4446-B90D-7AA9035B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A10B-CBBC-4AB4-895A-A576308D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7DF8-02F0-4E41-ADED-BA86BFA3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1593-1AFA-4D58-836A-52E83CE8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073-F3CB-4656-9E7F-FC20834B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3F1-4C36-4D16-8FD8-19BC0FDA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57F-F326-4EF8-8073-3530B262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7DA-F285-4D8D-B8A6-E4C09055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38D-41FC-4B81-94AF-6B7FD03C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966-C9ED-4F88-9278-D760887C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F46-94D5-4C98-BA75-405B3591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1A17-F73E-4DBE-ADE7-29E699CD1C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F953-4A34-4AA8-A577-AF1B1CECCB7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1828800"/>
            <a:ext cx="8001000" cy="2308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зентация урока по предмету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«Основы деловой культуры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2327400" y="6211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дготовила преподаватель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иселева Н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Сотрудничество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о поиск решения, удовлетворяющего интересы двух сторон. Такая стратегия ведет к успеху в делах и личной жизни, так как в процессе разрешения конфликта есть стремление к удовлетворению нужд все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казано, что при выигрыше двух сторон они более склонны исполнять принятые решения. Сотрудничество предполагает умение (желание) сдерживать свои эмоции, объяснять свои решения и выслушивать другую сторону. При сотрудничестве происходит приобретение совместного опыта работы и вырабатываются навыки слуша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Компромисс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урегулирование разногласий через взаимные уступки. Такая стратегия эффективна тогда, когда обе стороны желают одного и того же, но точно знают, что одновременно их желания невыполнимы (например: желание занять одну и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у же должность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5877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Избегание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стремление выйти из конфликта, не решая его, не настаивая на своем, но и не уступая своего. Данную стратегию рекомендуется использовать в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лучаях, когда одна из сторон чувствует, что не права, или считает, что нет серьезных оснований для продолжения контакт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4738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Приспособление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ставляет собой тенденцию к сглаживанию противоречий, поступаясь своими интерес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1722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тратегия приспособления может применяться, если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•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с не особо волнует случившееся, а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дмет разногласия для вас не важен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•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 осознаете, что правда на вашей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орон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•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 чувствуете, что ваши шансы н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беду минимальн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 считаете, что лучше сохранить добры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ношения с партнером, чем отстаива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бственную позици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Times New Roman"/>
              </a:rPr>
              <a:t>Тест: «Стратегия поведения в конфликте»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Инструкция: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ам предлагается 15 утверждений. Каждый пункт тестовой методики оцените следующим образом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совсем не согласен» — 1 балл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е согласен» — 2 балл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скорее согласен» — 3 балл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согласен» — 4 балл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полностью согласен» — 5 бал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44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</a:t>
            </a: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КОНФЛИКТЫ В ДЕЛОВОМ ОБЩЕНИИ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»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Я человек принципиальный и никогда не меняю своей пози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Мне сложно отстаивать свою позицию, даже если я точно знаю, что пра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Трачу много времени на поиски общих точек соприкоснов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Для меня важнее сохранить хорошие отношения, даже если приходится жертвовать своими интерес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Я отзываюсь на предложение других, но сам не склонен проявлять инициатив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 Из любого конфликта я выхожу победителе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. Я избегаю напряженных ситуаций, хотя дело от этого может пострада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.  Пересматриваю свою точку зрения, почувствовав в ходе обсуждения свою неправо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.  Много времени я уделяю проблемам других и часто забываю о себ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0. Я легко соглашаюсь уступить, если и другой поступает так ж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1.  Продолжаю спор до тех пор, пока собеседник не вынужден будет принять мою точку зр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2.  Я добиваюсь эффективных результатов, когда работаю под руководством более опытного партне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3.  С удовольствием проявляю инициативу в примирении сторо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4.  Если это сделает другого счастливым, даю ему возможность настоять на свое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5.  Часто я соглашаюсь на первое же условие, которое ведет к урегулированию проблемы в отношения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9efee"/>
                </a:solidFill>
                <a:latin typeface="Garamond"/>
              </a:rPr>
              <a:t>Обработка результат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ядом с цифрами, обозначающими номер утверждения, поставьте соответствующий балл и подсчитайте их сумм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80880" y="609480"/>
          <a:ext cx="8229600" cy="4714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тегия поведен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твержден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бал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перниче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6, 1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бега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 7, 1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трудниче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8, 1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способле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 9, 1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промис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 10, 1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Какая стратегия характерна для вас?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ратегия поведения в конфликтной ситуации считается выраженной, если сумма баллов превышает 1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ема урока: «Стратегия поведения в конфликтной ситуации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о способу разрешения конфликты подразделяются на: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дуктивные (конструктивные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продуктивные (деструктивные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Деструктивные конфликты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—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конфликты, при которых разрушаются межличностные связи, резко снижается эффективность работы, а решение проблемы становится невозможны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048120" y="3809880"/>
            <a:ext cx="293688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Конструктивные конфликты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выходят за рамки деловых отноше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413244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Стратегии поведения в конфликтных ситуациях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перничество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трудничество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ромисс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способлени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бега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Соперничество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открытая «борьба» за свои интересы. Данная стратегия используется тогда, когда человек обладает сильной волей, властью и достаточным авторитетом. Однако соперничество редко приносит долгосрочные результаты; тот,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то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годня проиграл, в последствии может отказаться от сотрудничества. Поэтому эта стратегия не может быть использована в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чных, близких отношения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14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5-10-06T15:17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