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13.wmf" ContentType="image/x-wmf"/>
  <Override PartName="/ppt/media/image55.png" ContentType="image/png"/>
  <Override PartName="/ppt/media/image52.gif" ContentType="image/gif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51.gif" ContentType="image/gif"/>
  <Override PartName="/ppt/media/image49.png" ContentType="image/png"/>
  <Override PartName="/ppt/media/image46.gif" ContentType="image/gif"/>
  <Override PartName="/ppt/media/image43.png" ContentType="image/png"/>
  <Override PartName="/ppt/media/image40.png" ContentType="image/png"/>
  <Override PartName="/ppt/media/image42.gif" ContentType="image/gif"/>
  <Override PartName="/ppt/media/image35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66.wmf" ContentType="image/x-wmf"/>
  <Override PartName="/ppt/media/image1.jpeg" ContentType="image/jpeg"/>
  <Override PartName="/ppt/media/image10.png" ContentType="image/png"/>
  <Override PartName="/ppt/media/image44.gif" ContentType="image/gif"/>
  <Override PartName="/ppt/media/image47.png" ContentType="image/png"/>
  <Override PartName="/ppt/media/image16.jpeg" ContentType="image/jpeg"/>
  <Override PartName="/ppt/media/image57.wmf" ContentType="image/x-wmf"/>
  <Override PartName="/ppt/media/image20.wmf" ContentType="image/x-wmf"/>
  <Override PartName="/ppt/media/image24.gif" ContentType="image/gif"/>
  <Override PartName="/ppt/media/image4.png" ContentType="image/png"/>
  <Override PartName="/ppt/media/image12.jpeg" ContentType="image/jpeg"/>
  <Override PartName="/ppt/media/image19.png" ContentType="image/png"/>
  <Override PartName="/ppt/media/image21.wmf" ContentType="image/x-wmf"/>
  <Override PartName="/ppt/media/image60.png" ContentType="image/png"/>
  <Override PartName="/ppt/media/image59.png" ContentType="image/png"/>
  <Override PartName="/ppt/media/image22.png" ContentType="image/png"/>
  <Override PartName="/ppt/media/image76.gif" ContentType="image/gif"/>
  <Override PartName="/ppt/media/image69.png" ContentType="image/png"/>
  <Override PartName="/ppt/media/image32.png" ContentType="image/png"/>
  <Override PartName="/ppt/media/image74.jpeg" ContentType="image/jpeg"/>
  <Override PartName="/ppt/media/image67.wmf" ContentType="image/x-wmf"/>
  <Override PartName="/ppt/media/image73.gif" ContentType="image/gif"/>
  <Override PartName="/ppt/media/image70.png" ContentType="image/png"/>
  <Override PartName="/ppt/media/image68.wmf" ContentType="image/x-wmf"/>
  <Override PartName="/ppt/media/image25.gif" ContentType="image/gif"/>
  <Override PartName="/ppt/media/image28.png" ContentType="image/png"/>
  <Override PartName="/ppt/media/image38.jpeg" ContentType="image/jpeg"/>
  <Override PartName="/ppt/media/image27.jpeg" ContentType="image/jpeg"/>
  <Override PartName="/ppt/media/image71.jpeg" ContentType="image/jpeg"/>
  <Override PartName="/ppt/media/image65.wmf" ContentType="image/x-wmf"/>
  <Override PartName="/ppt/media/image75.gif" ContentType="image/gif"/>
  <Override PartName="/ppt/media/image63.wmf" ContentType="image/x-wmf"/>
  <Override PartName="/ppt/media/image62.png" ContentType="image/png"/>
  <Override PartName="/ppt/media/image9.wmf" ContentType="image/x-wmf"/>
  <Override PartName="/ppt/media/image41.png" ContentType="image/png"/>
  <Override PartName="/ppt/media/image72.jpeg" ContentType="image/jpeg"/>
  <Override PartName="/ppt/media/image14.png" ContentType="image/png"/>
  <Override PartName="/ppt/media/image11.gif" ContentType="image/gif"/>
  <Override PartName="/ppt/media/image29.png" ContentType="image/png"/>
  <Override PartName="/ppt/media/image64.jpeg" ContentType="image/jpeg"/>
  <Override PartName="/ppt/media/image36.gif" ContentType="image/gif"/>
  <Override PartName="/ppt/media/image18.png" ContentType="image/png"/>
  <Override PartName="/ppt/media/image6.png" ContentType="image/png"/>
  <Override PartName="/ppt/media/image61.png" ContentType="image/png"/>
  <Override PartName="/ppt/media/image5.jpeg" ContentType="image/jpeg"/>
  <Override PartName="/ppt/media/image48.wmf" ContentType="image/x-wmf"/>
  <Override PartName="/ppt/media/image50.png" ContentType="image/png"/>
  <Override PartName="/ppt/media/image7.gif" ContentType="image/gif"/>
  <Override PartName="/ppt/media/image8.png" ContentType="image/png"/>
  <Override PartName="/ppt/media/image17.png" ContentType="image/png"/>
  <Override PartName="/ppt/media/image39.jpeg" ContentType="image/jpeg"/>
  <Override PartName="/ppt/media/image45.gif" ContentType="image/gif"/>
  <Override PartName="/ppt/media/image30.jpeg" ContentType="image/jpeg"/>
  <Override PartName="/ppt/media/image31.png" ContentType="image/png"/>
  <Override PartName="/ppt/media/image2.jpeg" ContentType="image/jpeg"/>
  <Override PartName="/ppt/media/image34.jpeg" ContentType="image/jpeg"/>
  <Override PartName="/ppt/media/image3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5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C92D-887A-4FFE-BEEE-A4D3A088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7F86-56E8-41F8-822D-182B65BD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0CC5-19FE-4308-A232-BC184666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7A76-2613-4899-B6BA-1C209173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760F-2813-449F-8B35-B2D28B6B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7D28-1343-42DC-B343-9A7040E0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432F-84D9-446C-912A-33A609A4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02A2-FB4F-495C-AD73-B1A7E4C6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9EA-62B5-4BEF-8D54-A2604685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955E-81E3-45FC-9721-A12413A9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3CD1-DBD8-42E2-8921-9D9A5CCC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3C94-F07A-4F48-903C-A42D5771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DC61-04AF-4954-9645-9FAF66FBD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46.xm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" Target="slide47.xml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48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49.xml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slide5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" Target="slide54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5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57.xml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" Target="slide58.xml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image" Target="../media/image46.gi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wmf"/><Relationship Id="rId3" Type="http://schemas.openxmlformats.org/officeDocument/2006/relationships/image" Target="../media/image49.png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45.gif"/><Relationship Id="rId3" Type="http://schemas.openxmlformats.org/officeDocument/2006/relationships/image" Target="../media/image51.gif"/><Relationship Id="rId4" Type="http://schemas.openxmlformats.org/officeDocument/2006/relationships/image" Target="../media/image52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wmf"/><Relationship Id="rId3" Type="http://schemas.openxmlformats.org/officeDocument/2006/relationships/image" Target="../media/image9.wmf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58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60.png"/><Relationship Id="rId12" Type="http://schemas.openxmlformats.org/officeDocument/2006/relationships/image" Target="../media/image43.png"/><Relationship Id="rId13" Type="http://schemas.openxmlformats.org/officeDocument/2006/relationships/image" Target="../media/image43.png"/><Relationship Id="rId14" Type="http://schemas.openxmlformats.org/officeDocument/2006/relationships/image" Target="../media/image61.png"/><Relationship Id="rId15" Type="http://schemas.openxmlformats.org/officeDocument/2006/relationships/image" Target="../media/image61.png"/><Relationship Id="rId16" Type="http://schemas.openxmlformats.org/officeDocument/2006/relationships/image" Target="../media/image62.png"/><Relationship Id="rId17" Type="http://schemas.openxmlformats.org/officeDocument/2006/relationships/image" Target="../media/image62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5.wmf"/><Relationship Id="rId3" Type="http://schemas.openxmlformats.org/officeDocument/2006/relationships/slide" Target="slide12.xml"/><Relationship Id="rId4" Type="http://schemas.openxmlformats.org/officeDocument/2006/relationships/image" Target="../media/image66.wmf"/><Relationship Id="rId5" Type="http://schemas.openxmlformats.org/officeDocument/2006/relationships/image" Target="../media/image67.wmf"/><Relationship Id="rId6" Type="http://schemas.openxmlformats.org/officeDocument/2006/relationships/image" Target="../media/image68.wmf"/><Relationship Id="rId7" Type="http://schemas.openxmlformats.org/officeDocument/2006/relationships/image" Target="../media/image69.png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13.xml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40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73.gi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75.gi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6.gi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1.xml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42.xm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43.xml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8256" t="5808" r="0" b="29581"/>
          <a:stretch/>
        </p:blipFill>
        <p:spPr>
          <a:xfrm>
            <a:off x="755640" y="0"/>
            <a:ext cx="7543800" cy="6769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400000">
            <a:off x="5449680" y="2974680"/>
            <a:ext cx="6669000" cy="71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Успен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-2921400" y="2921040"/>
            <a:ext cx="666900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Эдуар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A564-6E17-43CD-B9FF-1B4967AAECA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95280" y="189000"/>
            <a:ext cx="7921800" cy="4208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Какая польза от картины на стене в квартире дяди Фёдора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38247" t="1336" r="32100" b="81170"/>
          <a:stretch/>
        </p:blipFill>
        <p:spPr>
          <a:xfrm>
            <a:off x="2627280" y="4437000"/>
            <a:ext cx="2952720" cy="240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9168-FDE3-4E37-B77B-714A0753B431}" type="slidenum">
              <a:t>10</a:t>
            </a:fld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189000"/>
            <a:ext cx="7921800" cy="5854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еречислите 5 предметов, которые сложил дядя Фёдор в рюкзак, отправляясь в деревню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1280" y="4724280"/>
            <a:ext cx="1800000" cy="162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FD05-E60B-4A33-8C41-2565C6D3BEBA}" type="slidenum">
              <a:t>11</a:t>
            </a:fld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87280" y="4869000"/>
            <a:ext cx="1497240" cy="1689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27640" y="4869000"/>
            <a:ext cx="1497240" cy="1689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5280" y="333360"/>
            <a:ext cx="7921800" cy="4208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Какой характер человека любит Шарик, а какой не любит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ED64-E423-48B2-9636-CA9DB136A288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260280"/>
            <a:ext cx="7921800" cy="5854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Кого в повести Э.Успенский описал так: «Румяный, в шапке, лет пятидесяти с хвостиком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loud">
            <a:hlinkClick r:id="rId2" action="ppaction://hlinksldjump"/>
          </p:cNvPr>
          <p:cNvSpPr/>
          <p:nvPr/>
        </p:nvSpPr>
        <p:spPr>
          <a:xfrm>
            <a:off x="7164360" y="5300640"/>
            <a:ext cx="1085760" cy="7272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190F-2056-4CC2-AB4E-6032966D6CC6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333360"/>
            <a:ext cx="7921800" cy="4208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Где, по мнению Шарика, лучше покупать мясо и почему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340000" y="4724280"/>
            <a:ext cx="3816360" cy="186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05E3-263F-4F90-9AC2-58BB56C838F7}" type="slidenum">
              <a:t>14</a:t>
            </a:fld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95280" y="189000"/>
            <a:ext cx="7921800" cy="33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очему дядя Фёдор не искал клад в город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95640" y="3789360"/>
            <a:ext cx="3528720" cy="260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1172-A72B-43EE-8D9C-E8A190D85883}" type="slidenum">
              <a:t>15</a:t>
            </a:fld>
          </a:p>
        </p:txBody>
      </p:sp>
    </p:spTree>
  </p:cSld>
  <p:transition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rcRect l="0" t="0" r="39709" b="33808"/>
          <a:stretch/>
        </p:blipFill>
        <p:spPr>
          <a:xfrm>
            <a:off x="0" y="0"/>
            <a:ext cx="45370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525840" y="0"/>
            <a:ext cx="5618160" cy="33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Как и почему звали галчонка дяди Фёдор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2497-2964-434B-BBFD-2918AA1BF4C6}" type="slidenum">
              <a:t>16</a:t>
            </a:fld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95280" y="620640"/>
            <a:ext cx="7921800" cy="33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Что такое «тр-тр Митя» и почему его так зовут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">
            <a:hlinkClick r:id="rId2" action="ppaction://hlinksldjump"/>
          </p:cNvPr>
          <p:cNvSpPr/>
          <p:nvPr/>
        </p:nvSpPr>
        <p:spPr>
          <a:xfrm>
            <a:off x="7164360" y="5300640"/>
            <a:ext cx="1085760" cy="7272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2849-E61F-472C-8490-8F6B1C454E00}" type="slidenum">
              <a:t>17</a:t>
            </a:fld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22200" y="0"/>
            <a:ext cx="7921800" cy="3110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колько лошадиных сил составляет мощность «тр-тр Мити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0" t="24554" r="35294" b="29538"/>
          <a:stretch/>
        </p:blipFill>
        <p:spPr>
          <a:xfrm>
            <a:off x="0" y="2565360"/>
            <a:ext cx="4392720" cy="429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9E34-C232-4C02-A3D9-6AD8E37B4B57}" type="slidenum">
              <a:t>18</a:t>
            </a:fld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5280" y="333360"/>
            <a:ext cx="7921800" cy="33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Какого зверька принёс в сумке с охоты Шарик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loud">
            <a:hlinkClick r:id="rId2" action="ppaction://hlinksldjump"/>
          </p:cNvPr>
          <p:cNvSpPr/>
          <p:nvPr/>
        </p:nvSpPr>
        <p:spPr>
          <a:xfrm>
            <a:off x="6804000" y="5013360"/>
            <a:ext cx="1085760" cy="7272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D226-17DF-44AC-99B0-7E90AA3FFA20}" type="slidenum">
              <a:t>19</a:t>
            </a:fld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122720" cy="4968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332000" y="3284640"/>
            <a:ext cx="5832360" cy="3073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Arial"/>
              </a:rPr>
              <a:t>РАЗМИ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Arial"/>
              <a:ea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6D8-727B-4FA3-8694-989DEC5FAB7E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6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loud">
            <a:hlinkClick r:id="rId2" action="ppaction://hlinksldjump"/>
          </p:cNvPr>
          <p:cNvSpPr/>
          <p:nvPr/>
        </p:nvSpPr>
        <p:spPr>
          <a:xfrm>
            <a:off x="1258920" y="4941720"/>
            <a:ext cx="1085760" cy="7272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333360"/>
            <a:ext cx="7921800" cy="33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Какую собаку решил сделать дядя Фёдор из Шарик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3A4E-1643-464B-82AA-E2F67ECD99BE}" type="slidenum">
              <a:t>20</a:t>
            </a:fld>
          </a:p>
        </p:txBody>
      </p:sp>
    </p:spTree>
  </p:cSld>
  <p:transition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5464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894200" y="0"/>
            <a:ext cx="4249800" cy="5854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Зачем кот решил покрасить усы и уйти в подполь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0DC6-D734-4FD8-A79A-C50A649D867C}" type="slidenum">
              <a:t>21</a:t>
            </a:fld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5280" y="333360"/>
            <a:ext cx="7921800" cy="33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Какие дрова кот считал самыми лучшим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03640" y="3860640"/>
            <a:ext cx="2519280" cy="211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2424-3694-49B1-97E9-E2589B28BA8E}" type="slidenum">
              <a:t>22</a:t>
            </a:fld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333360"/>
            <a:ext cx="7921800" cy="4208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Чем воспользовались друзья, чтобы не рубить берёзы на дров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492360" y="4797360"/>
            <a:ext cx="2206800" cy="1703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785C-7EC4-44CF-9ED9-40C4D0C3F0A3}" type="slidenum">
              <a:t>23</a:t>
            </a:fld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8360" y="692280"/>
            <a:ext cx="8137440" cy="4969800"/>
          </a:xfrm>
          <a:prstGeom prst="rect">
            <a:avLst/>
          </a:prstGeom>
          <a:solidFill>
            <a:srgbClr val="ffff0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Кроссворд «Книгу читать – не вершки хватать»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DBF2-5609-41B4-AE67-392F700AF14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324000" y="189000"/>
          <a:ext cx="8135640" cy="6479640"/>
        </p:xfrm>
        <a:graphic>
          <a:graphicData uri="http://schemas.openxmlformats.org/drawingml/2006/table">
            <a:tbl>
              <a:tblPr/>
              <a:tblGrid>
                <a:gridCol w="417240"/>
                <a:gridCol w="533520"/>
                <a:gridCol w="417600"/>
                <a:gridCol w="531720"/>
                <a:gridCol w="419040"/>
                <a:gridCol w="531720"/>
                <a:gridCol w="533520"/>
                <a:gridCol w="417600"/>
                <a:gridCol w="417600"/>
                <a:gridCol w="531720"/>
                <a:gridCol w="419040"/>
                <a:gridCol w="531720"/>
                <a:gridCol w="533520"/>
                <a:gridCol w="531720"/>
                <a:gridCol w="417600"/>
                <a:gridCol w="533520"/>
                <a:gridCol w="417240"/>
              </a:tblGrid>
              <a:tr h="50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50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50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50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50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56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826920" y="62064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 о л о к  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1125360"/>
            <a:ext cx="460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 р о ф е с  с  о 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162864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 р а  к  т  о 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206064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 и м  м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3068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 е н  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3640" y="3068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 у д к 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16720" y="4076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 о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84720" y="3068640"/>
            <a:ext cx="22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я щ и 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19280" y="414972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  а м е  т к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35640" y="5013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 ё  м и 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551664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 о т  о а  п п а р а 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6920" y="1197000"/>
            <a:ext cx="50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692280"/>
            <a:ext cx="1008000" cy="45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765000"/>
            <a:ext cx="50328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836640"/>
            <a:ext cx="100800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36000" y="836640"/>
            <a:ext cx="4316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1197000"/>
            <a:ext cx="43200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4720" y="1773360"/>
            <a:ext cx="432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40000" y="2205000"/>
            <a:ext cx="43164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96360" y="2205000"/>
            <a:ext cx="43164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Д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3280" y="3213000"/>
            <a:ext cx="43200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51640" y="3645000"/>
            <a:ext cx="4316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71640" y="4653000"/>
            <a:ext cx="432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4221000"/>
            <a:ext cx="43200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356000" y="278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699C-3EFA-47D5-A826-7CD68DB09A70}" type="slidenum">
              <a:t>25</a:t>
            </a:fld>
          </a:p>
        </p:txBody>
      </p:sp>
    </p:spTree>
  </p:cSld>
  <p:transition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3399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7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755640" y="907920"/>
            <a:ext cx="7478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"Пришёл писатель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 художнику..."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484360" y="4437000"/>
            <a:ext cx="1524240" cy="1508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43280" y="4365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0443-F3D3-48D3-A3C1-5E01D9D38D8C}" type="slidenum">
              <a:t>26</a:t>
            </a:fld>
          </a:p>
        </p:txBody>
      </p:sp>
    </p:spTree>
  </p:cSld>
  <p:transition>
    <p:pull dir="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147122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95280" y="404640"/>
            <a:ext cx="8209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Сколько  моло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аквариуме?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211640" y="3141720"/>
            <a:ext cx="4681440" cy="3166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268360" y="3573360"/>
            <a:ext cx="2486160" cy="2881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0" y="357336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008A-E81B-4D94-8228-796DD7832050}" type="slidenum">
              <a:t>27</a:t>
            </a:fld>
          </a:p>
        </p:txBody>
      </p:sp>
    </p:spTree>
  </p:cSld>
  <p:transition>
    <p:checke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6200" y="401760"/>
            <a:ext cx="70372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троскин надои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т коровы Мурки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 л молок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ведрах и аквариу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ыло 40 л молок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аквариуме и банка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ыло 30 л молок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колько литров моло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ыло в аквариум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101080" y="3645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C724-C952-430C-BE8B-BC8CCCE1A395}" type="slidenum">
              <a:t>28</a:t>
            </a:fld>
          </a:p>
        </p:txBody>
      </p:sp>
    </p:spTree>
  </p:cSld>
  <p:transition>
    <p:cover dir="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172165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060640"/>
            <a:ext cx="6588000" cy="3889440"/>
          </a:xfrm>
          <a:prstGeom prst="ellipse">
            <a:avLst/>
          </a:prstGeom>
          <a:solidFill>
            <a:srgbClr val="cc00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7266" t="6476" r="42997" b="28993"/>
          <a:stretch/>
        </p:blipFill>
        <p:spPr>
          <a:xfrm>
            <a:off x="539640" y="3116160"/>
            <a:ext cx="2448000" cy="204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020000" y="3789360"/>
            <a:ext cx="1081080" cy="993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564000" y="3068640"/>
            <a:ext cx="2378160" cy="2260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5867280" y="6021360"/>
            <a:ext cx="1366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0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80000" y="620640"/>
            <a:ext cx="1655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0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8028000" y="3789360"/>
            <a:ext cx="1116000" cy="1025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2556000" y="6021360"/>
            <a:ext cx="1366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0л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427640" y="5229360"/>
            <a:ext cx="86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1280" y="189000"/>
            <a:ext cx="301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 40+30=70(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981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. 70-50=20(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67280" y="5805360"/>
            <a:ext cx="136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59280" y="2060640"/>
            <a:ext cx="6084720" cy="4249800"/>
          </a:xfrm>
          <a:prstGeom prst="ellipse">
            <a:avLst/>
          </a:prstGeom>
          <a:solidFill>
            <a:srgbClr val="cc00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E193-09C3-4646-A24B-8D59538D9397}" type="slidenum">
              <a:t>29</a:t>
            </a:fld>
          </a:p>
        </p:txBody>
      </p:sp>
    </p:spTree>
  </p:cSld>
  <p:transition>
    <p:comb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35120" y="344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333360"/>
            <a:ext cx="7921800" cy="33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очему мальчика назвали «дядя Фёдор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39881" t="17084" r="21217" b="49956"/>
          <a:stretch/>
        </p:blipFill>
        <p:spPr>
          <a:xfrm>
            <a:off x="2987640" y="3933720"/>
            <a:ext cx="2506680" cy="29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E401-53DD-4CE0-9169-0101E1CECD02}" type="slidenum">
              <a:t>3</a:t>
            </a:fld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36283" t="9260" r="0" b="26651"/>
          <a:stretch/>
        </p:blipFill>
        <p:spPr>
          <a:xfrm>
            <a:off x="0" y="0"/>
            <a:ext cx="4902120" cy="6791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 rot="300600">
            <a:off x="4716360" y="476280"/>
            <a:ext cx="4103640" cy="499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1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ПОПРОБУЙ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РАЗЪЯСНИТ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5516640"/>
            <a:ext cx="8064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 вы помните, дядя Фёдор написал родителям пись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53D5-5624-4ABE-A378-DD48DA6D28D1}" type="slidenum">
              <a:t>30</a:t>
            </a:fld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880" y="476280"/>
            <a:ext cx="927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И папа с мамой стали письмо чит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начала им всем нравилось. А потом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 на днях я линять начал. Стар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шерсть с меня сыплется - хоть в 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 заходи. Зато новая растёт – чиста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шёлковистая! Просто каракуль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4437000"/>
            <a:ext cx="7915320" cy="2043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то написал в письме эти сл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то, когда и почему в природе линя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караку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244000" y="3933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D308-226D-4BEC-80F4-5DC3AB5F0A40}" type="slidenum">
              <a:t>31</a:t>
            </a:fld>
          </a:p>
        </p:txBody>
      </p:sp>
    </p:spTree>
  </p:cSld>
  <p:transition>
    <p:push dir="r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5" dur="205762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395280" y="981000"/>
            <a:ext cx="835344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Помогите Шарик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зайцев спаст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945480" y="4724280"/>
            <a:ext cx="1841400" cy="2133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348000" y="260280"/>
            <a:ext cx="1871640" cy="1011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755640" y="549360"/>
            <a:ext cx="2448000" cy="15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7986-67C3-4D13-ACD6-CF4DAA10C691}" type="slidenum">
              <a:t>32</a:t>
            </a:fld>
          </a:p>
        </p:txBody>
      </p:sp>
    </p:spTree>
  </p:cSld>
  <p:transition>
    <p:comb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flipH="1" flipV="1">
            <a:off x="250560" y="1699920"/>
            <a:ext cx="3529080" cy="5157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780000" y="333360"/>
            <a:ext cx="1655640" cy="6524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851280" y="2781000"/>
            <a:ext cx="5041800" cy="381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3284640"/>
            <a:ext cx="52563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ДЕЛИТЕ ЗАЙЧАТ ОТ ЛЕСА С ПОМОЩЬЮ ТРЕХ ПРЯМЫХ ЛИНИЙ, ПРОВЕДЕННЫХ ОТ ОДНОЙ ИЗ ОБОЗНАЧЕННЫХ ТО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635360" y="3492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C019-510B-4C1D-9F33-D05D8B5F03A7}" type="slidenum">
              <a:t>33</a:t>
            </a:fld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60836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4411" t="25624" r="39709" b="3274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539640" y="3860640"/>
            <a:ext cx="792180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 ЧЁМ ГЛАСИТ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СЛОВИЦА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04640"/>
            <a:ext cx="446400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известно, дядя Фёдор очень любил читать журнал «Мурзилка». В одном из номеров был помещён такой ребу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6BFB-D516-4866-8C6C-772AB0C257F6}" type="slidenum">
              <a:t>34</a:t>
            </a:fld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11280" y="28440"/>
            <a:ext cx="7667640" cy="6829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D604-229A-4FEB-A8D8-C4E8EF70C338}" type="slidenum">
              <a:t>35</a:t>
            </a:fld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121862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2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9" name=""/>
          <p:cNvSpPr txBox="1"/>
          <p:nvPr/>
        </p:nvSpPr>
        <p:spPr>
          <a:xfrm>
            <a:off x="539640" y="1125360"/>
            <a:ext cx="820908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Красна птица перьями,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а человек  ученьем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8296-C18F-48A5-AE81-CDAD13AA66EE}" type="slidenum">
              <a:t>36</a:t>
            </a:fld>
          </a:p>
        </p:txBody>
      </p:sp>
    </p:spTree>
  </p:cSld>
  <p:transition>
    <p:split dir="in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0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39640" y="406440"/>
            <a:ext cx="2880000" cy="2860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924360" y="1341360"/>
            <a:ext cx="3889440" cy="2395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324000" y="4149720"/>
            <a:ext cx="1223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51280" y="4941720"/>
            <a:ext cx="115236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700360" y="4221000"/>
            <a:ext cx="122400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692360" y="3716280"/>
            <a:ext cx="1224000" cy="8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932360" y="5734080"/>
            <a:ext cx="115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Arial"/>
              </a:rPr>
              <a:t>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300720" y="5157720"/>
            <a:ext cx="1079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latin typeface="Arial"/>
              </a:rPr>
              <a:t>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451640" y="4508640"/>
            <a:ext cx="1224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675640" y="3645000"/>
            <a:ext cx="28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stretch/>
                </a:blipFill>
                <a:latin typeface="Arial"/>
              </a:rPr>
              <a:t>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8"/>
          <a:stretch/>
        </p:blipFill>
        <p:spPr>
          <a:xfrm>
            <a:off x="4716360" y="4005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6E7-B137-465F-AFE6-E87D5B671527}" type="slidenum">
              <a:t>37</a:t>
            </a:fld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3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0"/>
                            </p:stCondLst>
                            <p:childTnLst>
                              <p:par>
                                <p:cTn id="3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7000"/>
                            </p:stCondLst>
                            <p:childTnLst>
                              <p:par>
                                <p:cTn id="3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9000"/>
                            </p:stCondLst>
                            <p:childTnLst>
                              <p:par>
                                <p:cTn id="3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391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3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94 -0.0081 C 0.00504 -0.03217 0.02605 -0.06666 0.05105 -0.06666 C 0.08803 -0.06666 0.11806 -0.03078 0.11806 0.01459 C 0.11806 0.02917 0.11511 0.0426 0.10903 0.05463 C 0.11007 0.05463 -0.00694 0.2345 -0.00694 0.23588 C -0.00694 0.2345 -0.12395 0.05463 -0.12291 0.05463 C -0.12899 0.0426 -0.13194 0.02917 -0.13194 0.01459 C -0.13194 -0.03078 -0.10191 -0.06666 -0.06388 -0.06666 C -0.03993 -0.06666 -0.01892 -0.03217 -0.00694 -0.0081 Z">
                                      <p:cBhvr>
                                        <p:cTn id="394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5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396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398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400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402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3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404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5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406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6000" y="5516640"/>
            <a:ext cx="1081080" cy="664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95280" y="333360"/>
            <a:ext cx="792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н был серьёзный и самостоятель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ADDF-09D1-42E6-9383-E45228ED88CB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56000" y="3645000"/>
            <a:ext cx="3456000" cy="2125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95280" y="333360"/>
            <a:ext cx="792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Чита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6326-EE06-4EC6-A5F7-AED504E2DBA9}" type="slidenum">
              <a:t>39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684360" y="5373720"/>
            <a:ext cx="936360" cy="7192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333360"/>
            <a:ext cx="7921800" cy="25628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Что умел дядя Фёдор в 4 год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E822-EE1F-4712-995D-297A8BC60675}" type="slidenum">
              <a:t>4</a:t>
            </a:fld>
          </a:p>
        </p:txBody>
      </p:sp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95280" y="333360"/>
            <a:ext cx="792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В 6 л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08360" y="3213000"/>
            <a:ext cx="1308240" cy="12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6635-CDAB-42C0-8A0C-3BB9308EC655}" type="slidenum">
              <a:t>40</a:t>
            </a:fld>
          </a:p>
        </p:txBody>
      </p:sp>
    </p:spTree>
  </p:cSld>
  <p:transition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6000" y="5516640"/>
            <a:ext cx="1081080" cy="664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5280" y="333360"/>
            <a:ext cx="792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м 20 с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16E1-36BE-4B53-9CC1-CC3AC7E87BC7}" type="slidenum">
              <a:t>41</a:t>
            </a:fld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43280" y="3500280"/>
            <a:ext cx="2736720" cy="27370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5280" y="333360"/>
            <a:ext cx="792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Колбасой на язык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8730-FCC9-4142-8746-AAAD6AA2DD58}" type="slidenum">
              <a:t>42</a:t>
            </a:fld>
          </a:p>
        </p:txBody>
      </p:sp>
    </p:spTree>
  </p:cSld>
  <p:transition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979640" y="2708280"/>
            <a:ext cx="3816360" cy="2803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95280" y="333360"/>
            <a:ext cx="792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Валентин Берес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19C-FDD6-4272-B991-2C683EDC7171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0" y="333360"/>
            <a:ext cx="3745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исатель, а по мнению дядя Фёдора, хороший челове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260960" cy="540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0582-EAEB-4D20-BF88-72580A2CCD50}" type="slidenum">
              <a:t>44</a:t>
            </a:fld>
          </a:p>
        </p:txBody>
      </p:sp>
    </p:spTree>
  </p:cSld>
  <p:transition>
    <p:comb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rcRect l="38962" t="-1810" r="4629" b="64018"/>
          <a:stretch/>
        </p:blipFill>
        <p:spPr>
          <a:xfrm>
            <a:off x="1187280" y="0"/>
            <a:ext cx="5616720" cy="5184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95280" y="4076640"/>
            <a:ext cx="792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на загораживает дырку на стен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1C9C-1B2C-4E75-BD5F-61EAA146CB16}" type="slidenum">
              <a:t>45</a:t>
            </a:fld>
          </a:p>
        </p:txBody>
      </p:sp>
    </p:spTree>
  </p:cSld>
  <p:transition>
    <p:comb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276720" y="3284640"/>
            <a:ext cx="1844640" cy="21589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796000" y="4941720"/>
            <a:ext cx="2763720" cy="1289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1042920" y="2997360"/>
            <a:ext cx="1827360" cy="9522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5940360" y="981000"/>
            <a:ext cx="2468520" cy="2664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900000" y="479736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95280" y="333360"/>
            <a:ext cx="792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F637-3D18-4DAD-9DE4-D9D5D3A7027D}" type="slidenum">
              <a:t>46</a:t>
            </a:fld>
          </a:p>
        </p:txBody>
      </p:sp>
    </p:spTree>
  </p:cSld>
  <p:transition>
    <p:cover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19280" y="4437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4678800">
            <a:off x="5186160" y="3679920"/>
            <a:ext cx="1914480" cy="32860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79280" y="0"/>
            <a:ext cx="896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Любит весёлый – колбасно-угощательный, не любит тяжёлый – венико-выгонятельный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559-86CA-4395-A5FD-EA525BF60745}" type="slidenum">
              <a:t>47</a:t>
            </a:fld>
          </a:p>
        </p:txBody>
      </p:sp>
    </p:spTree>
  </p:cSld>
  <p:transition>
    <p:cover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56000" y="2176560"/>
            <a:ext cx="3557520" cy="46814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95280" y="333360"/>
            <a:ext cx="792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Почтальон Печки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D841-0FCC-43C5-8772-A727B10D4684}" type="slidenum">
              <a:t>48</a:t>
            </a:fld>
          </a:p>
        </p:txBody>
      </p:sp>
    </p:spTree>
  </p:cSld>
  <p:transition>
    <p:checker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333360"/>
            <a:ext cx="7921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В магазине, в «магазинном» мясе костей больш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40000" y="4724280"/>
            <a:ext cx="3816360" cy="186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F4DD-96ED-43A1-85B9-85CEE2D314C8}" type="slidenum">
              <a:t>49</a:t>
            </a:fld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916360" y="4724280"/>
            <a:ext cx="3168360" cy="1959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333360"/>
            <a:ext cx="7921800" cy="33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В каком возрасте он умел варить себе суп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13DF-E46C-463E-B942-8A91953CD77C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95280" y="333360"/>
            <a:ext cx="7921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В городе нельзя копать, кругом асфаль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411280" y="3933720"/>
            <a:ext cx="3657600" cy="2414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B5DE-9E93-4BB4-81E7-9CC065D5F1BE}" type="slidenum">
              <a:t>50</a:t>
            </a:fld>
          </a:p>
        </p:txBody>
      </p:sp>
    </p:spTree>
  </p:cSld>
  <p:transition>
    <p:cover dir="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95280" y="333360"/>
            <a:ext cx="7921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Хватайка: он что ни увидит, всё на шкаф тащи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0" t="17033" r="71642" b="69608"/>
          <a:stretch/>
        </p:blipFill>
        <p:spPr>
          <a:xfrm>
            <a:off x="250920" y="2852640"/>
            <a:ext cx="5545080" cy="400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A0E3-A852-44DB-80B2-A7AB90B2C8A9}" type="slidenum">
              <a:t>51</a:t>
            </a:fld>
          </a:p>
        </p:txBody>
      </p:sp>
    </p:spTree>
  </p:cSld>
  <p:transition>
    <p:cover dir="l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95280" y="333360"/>
            <a:ext cx="7921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Трактор Митя - «Модель инженера Тяпкин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23447" r="33827" b="29581"/>
          <a:stretch/>
        </p:blipFill>
        <p:spPr>
          <a:xfrm>
            <a:off x="3995640" y="2852640"/>
            <a:ext cx="3889440" cy="3803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3316-D386-401A-80AB-66B13CC50822}" type="slidenum">
              <a:t>52</a:t>
            </a:fld>
          </a:p>
        </p:txBody>
      </p:sp>
    </p:spTree>
  </p:cSld>
  <p:transition>
    <p:cover dir="l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333360"/>
            <a:ext cx="792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20 лошадиных си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213000"/>
            <a:ext cx="8964720" cy="1743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38FF-381E-4DC7-9AF2-EDCEF712CC52}" type="slidenum">
              <a:t>53</a:t>
            </a:fld>
          </a:p>
        </p:txBody>
      </p:sp>
    </p:spTree>
  </p:cSld>
  <p:transition>
    <p:cover dir="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003640" y="333360"/>
            <a:ext cx="388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Бобрёнка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559400" cy="666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1D5D-08CA-4076-8CBD-7F6C8A43E568}" type="slidenum">
              <a:t>54</a:t>
            </a:fld>
          </a:p>
        </p:txBody>
      </p:sp>
    </p:spTree>
  </p:cSld>
  <p:transition>
    <p:cover dir="r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5280" y="333360"/>
            <a:ext cx="792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Цирковую собаку – пудел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987640" y="3213000"/>
            <a:ext cx="4032360" cy="264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B3CF-C786-4D57-A014-096F2A7F5D28}" type="slidenum">
              <a:t>55</a:t>
            </a:fld>
          </a:p>
        </p:txBody>
      </p:sp>
    </p:spTree>
  </p:cSld>
  <p:transition>
    <p:cover dir="ru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95280" y="333360"/>
            <a:ext cx="792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Чтобы профессор не забрал е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063960" y="3429000"/>
            <a:ext cx="2452680" cy="309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7D2C-B452-4D98-BB7A-FB74B67E4E88}" type="slidenum">
              <a:t>56</a:t>
            </a:fld>
          </a:p>
        </p:txBody>
      </p:sp>
    </p:spTree>
  </p:cSld>
  <p:transition>
    <p:newsflash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95280" y="333360"/>
            <a:ext cx="792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Берёзовые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771640" y="3573360"/>
            <a:ext cx="3143520" cy="2427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65E9-C836-40AA-8BAD-32A06C28D7AD}" type="slidenum">
              <a:t>57</a:t>
            </a:fld>
          </a:p>
        </p:txBody>
      </p:sp>
    </p:spTree>
  </p:cSld>
  <p:transition>
    <p:wedg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95280" y="333360"/>
            <a:ext cx="7921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Домашним солнышком, присланным из Института Физики Солнц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2232000" cy="221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3D5-1E7D-4607-B487-046EBD5AC0EC}" type="slidenum">
              <a:t>58</a:t>
            </a:fld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788000" y="3716280"/>
            <a:ext cx="3600360" cy="2214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5280" y="333360"/>
            <a:ext cx="7921800" cy="1739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Рост дяди Фёдор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83D3-8D11-49A7-B124-8F4298B3E816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9640" y="620640"/>
            <a:ext cx="7921800" cy="5031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Способ поедания котом Матроскиным бутербро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708360" y="407664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0CA2-1B3A-4091-8677-20C59BFBD65F}" type="slidenum">
              <a:t>7</a:t>
            </a:fld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132000" y="4581360"/>
            <a:ext cx="2603520" cy="1913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333360"/>
            <a:ext cx="7921440" cy="4208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Как назывался пароход, на котором плавал дедушка Матроскин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BA06-77F8-45E7-8E7C-298E6879D758}" type="slidenum">
              <a:t>8</a:t>
            </a:fld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333360"/>
            <a:ext cx="7921800" cy="2562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Кто такой Валентин Берестов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5084640"/>
            <a:ext cx="122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E54A-706A-4BA4-8B9D-C6FDFC3D848F}" type="slidenum">
              <a:t>9</a:t>
            </a:fld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18:57:34Z</dcterms:created>
  <dc:creator>1</dc:creator>
  <dc:description/>
  <dc:language>en-US</dc:language>
  <cp:lastModifiedBy>11</cp:lastModifiedBy>
  <dcterms:modified xsi:type="dcterms:W3CDTF">2008-11-18T13:53:42Z</dcterms:modified>
  <cp:revision>19</cp:revision>
  <dc:subject/>
  <dc:title>Слайд 1</dc:title>
</cp:coreProperties>
</file>