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3.wmf" ContentType="image/x-wmf"/>
  <Override PartName="/ppt/media/image55.png" ContentType="image/png"/>
  <Override PartName="/ppt/media/image52.gif" ContentType="image/gif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1.gif" ContentType="image/gif"/>
  <Override PartName="/ppt/media/image49.png" ContentType="image/png"/>
  <Override PartName="/ppt/media/image46.gif" ContentType="image/gif"/>
  <Override PartName="/ppt/media/image43.png" ContentType="image/png"/>
  <Override PartName="/ppt/media/image40.png" ContentType="image/png"/>
  <Override PartName="/ppt/media/image42.gif" ContentType="image/gif"/>
  <Override PartName="/ppt/media/image35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1.jpeg" ContentType="image/jpeg"/>
  <Override PartName="/ppt/media/image10.png" ContentType="image/png"/>
  <Override PartName="/ppt/media/image44.gif" ContentType="image/gif"/>
  <Override PartName="/ppt/media/image47.png" ContentType="image/png"/>
  <Override PartName="/ppt/media/image16.jpeg" ContentType="image/jpeg"/>
  <Override PartName="/ppt/media/image57.wmf" ContentType="image/x-wmf"/>
  <Override PartName="/ppt/media/image20.wmf" ContentType="image/x-wmf"/>
  <Override PartName="/ppt/media/image24.gif" ContentType="image/gif"/>
  <Override PartName="/ppt/media/image4.png" ContentType="image/png"/>
  <Override PartName="/ppt/media/image12.jpeg" ContentType="image/jpeg"/>
  <Override PartName="/ppt/media/image19.png" ContentType="image/png"/>
  <Override PartName="/ppt/media/image21.wmf" ContentType="image/x-wmf"/>
  <Override PartName="/ppt/media/image60.png" ContentType="image/png"/>
  <Override PartName="/ppt/media/image59.png" ContentType="image/png"/>
  <Override PartName="/ppt/media/image22.png" ContentType="image/png"/>
  <Override PartName="/ppt/media/image76.gif" ContentType="image/gif"/>
  <Override PartName="/ppt/media/image69.png" ContentType="image/png"/>
  <Override PartName="/ppt/media/image32.png" ContentType="image/png"/>
  <Override PartName="/ppt/media/image74.jpeg" ContentType="image/jpeg"/>
  <Override PartName="/ppt/media/image67.wmf" ContentType="image/x-wmf"/>
  <Override PartName="/ppt/media/image73.gif" ContentType="image/gif"/>
  <Override PartName="/ppt/media/image70.png" ContentType="image/png"/>
  <Override PartName="/ppt/media/image68.wmf" ContentType="image/x-wmf"/>
  <Override PartName="/ppt/media/image25.gif" ContentType="image/gif"/>
  <Override PartName="/ppt/media/image28.png" ContentType="image/png"/>
  <Override PartName="/ppt/media/image38.jpeg" ContentType="image/jpeg"/>
  <Override PartName="/ppt/media/image27.jpeg" ContentType="image/jpeg"/>
  <Override PartName="/ppt/media/image71.jpeg" ContentType="image/jpeg"/>
  <Override PartName="/ppt/media/image65.wmf" ContentType="image/x-wmf"/>
  <Override PartName="/ppt/media/image75.gif" ContentType="image/gif"/>
  <Override PartName="/ppt/media/image63.wmf" ContentType="image/x-wmf"/>
  <Override PartName="/ppt/media/image62.png" ContentType="image/png"/>
  <Override PartName="/ppt/media/image9.wmf" ContentType="image/x-wmf"/>
  <Override PartName="/ppt/media/image41.png" ContentType="image/png"/>
  <Override PartName="/ppt/media/image72.jpeg" ContentType="image/jpeg"/>
  <Override PartName="/ppt/media/image14.png" ContentType="image/png"/>
  <Override PartName="/ppt/media/image11.gif" ContentType="image/gif"/>
  <Override PartName="/ppt/media/image29.png" ContentType="image/png"/>
  <Override PartName="/ppt/media/image64.jpeg" ContentType="image/jpeg"/>
  <Override PartName="/ppt/media/image36.gif" ContentType="image/gif"/>
  <Override PartName="/ppt/media/image18.png" ContentType="image/png"/>
  <Override PartName="/ppt/media/image6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7.gif" ContentType="image/gif"/>
  <Override PartName="/ppt/media/image8.png" ContentType="image/png"/>
  <Override PartName="/ppt/media/image17.png" ContentType="image/png"/>
  <Override PartName="/ppt/media/image39.jpeg" ContentType="image/jpeg"/>
  <Override PartName="/ppt/media/image45.gif" ContentType="image/gif"/>
  <Override PartName="/ppt/media/image30.jpeg" ContentType="image/jpeg"/>
  <Override PartName="/ppt/media/image31.png" ContentType="image/png"/>
  <Override PartName="/ppt/media/image2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394-DA43-40BF-90F4-EE1F97D1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DD9-D419-4307-A51A-D9291F67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F31-77FB-4B4F-B153-CB8A266B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BEF-1120-46B3-A399-C75E2391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A10-2794-4E90-9860-DA9DC38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0F7-3B94-435E-B768-4BEA868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35A-020A-422F-821B-172B0522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DD-A6CA-4AE0-8B09-983E3A13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FFF-F705-413D-AF96-4B804C0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BA2-CD0C-49FF-A5EC-A8117EC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32E-9E2F-417F-8064-52D35BC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0ED-935A-4F70-983F-9E7262B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8D10-F762-4564-B1A4-08EADD55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6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" Target="slide47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49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5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57.xm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58.xm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5.gif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image" Target="../media/image9.wm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61.png"/><Relationship Id="rId15" Type="http://schemas.openxmlformats.org/officeDocument/2006/relationships/image" Target="../media/image61.png"/><Relationship Id="rId16" Type="http://schemas.openxmlformats.org/officeDocument/2006/relationships/image" Target="../media/image62.png"/><Relationship Id="rId17" Type="http://schemas.openxmlformats.org/officeDocument/2006/relationships/image" Target="../media/image6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" Target="slide12.xml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3.xml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0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73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1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2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3.xm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8256" t="5808" r="0" b="29581"/>
          <a:stretch/>
        </p:blipFill>
        <p:spPr>
          <a:xfrm>
            <a:off x="755640" y="0"/>
            <a:ext cx="7543800" cy="676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449680" y="2974680"/>
            <a:ext cx="666900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сп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921400" y="2921040"/>
            <a:ext cx="666900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дуа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51B-454B-4C02-B417-2AF05F037C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8900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ая польза от картины на стене в квартире дяди Фёдора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38247" t="1336" r="32100" b="81170"/>
          <a:stretch/>
        </p:blipFill>
        <p:spPr>
          <a:xfrm>
            <a:off x="2627280" y="4437000"/>
            <a:ext cx="2952720" cy="24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656-2647-4179-A347-226E861715B7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89000"/>
            <a:ext cx="7921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еречислите 5 предметов, которые сложил дядя Фёдор в рюкзак, отправляясь в деревню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4724280"/>
            <a:ext cx="180000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547-3BD0-4764-B5BB-E93C9780296C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4869000"/>
            <a:ext cx="1497240" cy="168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4869000"/>
            <a:ext cx="1497240" cy="1689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ой характер человека любит Шарик, а какой не люби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B13-28C1-4AAB-BB20-E85B365B9BD4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7921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ого в повести Э.Успенский описал так: «Румяный, в шапке, лет пятидесяти с хвостиком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>
            <a:hlinkClick r:id="rId2" action="ppaction://hlinksldjump"/>
          </p:cNvPr>
          <p:cNvSpPr/>
          <p:nvPr/>
        </p:nvSpPr>
        <p:spPr>
          <a:xfrm>
            <a:off x="7164360" y="530064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0C4-53BF-4EC7-A178-076FD8779F6F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де, по мнению Шарика, лучше покупать мясо и поче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40000" y="4724280"/>
            <a:ext cx="3816360" cy="18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C9B-F845-4339-AD18-45244E0E327B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8900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дядя Фёдор не искал клад в город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3789360"/>
            <a:ext cx="3528720" cy="26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A4B-1B9F-4913-858B-988F5E8CFD79}" type="slidenum">
              <a:t>15</a:t>
            </a:fld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39709" b="33808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25840" y="0"/>
            <a:ext cx="561816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 и почему звали галчонка дяди Фёд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F05-8ADC-459D-8CF7-856544C538A8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62064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такое «тр-тр Митя» и почему его так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>
            <a:hlinkClick r:id="rId2" action="ppaction://hlinksldjump"/>
          </p:cNvPr>
          <p:cNvSpPr/>
          <p:nvPr/>
        </p:nvSpPr>
        <p:spPr>
          <a:xfrm>
            <a:off x="7164360" y="530064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844-FCDF-44F6-BB4A-B70C0166A84A}" type="slidenum">
              <a:t>17</a:t>
            </a:fld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22200" y="0"/>
            <a:ext cx="7921800" cy="311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олько лошадиных сил составляет мощность «тр-тр Мити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24554" r="35294" b="29538"/>
          <a:stretch/>
        </p:blipFill>
        <p:spPr>
          <a:xfrm>
            <a:off x="0" y="2565360"/>
            <a:ext cx="4392720" cy="42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5C3-7D7E-4806-B73E-5731F1019C75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ого зверька принёс в сумке с охоты Шари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>
            <a:hlinkClick r:id="rId2" action="ppaction://hlinksldjump"/>
          </p:cNvPr>
          <p:cNvSpPr/>
          <p:nvPr/>
        </p:nvSpPr>
        <p:spPr>
          <a:xfrm>
            <a:off x="6804000" y="501336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A5F-1262-4524-A1E5-7067FAC10293}" type="slidenum">
              <a:t>19</a:t>
            </a:fld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122720" cy="49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332000" y="3284640"/>
            <a:ext cx="5832360" cy="3073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A7C-87A8-4FB1-BE05-00C99177805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">
            <a:hlinkClick r:id="rId2" action="ppaction://hlinksldjump"/>
          </p:cNvPr>
          <p:cNvSpPr/>
          <p:nvPr/>
        </p:nvSpPr>
        <p:spPr>
          <a:xfrm>
            <a:off x="1258920" y="4941720"/>
            <a:ext cx="1085760" cy="727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ую собаку решил сделать дядя Фёдор из Шари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DD6-F0A0-4875-86E1-02E906E29E73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54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94200" y="0"/>
            <a:ext cx="4249800" cy="585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чем кот решил покрасить усы и уйти в подполь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9E7-E83D-4294-8BF1-450DA30B640F}" type="slidenum">
              <a:t>21</a:t>
            </a:fld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ие дрова кот считал самыми лучши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03640" y="3860640"/>
            <a:ext cx="2519280" cy="21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F75-5D0E-42EE-BA0C-CE5BE9969403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ем воспользовались друзья, чтобы не рубить берёзы на дро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797360"/>
            <a:ext cx="2206800" cy="17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B0C-7F2E-4169-A492-0E994BC2DAF6}" type="slidenum">
              <a:t>23</a:t>
            </a:fld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692280"/>
            <a:ext cx="8137440" cy="4969800"/>
          </a:xfrm>
          <a:prstGeom prst="rect">
            <a:avLst/>
          </a:prstGeom>
          <a:solidFill>
            <a:srgbClr val="ffff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россворд «Книгу читать – не вершки хватать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7CA-24C1-41E4-9924-77D5A31E4CE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24000" y="189000"/>
          <a:ext cx="8135640" cy="6479640"/>
        </p:xfrm>
        <a:graphic>
          <a:graphicData uri="http://schemas.openxmlformats.org/drawingml/2006/table">
            <a:tbl>
              <a:tblPr/>
              <a:tblGrid>
                <a:gridCol w="417240"/>
                <a:gridCol w="533520"/>
                <a:gridCol w="417600"/>
                <a:gridCol w="531720"/>
                <a:gridCol w="419040"/>
                <a:gridCol w="531720"/>
                <a:gridCol w="533520"/>
                <a:gridCol w="417600"/>
                <a:gridCol w="417600"/>
                <a:gridCol w="531720"/>
                <a:gridCol w="419040"/>
                <a:gridCol w="531720"/>
                <a:gridCol w="533520"/>
                <a:gridCol w="531720"/>
                <a:gridCol w="417600"/>
                <a:gridCol w="533520"/>
                <a:gridCol w="417240"/>
              </a:tblGrid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26920" y="620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 о л о к 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12536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 р о ф е с  с  о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62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р а  к  т  о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060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и м  м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06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е н 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3068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у д к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4076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о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06864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щ 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14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  а м е  т к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501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ё  м и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51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 о т  о а  п п а р а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197000"/>
            <a:ext cx="5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92280"/>
            <a:ext cx="100800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765000"/>
            <a:ext cx="503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836640"/>
            <a:ext cx="10080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836640"/>
            <a:ext cx="431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1197000"/>
            <a:ext cx="43200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1773360"/>
            <a:ext cx="432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205000"/>
            <a:ext cx="43164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2205000"/>
            <a:ext cx="4316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3213000"/>
            <a:ext cx="4320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3645000"/>
            <a:ext cx="431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4653000"/>
            <a:ext cx="43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21000"/>
            <a:ext cx="4320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DF5-0C6B-493F-99E9-D5A622EAF7A2}" type="slidenum">
              <a:t>25</a:t>
            </a:fld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399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55640" y="907920"/>
            <a:ext cx="7478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Пришёл писател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художнику...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4360" y="4437000"/>
            <a:ext cx="1524240" cy="1508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5D1-690D-4C82-8AE2-BECB5266DF1F}" type="slidenum">
              <a:t>26</a:t>
            </a:fld>
          </a:p>
        </p:txBody>
      </p:sp>
    </p:spTree>
  </p:cSld>
  <p:transition>
    <p:pull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471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5280" y="404640"/>
            <a:ext cx="8209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колько  моло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аквариуме?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81440" cy="316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3573360"/>
            <a:ext cx="248616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38F-B10F-4AFB-A264-C04C131D794D}" type="slidenum">
              <a:t>27</a:t>
            </a:fld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6200" y="401760"/>
            <a:ext cx="7037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роскин надо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коровы Мурк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ведрах и акв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4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аквариуме и банк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30 л моло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ько литров мол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в аквариу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01080" y="3645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232-01FD-4088-A564-4ECC7F4B6EC2}" type="slidenum">
              <a:t>28</a:t>
            </a:fld>
          </a:p>
        </p:txBody>
      </p:sp>
    </p:spTree>
  </p:cSld>
  <p:transition>
    <p:cover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7216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060640"/>
            <a:ext cx="6588000" cy="3889440"/>
          </a:xfrm>
          <a:prstGeom prst="ellipse">
            <a:avLst/>
          </a:prstGeom>
          <a:solidFill>
            <a:srgbClr val="cc00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7266" t="6476" r="42997" b="28993"/>
          <a:stretch/>
        </p:blipFill>
        <p:spPr>
          <a:xfrm>
            <a:off x="539640" y="3116160"/>
            <a:ext cx="2448000" cy="204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20000" y="3789360"/>
            <a:ext cx="1081080" cy="99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3068640"/>
            <a:ext cx="2378160" cy="226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867280" y="6021360"/>
            <a:ext cx="13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80000" y="620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028000" y="3789360"/>
            <a:ext cx="1116000" cy="102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56000" y="6021360"/>
            <a:ext cx="136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27640" y="5229360"/>
            <a:ext cx="86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280" y="189000"/>
            <a:ext cx="30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40+30=70(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981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. 70-50=20(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67280" y="5805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2060640"/>
            <a:ext cx="6084720" cy="4249800"/>
          </a:xfrm>
          <a:prstGeom prst="ellipse">
            <a:avLst/>
          </a:prstGeom>
          <a:solidFill>
            <a:srgbClr val="cc00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8C7-3D64-4EA4-856C-71627EAE1B93}" type="slidenum">
              <a:t>29</a:t>
            </a:fld>
          </a:p>
        </p:txBody>
      </p:sp>
    </p:spTree>
  </p:cSld>
  <p:transition>
    <p:comb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51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мальчика назвали «дядя Фёдор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9881" t="17084" r="21217" b="49956"/>
          <a:stretch/>
        </p:blipFill>
        <p:spPr>
          <a:xfrm>
            <a:off x="2987640" y="3933720"/>
            <a:ext cx="250668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EB5-76D5-4F24-95FC-A287F77B4533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36283" t="9260" r="0" b="26651"/>
          <a:stretch/>
        </p:blipFill>
        <p:spPr>
          <a:xfrm>
            <a:off x="0" y="0"/>
            <a:ext cx="4902120" cy="679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300600">
            <a:off x="4716360" y="476280"/>
            <a:ext cx="4103640" cy="49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ОПРОБУЙ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АЗЪЯСНИ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516640"/>
            <a:ext cx="806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 вы помните, дядя Фёдор написал родителям пись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4F2-4AFB-4F2B-B0A9-3586C5984C8A}" type="slidenum">
              <a:t>30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80" y="476280"/>
            <a:ext cx="927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И папа с мамой стали письмо чи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начала им всем нравилось. А пото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 на днях я линять начал. Стар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ерсть с меня сыплется - хоть в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заходи. Зато новая растёт – чист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ёлковистая! Просто каракул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4437000"/>
            <a:ext cx="791532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написал в письме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, когда и почему в природе ли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араку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44000" y="393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FD8-F467-4659-AFE8-24EC1B28DC92}" type="slidenum">
              <a:t>31</a:t>
            </a:fld>
          </a:p>
        </p:txBody>
      </p:sp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0576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981000"/>
            <a:ext cx="835344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омогите Шари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зайцев спа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45480" y="4724280"/>
            <a:ext cx="184140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1871640" cy="1011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55640" y="549360"/>
            <a:ext cx="2448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E40-B00D-4979-A067-FA4A1190450A}" type="slidenum">
              <a:t>32</a:t>
            </a:fld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 flipV="1">
            <a:off x="250560" y="1699920"/>
            <a:ext cx="3529080" cy="515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80000" y="333360"/>
            <a:ext cx="1655640" cy="65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2781000"/>
            <a:ext cx="5041800" cy="381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525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ДЕЛИТЕ ЗАЙЧАТ ОТ ЛЕСА С ПОМОЩЬЮ ТРЕХ ПРЯМЫХ ЛИНИЙ, ПРОВЕДЕННЫХ ОТ ОДНОЙ ИЗ ОБОЗНАЧЕННЫ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35360" y="3492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59E-1CE5-4B5E-9B0B-F9CF13622569}" type="slidenum">
              <a:t>33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6083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4411" t="25624" r="39709" b="3274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39640" y="3860640"/>
            <a:ext cx="79218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ЧЁМ ГЛАСИ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4640"/>
            <a:ext cx="4464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вестно, дядя Фёдор очень любил читать журнал «Мурзилка». В одном из номеров был помещён такой реб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38C-69C0-4529-B7F9-4A308640C4F3}" type="slidenum">
              <a:t>34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28440"/>
            <a:ext cx="7667640" cy="682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82D-C3C7-4D93-8CB7-BD8F8731178B}" type="slidenum">
              <a:t>35</a:t>
            </a:fld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2186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2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539640" y="1125360"/>
            <a:ext cx="8209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расна птица перьями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а человек  ученьем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563-B698-4167-9C01-589A1744B1A1}" type="slidenum">
              <a:t>36</a:t>
            </a:fld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9640" y="406440"/>
            <a:ext cx="2880000" cy="286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3889440" cy="239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24000" y="4149720"/>
            <a:ext cx="122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51280" y="4941720"/>
            <a:ext cx="11523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00360" y="4221000"/>
            <a:ext cx="12240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692360" y="3716280"/>
            <a:ext cx="122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932360" y="5734080"/>
            <a:ext cx="115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00720" y="5157720"/>
            <a:ext cx="107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451640" y="4508640"/>
            <a:ext cx="122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675640" y="3645000"/>
            <a:ext cx="2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>
            <a:off x="4716360" y="4005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07E-7DCA-42EB-AACD-72C828CCC11F}" type="slidenum">
              <a:t>37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0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-0.0081 C 0.00504 -0.03217 0.02605 -0.06666 0.05105 -0.06666 C 0.08803 -0.06666 0.11806 -0.03078 0.11806 0.01459 C 0.11806 0.02917 0.11511 0.0426 0.10903 0.05463 C 0.11007 0.05463 -0.00694 0.2345 -0.00694 0.23588 C -0.00694 0.2345 -0.12395 0.05463 -0.12291 0.05463 C -0.12899 0.0426 -0.13194 0.02917 -0.13194 0.01459 C -0.13194 -0.03078 -0.10191 -0.06666 -0.06388 -0.06666 C -0.03993 -0.06666 -0.01892 -0.03217 -0.00694 -0.0081 Z">
                                      <p:cBhvr>
                                        <p:cTn id="39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3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0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5516640"/>
            <a:ext cx="1081080" cy="66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н был серьёзный и самостояте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DEE-144D-49AD-9F1A-B0EBB14C5A0B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56000" y="3645000"/>
            <a:ext cx="345600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и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1AC-1DB7-4A64-B1EF-AD33F03E8D36}" type="slidenum">
              <a:t>39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84360" y="5373720"/>
            <a:ext cx="936360" cy="719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то умел дядя Фёдор в 4 год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B01-D130-421E-96C7-DA0CDD7EBF66}" type="slidenum">
              <a:t>4</a:t>
            </a:fld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6 л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08360" y="3213000"/>
            <a:ext cx="130824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6B-B3BB-4E0E-9EE0-A90D0417AE8C}" type="slidenum">
              <a:t>40</a:t>
            </a:fld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5516640"/>
            <a:ext cx="1081080" cy="664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м 20 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FAC-9575-4440-B8D4-26B0F50DCD07}" type="slidenum">
              <a:t>41</a:t>
            </a:fld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43280" y="350028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Колбасой на язы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8CA-BD0F-4D72-A344-77B87E16381F}" type="slidenum">
              <a:t>42</a:t>
            </a:fld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79640" y="2708280"/>
            <a:ext cx="3816360" cy="2803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алентин Берес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34A-108E-432A-9EB2-DD96376DB52E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333360"/>
            <a:ext cx="374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исатель, а по мнению дядя Фёдора, хороший челове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26096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28B-C59C-492D-8A1B-1D04619446F1}" type="slidenum">
              <a:t>44</a:t>
            </a:fld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38962" t="-1810" r="4629" b="64018"/>
          <a:stretch/>
        </p:blipFill>
        <p:spPr>
          <a:xfrm>
            <a:off x="1187280" y="0"/>
            <a:ext cx="5616720" cy="5184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528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на загораживает дырку на стен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5B6-37E5-4A6B-9C22-13F3BE4A16F3}" type="slidenum">
              <a:t>45</a:t>
            </a:fld>
          </a:p>
        </p:txBody>
      </p:sp>
    </p:spTree>
  </p:cSld>
  <p:transition>
    <p:comb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1844640" cy="2158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4941720"/>
            <a:ext cx="2763720" cy="12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042920" y="2997360"/>
            <a:ext cx="1827360" cy="952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940360" y="981000"/>
            <a:ext cx="2468520" cy="2664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900000" y="479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2CD-72C4-462F-BF01-F843DE910D83}" type="slidenum">
              <a:t>46</a:t>
            </a:fld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4678800">
            <a:off x="5186160" y="3679920"/>
            <a:ext cx="1914480" cy="3286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0"/>
            <a:ext cx="89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юбит весёлый – колбасно-угощательный, не любит тяжёлый – венико-выгонятельный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665-0CF0-483A-B759-2D3787EF960E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2176560"/>
            <a:ext cx="3557520" cy="468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Почтальон Печк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6A2-E2D5-44B7-ADED-B2152932F78A}" type="slidenum">
              <a:t>48</a:t>
            </a:fld>
          </a:p>
        </p:txBody>
      </p:sp>
    </p:spTree>
  </p:cSld>
  <p:transition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магазине, в «магазинном» мясе костей больш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4724280"/>
            <a:ext cx="3816360" cy="18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603-0BE9-4B14-B365-14FC3B474A2E}" type="slidenum">
              <a:t>49</a:t>
            </a:fld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724280"/>
            <a:ext cx="3168360" cy="1959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 каком возрасте он умел варить себе суп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AFD-BF12-4836-9F54-C2C7B39B7CA2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 городе нельзя копать, кругом асфаль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11280" y="393372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7F0-4548-4433-B87A-ABD2EE287F22}" type="slidenum">
              <a:t>50</a:t>
            </a:fld>
          </a:p>
        </p:txBody>
      </p:sp>
    </p:spTree>
  </p:cSld>
  <p:transition>
    <p:cover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ватайка: он что ни увидит, всё на шкаф тащ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7033" r="71642" b="69608"/>
          <a:stretch/>
        </p:blipFill>
        <p:spPr>
          <a:xfrm>
            <a:off x="250920" y="2852640"/>
            <a:ext cx="5545080" cy="40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82E-29C5-44F5-BF50-A1D9D3DB25AC}" type="slidenum">
              <a:t>51</a:t>
            </a:fld>
          </a:p>
        </p:txBody>
      </p:sp>
    </p:spTree>
  </p:cSld>
  <p:transition>
    <p:cover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333360"/>
            <a:ext cx="79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рактор Митя - «Модель инженера Тяпк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23447" r="33827" b="29581"/>
          <a:stretch/>
        </p:blipFill>
        <p:spPr>
          <a:xfrm>
            <a:off x="3995640" y="2852640"/>
            <a:ext cx="3889440" cy="380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28C-0350-4C49-B6D9-98548745A83C}" type="slidenum">
              <a:t>52</a:t>
            </a:fld>
          </a:p>
        </p:txBody>
      </p:sp>
    </p:spTree>
  </p:cSld>
  <p:transition>
    <p:cover dir="l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 лошадиных с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13000"/>
            <a:ext cx="8964720" cy="17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3DE-AB4F-4827-BDA1-D982FA9AFDF8}" type="slidenum">
              <a:t>53</a:t>
            </a:fld>
          </a:p>
        </p:txBody>
      </p:sp>
    </p:spTree>
  </p:cSld>
  <p:transition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003640" y="333360"/>
            <a:ext cx="38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обрён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5940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159-39B4-4DED-B3D4-E7451C8AFA9B}" type="slidenum">
              <a:t>54</a:t>
            </a:fld>
          </a:p>
        </p:txBody>
      </p:sp>
    </p:spTree>
  </p:cSld>
  <p:transition>
    <p:cover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рковую собаку – пуде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3213000"/>
            <a:ext cx="4032360" cy="264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089-84F0-4C4C-AD35-330153DAD0D5}" type="slidenum">
              <a:t>55</a:t>
            </a:fld>
          </a:p>
        </p:txBody>
      </p:sp>
    </p:spTree>
  </p:cSld>
  <p:transition>
    <p:cover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33336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тобы профессор не забрал 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63960" y="342900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D1D-E42A-4F06-948C-032927DA3E38}" type="slidenum">
              <a:t>56</a:t>
            </a:fld>
          </a:p>
        </p:txBody>
      </p:sp>
    </p:spTree>
  </p:cSld>
  <p:transition>
    <p:newsflash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ерёзовые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143520" cy="24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731-0390-48AF-8B50-9E689F150133}" type="slidenum">
              <a:t>57</a:t>
            </a:fld>
          </a:p>
        </p:txBody>
      </p: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33336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Домашним солнышком, присланным из Института Физики Солн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232000" cy="221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CCF-DD0D-44D2-A87F-7DFBEF4C4198}" type="slidenum">
              <a:t>58</a:t>
            </a:fld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88000" y="3716280"/>
            <a:ext cx="360036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333360"/>
            <a:ext cx="79218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Рост дяди Фёд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187-6F1A-4469-960F-2DB0370F8115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620640"/>
            <a:ext cx="7921800" cy="503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пособ поедания котом Матроскиным бутерб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40766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A8A-63E9-45A1-9809-3ED23E15182A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132000" y="4581360"/>
            <a:ext cx="26035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333360"/>
            <a:ext cx="7921440" cy="420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 назывался пароход, на котором плавал дедушка Матроски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44-3AC2-49E2-AA62-9818DC86F4BC}" type="slidenum">
              <a:t>8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792180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то такой Валентин Берест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084640"/>
            <a:ext cx="122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3C0-1DDA-4F0F-A631-262F83AE637C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8:57:34Z</dcterms:created>
  <dc:creator>1</dc:creator>
  <dc:description/>
  <dc:language>en-US</dc:language>
  <cp:lastModifiedBy>11</cp:lastModifiedBy>
  <dcterms:modified xsi:type="dcterms:W3CDTF">2008-11-18T13:53:42Z</dcterms:modified>
  <cp:revision>19</cp:revision>
  <dc:subject/>
  <dc:title>Слайд 1</dc:title>
</cp:coreProperties>
</file>