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B8E-79E3-4237-BC1D-A4FE9D0F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F02-D894-4D55-8B0E-B665E7EA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1A3-E758-4EA2-936D-4572DE68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0B0-AB2C-4518-851A-C8367E6C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96BF-6F9C-4242-9C5C-79BD15CA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634-3ACB-4F86-A58C-CE9192D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246-9148-4BD7-8BD7-B7B4A63B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E13-E4B4-4832-8E56-1E9B077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3424-11CB-4B8D-BC22-B2C02A96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F6A-2A9F-4FAD-A8DD-D005DD62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E530-9CB7-46FA-B578-FBC78A1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31A-383C-488D-A54F-D104EFA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2F0-FE27-4760-8E5D-A66F9FD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B08-568F-4EB6-A217-1105B65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70A1-9337-460B-AE93-B23E097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3261-AF29-4278-ADA1-BF7025E5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DDA-4949-4A8C-A181-C767CBDD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F2A6-7B4B-4D4F-ADA6-972898ED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2F24-9243-4EC4-A038-8E7F139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41A0-2FD6-421C-B710-C40174F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9104-179F-475C-B0BA-BE4B59E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18A4-7D7C-422E-A868-4938CB1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0DC-08F8-4914-A566-8E1C015A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0828-17E5-4011-B45A-2A9BD7B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6BCD-C94D-49DE-96DB-8F1F269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B199-6063-460B-A738-19DFBB3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F3E7-6E9C-4351-B136-9BFE1C3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5122-9BD0-41DE-842E-087806BD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57E0-609C-4A46-822B-14FF56E0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D6EF-F3C2-4119-9BC0-DD48F24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3566-1983-4F05-A1E7-C45FB685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0D2A-7FC8-45AB-BEE5-DAF6D09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F93C-8E77-48AA-A262-66D7DEFA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55E-090B-4EF4-8452-ACB4E5C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D17B-5AEA-475B-B0D1-42674CC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E7A6-3A31-4775-B2BF-1931FB6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4E8A-452B-42C7-A809-531E073C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1FE6-EB06-435A-8B38-AE163A0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2C89-871E-47E7-9130-8AB02FA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E2C0-E6FE-46BF-BB6B-5717AAC6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4F40-0576-43A7-B7E3-5BB8E59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9AF7-01D0-45E4-9B01-67526ACD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BF11-DFE2-4696-9824-C31C9AE3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D6F2-0515-40E9-83BF-BDB3899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5AD-DBEF-44E7-ACB5-B5DD8165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8CE3-7698-4785-BD46-5C071BA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A2B3B-B7BC-4562-B809-2FD96AA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515B-B235-4B83-AC1D-74B06D5B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2420-4895-4C29-AEE9-7F0EEB7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125D5-F0C7-4215-8020-E98D4B1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1452-94D8-4D2B-87E9-B075038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8582-0468-42DB-9402-DBEC97D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097A-8675-4B97-94FC-55BAA47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3ECF-DA04-4D86-AC68-309E78EE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6168-E997-409A-B42F-4534175E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2E8-A587-4044-9252-2985D0F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F961-C28F-4B1F-BD0F-B6426142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86CA-A47C-4A39-82A4-32836F82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60BA-58AD-410A-9B05-354F7FB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FED7-EF82-4935-AA6C-BD2DF50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9729-8A0F-41D0-AAB1-1154393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1DA7-1372-47F7-83D8-33AE05F3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37BB3-0A77-4AD0-87B3-36E0D37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2B05-75D6-4F4D-AF47-A4A3085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7F0F4-134A-4FD0-9FEA-24232A6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577C-4C51-4C1B-8CD5-9DE9640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6F1-2F11-4C43-93D5-B1D7D92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6163-609E-442A-89D3-9F3E79D0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FE97-B622-4CCD-BEF9-54644460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43B8-B052-4BE6-A895-541E71EB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B129-FCE0-4828-818D-756406ED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5064-C475-4C78-BC9E-B3D55079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6E0C-4F9E-4377-997A-E785882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EA46-01E3-4912-B05B-6B2E1BB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783C2-AD3C-4E78-B6AB-F2DA160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45563-1BFE-474B-979B-B2E73EF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703CE-649C-4B32-B8A9-4A4768F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F3F-2638-43BA-8456-3550420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8E438-B450-4369-97EB-C49EAC5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958B-DDBD-46D8-84C1-7962D9A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2EBF3-61E9-48B0-8C76-3C8601D0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1D18-EC3A-4A31-8A46-8FD7A547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D1E6-EA60-4665-AD9A-121A16D9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A0E5-4613-465F-ADF2-B52DA3F3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4E34C-5E8D-40B8-9A46-98DB05A8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C97BF-04F1-4A14-81D0-D2BDB128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5265-AECF-436D-B6D9-753B08B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AB53-A904-4D0B-89E8-B6E1FEA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579-5E45-4258-93DC-AD1D108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6EB7C-CBFB-464D-8112-4927778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A9BF-33FC-474F-B145-61F230C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BC47-70C9-41B0-BB75-F943E1C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5184E-ECA6-442A-86A4-C427375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298B-D4F1-441A-85CA-4DCAAF6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BF99-F43D-43E6-8C10-B99B6C81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F377B-8EC9-4E20-B51D-FE7AB65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8D80-68BE-4905-84C8-1249EA23CE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DEAC-A8E9-43C1-8580-DD7A8AD1E0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DA6-0C1A-4C65-BE9F-DF2A744320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4604-D007-4D9D-BAA4-8E3E35CA9B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D959-58C2-4A7B-B8CD-D010095FCA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AA2-8823-4343-9F46-909883A77C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E81-F6C1-4537-95F0-AD4004F3E2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2A8-7F1A-4D8A-B754-9B06BC1787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ru.wikipedia.org/wiki/1973_&#1075;&#1086;&#1076;" TargetMode="External"/><Relationship Id="rId3" Type="http://schemas.openxmlformats.org/officeDocument/2006/relationships/hyperlink" Target="https://ru.wikipedia.org/w/index.php?title=IBM_3340&amp;action=edit&amp;redlink=1" TargetMode="External"/><Relationship Id="rId4" Type="http://schemas.openxmlformats.org/officeDocument/2006/relationships/hyperlink" Target="https://ru.wikipedia.org/wiki/&#1052;&#1077;&#1075;&#1072;&#1073;&#1072;&#1081;&#1090;" TargetMode="External"/><Relationship Id="rId5" Type="http://schemas.openxmlformats.org/officeDocument/2006/relationships/hyperlink" Target="https://ru.wikipedia.org/wiki/&#1042;&#1080;&#1085;&#1095;&#1077;&#1089;&#1090;&#1077;&#1088;_(&#1074;&#1080;&#1085;&#1090;&#1086;&#1074;&#1082;&#1072;)" TargetMode="External"/><Relationship Id="rId6" Type="http://schemas.openxmlformats.org/officeDocument/2006/relationships/hyperlink" Target="https://ru.wikipedia.org/wiki/Winchester_Model_1894" TargetMode="External"/><Relationship Id="rId7" Type="http://schemas.openxmlformats.org/officeDocument/2006/relationships/hyperlink" Target="https://ru.wikipedia.org/wiki/&#1054;&#1088;&#1091;&#1078;&#1077;&#1081;&#1085;&#1099;&#1081;_&#1087;&#1072;&#1090;&#1088;&#1086;&#1085;" TargetMode="External"/><Relationship Id="rId8" Type="http://schemas.openxmlformats.org/officeDocument/2006/relationships/hyperlink" Target="https://ru.wikipedia.org/wiki/.30-30_Winchester" TargetMode="External"/><Relationship Id="rId9" Type="http://schemas.openxmlformats.org/officeDocument/2006/relationships/hyperlink" Target="https://ru.wikipedia.org/wiki/Winchester_Repeating_Arms_Company" TargetMode="External"/><Relationship Id="rId10" Type="http://schemas.openxmlformats.org/officeDocument/2006/relationships/hyperlink" Target="https://ru.wikipedia.org/wiki/&#1045;&#1074;&#1088;&#1086;&#1087;&#1072;" TargetMode="Externa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56383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работа ученик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 класс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лагурского Семё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4572000" y="17524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ука сделала шаг вперед и на рынке появились уже «гибридные» HDD, в корпусе которых содержатся как обычные жесткие диски, так и новые флэш-микросхе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10" descr="Восстановление данных SSHD дисков"/>
          <p:cNvPicPr/>
          <p:nvPr/>
        </p:nvPicPr>
        <p:blipFill>
          <a:blip r:embed="rId2"/>
          <a:srcRect l="3934" t="9801" r="6884" b="15683"/>
          <a:stretch/>
        </p:blipFill>
        <p:spPr>
          <a:xfrm>
            <a:off x="228600" y="1905120"/>
            <a:ext cx="449568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каждым годом винчестеры все модернизируются и совершенствуются – становятся быстрее, скоростнее и вместительне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Также как и человеку, компьютеру необходимое некое хранилище, где он будет хранить информацию. В связи с этим появились специальные устройства, которые могли хранить информаци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Эти устройства называются накопители информации – жесткие диски, флеш-диски, компакт-диски, флоппи-диски. Мы пока остановимся на жестком диске, разберемся как он устроен и вообще 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что такое жесткий диск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По одной из версий, название «винчестер» накопитель получил благодаря работавшему в фирме </a:t>
            </a:r>
            <a:r>
              <a:rPr b="0" lang="en-US" sz="1900" spc="-1" strike="noStrike">
                <a:solidFill>
                  <a:srgbClr val="464646"/>
                </a:solidFill>
                <a:latin typeface="Arial"/>
              </a:rPr>
              <a:t>IBM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Кеннету Хотону, руководителю проекта, в результате которого в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1973 году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был выпущен жёсткий диск модели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3340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, впервые объединивший в одном неразъёмном корпусе пластины диска и считывающие головки. При его разработке инженеры использовали краткое внутреннее название «30-30», что означало два модуля по 30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мегабайт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каждый, что по созвучию совпало с обозначением популярного охотничьего оружия —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винтовки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6"/>
              </a:rPr>
              <a:t>Winchester Model 1894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, использующего винтовочный 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патрон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8"/>
              </a:rPr>
              <a:t>.30-30 Winchester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. Также существует версия, что название произошло исключительно из-за названия патрона, также выпускавшегося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Winchester Repeating Arms Company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В </a:t>
            </a:r>
            <a:r>
              <a:rPr b="0" lang="ru-RU" sz="1900" spc="-1" strike="noStrike" u="sng">
                <a:solidFill>
                  <a:srgbClr val="ff8119"/>
                </a:solidFill>
                <a:uFillTx/>
                <a:latin typeface="Arial"/>
                <a:hlinkClick r:id="rId10"/>
              </a:rPr>
              <a:t>Европе</a:t>
            </a:r>
            <a:r>
              <a:rPr b="0" lang="ru-RU" sz="1900" spc="-1" strike="noStrike">
                <a:solidFill>
                  <a:srgbClr val="464646"/>
                </a:solidFill>
                <a:latin typeface="Arial"/>
              </a:rPr>
              <a:t> и США название «винчестер» вышло из употребления в 1990-х годах, в русском же языке сохранилось и получило полуофициальный статус, а в компьютерном сленге сократилось до слова «винт» или «хард» (наиболее используемый вариант, чуть реже используется «винч»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199360" cy="1554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400px-SixHardDriveFormFactors"/>
          <p:cNvPicPr/>
          <p:nvPr/>
        </p:nvPicPr>
        <p:blipFill>
          <a:blip r:embed="rId2"/>
          <a:stretch/>
        </p:blipFill>
        <p:spPr>
          <a:xfrm>
            <a:off x="1752480" y="1828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865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4540339"/>
          <p:cNvPicPr/>
          <p:nvPr/>
        </p:nvPicPr>
        <p:blipFill>
          <a:blip r:embed="rId2"/>
          <a:srcRect l="0" t="4002" r="0" b="24000"/>
          <a:stretch/>
        </p:blipFill>
        <p:spPr>
          <a:xfrm>
            <a:off x="609480" y="1219320"/>
            <a:ext cx="8077320" cy="481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7794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2"/>
          <p:cNvSpPr/>
          <p:nvPr/>
        </p:nvSpPr>
        <p:spPr>
          <a:xfrm>
            <a:off x="457200" y="487692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ые принципы работы жесткого диска мало изменились со дня его создания. Устройство винчестера очень похоже на обыкновенный проигрыватель грампластино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Picture 7" descr="Hard-drive-600x960"/>
          <p:cNvPicPr/>
          <p:nvPr/>
        </p:nvPicPr>
        <p:blipFill>
          <a:blip r:embed="rId2"/>
          <a:stretch/>
        </p:blipFill>
        <p:spPr>
          <a:xfrm>
            <a:off x="1905120" y="114300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5028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4343400" y="1905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ём жёсткого диска — максимальное количество информации, которое способен вместить жёсткий магнитный дис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343400" y="3581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корость жесткого диска - скорость чтения и передачи данных с ди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4343400" y="4724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я доступа (Aссes time) — период времени, необходимый накопителю на жестком диске для поиска и передачи данных в память или из памя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10" descr="teadus-kommunikatsioon-internet-email-66580977"/>
          <p:cNvPicPr/>
          <p:nvPr/>
        </p:nvPicPr>
        <p:blipFill>
          <a:blip r:embed="rId2"/>
          <a:srcRect l="8885" t="0" r="9331" b="0"/>
          <a:stretch/>
        </p:blipFill>
        <p:spPr>
          <a:xfrm>
            <a:off x="228600" y="1981080"/>
            <a:ext cx="41148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5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1"/>
          <p:cNvSpPr/>
          <p:nvPr/>
        </p:nvSpPr>
        <p:spPr>
          <a:xfrm>
            <a:off x="609480" y="1981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фейс – устройство, передающее и преобразующее сигналы, от одного компонента оборудования к друго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609480" y="4724280"/>
            <a:ext cx="80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копители различных поколений использовали такие интерфейсы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 (ATA), USB, Serial ATA (SATA), SATA 2, SATA 3, SCSI, SAS, CF, EIDE, FireWire, SDIO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8" descr="разъем SATA"/>
          <p:cNvPicPr/>
          <p:nvPr/>
        </p:nvPicPr>
        <p:blipFill>
          <a:blip r:embed="rId2"/>
          <a:stretch/>
        </p:blipFill>
        <p:spPr>
          <a:xfrm>
            <a:off x="5562720" y="1600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228600" y="1447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ктически всем известно, что жесткий диск – это диск, который находится внутри компьютера, но в последнее время получил распространение внешний жесткий диск. А прелесть таких дисков в том, что внешние usb диски приспособлены для переноса большего объема информации, с которых иногда не может справиться широко используемые флэш – накопител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10" descr="market_EXvLeC1HTutjHgvyn12SaQ_600x600_enl"/>
          <p:cNvPicPr/>
          <p:nvPr/>
        </p:nvPicPr>
        <p:blipFill>
          <a:blip r:embed="rId2"/>
          <a:srcRect l="0" t="22671" r="0" b="17335"/>
          <a:stretch/>
        </p:blipFill>
        <p:spPr>
          <a:xfrm>
            <a:off x="2286000" y="312408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25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5-10-06T12:28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