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A1C-AF7D-46AB-8F99-1AFC38F9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B9F-57A1-4B22-AC7A-FF41186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BA6-3009-428F-8760-F779DD9E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103-E9F0-43C3-989F-E6F6FFD4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CCBA-D3ED-46A5-A650-CBC3AC56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ED6B-9A75-4787-AA97-CAE6B8B9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B3AA-4613-45E0-B4E5-31AB727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B2E6-38B9-48E3-B045-E2E70A8C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3AD1-E38A-45E2-B02D-BE3B4E54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CFBD-1075-4A28-A25F-6F169709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1890-50E7-4260-8E78-50AC4BC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3EC-1FA1-4B43-98AC-9490AEC1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A89D-0B5A-4302-BCC1-4A4E5082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3ED0-494E-46BE-BF71-931B92C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04B4-B4A6-4714-8163-613CB797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B008-D078-4FC2-8729-DCE922B7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01CB-B91E-4AC4-8D0C-FD45B122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BC9C-2D8E-45CD-97D6-57CD605E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9313-0054-47A8-AE33-212325AE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C861-2F9E-4668-8F00-D3774B4F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7188-3B61-4D31-B83C-F1670D7D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D8FF8-E784-40D1-867B-5353E3D3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E79-2ED4-40BC-AD5F-F1A2D769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FE82C-63BD-49C0-B2C7-97209687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323B-48A1-4F6C-877D-A993F547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2BF4-4079-4233-988E-A002970F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8305-87B6-4E63-A32C-F6F42DAF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67B2-8C86-40FE-AB3E-65B7FE70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15CE-FBAB-416F-809B-89D4BE4B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82421-77BA-420B-AE19-D2F38AAB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6D8D-DD23-4C1F-A988-4718B70C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0A07-84F3-4D9C-BF15-19F9A30E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223CA-FB2E-4D7D-890C-C26E83A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D17-B35C-490F-B0C0-C73600B8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D4F0E-CD2B-44EB-8C45-7D1B39C5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830C5-ADEE-40EB-890B-C8AAE77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A6D62-05C5-448E-9130-EEAD26BD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345C-2563-4A26-9C59-71F6D349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61D5-433B-409F-9AE7-FD75F862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3723-75E3-46A3-9CB7-9733FB28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739D-3F28-42CA-A7AA-EB6AAB1C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C389D-8F48-4419-86CC-5BCED47E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A7AC0-1589-48D0-9DAF-963A192F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913AC-ADD1-42CB-8A76-54B5F8C5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D50-B5F2-4B40-A06D-301C589D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3C22-D6DE-4824-97DB-A570D09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AF26-9114-473E-97E0-62761BE6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890E-8503-4035-B9F3-05BFA830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7134-BFD9-4556-8F98-9549F98A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D00B-85C9-4225-8DCE-D5A71825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50F3-7201-44A5-8CBD-46C71695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9F7C-0AA6-4F74-B922-EDF2790E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E41F-EB21-47EF-AD90-EACCB5B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D84CC-FF07-4EAD-84F1-4C12C7F9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4DE59-39E2-4098-ADA6-85B3379F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7FE-80EE-438E-BD87-88E90C3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849E-94BC-43CD-A6FC-8B9FC5C0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08D7-65C1-421D-B8E6-67B89A93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4CFF-697E-44E2-81EB-88570063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6B882-0187-443E-A52C-30F906C5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85E7-1F2A-41A4-82FE-75B6963E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FDED0-973A-4601-BD25-C8D45B5A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C5F22-BA43-41B3-BA30-0A4D03BD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34616-92F3-4D07-9515-0173E33E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246F5-107F-46F5-910D-41E7F29F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3CD74-2D6F-44D6-B218-97FD3FB3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2CE-8CFF-47AD-B481-86A18BF0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40F50-759A-4100-B42D-91B92841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BDBAC-682A-4851-A70E-A5C0DC5A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AFCE-C549-4DFB-A6F2-4B3A1CA3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7D8A6-A260-4CD3-9B4A-C79B6FDC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C144F-A701-4BE7-A63D-CEA52524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B29F2-FB78-40A3-A260-1B3AD92B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66070-104F-4916-81BD-44284ACC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09922-47B0-4174-9071-9C66511D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09C3D-9676-4A2D-A783-FB03505F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70C91-18FD-4B55-A02F-B34B959F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FEF-9D88-4138-B3F4-4CC91009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623E-0A82-4F2D-8F67-1713267A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388C3-66EC-4ADE-9B8E-F123799F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5AD79-E57D-4265-B15D-2FA82135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7665E-FDEB-4C05-A3AD-48A9D431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DFD2-35EC-435A-A190-E64BB8A9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7BBB9-61CE-45FF-8F39-A0ADBBBB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B8F7D-4840-4817-9CEA-304DE6AD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D6BEF-9C6E-4021-A766-190B31FE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34E52-A21A-4A7E-9B8D-E008FB7F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6BAF8-BD22-4DE9-A9CD-F2D8A58E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249-5C08-4AA0-9624-15D7C60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F1B92-CAFA-4715-939D-5DE5EA58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E3967-589C-4685-BE7D-EF999F5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4EC93-9CDE-40D0-860F-6FB57615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2DFFE-496E-43C7-A819-2E0319B8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0F7BD-12C5-4959-B4D6-F6E817EF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D9943-A1E2-4E15-9260-FA7C5B22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7C659-6D79-46F6-8713-7A1A031A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1545-DA4B-47E9-85A1-052AA825C5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9926-9582-4DBD-8694-72D2AEBE16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4A1D-11E9-4869-A00D-C72EE5BF5C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DD60-843B-4CEB-A6AD-3E3D0B155E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429C-B86C-4A50-ABCC-2F4EE63270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CD3-534D-4CEF-A95B-12662BDFF3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6447-CC92-4AB7-8637-A086B1D5C3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1599-FA59-46D7-B30D-E1915ABD5B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ru.wikipedia.org/wiki/1973_&#1075;&#1086;&#1076;" TargetMode="External"/><Relationship Id="rId3" Type="http://schemas.openxmlformats.org/officeDocument/2006/relationships/hyperlink" Target="https://ru.wikipedia.org/w/index.php?title=IBM_3340&amp;action=edit&amp;redlink=1" TargetMode="External"/><Relationship Id="rId4" Type="http://schemas.openxmlformats.org/officeDocument/2006/relationships/hyperlink" Target="https://ru.wikipedia.org/wiki/&#1052;&#1077;&#1075;&#1072;&#1073;&#1072;&#1081;&#1090;" TargetMode="External"/><Relationship Id="rId5" Type="http://schemas.openxmlformats.org/officeDocument/2006/relationships/hyperlink" Target="https://ru.wikipedia.org/wiki/&#1042;&#1080;&#1085;&#1095;&#1077;&#1089;&#1090;&#1077;&#1088;_(&#1074;&#1080;&#1085;&#1090;&#1086;&#1074;&#1082;&#1072;)" TargetMode="External"/><Relationship Id="rId6" Type="http://schemas.openxmlformats.org/officeDocument/2006/relationships/hyperlink" Target="https://ru.wikipedia.org/wiki/Winchester_Model_1894" TargetMode="External"/><Relationship Id="rId7" Type="http://schemas.openxmlformats.org/officeDocument/2006/relationships/hyperlink" Target="https://ru.wikipedia.org/wiki/&#1054;&#1088;&#1091;&#1078;&#1077;&#1081;&#1085;&#1099;&#1081;_&#1087;&#1072;&#1090;&#1088;&#1086;&#1085;" TargetMode="External"/><Relationship Id="rId8" Type="http://schemas.openxmlformats.org/officeDocument/2006/relationships/hyperlink" Target="https://ru.wikipedia.org/wiki/.30-30_Winchester" TargetMode="External"/><Relationship Id="rId9" Type="http://schemas.openxmlformats.org/officeDocument/2006/relationships/hyperlink" Target="https://ru.wikipedia.org/wiki/Winchester_Repeating_Arms_Company" TargetMode="External"/><Relationship Id="rId10" Type="http://schemas.openxmlformats.org/officeDocument/2006/relationships/hyperlink" Target="https://ru.wikipedia.org/wiki/&#1045;&#1074;&#1088;&#1086;&#1087;&#1072;" TargetMode="External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563832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работа ученик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 класс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А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лагурского Семё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"/>
          <p:cNvSpPr/>
          <p:nvPr/>
        </p:nvSpPr>
        <p:spPr>
          <a:xfrm>
            <a:off x="4572000" y="17524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ука сделала шаг вперед и на рынке появились уже «гибридные» HDD, в корпусе которых содержатся как обычные жесткие диски, так и новые флэш-микросхе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Picture 10" descr="Восстановление данных SSHD дисков"/>
          <p:cNvPicPr/>
          <p:nvPr/>
        </p:nvPicPr>
        <p:blipFill>
          <a:blip r:embed="rId2"/>
          <a:srcRect l="3934" t="9801" r="6884" b="15683"/>
          <a:stretch/>
        </p:blipFill>
        <p:spPr>
          <a:xfrm>
            <a:off x="228600" y="1905120"/>
            <a:ext cx="4495680" cy="251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каждым годом винчестеры все модернизируются и совершенствуются – становятся быстрее, скоростнее и вместительне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0456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Также как и человеку, компьютеру необходимое некое хранилище, где он будет хранить информацию. В связи с этим появились специальные устройства, которые могли хранить информацию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Эти устройства называются накопители информации – жесткие диски, флеш-диски, компакт-диски, флоппи-диски. Мы пока остановимся на жестком диске, разберемся как он устроен и вообще 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что такое жесткий диск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По одной из версий, название «винчестер» накопитель получил благодаря работавшему в фирме </a:t>
            </a:r>
            <a:r>
              <a:rPr b="0" lang="en-US" sz="1900" spc="-1" strike="noStrike">
                <a:solidFill>
                  <a:srgbClr val="464646"/>
                </a:solidFill>
                <a:latin typeface="Arial"/>
              </a:rPr>
              <a:t>IBM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Кеннету Хотону, руководителю проекта, в результате которого в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1973 году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был выпущен жёсткий диск модели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3340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, впервые объединивший в одном неразъёмном корпусе пластины диска и считывающие головки. При его разработке инженеры использовали краткое внутреннее название «30-30», что означало два модуля по 30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4"/>
              </a:rPr>
              <a:t>мегабайт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каждый, что по созвучию совпало с обозначением популярного охотничьего оружия —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винтовки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6"/>
              </a:rPr>
              <a:t>Winchester Model 1894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, использующего винтовочный 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7"/>
              </a:rPr>
              <a:t>патрон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8"/>
              </a:rPr>
              <a:t>.30-30 Winchester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. Также существует версия, что название произошло исключительно из-за названия патрона, также выпускавшегося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9"/>
              </a:rPr>
              <a:t>Winchester Repeating Arms Company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В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10"/>
              </a:rPr>
              <a:t>Европе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и США название «винчестер» вышло из употребления в 1990-х годах, в русском же языке сохранилось и получило полуофициальный статус, а в компьютерном сленге сократилось до слова «винт» или «хард» (наиболее используемый вариант, чуть реже используется «винч»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8199360" cy="1554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400px-SixHardDriveFormFactors"/>
          <p:cNvPicPr/>
          <p:nvPr/>
        </p:nvPicPr>
        <p:blipFill>
          <a:blip r:embed="rId2"/>
          <a:stretch/>
        </p:blipFill>
        <p:spPr>
          <a:xfrm>
            <a:off x="1752480" y="1828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865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4540339"/>
          <p:cNvPicPr/>
          <p:nvPr/>
        </p:nvPicPr>
        <p:blipFill>
          <a:blip r:embed="rId2"/>
          <a:srcRect l="0" t="4002" r="0" b="24000"/>
          <a:stretch/>
        </p:blipFill>
        <p:spPr>
          <a:xfrm>
            <a:off x="609480" y="1219320"/>
            <a:ext cx="8077320" cy="481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2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2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2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7794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2"/>
          <p:cNvSpPr/>
          <p:nvPr/>
        </p:nvSpPr>
        <p:spPr>
          <a:xfrm>
            <a:off x="457200" y="4876920"/>
            <a:ext cx="838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ые принципы работы жесткого диска мало изменились со дня его создания. Устройство винчестера очень похоже на обыкновенный проигрыватель грампластино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Picture 7" descr="Hard-drive-600x960"/>
          <p:cNvPicPr/>
          <p:nvPr/>
        </p:nvPicPr>
        <p:blipFill>
          <a:blip r:embed="rId2"/>
          <a:stretch/>
        </p:blipFill>
        <p:spPr>
          <a:xfrm>
            <a:off x="1905120" y="1143000"/>
            <a:ext cx="579096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401760" y="268200"/>
            <a:ext cx="8450280" cy="115884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"/>
          <p:cNvSpPr/>
          <p:nvPr/>
        </p:nvSpPr>
        <p:spPr>
          <a:xfrm>
            <a:off x="4343400" y="1905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ём жёсткого диска — максимальное количество информации, которое способен вместить жёсткий магнитный дис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4343400" y="3581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корость жесткого диска - скорость чтения и передачи данных с ди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4343400" y="4724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я доступа (Aссes time) — период времени, необходимый накопителю на жестком диске для поиска и передачи данных в память или из памя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Picture 10" descr="teadus-kommunikatsioon-internet-email-66580977"/>
          <p:cNvPicPr/>
          <p:nvPr/>
        </p:nvPicPr>
        <p:blipFill>
          <a:blip r:embed="rId2"/>
          <a:srcRect l="8885" t="0" r="9331" b="0"/>
          <a:stretch/>
        </p:blipFill>
        <p:spPr>
          <a:xfrm>
            <a:off x="228600" y="1981080"/>
            <a:ext cx="411480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25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25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25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1"/>
          <p:cNvSpPr/>
          <p:nvPr/>
        </p:nvSpPr>
        <p:spPr>
          <a:xfrm>
            <a:off x="609480" y="19810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фейс – устройство, передающее и преобразующее сигналы, от одного компонента оборудования к другом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609480" y="4724280"/>
            <a:ext cx="80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копители различных поколений использовали такие интерфейсы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 (ATA), USB, Serial ATA (SATA), SATA 2, SATA 3, SCSI, SAS, CF, EIDE, FireWire, SDIO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re Chann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8" descr="разъем SATA"/>
          <p:cNvPicPr/>
          <p:nvPr/>
        </p:nvPicPr>
        <p:blipFill>
          <a:blip r:embed="rId2"/>
          <a:stretch/>
        </p:blipFill>
        <p:spPr>
          <a:xfrm>
            <a:off x="5562720" y="1600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1"/>
          <p:cNvSpPr/>
          <p:nvPr/>
        </p:nvSpPr>
        <p:spPr>
          <a:xfrm>
            <a:off x="228600" y="1447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ктически всем известно, что жесткий диск – это диск, который находится внутри компьютера, но в последнее время получил распространение внешний жесткий диск. А прелесть таких дисков в том, что внешние usb диски приспособлены для переноса большего объема информации, с которых иногда не может справиться широко используемые флэш – накопител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Picture 10" descr="market_EXvLeC1HTutjHgvyn12SaQ_600x600_enl"/>
          <p:cNvPicPr/>
          <p:nvPr/>
        </p:nvPicPr>
        <p:blipFill>
          <a:blip r:embed="rId2"/>
          <a:srcRect l="0" t="22671" r="0" b="17335"/>
          <a:stretch/>
        </p:blipFill>
        <p:spPr>
          <a:xfrm>
            <a:off x="2286000" y="3124080"/>
            <a:ext cx="510552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25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25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25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5-10-06T12:28:2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