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A90-0ECD-4ABC-9FF7-6CD1E320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4CC-CF33-4E8C-83E0-052F44F1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B79-1C1B-4D69-AAE7-CD6CE6F5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FFD-24D0-46BA-80D6-782830F2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039B-14B7-472C-93F6-3B95267B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0559-1731-4966-8376-1B823AB9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8414-852B-4C49-8690-D84375C4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5745-5B06-4C38-8CD5-782B42D9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6F49-F79B-40FA-9095-FE0531AB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8190-AE58-4C75-A765-6FBA770D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4F54-EEDF-45F0-B0D5-4791E68A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0B5-4398-4878-A6A8-FA1C4E5B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5F4A-E8EB-4615-9D7D-96A15205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51E3-1690-4183-A176-8085D44B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2E5C-D617-4746-A4EA-FEF41AB5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814C-31D3-416B-AFA8-F9BAAC9D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742F-57D4-4141-BF60-23C2B56D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C1DEB-B1F3-4AEB-B591-A213C933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02D7B-E341-4A2E-8FC0-CF17A7BF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AF73-3227-4F36-A27D-7E6F6A60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86735-491A-4746-9AB0-16B3B0DF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5C0A-14F6-4E22-AD42-E22EA903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24A-A6BE-4876-A6C7-74D2AD2D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CA6F9-4E6A-45E2-9797-01C4A682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084DA-A3EC-4136-A3D3-C35E5820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451B-5B88-4612-805A-EEAF456F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E89F-1916-4264-8402-4C171DA2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6E8E-4867-4F63-9686-44CA92F8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49829-67E6-4ED1-AE8E-288DD2F7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F7ADD-8F27-430A-BA36-870866D8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3DD41-B8EF-445A-88A8-1B75D236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044AB-F57A-4F61-B360-09865AF5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E6B46-52B5-4F20-A6FB-E6DD3A03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F1A-2BD1-4312-81CE-B6932BD9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9E264-585E-43A8-A9C7-49BA57F6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44A86-8551-4122-B567-3A1AEF56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C0B2A-B7B9-4AB6-B1A7-31422249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2A16-57E0-4A45-95F7-091FABE3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99FED-6354-4F62-AF3D-AF9127B8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348F2-F2AA-4660-8B82-B892610F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2A4DE-2DBA-4D44-B54A-40135ECC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92214-07D4-4ADF-BF9A-512E89D4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5275E-360D-4165-9206-B5868241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B48B0-7ABC-468C-86F6-78E07163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C9D-20AC-439D-9F3E-8D90D3DE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79EBE-AD05-42DD-9F83-839C14D8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4A006-BA70-47E6-B23C-8174AB9C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E4EFC-EECE-4996-BBBA-836CCD15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965F0-8FD8-490F-B3DA-8C3A3C92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1227A-1E41-4156-A2BF-0B478A6C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D3B35-C312-49A1-9E00-46069A4A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F2025-5F2F-4898-A458-420165DA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CB276-0B45-4EDE-AE91-9C1E78FB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514D7-6550-4BE1-B776-9BCB92F6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2D179-71D6-4BBC-9B60-74FAEAE6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98B3-3145-4E71-8583-874D1369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35342-BD0E-4482-A53B-A3B29550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684B1-456E-4231-9E06-8650A091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ACAFF-B4DA-4513-B708-EEF10B2A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60BB0-B2D7-4FB5-88BB-9E7F59FA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8794C-F216-40E7-B9C0-6A73D886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B69AA-3F6E-405B-91BC-1BF36CCF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6F441-067E-4333-A16F-29DC2909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63519-9057-47E2-B517-40E351FD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F3654-A06F-478B-9D1E-9D127D16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9F48E-DDD2-48E5-9499-240A4E47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55D-97E3-45A0-BC0D-D957C650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4B697-F11F-45C9-A656-ACA29206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668D1-EF4E-4AB8-9921-279EC901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33F77-BF81-4304-B939-55041EC3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4A214-D386-4C7D-8D32-7A3A083A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3C487-4469-4937-A8A2-A7E96274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D5DD7-1B50-4DD0-9D66-4133DEB8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07D8E-D89B-483A-A8A7-DBB08E4E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529DF-FC1F-4EF9-B2A4-618B004A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0A709-AF1E-4535-9572-7E499AAD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B2797-0A47-45AA-8BBD-3CA916C4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46F-3E33-4399-B730-12BA8442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B3B12-1857-42C4-8DFB-0DD55B86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153E7-6194-45C7-8993-71E7B244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66458-098C-4C5D-BF51-43889E55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71858-5F35-465E-846F-7804ECCC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4D287-57F4-4F4F-AD12-D0463AED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55E-7076-439F-B832-00F2F873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4D04-366B-4383-AFBC-091CF676578E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B736-2611-4E5D-AECE-A35E35571071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2171-ECBC-4CC3-8FA3-5014963CBB98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2027-9F2D-4F93-B6BC-BFF2BF987A7C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0185-BA1C-43F7-80E0-56B1BAAD12DF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3041-D742-467E-9582-9F600213BD31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00A3-4836-4E41-A9B7-EA0B0863D8D5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71280" y="189000"/>
            <a:ext cx="7272360" cy="18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Детство А.С. Пушкина</a:t>
            </a:r>
            <a:br>
              <a:rPr sz="4300"/>
            </a:b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       (1799 – 1811)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795640" y="4581360"/>
            <a:ext cx="3529080" cy="1943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0f62"/>
                </a:solidFill>
                <a:latin typeface="Corbel"/>
              </a:rPr>
              <a:t>Подготовил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70f62"/>
                </a:solidFill>
                <a:latin typeface="Corbel"/>
              </a:rPr>
              <a:t>Учитель  МКОУ «Киреевский лицей» Денисова Ольга Викторовна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photo20"/>
          <p:cNvPicPr/>
          <p:nvPr/>
        </p:nvPicPr>
        <p:blipFill>
          <a:blip r:embed="rId1"/>
          <a:stretch/>
        </p:blipFill>
        <p:spPr>
          <a:xfrm>
            <a:off x="1908000" y="2133720"/>
            <a:ext cx="345600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Имение Захарово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50560" y="4581000"/>
            <a:ext cx="856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Имение бабушки со стороны матери Марии Алексеевны Ганнибал. Именно от неё Пушкин узнал русскую грамоту. В 1805-10 годах Пушкины жили в Захарове каждое лето – с мая по сентябрь. Здесь будущий поэт узнал и полюбил русскую деревню с её природой, крестьянским трудом, песнями, обрядами, праздник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6" descr="http://www.touristrail.ru/wp-content/uploads/2010/08/touristskiv/Zaharovo-2.jpg"/>
          <p:cNvPicPr/>
          <p:nvPr/>
        </p:nvPicPr>
        <p:blipFill>
          <a:blip r:embed="rId1"/>
          <a:stretch/>
        </p:blipFill>
        <p:spPr>
          <a:xfrm>
            <a:off x="2340000" y="1052640"/>
            <a:ext cx="5043600" cy="33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Воспитание юного поэт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787640" y="1125000"/>
            <a:ext cx="33526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В доме родителей собирались самые известные писатели: Карамзин, Батюшков, Жуковский, Дмитриев, Вяземский. Они читали свои произведения, играли спектакли, говорили о литературе. С юных лет Пушкин рос в этой атмосфере творчеств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7" descr="pb_020"/>
          <p:cNvPicPr/>
          <p:nvPr/>
        </p:nvPicPr>
        <p:blipFill>
          <a:blip r:embed="rId1"/>
          <a:stretch/>
        </p:blipFill>
        <p:spPr>
          <a:xfrm>
            <a:off x="324000" y="1052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Pd5378"/>
          <p:cNvPicPr/>
          <p:nvPr/>
        </p:nvPicPr>
        <p:blipFill>
          <a:blip r:embed="rId2"/>
          <a:stretch/>
        </p:blipFill>
        <p:spPr>
          <a:xfrm>
            <a:off x="2556000" y="1773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pk7699"/>
          <p:cNvPicPr/>
          <p:nvPr/>
        </p:nvPicPr>
        <p:blipFill>
          <a:blip r:embed="rId3"/>
          <a:stretch/>
        </p:blipFill>
        <p:spPr>
          <a:xfrm>
            <a:off x="539640" y="45813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6" descr="pzh_019"/>
          <p:cNvPicPr/>
          <p:nvPr/>
        </p:nvPicPr>
        <p:blipFill>
          <a:blip r:embed="rId4"/>
          <a:stretch/>
        </p:blipFill>
        <p:spPr>
          <a:xfrm>
            <a:off x="3132000" y="436572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7" descr="pv_041"/>
          <p:cNvPicPr/>
          <p:nvPr/>
        </p:nvPicPr>
        <p:blipFill>
          <a:blip r:embed="rId5"/>
          <a:stretch/>
        </p:blipFill>
        <p:spPr>
          <a:xfrm>
            <a:off x="7020000" y="4508640"/>
            <a:ext cx="1657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Поэзия в семье Пушкиных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24360" y="1628640"/>
            <a:ext cx="29592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Кроме отца Пушкина, известным поэтом своего времени был дядя, Василий Львович. Стихи слагали и старшая сестра Ольга и младший брат Лев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4" descr="m_24479"/>
          <p:cNvPicPr/>
          <p:nvPr/>
        </p:nvPicPr>
        <p:blipFill>
          <a:blip r:embed="rId1"/>
          <a:stretch/>
        </p:blipFill>
        <p:spPr>
          <a:xfrm>
            <a:off x="0" y="260280"/>
            <a:ext cx="2030400" cy="2691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139038"/>
          <p:cNvPicPr/>
          <p:nvPr/>
        </p:nvPicPr>
        <p:blipFill>
          <a:blip r:embed="rId2"/>
          <a:stretch/>
        </p:blipFill>
        <p:spPr>
          <a:xfrm>
            <a:off x="3564000" y="1700280"/>
            <a:ext cx="1904760" cy="2752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1000281669"/>
          <p:cNvPicPr/>
          <p:nvPr/>
        </p:nvPicPr>
        <p:blipFill>
          <a:blip r:embed="rId3"/>
          <a:stretch/>
        </p:blipFill>
        <p:spPr>
          <a:xfrm>
            <a:off x="1403280" y="3573360"/>
            <a:ext cx="19051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Первые пробы пер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003280" y="1844280"/>
            <a:ext cx="3713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Будущий поэт рано ознакомился с русской и французской литературой: в их доме была большая библиотека. А на восьмом году жизни он уже сочинял на французском языке маленькие комедии, запирался в библиотеке и «пожирал книгу за книгой». Обладал памятью невероятной, а на одиннадцатом году «знал наизусть всю французскую литературу». Так вспоминал о нём бра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4" descr="nj7906_1b"/>
          <p:cNvPicPr/>
          <p:nvPr/>
        </p:nvPicPr>
        <p:blipFill>
          <a:blip r:embed="rId1"/>
          <a:stretch/>
        </p:blipFill>
        <p:spPr>
          <a:xfrm>
            <a:off x="826920" y="1773360"/>
            <a:ext cx="40323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333000"/>
            <a:ext cx="6156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Бабушка писала о своём внуке следующее: «Не знаю, что выйдет из моего старшего внука. Мальчик умён и охотник до книжек, а учится плохо, редко когда урок свой сдаст порядком; то его не расшевелишь, не прогонишь играть с детьми, то вдруг так развернётся и расходится, что ничем его не уймёшь: из одной крайности в другую бросается, нет у него середины»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ервое стихотворение было написано Пушкиным в восемь лет на французском языке, т. к. первыми книгами были французские книг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2" descr="http://www.filipoc.ru/attaches/posts/rodina/2013-12-02/poet-aleksandr-sergeevich-pushkin/mini/pushkin-2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Рождение А.С. Пушкин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211640" y="1844280"/>
            <a:ext cx="446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В московской церкви Богоявления, что в Елохове, 8 июня 1799 года дьячок вывел: «У майора Сергея Львовича Пушкина родился сын Александр. Крещён 8 дня…» Метрическая запись о рождении гениального русского поэта была помечена днём позже, как он родился, 26 мая (6 июня по новому стилю) после захода солнц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5" descr="K3002i"/>
          <p:cNvPicPr/>
          <p:nvPr/>
        </p:nvPicPr>
        <p:blipFill>
          <a:blip r:embed="rId1"/>
          <a:stretch/>
        </p:blipFill>
        <p:spPr>
          <a:xfrm>
            <a:off x="1116000" y="1484280"/>
            <a:ext cx="317016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259920"/>
            <a:ext cx="8209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. Детские годы Пушкина протекли в Москве и подмосковном селе Захарово. Будущий поэт рос в обедневшей дворянской семье. Его отец Сергей Львович воспитание детей препоручил жене Надежде Осиповне из рода Ганнибалов. Красавица-«креолка» была поглощена светскими обязанностями, а воспитанием Александра, Льва и Ольги занимались бабушка Мария Алексеевна Ганнибал, крепостная няня Арина Родионовна и многочисленные гувернеры и учителя, преимущественно иностранцы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2" descr="http://www.xrest.ru/schemes/00/03/bf/0a/%D0%9C%D0%B0%D0%BB%D0%B5%D0%BD%D1%8C%D0%BA%D0%B8%D0%B9%20%D0%9F%D1%83%D1%88%D0%BA%D0%B8%D0%BD%20%D0%90.%D0%A1.%20(%D0%B6%D0%BE%D1%81%D1%82%D0%BE%D0%B2%D0%BE)-1.jpg"/>
          <p:cNvPicPr/>
          <p:nvPr/>
        </p:nvPicPr>
        <p:blipFill>
          <a:blip r:embed="rId1"/>
          <a:stretch/>
        </p:blipFill>
        <p:spPr>
          <a:xfrm>
            <a:off x="2700360" y="3483000"/>
            <a:ext cx="4175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Прадед Пушкин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419280" y="1844280"/>
            <a:ext cx="5297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Ибрагим Петрович Ганнибал, прадед Пушкина со стороны матери, был личностью легендарной. Африканец, в детстве похищенный и посланный в подарок турецкому султану, оказавшийся затем в России при Петре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он стал лицом близким к Петру, исполняя при нём обязанности секретаря, неотлучно находился при нём в путешествиях, боевых походах, сражениях. Получил военно-инженерное образование во Франции, был главой инженерного ведомства и генерал-аншефом. Пушкин изобразил его в романе «Арап Петра Великого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4" descr="i4"/>
          <p:cNvPicPr/>
          <p:nvPr/>
        </p:nvPicPr>
        <p:blipFill>
          <a:blip r:embed="rId1"/>
          <a:stretch/>
        </p:blipFill>
        <p:spPr>
          <a:xfrm>
            <a:off x="900000" y="1700280"/>
            <a:ext cx="2376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Мать Пушкин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43280" y="1267920"/>
            <a:ext cx="417672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Надежда Осиповна Пушкина (урождённая Ганнибал) от деда унаследовала смуглый цвет лица и курчавые волосы, была вспыльчива и раздражительна. Мать не принимала близкого участия в воспитании детей. Особенно её раздражал Александр, так как унаследовал черты своего прославленного прадеда и казался матери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некрасивы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4" descr="25"/>
          <p:cNvPicPr/>
          <p:nvPr/>
        </p:nvPicPr>
        <p:blipFill>
          <a:blip r:embed="rId1"/>
          <a:stretch/>
        </p:blipFill>
        <p:spPr>
          <a:xfrm>
            <a:off x="1116000" y="1125360"/>
            <a:ext cx="344808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Отец Пушкин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427280" y="1484280"/>
            <a:ext cx="44845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Сергей Львович Пушкин служил в армии, окончил службу в 1817 году в чине капитан –поручика, а затем был военным советником. Имел писательское дарование, участвовал в домашних спектаклях, мастерски читал французских авторов. Вёл праздную жизнь, запустил управление своими имениями. Воспитанием детей занимался мал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4" descr="pushkin_s_l"/>
          <p:cNvPicPr/>
          <p:nvPr/>
        </p:nvPicPr>
        <p:blipFill>
          <a:blip r:embed="rId1"/>
          <a:stretch/>
        </p:blipFill>
        <p:spPr>
          <a:xfrm>
            <a:off x="971640" y="1268280"/>
            <a:ext cx="35748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Няня поэт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716000" y="3500280"/>
            <a:ext cx="44276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Благотворное влияние оказала на юного Пушкина няня Арина Родионовна. Она ознакомила поэта с устным народным творчеством. В основе сюжета знаменитых сказок Пушкина лежат сказки, рассказанные Ариной Родионовн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4" descr="dsc0171102"/>
          <p:cNvPicPr/>
          <p:nvPr/>
        </p:nvPicPr>
        <p:blipFill>
          <a:blip r:embed="rId1"/>
          <a:stretch/>
        </p:blipFill>
        <p:spPr>
          <a:xfrm>
            <a:off x="468360" y="3213000"/>
            <a:ext cx="4214880" cy="3200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23255253_1208780965_2"/>
          <p:cNvPicPr/>
          <p:nvPr/>
        </p:nvPicPr>
        <p:blipFill>
          <a:blip r:embed="rId2"/>
          <a:stretch/>
        </p:blipFill>
        <p:spPr>
          <a:xfrm>
            <a:off x="1547640" y="1197000"/>
            <a:ext cx="2417760" cy="3166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PM6"/>
          <p:cNvPicPr/>
          <p:nvPr/>
        </p:nvPicPr>
        <p:blipFill>
          <a:blip r:embed="rId3"/>
          <a:stretch/>
        </p:blipFill>
        <p:spPr>
          <a:xfrm>
            <a:off x="5003640" y="333360"/>
            <a:ext cx="3924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http://dic.academic.ru/pictures/wiki/files/80/Pluchart_Pavlishcheva.jpg"/>
          <p:cNvPicPr/>
          <p:nvPr/>
        </p:nvPicPr>
        <p:blipFill>
          <a:blip r:embed="rId1"/>
          <a:stretch/>
        </p:blipFill>
        <p:spPr>
          <a:xfrm>
            <a:off x="4427640" y="1125360"/>
            <a:ext cx="4397400" cy="4896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45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Сестра поэта 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1483920"/>
            <a:ext cx="478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льга Сергеевна Павлищева — родная сестра А. Пушкина. Была с ним очень дружна в детстве и юности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эт относился к ней дружески, делился своими впечатлениями и нередко спрашивал её советов. Ольга, довольно начитанная в литературе французской и русской, и сама была не чужда поэтического вдохновения; выдержки из ее альбома — стихи французские и русские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Брат поэта 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5" name="Прямоугольник 2"/>
          <p:cNvSpPr/>
          <p:nvPr/>
        </p:nvSpPr>
        <p:spPr>
          <a:xfrm>
            <a:off x="1042920" y="1413000"/>
            <a:ext cx="295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в Серге́евич Пу́шкин — младший брат А. С. Пушкина и его литературный секретарь, боевой офицер, участник персидских войн и кавалер российских орд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https://www.nkj.ru/upload/iblock/306/3069e64fc76c62c04b09f9366641965f.GIF"/>
          <p:cNvPicPr/>
          <p:nvPr/>
        </p:nvPicPr>
        <p:blipFill>
          <a:blip r:embed="rId1"/>
          <a:stretch/>
        </p:blipFill>
        <p:spPr>
          <a:xfrm>
            <a:off x="4572000" y="692280"/>
            <a:ext cx="40338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4:04:18Z</dcterms:created>
  <dc:creator>Марина</dc:creator>
  <dc:description/>
  <dc:language>en-US</dc:language>
  <cp:lastModifiedBy>Олюшка</cp:lastModifiedBy>
  <dcterms:modified xsi:type="dcterms:W3CDTF">2015-10-07T10:56:36Z</dcterms:modified>
  <cp:revision>8</cp:revision>
  <dc:subject/>
  <dc:title>Детство А.С. Пушкина        (1799 – 1811)</dc:title>
</cp:coreProperties>
</file>