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D0A-5110-49C9-B690-5DEF3EFC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3F3-94A5-49DA-BCBC-09F368B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7D5-D8AF-45B8-A722-16C4F4CD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F19-D6A8-4BD4-8468-11E0A574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3394-38FD-4F09-850A-DCCE992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006C-DF7F-4E81-9B7E-DA07276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3E75-F890-4889-B76E-5E45CD9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5E8-891C-46C0-8F1B-6D351DAC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CCF-AE33-4B85-ABC2-F72BEB4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92D4-C06D-4885-927F-B543B4A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AFA9-98D0-4AFB-9C48-F804F7C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C75-E799-4E65-B23D-10A6318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1DB-63FA-42E9-A1E6-9ADDF99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C8A-C83B-41FF-83C5-B5E50852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2D8D-EFA6-4FDF-9736-C15B7651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BE4-79A5-4FF5-8FB6-7F6339A8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507-D4B1-4299-9E5C-DEC020E2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DD85-34A5-406C-AF79-589CA41D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F916-725D-46DC-AF5E-21E387B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5FC3-C799-4F91-B424-67FFCFB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8D7B-54DD-4BA3-A9CA-B00F031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0738-D7BC-416D-87F5-86C4978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F5A-FDCF-467F-A368-1DA181A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18A9-CC06-4C05-926A-A349586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C3AE-5E3A-4BAE-A8D8-AE43EB9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5182-C154-4D5B-95D1-9F4F881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8185-A7FB-42F0-B51B-EA680D2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6526-15CD-413C-9BA0-352BC22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B6F0-A030-4941-A8CF-A2ACA7E9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D9E9-9E39-4A25-AC24-A3E18280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6269-E13B-47E2-92E7-B5E69068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5043-DA3E-47A9-97CD-08BCD69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BD6C-1D26-4122-8477-6FCF271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7C5-AB86-45DE-8027-ECEB5E0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74F1-A285-4290-BCC0-D52DFCD9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518D-494E-42B1-B0A8-A08C861A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7249-3478-49C8-98A7-60E21D61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57F2-F930-4BE2-ADCE-4905FB5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1081-6FAA-4D6C-9F70-65158F2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5094-3888-4693-90E9-D501181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EBB3-4253-4466-A4AF-D3018B2D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000C-F688-47C1-A6D6-C36741D6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CF70-9572-4BFB-8FFC-3B7A4077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BE42-D343-4E19-8D99-6690E7D8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97E-ACF7-4DF1-B494-4AF957D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92CD-1FC2-489F-84DE-5627F32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4ACF-C007-412E-AEAC-721C8F7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A3A5-4D0A-405C-BB41-020C2398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DDFEC-8CA9-486F-BBD8-426BCD2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22D5-18CC-40A0-927E-A2A4B55C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C038-9417-4FC6-A140-652D305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0501-283B-438C-AF70-EE32067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94A6-C810-49E6-9F4B-B81624D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4113-3BAB-4775-8AF7-385575E8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57AC-D005-4128-BBF2-EA442AA8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25B-BE69-41F1-98C0-BA1535AE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8BC8-6304-456B-B410-85E26B67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9ED2-E737-4B36-89F3-A396E2D5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33A7-9745-4671-A81C-DE6B10C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3F34-D65B-4195-B13E-9D52150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DD55-5987-4747-A5AA-942F4D67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3F34A-7090-4BB4-8D60-9D9A8981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6374B-8A23-49F0-8891-C98C5B7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477A-87AF-43FE-87C0-B5590F9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CA8F9-E0F9-4D59-8991-B998498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1233-8BE9-4B7D-B931-98E4E0B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4E2-DFC4-4904-876B-C9DBB92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097E-2E84-4A29-8667-825E91FC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3669-C9F1-4C79-8583-18B4E21D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4783-2D25-4E9A-B6FC-2CB99307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A22E-1444-4916-B5AE-7CD878F3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0BBCD-05E1-49ED-94B2-E48BC5E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7D8C-0429-4340-A14F-42A04395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F565-08D7-40A6-A20B-101DCD63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0DC5-4693-4EEA-8422-1277DE6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8B7E-5875-41D9-8B00-157E194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679E-B23B-417A-8F78-FED373C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CFC-041B-4DCB-9373-0CE3E11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D09E-F2E6-4AA5-901C-3978416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B84C-36C8-436A-8AF7-AF45B80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5956C-0BFC-441B-9CD4-8829B7B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BAA1-03EF-4263-8737-18111C14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DBFEA-B28C-4729-B450-6906C81E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AD4-320D-4D23-BCCC-EFF60AA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2A3-38E0-4D1E-B445-DD1EC4E1D48B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FC81-CA11-4DFC-9FE7-803BDF8EEA13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7E8-1AE5-4C90-A132-49B3B58B02FA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63D-5B63-4321-9790-8B4250B4B071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8C92-09B2-49D5-9638-0674052F67D0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BD03-4CBB-4CE6-A9EB-F759E2BC5D46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9D8B-917F-40DA-BAF5-0AF4E514767C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71280" y="189000"/>
            <a:ext cx="727236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Детство А.С. Пушкина</a:t>
            </a:r>
            <a:br>
              <a:rPr sz="4300"/>
            </a:b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       (1799 – 1811)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795640" y="4581360"/>
            <a:ext cx="3529080" cy="194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f62"/>
                </a:solidFill>
                <a:latin typeface="Corbel"/>
              </a:rPr>
              <a:t>Подготовил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70f62"/>
                </a:solidFill>
                <a:latin typeface="Corbel"/>
              </a:rPr>
              <a:t>Учитель  МКОУ «Киреевский лицей» Денисова Ольга Викторовна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photo20"/>
          <p:cNvPicPr/>
          <p:nvPr/>
        </p:nvPicPr>
        <p:blipFill>
          <a:blip r:embed="rId1"/>
          <a:stretch/>
        </p:blipFill>
        <p:spPr>
          <a:xfrm>
            <a:off x="1908000" y="2133720"/>
            <a:ext cx="34560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Имение Захарово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0560" y="458100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мение бабушки со стороны матери Марии Алексеевны Ганнибал. Именно от неё Пушкин узнал русскую грамоту. В 1805-10 годах Пушкины жили в Захарове каждое лето – с мая по сентябрь. Здесь будущий поэт узнал и полюбил русскую деревню с её природой, крестьянским трудом, песнями, обрядами, праздн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6" descr="http://www.touristrail.ru/wp-content/uploads/2010/08/touristskiv/Zaharovo-2.jpg"/>
          <p:cNvPicPr/>
          <p:nvPr/>
        </p:nvPicPr>
        <p:blipFill>
          <a:blip r:embed="rId1"/>
          <a:stretch/>
        </p:blipFill>
        <p:spPr>
          <a:xfrm>
            <a:off x="2340000" y="1052640"/>
            <a:ext cx="5043600" cy="33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Воспитание юного поэт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787640" y="1125000"/>
            <a:ext cx="3352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В доме родителей собирались самые известные писатели: Карамзин, Батюшков, Жуковский, Дмитриев, Вяземский. Они читали свои произведения, играли спектакли, говорили о литературе. С юных лет Пушкин рос в этой атмосфере творчеств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7" descr="pb_020"/>
          <p:cNvPicPr/>
          <p:nvPr/>
        </p:nvPicPr>
        <p:blipFill>
          <a:blip r:embed="rId1"/>
          <a:stretch/>
        </p:blipFill>
        <p:spPr>
          <a:xfrm>
            <a:off x="324000" y="1052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Pd5378"/>
          <p:cNvPicPr/>
          <p:nvPr/>
        </p:nvPicPr>
        <p:blipFill>
          <a:blip r:embed="rId2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pk7699"/>
          <p:cNvPicPr/>
          <p:nvPr/>
        </p:nvPicPr>
        <p:blipFill>
          <a:blip r:embed="rId3"/>
          <a:stretch/>
        </p:blipFill>
        <p:spPr>
          <a:xfrm>
            <a:off x="539640" y="4581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pzh_019"/>
          <p:cNvPicPr/>
          <p:nvPr/>
        </p:nvPicPr>
        <p:blipFill>
          <a:blip r:embed="rId4"/>
          <a:stretch/>
        </p:blipFill>
        <p:spPr>
          <a:xfrm>
            <a:off x="3132000" y="43657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pv_041"/>
          <p:cNvPicPr/>
          <p:nvPr/>
        </p:nvPicPr>
        <p:blipFill>
          <a:blip r:embed="rId5"/>
          <a:stretch/>
        </p:blipFill>
        <p:spPr>
          <a:xfrm>
            <a:off x="7020000" y="4508640"/>
            <a:ext cx="1657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оэзия в семье Пушкиных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24360" y="1628640"/>
            <a:ext cx="29592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Кроме отца Пушкина, известным поэтом своего времени был дядя, Василий Львович. Стихи слагали и старшая сестра Ольга и младший брат Ле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m_24479"/>
          <p:cNvPicPr/>
          <p:nvPr/>
        </p:nvPicPr>
        <p:blipFill>
          <a:blip r:embed="rId1"/>
          <a:stretch/>
        </p:blipFill>
        <p:spPr>
          <a:xfrm>
            <a:off x="0" y="260280"/>
            <a:ext cx="2030400" cy="2691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139038"/>
          <p:cNvPicPr/>
          <p:nvPr/>
        </p:nvPicPr>
        <p:blipFill>
          <a:blip r:embed="rId2"/>
          <a:stretch/>
        </p:blipFill>
        <p:spPr>
          <a:xfrm>
            <a:off x="3564000" y="1700280"/>
            <a:ext cx="1904760" cy="275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1000281669"/>
          <p:cNvPicPr/>
          <p:nvPr/>
        </p:nvPicPr>
        <p:blipFill>
          <a:blip r:embed="rId3"/>
          <a:stretch/>
        </p:blipFill>
        <p:spPr>
          <a:xfrm>
            <a:off x="1403280" y="3573360"/>
            <a:ext cx="19051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ервые пробы пер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03280" y="1844280"/>
            <a:ext cx="37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Будущий поэт рано ознакомился с русской и французской литературой: в их доме была большая библиотека. А на восьмом году жизни он уже сочинял на французском языке маленькие комедии, запирался в библиотеке и «пожирал книгу за книгой». Обладал памятью невероятной, а на одиннадцатом году «знал наизусть всю французскую литературу». Так вспоминал о нём бра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nj7906_1b"/>
          <p:cNvPicPr/>
          <p:nvPr/>
        </p:nvPicPr>
        <p:blipFill>
          <a:blip r:embed="rId1"/>
          <a:stretch/>
        </p:blipFill>
        <p:spPr>
          <a:xfrm>
            <a:off x="826920" y="1773360"/>
            <a:ext cx="40323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333000"/>
            <a:ext cx="615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абушка писала о своём внуке следующее: «Не знаю, что выйдет из моего старшего внука. Мальчик умён и охотник до книжек, а учится плохо, редко когда урок свой сдаст порядком; то его не расшевелишь, не прогонишь играть с детьми, то вдруг так развернётся и расходится, что ничем его не уймёшь: из одной крайности в другую бросается, нет у него середины»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ервое стихотворение было написано Пушкиным в восемь лет на французском языке, т. к. первыми книгами были французские книг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://www.filipoc.ru/attaches/posts/rodina/2013-12-02/poet-aleksandr-sergeevich-pushkin/mini/pushkin-2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Рождение А.С.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211640" y="1844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 московской церкви Богоявления, что в Елохове, 8 июня 1799 года дьячок вывел: «У майора Сергея Львовича Пушкина родился сын Александр. Крещён 8 дня…» Метрическая запись о рождении гениального русского поэта была помечена днём позже, как он родился, 26 мая (6 июня по новому стилю) после захода солнц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K3002i"/>
          <p:cNvPicPr/>
          <p:nvPr/>
        </p:nvPicPr>
        <p:blipFill>
          <a:blip r:embed="rId1"/>
          <a:stretch/>
        </p:blipFill>
        <p:spPr>
          <a:xfrm>
            <a:off x="1116000" y="1484280"/>
            <a:ext cx="31701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259920"/>
            <a:ext cx="8209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. Детские годы Пушкина протекли в Москве и подмосковном селе Захарово. Будущий поэт рос в обедневшей дворянской семье. Его отец Сергей Львович воспитание детей препоручил жене Надежде Осиповне из рода Ганнибалов. Красавица-«креолка» была поглощена светскими обязанностями, а воспитанием Александра, Льва и Ольги занимались бабушка Мария Алексеевна Ганнибал, крепостная няня Арина Родионовна и многочисленные гувернеры и учителя, преимущественно иностранцы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www.xrest.ru/schemes/00/03/bf/0a/%D0%9C%D0%B0%D0%BB%D0%B5%D0%BD%D1%8C%D0%BA%D0%B8%D0%B9%20%D0%9F%D1%83%D1%88%D0%BA%D0%B8%D0%BD%20%D0%90.%D0%A1.%20(%D0%B6%D0%BE%D1%81%D1%82%D0%BE%D0%B2%D0%BE)-1.jpg"/>
          <p:cNvPicPr/>
          <p:nvPr/>
        </p:nvPicPr>
        <p:blipFill>
          <a:blip r:embed="rId1"/>
          <a:stretch/>
        </p:blipFill>
        <p:spPr>
          <a:xfrm>
            <a:off x="2700360" y="3483000"/>
            <a:ext cx="4175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адед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419280" y="1844280"/>
            <a:ext cx="5297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брагим Петрович Ганнибал, прадед Пушкина со стороны матери, был личностью легендарной. Африканец, в детстве похищенный и посланный в подарок турецкому султану, оказавшийся затем в России при Петре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он стал лицом близким к Петру, исполняя при нём обязанности секретаря, неотлучно находился при нём в путешествиях, боевых походах, сражениях. Получил военно-инженерное образование во Франции, был главой инженерного ведомства и генерал-аншефом. Пушкин изобразил его в романе «Арап Петра Великого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i4"/>
          <p:cNvPicPr/>
          <p:nvPr/>
        </p:nvPicPr>
        <p:blipFill>
          <a:blip r:embed="rId1"/>
          <a:stretch/>
        </p:blipFill>
        <p:spPr>
          <a:xfrm>
            <a:off x="900000" y="1700280"/>
            <a:ext cx="2376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Мать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43280" y="1267920"/>
            <a:ext cx="417672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адежда Осиповна Пушкина (урождённая Ганнибал) от деда унаследовала смуглый цвет лица и курчавые волосы, была вспыльчива и раздражительна. Мать не принимала близкого участия в воспитании детей. Особенно её раздражал Александр, так как унаследовал черты своего прославленного прадеда и казался матери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некрасивы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25"/>
          <p:cNvPicPr/>
          <p:nvPr/>
        </p:nvPicPr>
        <p:blipFill>
          <a:blip r:embed="rId1"/>
          <a:stretch/>
        </p:blipFill>
        <p:spPr>
          <a:xfrm>
            <a:off x="1116000" y="1125360"/>
            <a:ext cx="34480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Отец Пушкин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427280" y="1484280"/>
            <a:ext cx="4484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ергей Львович Пушкин служил в армии, окончил службу в 1817 году в чине капитан –поручика, а затем был военным советником. Имел писательское дарование, участвовал в домашних спектаклях, мастерски читал французских авторов. Вёл праздную жизнь, запустил управление своими имениями. Воспитанием детей занимался ма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4" descr="pushkin_s_l"/>
          <p:cNvPicPr/>
          <p:nvPr/>
        </p:nvPicPr>
        <p:blipFill>
          <a:blip r:embed="rId1"/>
          <a:stretch/>
        </p:blipFill>
        <p:spPr>
          <a:xfrm>
            <a:off x="971640" y="1268280"/>
            <a:ext cx="35748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Няня поэт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716000" y="3500280"/>
            <a:ext cx="44276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Благотворное влияние оказала на юного Пушкина няня Арина Родионовна. Она ознакомила поэта с устным народным творчеством. В основе сюжета знаменитых сказок Пушкина лежат сказки, рассказанные Ариной Родионовн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dsc0171102"/>
          <p:cNvPicPr/>
          <p:nvPr/>
        </p:nvPicPr>
        <p:blipFill>
          <a:blip r:embed="rId1"/>
          <a:stretch/>
        </p:blipFill>
        <p:spPr>
          <a:xfrm>
            <a:off x="468360" y="3213000"/>
            <a:ext cx="4214880" cy="320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3255253_1208780965_2"/>
          <p:cNvPicPr/>
          <p:nvPr/>
        </p:nvPicPr>
        <p:blipFill>
          <a:blip r:embed="rId2"/>
          <a:stretch/>
        </p:blipFill>
        <p:spPr>
          <a:xfrm>
            <a:off x="1547640" y="1197000"/>
            <a:ext cx="2417760" cy="316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PM6"/>
          <p:cNvPicPr/>
          <p:nvPr/>
        </p:nvPicPr>
        <p:blipFill>
          <a:blip r:embed="rId3"/>
          <a:stretch/>
        </p:blipFill>
        <p:spPr>
          <a:xfrm>
            <a:off x="5003640" y="333360"/>
            <a:ext cx="39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dic.academic.ru/pictures/wiki/files/80/Pluchart_Pavlishcheva.jpg"/>
          <p:cNvPicPr/>
          <p:nvPr/>
        </p:nvPicPr>
        <p:blipFill>
          <a:blip r:embed="rId1"/>
          <a:stretch/>
        </p:blipFill>
        <p:spPr>
          <a:xfrm>
            <a:off x="4427640" y="1125360"/>
            <a:ext cx="4397400" cy="4896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Сестра поэта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1483920"/>
            <a:ext cx="478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льга Сергеевна Павлищева — родная сестра А. Пушкина. Была с ним очень дружна в детстве и юнос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эт относился к ней дружески, делился своими впечатлениями и нередко спрашивал её советов. Ольга, довольно начитанная в литературе французской и русской, и сама была не чужда поэтического вдохновения; выдержки из ее альбома — стихи французские и русски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Брат поэта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1042920" y="141300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в Серге́евич Пу́шкин — младший брат А. С. Пушкина и его литературный секретарь, боевой офицер, участник персидских войн и кавалер российских орд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https://www.nkj.ru/upload/iblock/306/3069e64fc76c62c04b09f9366641965f.GIF"/>
          <p:cNvPicPr/>
          <p:nvPr/>
        </p:nvPicPr>
        <p:blipFill>
          <a:blip r:embed="rId1"/>
          <a:stretch/>
        </p:blipFill>
        <p:spPr>
          <a:xfrm>
            <a:off x="4572000" y="692280"/>
            <a:ext cx="40338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4:04:18Z</dcterms:created>
  <dc:creator>Марина</dc:creator>
  <dc:description/>
  <dc:language>en-US</dc:language>
  <cp:lastModifiedBy>Олюшка</cp:lastModifiedBy>
  <dcterms:modified xsi:type="dcterms:W3CDTF">2015-10-07T10:56:36Z</dcterms:modified>
  <cp:revision>8</cp:revision>
  <dc:subject/>
  <dc:title>Детство А.С. Пушкина        (1799 – 1811)</dc:title>
</cp:coreProperties>
</file>