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462-985F-4B20-A1A3-41979EB4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4E47-3468-4FD6-AD68-2638A0CB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E6F0-CED8-4E55-BC04-B75A0528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9DE-3C72-4FAB-B762-084580EC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6910-6E27-407E-82B7-52EBD0B6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53E7-65E2-4413-8DA9-B0E10CF0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6B5-BFBA-422C-8926-748BA26F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BAE0-4C91-4666-9661-5CCEF8D5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F725-7830-4486-B939-94FB7DBB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E0B9-9932-4B37-8737-AA882DD5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312F-FEE8-4DB2-B58F-8F98B0C7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0E8A-FC58-4D4F-90F7-E7666039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234A-D9DB-44CB-9599-21AFDCCA9B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447040" cy="25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0" lang="ru-RU" sz="5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Адаптация ребенка к дошкольному учреждению»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7120" y="4857480"/>
            <a:ext cx="4749840" cy="15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МАДОУ «Детский сад №8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642960" y="564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Segoe UI Light"/>
                <a:ea typeface="Simplified Arabic"/>
              </a:rPr>
              <a:t>Составила: педагог-психолог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Segoe UI Light"/>
                <a:ea typeface="Simplified Arabic"/>
              </a:rPr>
              <a:t>Герасименко С.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ак снять напряжение у ребёнка после детского са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2920" y="1499760"/>
            <a:ext cx="77803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 выходным играйте с детьми в напольную игру «Дорога от дома к детскому саду, «Наш дом», «Мамина работа», «Папина работа», «Магазин», «Детский сад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сле посещения детского сада наберите в ванну тёплой воды или включите душ, положите ребёнку игрушки дайте губку. Ничего так не успокаивает. Как звук струящийся во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4"/>
          <p:cNvSpPr/>
          <p:nvPr/>
        </p:nvSpPr>
        <p:spPr>
          <a:xfrm>
            <a:off x="285840" y="357120"/>
            <a:ext cx="4714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Исключите просмотр вечерних телепередач — это тяжело мерцание экрана. Неблагоприятно влияет на нервную систему ребё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рогуляйтесь с ребёнком по территории детского, поинтересуйтесь его переживани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1643040" y="285840"/>
            <a:ext cx="72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изнаки готовности ребёнка к детскому саду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1000080" y="1714680"/>
            <a:ext cx="7858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малыш может остаться без родителе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легко знакомится со сверстниками и взрослым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проявляет интерес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</a:rPr>
              <a:t>Советы родителя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267920"/>
            <a:ext cx="540072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иучайте к режиму д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иучайте к навыкам самообслужи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 первые дни можете побыть с ребён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лавное помните, что это ваш малыш. Побольше проводите сейчас с ним времени. И вы убедитесь, что это ваш тот же крохотный человечек, который благодаря вам появился на с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6010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ема: Адаптация детей младшего возраста к условиям детского са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-360" y="1699920"/>
            <a:ext cx="64911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8f8"/>
                </a:solidFill>
                <a:latin typeface="Times New Roman"/>
              </a:rPr>
              <a:t>Адаптация</a:t>
            </a:r>
            <a:r>
              <a:rPr b="0" lang="ru-RU" sz="2000" spc="-1" strike="noStrike">
                <a:solidFill>
                  <a:srgbClr val="4d08f8"/>
                </a:solidFill>
                <a:latin typeface="Times New Roman"/>
              </a:rPr>
              <a:t> – процесс вхождения человека в новую для него среду и приспособление к ее условиям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8f8"/>
                </a:solidFill>
                <a:latin typeface="Times New Roman"/>
              </a:rPr>
              <a:t>Адаптация </a:t>
            </a:r>
            <a:r>
              <a:rPr b="0" lang="ru-RU" sz="2000" spc="-1" strike="noStrike">
                <a:solidFill>
                  <a:srgbClr val="4d08f8"/>
                </a:solidFill>
                <a:latin typeface="Calibri"/>
              </a:rPr>
              <a:t>- это приспособление организма к изменяющимся внешним условиям. Этот процесс требует больших затрат психической энергии и часто проходит с напряжени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4000680" y="13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же с первых дней жизни у ребёнка в семье формируются привычки, привязанности, определённое поведение. К 2 -3 годам стереотип становится довольно устойчивым. Конечно же вы очень волнуетесь, как он отреагирует на перемены в его жизни. С какими реальными проблемами, возможно придётся столкнуться вам и малышу и как сделать процесс адаптации более мягк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2643120" y="357120"/>
            <a:ext cx="514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</a:rPr>
              <a:t>Адаптаци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1428840" y="21420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опрос к родителям: Кому адаптироваться легч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214280" y="8571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Детям. Чьи родители готовили их к посещению сада заранее. За несколько месяцев до этого события (это заключается в том, родители читали сказочные истории про детский сад, гуляли возле сада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Детям, физически здоровым, т. е не имеющих хронических заболеваний (в этот период все силы ребёнка напряжены, и можно направить на привыкания к саду, не тратя время на борьбу с болезнью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Детям, имеющим навыки самостоятельности (не надо тратить силы        ребёнка ещё и на обучения всему необходимому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Детям, чей режим близок к режиму сада (это режим дня, сон, питани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Детям, чей рацион питания приближен к сад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1643040" y="35712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зовите на помощь сказку или игр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428840" y="1000080"/>
            <a:ext cx="72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Times New Roman"/>
              </a:rPr>
              <a:t>Вы можете придумать сказку о том, как мишка пошел в сад. Как ему там понравилось, сначала было неуютно и немного страшно, но он подружился с детьми и воспитателем. Эту сказку вы можете проиграть с игрушками. И в ней ключевым моментом является возвращение мамы за ребёнком. Ни в коем случае не прерывайте повествования. Пока не настанет этот момен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858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Больше всего родитель и ребёнок расстраиваются утром при расставании. 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от несколько сове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5800" y="1642680"/>
            <a:ext cx="464364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И дома и в саду говорите с малышом уверенно. Спокой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усть малыша отводит тот родитель или родственник, которым ему легче расстать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Обязательно скажите, что вы придёте и обозначьте ког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У вас должен свой ритуал прощания, после чего вы уходите уверен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2920" y="785520"/>
            <a:ext cx="67579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1859c"/>
                </a:solidFill>
                <a:latin typeface="Calibri"/>
              </a:rPr>
              <a:t>   </a:t>
            </a:r>
            <a:r>
              <a:rPr b="0" lang="ru-RU" sz="4300" spc="-1" strike="noStrike">
                <a:solidFill>
                  <a:srgbClr val="31859c"/>
                </a:solidFill>
                <a:latin typeface="Calibri"/>
              </a:rPr>
              <a:t>Поступление в сад – это момент отделение мамы от ребёнка, и это испытание для обоих. У мамы тоже «рвётся сердце», когда она видит, как переживает её малыш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42920" y="214200"/>
            <a:ext cx="66960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оверить, что малыш вовсе не «слабое» созд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Адаптационная система ребёнка достаточно сильна, чтобы это испытание выдержать. Парадоксально, но факт хорошо, что кроха плачет. Поверьте, у него настоящее горе. Плач - помощник нервной системы, он не даёт ей перегружаться. Поэтому не бойтесь детского плача, не сердитесь на ребёнка за нытьё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13840" y="428400"/>
            <a:ext cx="61074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нельзя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угать детским садом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лохо отзываться о воспитателях или о саде при ребёнк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0:19:55Z</dcterms:created>
  <dc:creator>Витя</dc:creator>
  <dc:description/>
  <dc:language>en-US</dc:language>
  <cp:lastModifiedBy>Света</cp:lastModifiedBy>
  <dcterms:modified xsi:type="dcterms:W3CDTF">2015-07-07T08:37:23Z</dcterms:modified>
  <cp:revision>28</cp:revision>
  <dc:subject/>
  <dc:title>Родительское собрание</dc:title>
</cp:coreProperties>
</file>