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9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00BE-A9A7-4206-BECF-89A1DBECD8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A700-94AC-4CB7-878C-E2D4D0EFAF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286-7596-41F6-9213-491C978C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2B3-6932-47C2-866A-4334CD89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74C-6D8D-45D8-95D3-C124CFEC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8B8-485F-4308-B0B2-A80660F0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16F-FFAF-4EFB-B3C9-27755E2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C36-F5B0-4A4D-8A9C-FAD07C26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816-C3EF-4560-A15C-7180852F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9A9-107B-41B9-8579-C9486425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53F-E635-47FF-88DC-7EF27840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854-701F-4DEA-86ED-40ED6F5E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FEC-3705-4EF2-B08A-2382E96D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F40-5B17-4F5B-9452-E3ED0A2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B509-A1BD-41F3-9E2F-723C66F954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hka-i.narod.ru/photo48.jpg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ushkin.niv.ru/images/mesta/mesta_12_3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071013144031.jpg"/>
          <p:cNvPicPr/>
          <p:nvPr/>
        </p:nvPicPr>
        <p:blipFill>
          <a:blip r:embed="rId1"/>
          <a:stretch/>
        </p:blipFill>
        <p:spPr>
          <a:xfrm>
            <a:off x="250920" y="333360"/>
            <a:ext cx="3873240" cy="4654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89600" y="1778040"/>
            <a:ext cx="401148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одготовила: Гигава Ил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Ученица 6а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214200" y="46432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1815 г. Пушкин с триумфом прочел на экзамене свое стихотворение "Воспоминание в Царском Селе" в присутствии знаменитого поэта Г.Р.Державина. Срок пребывания в лицее кончился летом 181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9 июня состоялись выпускные эк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C:\Documents and Settings\Admin\Рабочий стол\Пушкин\pushkin_02.jpg"/>
          <p:cNvPicPr/>
          <p:nvPr/>
        </p:nvPicPr>
        <p:blipFill>
          <a:blip r:embed="rId1"/>
          <a:stretch/>
        </p:blipFill>
        <p:spPr>
          <a:xfrm>
            <a:off x="1258920" y="765000"/>
            <a:ext cx="6502320" cy="368316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1397880" y="33336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"Пушкин в Царском Селе«.(Картина И. Репина, 1911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4143240" y="0"/>
            <a:ext cx="47865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заменил Пушкину детство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был закончен - детство прошло. Началась жизнь. Пушкин переехал в Петербург и поступил в коллегию иностранных дел в чине коллежского секретаря, но служба мало интересовала его. Он увлекался театром, балами, стал участником разных литературных обществ, завел много знакомст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214200" y="500040"/>
            <a:ext cx="3934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Картинка 19 из 13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9000" y="706320"/>
            <a:ext cx="4048200" cy="623088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214200" y="50007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 имением своей матери, селом Михайловским в Псковской губернии, Александр Сергеевич Пушкин был связан на протяжении всей своей зрелой жизни - с 1817 по 1836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4286160" y="214200"/>
            <a:ext cx="46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д вашу 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ие р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влялся 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огда вы в перв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видели меня, тогда я бы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селым юнош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спечно, жа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 приступал ли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олько к жизни; -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омчалися - и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о мне прия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сталого приш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963360" y="39290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357880" y="214200"/>
            <a:ext cx="35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Утром и днем Пушкин обычно работал, потом уезжал верхом или уходил в  село Тригорское, где жили соседи, с которыми он был хорошо зна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Тригорск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42920"/>
            <a:ext cx="5038920" cy="32860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214200" y="4000680"/>
            <a:ext cx="8715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А вечерами, когда за окном выла вьюга, он снова, как в детстве, слушал нянины сказки и песни. Вот как поэт писал брату в письме: «Знаешь ли мои занятия? До обеда  пишу записки, после обеда езжу верхом, вечером слушаю сказки… Что за прелесть эти сказки! Каждая из них поэма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1744560" y="3500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3"/>
          <p:cNvSpPr/>
          <p:nvPr/>
        </p:nvSpPr>
        <p:spPr>
          <a:xfrm>
            <a:off x="250920" y="4005360"/>
            <a:ext cx="871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"Он все с ней, коли дома", - вспоминали дворовые люди с. Михайловско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bojar1i"/>
          <p:cNvPicPr/>
          <p:nvPr/>
        </p:nvPicPr>
        <p:blipFill>
          <a:blip r:embed="rId1"/>
          <a:stretch/>
        </p:blipFill>
        <p:spPr>
          <a:xfrm>
            <a:off x="3348000" y="126828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arevni"/>
          <p:cNvPicPr/>
          <p:nvPr/>
        </p:nvPicPr>
        <p:blipFill>
          <a:blip r:embed="rId2"/>
          <a:stretch/>
        </p:blipFill>
        <p:spPr>
          <a:xfrm>
            <a:off x="395280" y="692280"/>
            <a:ext cx="2160720" cy="240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6300720" y="549360"/>
            <a:ext cx="22068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24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124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224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214200" y="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бота и любовь Арины Родионовны скрашивали поэту ссылку.  Пушкин по-настоящему крепко любил свою няню и написал несколько трогательных стихотворений, к ней обращ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238200" cy="43542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642960" y="59292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ллю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 стихотво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3786120" y="1500120"/>
            <a:ext cx="51436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ша ветхая лач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 печальна и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Что же ты, моя стар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умолкла у ок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бури завыв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ы, мой друг, утомл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дремлешь под жужж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воего верет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, добрая 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Бедной юности м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 с горя; где же круж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ердцу будет ве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си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ихо за морем жи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дев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а водой поутру ш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А.С.Пушкин 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 flipH="1">
            <a:off x="5286240" y="71424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уть более двух лет длилась ссылка в с.Михайловское. Она закончилась в сентябре 1826 года. Пушкин вернулся в Моск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95280" y="549360"/>
            <a:ext cx="4341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214200" y="464328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Не получив определенного ответа от Гончаровой, он без разрешения властей сразу самовольно уехал на Кавк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mhtml:file://C:\Documents%20and%20Settings\Admin\Рабочий%20стол\пушкин1\Яндекс.Картинки_%20кавказ2.mht!http://www.bestphotos.ru/data/media/10/_MG_0980.jpg"/>
          <p:cNvPicPr/>
          <p:nvPr/>
        </p:nvPicPr>
        <p:blipFill>
          <a:blip r:embed="rId1"/>
          <a:stretch/>
        </p:blipFill>
        <p:spPr>
          <a:xfrm>
            <a:off x="1714680" y="214200"/>
            <a:ext cx="55242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4214880" y="301680"/>
            <a:ext cx="471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6 мая 1830 г. состоялась, наконец, помолвка Пушкина с Натальей Гончаровой. Отец выделил ему деревеньку Кистеневку с 200 душами крестьян, расположенную в Нижегородской губернии, вблизи от отцовского имения- с.Болдино. Поэт отправился туда, однако начавшаяся в Москве эпидемия холеры и расставленные повсюду карантины задержали Пушкина в Болди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 7 сентября по 2 декабр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1830 г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Болдинскую осень талант Пушкина достиг полного расцве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C:\Documents and Settings\Admin\Рабочий стол\Пушкин\boldino_02.jpg"/>
          <p:cNvPicPr/>
          <p:nvPr/>
        </p:nvPicPr>
        <p:blipFill>
          <a:blip r:embed="rId1"/>
          <a:stretch/>
        </p:blipFill>
        <p:spPr>
          <a:xfrm>
            <a:off x="214200" y="357120"/>
            <a:ext cx="394992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Admin\Рабочий стол\Пушкин\boldino_01.jpg"/>
          <p:cNvPicPr/>
          <p:nvPr/>
        </p:nvPicPr>
        <p:blipFill>
          <a:blip r:embed="rId2"/>
          <a:stretch/>
        </p:blipFill>
        <p:spPr>
          <a:xfrm>
            <a:off x="214200" y="3643200"/>
            <a:ext cx="3929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3929040" y="214200"/>
            <a:ext cx="49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 февраля 1831 г. в церкви Вознесения Господня состоялось его венчание с Н.Н.Гончаровой. Первые месяцы семейной жизни он провел с женой в Москве, сняв квартиру на Арб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1"/>
          <a:stretch/>
        </p:blipFill>
        <p:spPr>
          <a:xfrm>
            <a:off x="214200" y="214200"/>
            <a:ext cx="3581640" cy="2428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760680" y="285768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Москве на Арб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35712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середины октября 1831 г. и уже до конца жизни Пушкин с семьей живет в Петербур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Последняя квартира А.С. Пушкина на Набережной Мойки, 12, в Петербурге."/>
          <p:cNvPicPr/>
          <p:nvPr/>
        </p:nvPicPr>
        <p:blipFill>
          <a:blip r:embed="rId2"/>
          <a:stretch/>
        </p:blipFill>
        <p:spPr>
          <a:xfrm>
            <a:off x="5143680" y="3357720"/>
            <a:ext cx="353988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5468040" y="56437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етербург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бережной М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pushkin_04.jpg"/>
          <p:cNvPicPr/>
          <p:nvPr/>
        </p:nvPicPr>
        <p:blipFill>
          <a:blip r:embed="rId1"/>
          <a:stretch/>
        </p:blipFill>
        <p:spPr>
          <a:xfrm>
            <a:off x="5076720" y="476280"/>
            <a:ext cx="3805200" cy="4960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643280" y="5661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786120"/>
            <a:ext cx="1942920" cy="271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192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692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332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50920" y="476280"/>
            <a:ext cx="45752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 !!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28584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14292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500800" y="285840"/>
            <a:ext cx="2519280" cy="3714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78588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slide0018_image066"/>
          <p:cNvPicPr/>
          <p:nvPr/>
        </p:nvPicPr>
        <p:blipFill>
          <a:blip r:embed="rId1"/>
          <a:stretch/>
        </p:blipFill>
        <p:spPr>
          <a:xfrm>
            <a:off x="214200" y="857160"/>
            <a:ext cx="364968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lide0018_image068"/>
          <p:cNvPicPr/>
          <p:nvPr/>
        </p:nvPicPr>
        <p:blipFill>
          <a:blip r:embed="rId2"/>
          <a:stretch/>
        </p:blipFill>
        <p:spPr>
          <a:xfrm>
            <a:off x="4643280" y="857160"/>
            <a:ext cx="3714840" cy="27892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3857760" y="3857760"/>
            <a:ext cx="528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. На конторке чернильница и подсвечник со щипцами…»       И.И.Пущин. «Записки о Пушк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C:\Documents and Settings\Admin\Рабочий стол\Пушкин\delvig_a_p_h170.jpg"/>
          <p:cNvPicPr/>
          <p:nvPr/>
        </p:nvPicPr>
        <p:blipFill>
          <a:blip r:embed="rId1"/>
          <a:stretch/>
        </p:blipFill>
        <p:spPr>
          <a:xfrm>
            <a:off x="214200" y="928800"/>
            <a:ext cx="2521080" cy="285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Admin\Рабочий стол\Пушкин\puschin_i_i_h170.jpg"/>
          <p:cNvPicPr/>
          <p:nvPr/>
        </p:nvPicPr>
        <p:blipFill>
          <a:blip r:embed="rId2"/>
          <a:stretch/>
        </p:blipFill>
        <p:spPr>
          <a:xfrm>
            <a:off x="6572160" y="928800"/>
            <a:ext cx="2333880" cy="28000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214200" y="392904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Антон Анто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ельви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637680" y="3857760"/>
            <a:ext cx="22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ван Ива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ущ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831960" y="214200"/>
            <a:ext cx="74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лизкие друзья Пушкина по Лиц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892080" y="550080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ушкин сохранил лицейскую дружб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и культ Лице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3429000" y="1500120"/>
            <a:ext cx="2462040" cy="2938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3198960" y="4500720"/>
            <a:ext cx="28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ильгельм Карл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юхельбек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16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116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616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116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616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16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Калганова Т.А.</cp:lastModifiedBy>
  <dcterms:modified xsi:type="dcterms:W3CDTF">2015-10-07T14:43:25Z</dcterms:modified>
  <cp:revision>106</cp:revision>
  <dc:subject/>
  <dc:title>Слайд 1</dc:title>
</cp:coreProperties>
</file>