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7FE-88BE-47EB-BAF1-E69AA2A9DA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2B0-1F95-46B7-A6F2-4CE1F4C32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847-2700-4C69-96B6-E8C479CC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FD2-5A2A-4D8C-A8F7-F1FC8598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C29-2A03-4765-92D2-DB57D0BC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139-C3B7-44A1-9E66-EDAE5A5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619-326C-481A-A36B-36F1F3E1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C7C-CD04-4261-B075-AAA3CE6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8AA-5C06-49BA-8DB4-7B3C5B0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CA4-11C1-4B86-93C6-3719724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1DD-F512-47E9-BCEF-34ABFABE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EF7-31F1-4313-8921-C169A37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EA5-081D-4C65-9C10-350239E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81D-280F-4415-96E7-E607D86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BC96-4E2D-4F10-B228-E6FFA08D5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50920" y="333360"/>
            <a:ext cx="3873240" cy="4654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78040"/>
            <a:ext cx="40114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одготовила: Гигава И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Ученица 6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1258920" y="765000"/>
            <a:ext cx="6502320" cy="3683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1397880" y="33336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«.(Картина И. Репина, 191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9000" y="706320"/>
            <a:ext cx="4048200" cy="6230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, селом Михайловским в Псковской губернии,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250920" y="4005360"/>
            <a:ext cx="871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-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ojar1i"/>
          <p:cNvPicPr/>
          <p:nvPr/>
        </p:nvPicPr>
        <p:blipFill>
          <a:blip r:embed="rId1"/>
          <a:stretch/>
        </p:blipFill>
        <p:spPr>
          <a:xfrm>
            <a:off x="3348000" y="126828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arevni"/>
          <p:cNvPicPr/>
          <p:nvPr/>
        </p:nvPicPr>
        <p:blipFill>
          <a:blip r:embed="rId2"/>
          <a:stretch/>
        </p:blipFill>
        <p:spPr>
          <a:xfrm>
            <a:off x="395280" y="692280"/>
            <a:ext cx="2160720" cy="240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6300720" y="549360"/>
            <a:ext cx="2206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124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с.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95280" y="549360"/>
            <a:ext cx="4341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214200" y="464328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,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-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14200" y="214200"/>
            <a:ext cx="358164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5076720" y="476280"/>
            <a:ext cx="3805200" cy="4960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643280" y="5661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786120"/>
            <a:ext cx="1942920" cy="27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50920" y="476280"/>
            <a:ext cx="45752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28584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14292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500800" y="285840"/>
            <a:ext cx="251928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78588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857760" y="385776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. На конторке чернильница и подсвечник со щипцами…»       И.И.Пущин. «Записки о Пушк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14200" y="928800"/>
            <a:ext cx="252108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928800"/>
            <a:ext cx="2333880" cy="2800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16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116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616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16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Калганова Т.А.</cp:lastModifiedBy>
  <dcterms:modified xsi:type="dcterms:W3CDTF">2015-10-07T14:43:25Z</dcterms:modified>
  <cp:revision>106</cp:revision>
  <dc:subject/>
  <dc:title>Слайд 1</dc:title>
</cp:coreProperties>
</file>