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A57-ABC3-4E1B-ADEE-6C10AF47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4B9-DA0E-488C-8B7B-1966A00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2D8-30DB-457B-85CB-42B8ADB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809-2563-4481-97DC-65FC9E91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D499-523D-4B5F-956C-C308922E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71C8-A559-47AD-9065-F4CCFB3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36A6-CE95-40A9-A4F1-AA102DBE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7DB-4BE2-44C8-ABFE-4B6A39F1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9BDC-752C-4428-BAA5-60E0A1D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4788-3CF5-454E-A620-5433042E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2FE-5AFC-4332-8159-F1A7BA7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FCA-8924-4BE4-817D-E8C294D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19C-35B1-4DF1-B88D-66509C6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E8C-DB6F-4EFF-887E-0F63AE9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C99-9053-450D-A47E-4CEDBF2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2DCE-E00D-4D9F-A97A-2878A8A1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4DC-E97E-4C5D-9E52-6DFB7374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BD9-46E9-4010-9971-94C80966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D49-04C6-40E6-9ECD-DD78B436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178-013A-4FB0-B774-E91BD1AD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EF0-8F0A-41FC-A680-7895DF0C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341-3078-4F35-91CB-A3B99AD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8F6-4106-4F4F-8DB4-B191D46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8C6-5571-4504-8EA3-0F98D98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A06E-2632-403E-8F41-49C40942F3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3C3-1629-4765-BFFD-51CF80090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5805000"/>
            <a:ext cx="603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дготовила педагог-психолог Герасимова С.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4"/>
          <p:cNvSpPr txBox="1"/>
          <p:nvPr/>
        </p:nvSpPr>
        <p:spPr>
          <a:xfrm rot="20187600">
            <a:off x="2700360" y="2205000"/>
            <a:ext cx="526896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рт терапия как метод работ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дагога-психолога в ДОУ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очная терапия.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амая лучшая игрушка для детей – кучка песка»    Ушинский К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309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ет мелкую моторику, улучшается память, воображение, координац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ет уникальную возможность исследовать свой внутренний мир, ощутить чувство свободы, безопасности и самовыраж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глощает  негативную энергию человека, стабилизирует его эмоциональное состояние(негативные эмоции уходят сквозь песок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огает рассыпать на мельчайшие песчинки образ, пугающий и травмирующий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рез нервные окончания в мозг поступают сигналы, стимулирующие его работ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4067280" y="4437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1835280" y="5661000"/>
            <a:ext cx="13874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9"/>
          <p:cNvSpPr txBox="1"/>
          <p:nvPr/>
        </p:nvSpPr>
        <p:spPr>
          <a:xfrm>
            <a:off x="6300720" y="5516640"/>
            <a:ext cx="180036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8101080" y="6308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инципы игр на пес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естественной стимулирующей среды, в которой ребенок чувствует себя комфортно, и защищенно, проявляя творческую актив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живление» абстрактных символов: букв, цифр, геометрических фигур и п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альное «проживание» проигрывание всевозможных ситуаций вместе с героями сказочных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8244000" y="6237360"/>
            <a:ext cx="610920" cy="476280"/>
          </a:xfrm>
          <a:custGeom>
            <a:avLst/>
            <a:gdLst>
              <a:gd name="textAreaLeft" fmla="*/ 30600 w 610920"/>
              <a:gd name="textAreaRight" fmla="*/ 580320 w 610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02" h="21600">
                <a:moveTo>
                  <a:pt x="0" y="0"/>
                </a:moveTo>
                <a:lnTo>
                  <a:pt x="27702" y="0"/>
                </a:lnTo>
                <a:lnTo>
                  <a:pt x="27702" y="21600"/>
                </a:lnTo>
                <a:lnTo>
                  <a:pt x="0" y="21600"/>
                </a:lnTo>
                <a:close/>
              </a:path>
              <a:path fill="lightenLess" w="27702" h="21600">
                <a:moveTo>
                  <a:pt x="0" y="0"/>
                </a:moveTo>
                <a:lnTo>
                  <a:pt x="27702" y="0"/>
                </a:lnTo>
                <a:lnTo>
                  <a:pt x="26302" y="1400"/>
                </a:lnTo>
                <a:lnTo>
                  <a:pt x="1400" y="1400"/>
                </a:lnTo>
                <a:close/>
              </a:path>
              <a:path fill="darken" w="27702" h="21600">
                <a:moveTo>
                  <a:pt x="27702" y="0"/>
                </a:moveTo>
                <a:lnTo>
                  <a:pt x="27702" y="21600"/>
                </a:lnTo>
                <a:lnTo>
                  <a:pt x="26302" y="20200"/>
                </a:lnTo>
                <a:lnTo>
                  <a:pt x="26302" y="1400"/>
                </a:lnTo>
                <a:close/>
              </a:path>
              <a:path fill="darkenLess" w="27702" h="21600">
                <a:moveTo>
                  <a:pt x="27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02" y="20200"/>
                </a:lnTo>
                <a:close/>
              </a:path>
              <a:path fill="lighten" w="27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02" h="21600">
                <a:moveTo>
                  <a:pt x="6844" y="10800"/>
                </a:moveTo>
                <a:lnTo>
                  <a:pt x="20857" y="3794"/>
                </a:lnTo>
                <a:lnTo>
                  <a:pt x="2085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Содержимое 6" descr="DSC09879.JPG"/>
          <p:cNvPicPr/>
          <p:nvPr/>
        </p:nvPicPr>
        <p:blipFill>
          <a:blip r:embed="rId1"/>
          <a:stretch/>
        </p:blipFill>
        <p:spPr>
          <a:xfrm>
            <a:off x="262080" y="1228680"/>
            <a:ext cx="3168360" cy="36003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4" descr="DSC09871.JPG"/>
          <p:cNvPicPr/>
          <p:nvPr/>
        </p:nvPicPr>
        <p:blipFill>
          <a:blip r:embed="rId2"/>
          <a:stretch/>
        </p:blipFill>
        <p:spPr>
          <a:xfrm>
            <a:off x="3741840" y="836640"/>
            <a:ext cx="4190760" cy="235728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6" descr="DSC09878.JPG"/>
          <p:cNvPicPr/>
          <p:nvPr/>
        </p:nvPicPr>
        <p:blipFill>
          <a:blip r:embed="rId3"/>
          <a:stretch/>
        </p:blipFill>
        <p:spPr>
          <a:xfrm>
            <a:off x="3746520" y="3645000"/>
            <a:ext cx="434340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1728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очная   терапия позволяет использовать совреме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34136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Технологию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Игровую технолог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Здоровьесберегающ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Личностно-ориентированную технологию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Технологию проблемного обуч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Технология 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93680" y="419040"/>
            <a:ext cx="74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956720" y="6237360"/>
            <a:ext cx="610920" cy="395280"/>
          </a:xfrm>
          <a:custGeom>
            <a:avLst/>
            <a:gdLst>
              <a:gd name="textAreaLeft" fmla="*/ 25560 w 610920"/>
              <a:gd name="textAreaRight" fmla="*/ 585360 w 610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9680" y="3794"/>
                </a:moveTo>
                <a:lnTo>
                  <a:pt x="23693" y="10800"/>
                </a:lnTo>
                <a:lnTo>
                  <a:pt x="968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сенсорно-моторной сферы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769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бодные движения  по песку сверху вниз, слева направо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ьно брать песок, открывать и закрыва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дошку, просто сыпать песок через кулач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Трудная дорога». Нужно провести пальцем по пес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нистую лини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леды на песке». Сухой и мокрый песок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тавляем следы, делаем выв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Радуга». Четырьмя пальцами нарисовать по песку полукруг – радугу. А потом добавить солнц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Грустное дерево». Нарисовать ствол, опустившиеся ветки, которые или засохли, или потеряли свою листв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Легкий ветерок».  Потихоньку дуем через трубочки для сока. Наблюдаем за песчинкам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956720" y="6165720"/>
            <a:ext cx="466560" cy="32256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1232" h="21600">
                <a:moveTo>
                  <a:pt x="0" y="0"/>
                </a:moveTo>
                <a:lnTo>
                  <a:pt x="31232" y="0"/>
                </a:lnTo>
                <a:lnTo>
                  <a:pt x="31232" y="21600"/>
                </a:lnTo>
                <a:lnTo>
                  <a:pt x="0" y="21600"/>
                </a:lnTo>
                <a:close/>
              </a:path>
              <a:path fill="lightenLess" w="31232" h="21600">
                <a:moveTo>
                  <a:pt x="0" y="0"/>
                </a:moveTo>
                <a:lnTo>
                  <a:pt x="31232" y="0"/>
                </a:lnTo>
                <a:lnTo>
                  <a:pt x="29832" y="1400"/>
                </a:lnTo>
                <a:lnTo>
                  <a:pt x="1400" y="1400"/>
                </a:lnTo>
                <a:close/>
              </a:path>
              <a:path fill="darken" w="31232" h="21600">
                <a:moveTo>
                  <a:pt x="31232" y="0"/>
                </a:moveTo>
                <a:lnTo>
                  <a:pt x="31232" y="21600"/>
                </a:lnTo>
                <a:lnTo>
                  <a:pt x="29832" y="20200"/>
                </a:lnTo>
                <a:lnTo>
                  <a:pt x="29832" y="1400"/>
                </a:lnTo>
                <a:close/>
              </a:path>
              <a:path fill="darkenLess" w="31232" h="21600">
                <a:moveTo>
                  <a:pt x="31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2" y="20200"/>
                </a:lnTo>
                <a:close/>
              </a:path>
              <a:path fill="lighten" w="31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2" h="21600">
                <a:moveTo>
                  <a:pt x="8610" y="10800"/>
                </a:moveTo>
                <a:lnTo>
                  <a:pt x="22623" y="3794"/>
                </a:lnTo>
                <a:lnTo>
                  <a:pt x="226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моциональной сфер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оделирование бытовых сцен, позволяющих изучать отношения в семье;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работа группой, в парах, направленная на развитие коммуникативных возможностей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нужно для игры в пес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онепроницаемый деревянный ящик, его размер 50/70/8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истый просеянный песок (прокаленный). Он недолжен быть крупным и слишком мелким. Песком заполняется одна треть ящ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ллекция миниатюрных фигурок, высотой желательно не более 8 с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0400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егкий ветерок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есочный дожди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781200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8777" y="10800"/>
                </a:moveTo>
                <a:lnTo>
                  <a:pt x="22790" y="3794"/>
                </a:lnTo>
                <a:lnTo>
                  <a:pt x="22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Содержимое 13" descr="DSC09870.JPG"/>
          <p:cNvPicPr/>
          <p:nvPr/>
        </p:nvPicPr>
        <p:blipFill>
          <a:blip r:embed="rId1"/>
          <a:stretch/>
        </p:blipFill>
        <p:spPr>
          <a:xfrm>
            <a:off x="1835280" y="3860640"/>
            <a:ext cx="4290840" cy="2414880"/>
          </a:xfrm>
          <a:prstGeom prst="rect">
            <a:avLst/>
          </a:prstGeom>
          <a:ln w="0">
            <a:noFill/>
          </a:ln>
        </p:spPr>
      </p:pic>
      <p:pic>
        <p:nvPicPr>
          <p:cNvPr id="206" name="Содержимое 14" descr="DSC09710.JPG"/>
          <p:cNvPicPr/>
          <p:nvPr/>
        </p:nvPicPr>
        <p:blipFill>
          <a:blip r:embed="rId2"/>
          <a:stretch/>
        </p:blipFill>
        <p:spPr>
          <a:xfrm>
            <a:off x="3348000" y="824040"/>
            <a:ext cx="428940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рыгают зайчат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Идут медвежат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028000" y="6237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Содержимое 6" descr="DSC09850.JPG"/>
          <p:cNvPicPr/>
          <p:nvPr/>
        </p:nvPicPr>
        <p:blipFill>
          <a:blip r:embed="rId1"/>
          <a:stretch/>
        </p:blipFill>
        <p:spPr>
          <a:xfrm>
            <a:off x="611280" y="1546200"/>
            <a:ext cx="3822480" cy="24145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7" descr="DSC09852.JPG"/>
          <p:cNvPicPr/>
          <p:nvPr/>
        </p:nvPicPr>
        <p:blipFill>
          <a:blip r:embed="rId2"/>
          <a:stretch/>
        </p:blipFill>
        <p:spPr>
          <a:xfrm>
            <a:off x="4572000" y="3929040"/>
            <a:ext cx="399564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Отпечат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7885080" y="6093000"/>
            <a:ext cx="611280" cy="393480"/>
          </a:xfrm>
          <a:custGeom>
            <a:avLst/>
            <a:gdLst>
              <a:gd name="textAreaLeft" fmla="*/ 25200 w 611280"/>
              <a:gd name="textAreaRight" fmla="*/ 586080 w 61128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33545" h="21600">
                <a:moveTo>
                  <a:pt x="0" y="0"/>
                </a:moveTo>
                <a:lnTo>
                  <a:pt x="33545" y="0"/>
                </a:lnTo>
                <a:lnTo>
                  <a:pt x="33545" y="21600"/>
                </a:lnTo>
                <a:lnTo>
                  <a:pt x="0" y="21600"/>
                </a:lnTo>
                <a:close/>
              </a:path>
              <a:path fill="lightenLess" w="33545" h="21600">
                <a:moveTo>
                  <a:pt x="0" y="0"/>
                </a:moveTo>
                <a:lnTo>
                  <a:pt x="33545" y="0"/>
                </a:lnTo>
                <a:lnTo>
                  <a:pt x="32145" y="1400"/>
                </a:lnTo>
                <a:lnTo>
                  <a:pt x="1400" y="1400"/>
                </a:lnTo>
                <a:close/>
              </a:path>
              <a:path fill="darken" w="33545" h="21600">
                <a:moveTo>
                  <a:pt x="33545" y="0"/>
                </a:moveTo>
                <a:lnTo>
                  <a:pt x="33545" y="21600"/>
                </a:lnTo>
                <a:lnTo>
                  <a:pt x="32145" y="20200"/>
                </a:lnTo>
                <a:lnTo>
                  <a:pt x="32145" y="1400"/>
                </a:lnTo>
                <a:close/>
              </a:path>
              <a:path fill="darkenLess" w="33545" h="21600">
                <a:moveTo>
                  <a:pt x="33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5" y="20200"/>
                </a:lnTo>
                <a:close/>
              </a:path>
              <a:path fill="lighten" w="33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5" h="21600">
                <a:moveTo>
                  <a:pt x="9766" y="10800"/>
                </a:moveTo>
                <a:lnTo>
                  <a:pt x="23779" y="3794"/>
                </a:lnTo>
                <a:lnTo>
                  <a:pt x="2377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Содержимое 4" descr="DSC09693.JPG"/>
          <p:cNvPicPr/>
          <p:nvPr/>
        </p:nvPicPr>
        <p:blipFill>
          <a:blip r:embed="rId1"/>
          <a:stretch/>
        </p:blipFill>
        <p:spPr>
          <a:xfrm>
            <a:off x="611280" y="112536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5" descr="DSC09695.JPG"/>
          <p:cNvPicPr/>
          <p:nvPr/>
        </p:nvPicPr>
        <p:blipFill>
          <a:blip r:embed="rId2"/>
          <a:stretch/>
        </p:blipFill>
        <p:spPr>
          <a:xfrm>
            <a:off x="4152960" y="303228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, новизна,  педагогическая целесообраз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воляет в скрытой символической форме реконструировать конфликтную травмирующую ситуацию и найти силы для  ее реше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ягко и безболезненно помогает решать такие проблемы, которые невозможно решить через прямые указания, повторения, внушения и  тому подобно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зволяет каждому человеку реализовать свой потенциал и прийти в результате к гармонии с собо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риентирована на   эмоциональное благополучие  каждого ребенка,   развитие  уверенности в себе,   создание чувства защищён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ешает широкий спектр межличностных и внутриличностных проблем, а также вопросов, касающихся как психологического, так и физического здоровь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является эмоционально – развивающ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ует художественное творчество как способ психологической работы  и психологической поддерж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3059280" y="5805360"/>
            <a:ext cx="56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печатки на мокром пес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932360" y="5661000"/>
            <a:ext cx="3589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Содержимое 5" descr="DSC09828.JPG"/>
          <p:cNvPicPr/>
          <p:nvPr/>
        </p:nvPicPr>
        <p:blipFill>
          <a:blip r:embed="rId3"/>
          <a:stretch/>
        </p:blipFill>
        <p:spPr>
          <a:xfrm>
            <a:off x="4356000" y="1197000"/>
            <a:ext cx="3745080" cy="241920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4" descr="DSC09825.JPG"/>
          <p:cNvPicPr/>
          <p:nvPr/>
        </p:nvPicPr>
        <p:blipFill>
          <a:blip r:embed="rId4"/>
          <a:stretch/>
        </p:blipFill>
        <p:spPr>
          <a:xfrm>
            <a:off x="971640" y="2795760"/>
            <a:ext cx="41209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8"/>
          <p:cNvSpPr txBox="1"/>
          <p:nvPr/>
        </p:nvSpPr>
        <p:spPr>
          <a:xfrm>
            <a:off x="2124000" y="189000"/>
            <a:ext cx="489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Рисун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4" descr="DSC09700.JPG"/>
          <p:cNvPicPr/>
          <p:nvPr/>
        </p:nvPicPr>
        <p:blipFill>
          <a:blip r:embed="rId1"/>
          <a:stretch/>
        </p:blipFill>
        <p:spPr>
          <a:xfrm>
            <a:off x="530280" y="148428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5" descr="DSC09702.JPG"/>
          <p:cNvPicPr/>
          <p:nvPr/>
        </p:nvPicPr>
        <p:blipFill>
          <a:blip r:embed="rId2"/>
          <a:stretch/>
        </p:blipFill>
        <p:spPr>
          <a:xfrm>
            <a:off x="4788000" y="2852640"/>
            <a:ext cx="37670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2484360" y="404640"/>
            <a:ext cx="403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иентация на «песочном листе»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(«путешествие за кладом»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Содержимое 4" descr="DSC09740.JPG"/>
          <p:cNvPicPr/>
          <p:nvPr/>
        </p:nvPicPr>
        <p:blipFill>
          <a:blip r:embed="rId1"/>
          <a:stretch/>
        </p:blipFill>
        <p:spPr>
          <a:xfrm>
            <a:off x="611280" y="14526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5" descr="DSC09733.JPG"/>
          <p:cNvPicPr/>
          <p:nvPr/>
        </p:nvPicPr>
        <p:blipFill>
          <a:blip r:embed="rId2"/>
          <a:stretch/>
        </p:blipFill>
        <p:spPr>
          <a:xfrm>
            <a:off x="4284720" y="28526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обедитель злости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Содержимое 4" descr="DSC09788.JPG"/>
          <p:cNvPicPr/>
          <p:nvPr/>
        </p:nvPicPr>
        <p:blipFill>
          <a:blip r:embed="rId1"/>
          <a:stretch/>
        </p:blipFill>
        <p:spPr>
          <a:xfrm>
            <a:off x="468360" y="1052640"/>
            <a:ext cx="3887640" cy="278604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5" descr="DSC09789.JPG"/>
          <p:cNvPicPr/>
          <p:nvPr/>
        </p:nvPicPr>
        <p:blipFill>
          <a:blip r:embed="rId2"/>
          <a:stretch/>
        </p:blipFill>
        <p:spPr>
          <a:xfrm>
            <a:off x="4500720" y="2708280"/>
            <a:ext cx="390816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2050920" y="333360"/>
            <a:ext cx="4819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35856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зор литерату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Объект 1" descr=""/>
          <p:cNvPicPr/>
          <p:nvPr/>
        </p:nvPicPr>
        <p:blipFill>
          <a:blip r:embed="rId1"/>
          <a:stretch/>
        </p:blipFill>
        <p:spPr>
          <a:xfrm>
            <a:off x="2384280" y="1844640"/>
            <a:ext cx="2025720" cy="2448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044800" cy="2665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tretch/>
        </p:blipFill>
        <p:spPr>
          <a:xfrm>
            <a:off x="6853320" y="3573360"/>
            <a:ext cx="2017800" cy="27799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"/>
          <p:cNvPicPr/>
          <p:nvPr/>
        </p:nvPicPr>
        <p:blipFill>
          <a:blip r:embed="rId4"/>
          <a:stretch/>
        </p:blipFill>
        <p:spPr>
          <a:xfrm>
            <a:off x="4460760" y="2413080"/>
            <a:ext cx="223704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619280" y="239760"/>
            <a:ext cx="5857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2194560" y="43956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Содержимое 6" descr="DSC09728.JPG"/>
          <p:cNvPicPr/>
          <p:nvPr/>
        </p:nvPicPr>
        <p:blipFill>
          <a:blip r:embed="rId1"/>
          <a:stretch/>
        </p:blipFill>
        <p:spPr>
          <a:xfrm>
            <a:off x="1638360" y="1287360"/>
            <a:ext cx="6033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476000" y="3428640"/>
            <a:ext cx="7194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4360" y="1341360"/>
            <a:ext cx="719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-терапия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метод  оказания психологической поддержки посредством художественного твор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 – терапию часто называют исцеляющим творчеством,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тому что оно приносит удовольствие, обучает выражать свои переживания как можно более спонтанно и произвольн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-терапи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имеет ограничений и противопоказан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new-blog-header1"/>
          <p:cNvPicPr/>
          <p:nvPr/>
        </p:nvPicPr>
        <p:blipFill>
          <a:blip r:embed="rId1"/>
          <a:stretch/>
        </p:blipFill>
        <p:spPr>
          <a:xfrm>
            <a:off x="6659640" y="4925880"/>
            <a:ext cx="1979640" cy="1932120"/>
          </a:xfrm>
          <a:prstGeom prst="rect">
            <a:avLst/>
          </a:prstGeom>
          <a:ln w="19080">
            <a:solidFill>
              <a:srgbClr val="703dff"/>
            </a:solidFill>
            <a:miter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71262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использования арт-терапии: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психологического здоровья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ческая поддержка и сопровождение детей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чение детей к активной продуктивной деятельности, способствующей  развитию всех психических процесс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эмоционально-нравственного потенциа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умения выражать свои эмо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коммуникативных навыков, навыков социальной поддержки и взаимного довер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3771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ствовать самопознанию ребенка, осознанию своих характерных особенностей и предпочт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ать ребенка положительному восприятию себя и   других люд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ребенка социальную и коммуникативную  компетент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ь ребенка выражать свою любов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рабатывать у ребенка положительные черты характера, способствующие лучшему взаимопониманию в процессе общ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ректировать нежелательные черты характера и пове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ать ребенка рефлексивным умениям;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ть у ребенка потребность в саморазвит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7812000" y="609300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арт-терапи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отерапия – одно из направлений арт-терапии, реализуется при помощи музыки. Использование музыки может быть активным и пассивным. Музыкотерапия помогат преодалевать, внутренние конфликты и достичь внутренней гармо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ветотерапия – метод психологической коррекции и поддержки при помощи цв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отерапия - самый органичный способ выразить свои переживания, исследовать мир, выстро­ить отношения. Игра для ребенка – естественный способ рассказа о себе, своих чувствах, мыслях, о своем опы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12000" y="5877000"/>
            <a:ext cx="755640" cy="539640"/>
          </a:xfrm>
          <a:custGeom>
            <a:avLst/>
            <a:gdLst>
              <a:gd name="textAreaLeft" fmla="*/ 34920 w 755640"/>
              <a:gd name="textAreaRight" fmla="*/ 720720 w 755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8114" y="10800"/>
                </a:moveTo>
                <a:lnTo>
                  <a:pt x="22126" y="3794"/>
                </a:lnTo>
                <a:lnTo>
                  <a:pt x="221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327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696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зкотерапия – проживание и осмысление какой-либо жизненно важной ситуации, в заданной игровой форм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отерапия - благотворное воздействие рисования в развивающих  и коррекционных цел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исование на  те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Мое настроение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56720" y="609300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 rot="216000">
            <a:off x="160200" y="3498480"/>
            <a:ext cx="2303640" cy="1830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"/>
          <p:cNvPicPr/>
          <p:nvPr/>
        </p:nvPicPr>
        <p:blipFill>
          <a:blip r:embed="rId2"/>
          <a:stretch/>
        </p:blipFill>
        <p:spPr>
          <a:xfrm rot="20625000">
            <a:off x="6405120" y="2549160"/>
            <a:ext cx="2255760" cy="2114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"/>
          <p:cNvPicPr/>
          <p:nvPr/>
        </p:nvPicPr>
        <p:blipFill>
          <a:blip r:embed="rId3"/>
          <a:stretch/>
        </p:blipFill>
        <p:spPr>
          <a:xfrm rot="20692800">
            <a:off x="5079960" y="4667400"/>
            <a:ext cx="2487600" cy="1882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4"/>
          <a:stretch/>
        </p:blipFill>
        <p:spPr>
          <a:xfrm rot="979200">
            <a:off x="2340000" y="4404960"/>
            <a:ext cx="2286000" cy="187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 rot="20605800">
            <a:off x="526680" y="41112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H:\АРТТЕРАПИЯ В ДОУ\НА КОНКУРС\фото\DSC03178.JPG"/>
          <p:cNvPicPr/>
          <p:nvPr/>
        </p:nvPicPr>
        <p:blipFill>
          <a:blip r:embed="rId2"/>
          <a:stretch/>
        </p:blipFill>
        <p:spPr>
          <a:xfrm>
            <a:off x="2243160" y="3170160"/>
            <a:ext cx="3168720" cy="238284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pic>
        <p:nvPicPr>
          <p:cNvPr id="174" name="Рисунок 3" descr="H:\АРТТЕРАПИЯ В ДОУ\НА КОНКУРС\фото\DSC07732.JPG"/>
          <p:cNvPicPr/>
          <p:nvPr/>
        </p:nvPicPr>
        <p:blipFill>
          <a:blip r:embed="rId3"/>
          <a:stretch/>
        </p:blipFill>
        <p:spPr>
          <a:xfrm rot="1265400">
            <a:off x="4700520" y="655560"/>
            <a:ext cx="3059280" cy="2489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slow"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781200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8777" y="10800"/>
                </a:moveTo>
                <a:lnTo>
                  <a:pt x="22790" y="3794"/>
                </a:lnTo>
                <a:lnTo>
                  <a:pt x="22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369120" cy="21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сочная терапия – это самый органичный для ребенка способ выразить свои переживания, исследовать мир, выстраивать отношения – и способ привычный, хорошо знакомы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Содержимое 3" descr="DSC09729.JPG"/>
          <p:cNvPicPr/>
          <p:nvPr/>
        </p:nvPicPr>
        <p:blipFill>
          <a:blip r:embed="rId1"/>
          <a:stretch/>
        </p:blipFill>
        <p:spPr>
          <a:xfrm>
            <a:off x="2195640" y="2637000"/>
            <a:ext cx="548136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6:38:16Z</dcterms:created>
  <dc:creator>ZA</dc:creator>
  <dc:description/>
  <dc:language>en-US</dc:language>
  <cp:lastModifiedBy>Сергей</cp:lastModifiedBy>
  <dcterms:modified xsi:type="dcterms:W3CDTF">2015-10-07T12:10:43Z</dcterms:modified>
  <cp:revision>56</cp:revision>
  <dc:subject/>
  <dc:title>Слайд 1</dc:title>
</cp:coreProperties>
</file>