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jpeg" ContentType="image/jpeg"/>
  <Override PartName="/ppt/media/image2.png" ContentType="image/png"/>
  <Override PartName="/ppt/media/image1.png" ContentType="image/png"/>
  <Override PartName="/ppt/media/image4.gif" ContentType="image/gif"/>
  <Override PartName="/ppt/media/image5.png" ContentType="image/png"/>
  <Override PartName="/ppt/media/image3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-17857800" y="-13397040"/>
            <a:ext cx="35717040" cy="284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92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6080" cy="56674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ewage.brovary.net/uploads/post-796-1229876231_thumb.jp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oto.rambler.ru/original/448c9942-0d5f-c70e-a7de-260eaa870f3d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468080" y="2279520"/>
            <a:ext cx="7683480" cy="32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«Из двух спорщиков, горячиться тот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кто не пра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Ч. Лэ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3840" y="207720"/>
            <a:ext cx="86072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«АЙСБЕРГ»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Picture 5" descr="i?id=82097637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49200" y="2560680"/>
            <a:ext cx="2627640" cy="382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7872_prev"/>
          <p:cNvPicPr/>
          <p:nvPr/>
        </p:nvPicPr>
        <p:blipFill>
          <a:blip r:embed="rId3"/>
          <a:stretch/>
        </p:blipFill>
        <p:spPr>
          <a:xfrm>
            <a:off x="4962600" y="2987640"/>
            <a:ext cx="40482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2560" y="565200"/>
            <a:ext cx="8607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«ОБОЯТЕЛЬНОСТЬ»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" name="Picture 4" descr="D:\Мои документы\Курсы\Гайдушенко 1\Гифы\АНИМИРОВАННЫЕ ГИФЫ --- смайловые1.files\smiles2.files\smile15.gif"/>
          <p:cNvPicPr/>
          <p:nvPr/>
        </p:nvPicPr>
        <p:blipFill>
          <a:blip r:embed="rId1"/>
          <a:stretch/>
        </p:blipFill>
        <p:spPr>
          <a:xfrm>
            <a:off x="754200" y="24224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:\Мои документы\Курсы\Гайдушенко 1\Гифы\АНИМИРОВАННЫЕ ГИФЫ --- смайловые1.files\smiles2.files\smile13.gif"/>
          <p:cNvPicPr/>
          <p:nvPr/>
        </p:nvPicPr>
        <p:blipFill>
          <a:blip r:embed="rId2"/>
          <a:stretch/>
        </p:blipFill>
        <p:spPr>
          <a:xfrm>
            <a:off x="8183520" y="242244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D:\Мои документы\Курсы\Гайдушенко 1\Гифы\дети.files\child1.files\baby14_1.gif"/>
          <p:cNvPicPr/>
          <p:nvPr/>
        </p:nvPicPr>
        <p:blipFill>
          <a:blip r:embed="rId3"/>
          <a:stretch/>
        </p:blipFill>
        <p:spPr>
          <a:xfrm>
            <a:off x="1325520" y="4851360"/>
            <a:ext cx="2143080" cy="219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:\Мои документы\Курсы\Гайдушенко 1\Гифы\дети.files\child1.files\baby01.gif"/>
          <p:cNvPicPr/>
          <p:nvPr/>
        </p:nvPicPr>
        <p:blipFill>
          <a:blip r:embed="rId4"/>
          <a:stretch/>
        </p:blipFill>
        <p:spPr>
          <a:xfrm>
            <a:off x="7112160" y="4924440"/>
            <a:ext cx="1785600" cy="2120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D:\Мои документы\Курсы\Гайдушенко 1\Гифы\АНИМИРОВАННЫЕ ГИФЫ --- смайловые.files\smiles1.files\36_2_25.gif"/>
          <p:cNvPicPr/>
          <p:nvPr/>
        </p:nvPicPr>
        <p:blipFill>
          <a:blip r:embed="rId5"/>
          <a:stretch/>
        </p:blipFill>
        <p:spPr>
          <a:xfrm>
            <a:off x="4254480" y="3137040"/>
            <a:ext cx="19764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279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Что поможет установить и поддержать контакт с собеседником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2207880"/>
            <a:ext cx="9541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4240"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Приветствие: улыбка, обращение по и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Установление контакта г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Сообщение о вашем восприятии собеседника, его чувств, установок, эмоционального состоя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Предоставление выговор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Подчеркивание значимости собеседника для в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Уважение мнения, точки зрения собесе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Мысленно встать на место партнера и понять, какие события привели его в это состо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Сохранение самообл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D:\Мои документы\Курсы\Гайдушенко 1\Гифы\дети2.files\child3.files\KISS7.gif"/>
          <p:cNvPicPr/>
          <p:nvPr/>
        </p:nvPicPr>
        <p:blipFill>
          <a:blip r:embed="rId9"/>
          <a:stretch/>
        </p:blipFill>
        <p:spPr>
          <a:xfrm>
            <a:off x="8280360" y="601668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5480" y="4222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 «назревает»  конфликт очень важно придерживаться определённых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754200" y="2301480"/>
            <a:ext cx="896616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пытайтесь разрешить пробл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не обижайте друг друга словами и действ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не прерывайте друг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следует отделить человека от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сосредоточьтесь на интересах, а не на позиц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ищите пути к общему выигрыш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используйте объективные кри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D:\Мои документы\Курсы\Гайдушенко 1\Гифы\дети.files\child1.files\baby14_1.gif"/>
          <p:cNvPicPr/>
          <p:nvPr/>
        </p:nvPicPr>
        <p:blipFill>
          <a:blip r:embed="rId9"/>
          <a:stretch/>
        </p:blipFill>
        <p:spPr>
          <a:xfrm>
            <a:off x="7993080" y="5364000"/>
            <a:ext cx="16095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4200" y="351000"/>
            <a:ext cx="88581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«Поступки и слова могут лгать, но тело обманывает редко!»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5480" y="2207880"/>
            <a:ext cx="90727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42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Больше информации вам поможет получить невербальная коммуника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Тембр  голоса и инто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Ширина зра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Пространство, разделяющее говоря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Частота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Жесты, тело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Ос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Выражение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Контакт глаз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136080"/>
            <a:ext cx="938052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ТЕСТ: « НЕ ДАЙТЕ ЧЕЛОВЕКУ УПАСТЬ»</a:t>
            </a:r>
            <a:r>
              <a:rPr b="1" lang="ru-RU" sz="4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Ваши действия в критической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3182760" y="3208320"/>
            <a:ext cx="3929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65b92"/>
                </a:solidFill>
                <a:latin typeface="Arial"/>
              </a:rPr>
              <a:t>«ВОДОПАД»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9" name="" descr="Картинка 4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1619280"/>
            <a:ext cx="943308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6360" y="2351160"/>
            <a:ext cx="9286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1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Крупный  успех достигаетс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1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из  множества предусмотрен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1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и обдуманных  мелоче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В.О. Ключе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207720"/>
            <a:ext cx="9180360" cy="71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92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нфликт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</a:rPr>
              <a:t>- одна из форм взаимодействия людей и групп, при которой действия одной стороны, столкнувшись с интересами другой, препятствуют реализации ее целей (И. Ладанов, Н. Данакин и др.)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нфликт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</a:rPr>
              <a:t>- это различные виды противодействия противоборства личностей и групп по поводу рассогласованных существенно значимых для них целей, интересов, ценностей, установок, а также осознанная практическая деятельность по преодолению этих противоречий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нфликт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</a:rPr>
              <a:t>- это столкновение противоположных интересов на почве соперничества при отсутствии взаимопонимания, связанное с острыми эмоциональными переживаниями. Это, безусловно, чрезвычайно сложное и противоречивое явление, имеющее как позитивную, так и негативную составляющие.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527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ВИДЫ КОНФЛИКТОВ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39320" y="2136600"/>
            <a:ext cx="721548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Внутри-личностный конфл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Межличностный конфл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Конфликт между личностью и групп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Межгрупповой конфл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Конструк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Деструк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Реалистические конфли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Неарелистические конфли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0920" y="1922400"/>
            <a:ext cx="889308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036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«Конфликтоген»</a:t>
            </a:r>
            <a:r>
              <a:rPr b="0" lang="ru-RU" sz="32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— «рождающий конфликты»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это любое слово или действие, могущие привести к возникновению конфликтной ситуации и перерастанию ее в конфлик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Конфликтоген </a:t>
            </a:r>
            <a:r>
              <a:rPr b="0" lang="ru-RU" sz="32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- это провокативный фа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5480" y="3506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Основными словами-конфликтогенами </a:t>
            </a:r>
            <a:br>
              <a:rPr sz="3600"/>
            </a:br>
            <a:r>
              <a:rPr b="1" lang="ru-RU" sz="36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в общении являются: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3840" y="235080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слова, выражающие недовер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слова-оскорб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слова-угро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слова-насме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слова-с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слова, выражающие отрицательное отно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слова-долженств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слова-обви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3506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Что разрушает контакт, способствует возникновению конфликт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908000"/>
            <a:ext cx="9541080" cy="59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300" spc="-1" strike="noStrike">
                <a:solidFill>
                  <a:srgbClr val="243d62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243d62"/>
                </a:solidFill>
                <a:latin typeface="Times New Roman"/>
                <a:ea typeface="Times New Roman"/>
              </a:rPr>
              <a:t>Перебивание собесе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243d62"/>
                </a:solidFill>
                <a:latin typeface="Times New Roman"/>
                <a:ea typeface="Times New Roman"/>
              </a:rPr>
              <a:t>2. Принижение собесе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243d62"/>
                </a:solidFill>
                <a:latin typeface="Times New Roman"/>
                <a:ea typeface="Times New Roman"/>
              </a:rPr>
              <a:t>3. Выведение собеседника из состояния равновесия:</a:t>
            </a: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- негативными оценками в отношении собеседника, его слов, поступ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- мелочными  придирк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- непонимание собеседн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- избегание контакта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243d62"/>
                </a:solidFill>
                <a:latin typeface="Times New Roman"/>
                <a:ea typeface="Times New Roman"/>
              </a:rPr>
              <a:t>4. Напад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- нападение на собесед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- защищаете себ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- оскорбляете собесед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- реагируете с сильной отрицательной эмо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243d62"/>
                </a:solidFill>
                <a:latin typeface="Times New Roman"/>
                <a:ea typeface="Times New Roman"/>
              </a:rPr>
              <a:t>5. Двойственность:</a:t>
            </a: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говорите, что понимаете собесед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соглашаетесь с ним, а на самом деле ни понимания, ни согла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6800" y="493200"/>
            <a:ext cx="735804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«КОНФЛИКТ ПОНИМАНИЯ»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4468680" y="1565280"/>
            <a:ext cx="1008360" cy="968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111560" y="2565360"/>
            <a:ext cx="16560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111560" y="3137040"/>
            <a:ext cx="62568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83160" y="4280040"/>
            <a:ext cx="172872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 rot="19051200">
            <a:off x="5157720" y="4825800"/>
            <a:ext cx="914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9"/>
          <p:cNvSpPr/>
          <p:nvPr/>
        </p:nvSpPr>
        <p:spPr>
          <a:xfrm>
            <a:off x="4464000" y="543564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754440" y="5494320"/>
            <a:ext cx="696960" cy="1441440"/>
          </a:xfrm>
          <a:prstGeom prst="rect">
            <a:avLst/>
          </a:prstGeom>
          <a:solidFill>
            <a:srgbClr val="cc99ff"/>
          </a:solidFill>
          <a:ln w="93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2825640" y="649440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6360" y="350640"/>
            <a:ext cx="933948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Что мешает пониманию проблем, интересов, мотивов и позиции собеседник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2123640"/>
            <a:ext cx="95410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8480" indent="0">
              <a:lnSpc>
                <a:spcPct val="83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Игнорирование:</a:t>
            </a: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не обращаете внимания, не учитываете интересы, точку зрения, позицию, мотивы и чувства собесе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8480" indent="0">
              <a:lnSpc>
                <a:spcPct val="83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8480" indent="0">
              <a:lnSpc>
                <a:spcPct val="83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Эгоцентризм:</a:t>
            </a: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пытаетесь найти у партнера понимание только тех проблем, которые волнуют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8480" indent="0">
              <a:lnSpc>
                <a:spcPct val="83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8480" indent="0">
              <a:lnSpc>
                <a:spcPct val="83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Натиск:</a:t>
            </a: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первыми же своими вопросами вынуждаете собеседника подыскивать контраргументы и занимать оборонительную пози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8480" indent="0">
              <a:lnSpc>
                <a:spcPct val="83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8480" indent="0">
              <a:lnSpc>
                <a:spcPct val="83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Пренебрежение:</a:t>
            </a: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проявляете неуважение, недооцениваете собесе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8480" indent="0">
              <a:lnSpc>
                <a:spcPct val="83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8480" indent="0">
              <a:lnSpc>
                <a:spcPct val="83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Ложное толкование:</a:t>
            </a: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неверно истолковываете слова собеседника, его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8480" indent="0">
              <a:lnSpc>
                <a:spcPct val="83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24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мотивы, интересы</a:t>
            </a:r>
            <a:r>
              <a:rPr b="0" lang="ru-RU" sz="28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8480" indent="0">
              <a:lnSpc>
                <a:spcPct val="83000"/>
              </a:lnSpc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000" y="421920"/>
            <a:ext cx="94330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65b92"/>
                </a:solidFill>
                <a:latin typeface="Times New Roman"/>
                <a:ea typeface="Times New Roman"/>
              </a:rPr>
              <a:t>«ТЕЛЕФОН СЛОМАЛСЯ»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6" name="Picture 4" descr="D:\Мои документы\Курсы\Гайдушенко 1\Гифы\АНИМИРОВАННЫЕ ГИФЫ --- смайловые2.files\smiles3.files\gathering.gif"/>
          <p:cNvPicPr/>
          <p:nvPr/>
        </p:nvPicPr>
        <p:blipFill>
          <a:blip r:embed="rId1"/>
          <a:stretch/>
        </p:blipFill>
        <p:spPr>
          <a:xfrm>
            <a:off x="1039680" y="4851360"/>
            <a:ext cx="3000600" cy="1663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D:\Мои документы\Курсы\Гайдушенко 1\Гифы\АНИМИРОВАННЫЕ ГИФЫ --- смайловые.files\smiles1.files\36_14_1.gif"/>
          <p:cNvPicPr/>
          <p:nvPr/>
        </p:nvPicPr>
        <p:blipFill>
          <a:blip r:embed="rId2"/>
          <a:stretch/>
        </p:blipFill>
        <p:spPr>
          <a:xfrm>
            <a:off x="5683320" y="2494080"/>
            <a:ext cx="388944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ba</cp:lastModifiedBy>
  <dcterms:modified xsi:type="dcterms:W3CDTF">2011-03-30T18:15:35Z</dcterms:modified>
  <cp:revision>62</cp:revision>
  <dc:subject/>
  <dc:title>Слайд 1</dc:title>
</cp:coreProperties>
</file>